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3339-0D22-4C93-8E48-B8F83EB9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CB53-104F-4616-9894-E7E5152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666A-EA2C-4CE8-A0E0-FD954F4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D792-37E5-4CA1-BE03-3D5C3374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6676-7805-4E38-89EF-4ED877D7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26C8-AB57-4E42-8919-49D1339A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AF2F-9F29-4049-BB25-C4CF576C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AAE-F105-4AC9-ACB8-39A9066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D56E-546E-4206-863D-BD00D38E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A000-02FB-4796-B94F-376D681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9B30-2BDB-4961-832C-36208DF7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C987-292D-47D4-A98E-ACAFB5A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36B-C677-4726-9A48-D2354B73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D760-916C-4C88-B0AD-476F040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DB59-F6ED-4F86-AF2C-1950ECB9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8634-0193-40F8-A42D-A36D090C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1BD0-8240-4144-8D72-391569D1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5DE4-E3C9-434F-AF9C-6AF86CC6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ED3D-2052-46AB-A66F-2C1DEFE5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DCB4-F89D-49DC-BC20-4DB44B4C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339E-9D8C-4D0A-9AC4-30564D15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48E5-431D-48AF-BFE4-FD24697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DEBD-6FE6-4728-8A78-302A2AD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31BE-F172-46E8-9C20-A7F3CAA0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18B0-DF34-4E42-A88F-254EC4DD5E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A2A-C39A-4942-8C9D-94DDB7DBFE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адагаскарский присосконо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учащегося 4 В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46 гимна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олина Иль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8880" y="304920"/>
            <a:ext cx="884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таются мелкими насекомыми. Считается, что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хотятся прежде всего на бабочек (моль) из семейства Микрочешуекрыл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прис10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4023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-52920" y="5257800"/>
            <a:ext cx="90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астоящее время этот вид летучей мыши внесен в список Международ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ой книги под статусом «уязвимый». Но исчезающим видом его пока 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овешь. Это раду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0a020f42b95ecb7cfbc041b2660ff956"/>
          <p:cNvPicPr/>
          <p:nvPr/>
        </p:nvPicPr>
        <p:blipFill>
          <a:blip r:embed="rId1"/>
          <a:stretch/>
        </p:blipFill>
        <p:spPr>
          <a:xfrm>
            <a:off x="228600" y="228600"/>
            <a:ext cx="3373560" cy="431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fupig_1"/>
          <p:cNvPicPr/>
          <p:nvPr/>
        </p:nvPicPr>
        <p:blipFill>
          <a:blip r:embed="rId2"/>
          <a:stretch/>
        </p:blipFill>
        <p:spPr>
          <a:xfrm>
            <a:off x="4495680" y="228600"/>
            <a:ext cx="3957840" cy="4267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-37440" y="5029200"/>
            <a:ext cx="85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туем мнение, что именно присосконог послужил прообразом игруш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присоске в салонах автомобилей ))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прис2"/>
          <p:cNvPicPr/>
          <p:nvPr/>
        </p:nvPicPr>
        <p:blipFill>
          <a:blip r:embed="rId1"/>
          <a:stretch/>
        </p:blipFill>
        <p:spPr>
          <a:xfrm>
            <a:off x="1523880" y="304920"/>
            <a:ext cx="5905800" cy="4200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62680" y="4937040"/>
            <a:ext cx="75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дагаскарский присосконо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рис1"/>
          <p:cNvPicPr/>
          <p:nvPr/>
        </p:nvPicPr>
        <p:blipFill>
          <a:blip r:embed="rId1"/>
          <a:stretch/>
        </p:blipFill>
        <p:spPr>
          <a:xfrm>
            <a:off x="1676520" y="1828800"/>
            <a:ext cx="590544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61240" y="136440"/>
            <a:ext cx="79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дагаскарский присосконог один из видов летучих мыш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тличие от американского сородич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присоски расположены не на особых ножках, а сразу на кож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ро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карта"/>
          <p:cNvPicPr/>
          <p:nvPr/>
        </p:nvPicPr>
        <p:blipFill>
          <a:blip r:embed="rId1"/>
          <a:stretch/>
        </p:blipFill>
        <p:spPr>
          <a:xfrm>
            <a:off x="4114800" y="0"/>
            <a:ext cx="4724280" cy="6095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-106200" y="1600200"/>
            <a:ext cx="43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ретить этого зверька можн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ько на острове Мадагаска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произраст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ала мадагаскар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е еще назыв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дерево путешественника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растет оно в дождев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альмовых лес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доль всего восточного побережь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ова, в том числе и в леса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уострова Масоа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816720" y="617220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еал обитания мадагаскарского присосконог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302480" y="609480"/>
            <a:ext cx="70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ина тела - 5,7 см, длина хвоста - 4,8 см. Вес не более 10 г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прис4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-221760" y="0"/>
            <a:ext cx="953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е название эта малютка получила за присоски, расположенные на основа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их пальцев крыльев и на подошве задних конечностей. В отличие о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ьных видов присосконогов, у мадагаскарской «мышки» присасыватель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ки располагаются не на особой ножке, а прямо на кож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6" descr="прис5"/>
          <p:cNvPicPr/>
          <p:nvPr/>
        </p:nvPicPr>
        <p:blipFill>
          <a:blip r:embed="rId1"/>
          <a:stretch/>
        </p:blipFill>
        <p:spPr>
          <a:xfrm>
            <a:off x="990720" y="1676520"/>
            <a:ext cx="6858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2384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осконоги  используют присоски для удержания на листк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ые железы на поверхности этих присосок выделяют своеобраз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ейкое вещество, которое и помогает летучим мышам удержать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гладкой поверх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прис7"/>
          <p:cNvPicPr/>
          <p:nvPr/>
        </p:nvPicPr>
        <p:blipFill>
          <a:blip r:embed="rId1"/>
          <a:stretch/>
        </p:blipFill>
        <p:spPr>
          <a:xfrm>
            <a:off x="609480" y="1752480"/>
            <a:ext cx="75438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31040" y="1219320"/>
            <a:ext cx="3681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дагаскарский присосконо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рыт довольно густы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осяным покро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околадного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ичнево-золотистого цве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вост на 1/3 своей дл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упает из межбедрен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понки. На первом пальц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них конечност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положены слабо развит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прис11"/>
          <p:cNvPicPr/>
          <p:nvPr/>
        </p:nvPicPr>
        <p:blipFill>
          <a:blip r:embed="rId1"/>
          <a:stretch/>
        </p:blipFill>
        <p:spPr>
          <a:xfrm>
            <a:off x="4038480" y="152280"/>
            <a:ext cx="433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98200" y="380880"/>
            <a:ext cx="73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ши очень крупные, порой превышают размеры головы.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и имеют небольшой грибовидный отросток в нижней ч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шной раковин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прис8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48:26Z</dcterms:created>
  <dc:creator>Dream</dc:creator>
  <dc:description/>
  <dc:language>en-US</dc:language>
  <cp:lastModifiedBy>Гусакова Юлия</cp:lastModifiedBy>
  <dcterms:modified xsi:type="dcterms:W3CDTF">2012-11-05T11:51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