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188-99CA-4452-B927-8F3A0701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8CC-EB16-4F3E-9A10-6BFBCEE0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C82-4876-4E8D-B612-1E87DA5F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71F-B219-4D6A-AF1A-EE2C9C9C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9FF-8774-4B64-949A-506CC9F0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646-1198-4FA8-9698-DC4EDB05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02F-D38C-41F0-A7D2-A67D198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7F7-510E-4567-956C-E1F14219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937-3041-4B2D-98CE-2F0EB7D6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C8-B7A0-4ADE-A141-5CD105E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2A1-095E-472A-8D35-D4DC0CA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DFE-71CE-4BE3-B0FD-6B39B11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4DC-EF88-4C38-BCC2-6C4209636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700280"/>
            <a:ext cx="4105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348000" y="4149720"/>
            <a:ext cx="48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живопис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ерезовая роща(1885-1889 г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2266920" y="0"/>
            <a:ext cx="6877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Березовая роща" (1885-1889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Золотая осень(1895 г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3733920" y="0"/>
            <a:ext cx="5410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олотая осень" (1895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тополя(1872)"/>
          <p:cNvPicPr/>
          <p:nvPr/>
        </p:nvPicPr>
        <p:blipFill>
          <a:blip r:embed="rId1"/>
          <a:stretch/>
        </p:blipFill>
        <p:spPr>
          <a:xfrm>
            <a:off x="0" y="0"/>
            <a:ext cx="5148360" cy="573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Луннай ночь "/>
          <p:cNvPicPr/>
          <p:nvPr/>
        </p:nvPicPr>
        <p:blipFill>
          <a:blip r:embed="rId2"/>
          <a:stretch/>
        </p:blipFill>
        <p:spPr>
          <a:xfrm>
            <a:off x="4694400" y="692280"/>
            <a:ext cx="4449600" cy="6165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12"/>
          <p:cNvSpPr txBox="1"/>
          <p:nvPr/>
        </p:nvSpPr>
        <p:spPr>
          <a:xfrm>
            <a:off x="0" y="0"/>
            <a:ext cx="46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поля" (1872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716360" y="5013360"/>
            <a:ext cx="367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унная ночь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5286240" y="5661000"/>
            <a:ext cx="38577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льшая дорога.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7458120" y="63342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897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3280" y="1052640"/>
            <a:ext cx="450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Шишкин (Иван Иванович) - один из лучших русских пейзажистов, живописец, рисовальщик и гравер-аквафортист, сын купца, родился 13 (25 по нов. стилю - прим. авт. сайта) января в Елабуге (Вятской губ.) в 183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о всех своих произведениях он является удивительным знатоком растительных форм, воспроизводящим их с тонким пониманием как общего характера, так и мельчайших отличительных черт всякой породы деревьев, кустов и трав. Брался ли он за изображение соснового или елового леса, отдельные сосны и ели, точно так же, как и их совокупность, получали у него свою истинную физиономию, без всяких прикрас или убавок, - тот вид и с теми частностями, которые вполне объясняются и обусловливаются почвою и климатом, где художник заставлял их р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портрет"/>
          <p:cNvPicPr/>
          <p:nvPr/>
        </p:nvPicPr>
        <p:blipFill>
          <a:blip r:embed="rId1"/>
          <a:stretch/>
        </p:blipFill>
        <p:spPr>
          <a:xfrm>
            <a:off x="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3780000" y="0"/>
            <a:ext cx="50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И. Ши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Шишкин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5796000" y="0"/>
            <a:ext cx="2592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има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Рожь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5867280" y="0"/>
            <a:ext cx="25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Рожь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Папоротники в лесу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3635280" y="0"/>
            <a:ext cx="518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апоротники в лесу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4956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е Клод Оскар, французский живописец-пейзажист, один из основателей импрессионизма. 14.10.1840 г.  -  05.12.1926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сто рождения: г. Париж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од Моне много работает на натуре, ему важно не просто запечатлеть пейзаж, бытовую сценку, а передать свежесть непосредственного впечатления от созерцания природы, где каждое мгновение что-то происходит, где окраска предметов непрерывно меняется в зависимости от освещения, от состояния атмосферы, погоды, от соседства с другими предметами, отбрасывающими цветные отблески — рефлекс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Моне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4716360" y="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лод Мо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Дама в саду(186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2916360" y="189000"/>
            <a:ext cx="59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ама в саду" (1867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Цветущий сад(1866г)"/>
          <p:cNvPicPr/>
          <p:nvPr/>
        </p:nvPicPr>
        <p:blipFill>
          <a:blip r:embed="rId1"/>
          <a:stretch/>
        </p:blipFill>
        <p:spPr>
          <a:xfrm>
            <a:off x="0" y="0"/>
            <a:ext cx="4822920" cy="595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Подсолнухи (1881г)"/>
          <p:cNvPicPr/>
          <p:nvPr/>
        </p:nvPicPr>
        <p:blipFill>
          <a:blip r:embed="rId2"/>
          <a:stretch/>
        </p:blipFill>
        <p:spPr>
          <a:xfrm>
            <a:off x="4797360" y="1341360"/>
            <a:ext cx="4346640" cy="5516640"/>
          </a:xfrm>
          <a:prstGeom prst="rect">
            <a:avLst/>
          </a:prstGeom>
          <a:ln w="0">
            <a:noFill/>
          </a:ln>
        </p:spPr>
      </p:pic>
      <p:sp>
        <p:nvSpPr>
          <p:cNvPr id="62" name="WordArt 16"/>
          <p:cNvSpPr txBox="1"/>
          <p:nvPr/>
        </p:nvSpPr>
        <p:spPr>
          <a:xfrm>
            <a:off x="0" y="0"/>
            <a:ext cx="4788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Цветущий сад" (1866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4788000" y="5877000"/>
            <a:ext cx="4356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дсолнухи" (1881 г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аак Ильич Левитан родился 30 августа 1860 года в небольшом литовском городке Кибарты Ковенской губе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ртины "У омута", "Над вечным покоем", "Владимирка". Картину "Владимирка" Исаак Левитан преподнес в дар Третьяковской галер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сной 1894 года им были написаны такие полотна, как "Весна. Последний снег","Март", "Цветущие яблони", "Золотая осень", "Большая дорога. Осенний солнечный день". В 1898 году Исаак Левитан удостаиватся звания академика пейзажной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Левитан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9"/>
          <p:cNvSpPr txBox="1"/>
          <p:nvPr/>
        </p:nvSpPr>
        <p:spPr>
          <a:xfrm>
            <a:off x="4140360" y="0"/>
            <a:ext cx="4679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И. Левита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8:16:37Z</dcterms:created>
  <dc:creator>QQQ</dc:creator>
  <dc:description/>
  <dc:language>en-US</dc:language>
  <cp:lastModifiedBy>User</cp:lastModifiedBy>
  <dcterms:modified xsi:type="dcterms:W3CDTF">2012-11-05T12:20:58Z</dcterms:modified>
  <cp:revision>5</cp:revision>
  <dc:subject/>
  <dc:title>Слайд 1</dc:title>
</cp:coreProperties>
</file>