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59B-C782-472E-8E6B-034F8122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A06-E3EF-4A0D-9519-4BBCA1C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EC2-D0BA-47CC-99CB-4E0AF702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E46-D345-44BE-A39D-C9D27690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A35B-CC89-49DE-B3D6-03DC4F1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194E-471B-47BD-BC42-F323C764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CCE4-B200-437B-A6ED-91B28A9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81D-0039-4A7E-B594-303F361E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BBEE-3B45-4BA5-8D2D-4565715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3E1-FCEC-4452-BBE2-A31CEB5F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9EEC-BCCE-47A8-AADA-CED86EC4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C69-DB08-41AA-8C8B-F97893C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1EE-DD9D-4D1A-A9EF-F42AB1A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43E9-8808-4967-8E7C-6E85385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927E-0EC2-40D7-8390-015C2E3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22C-73A3-461A-A347-1DDAB95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71E0-9C17-4A76-B553-E3AE2886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82E-43A9-4256-9DF0-BC3D8008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C4B-D28D-4A37-AE4A-648BDFE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190-2311-4C94-BE72-751D29F0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245-4ECB-4B94-A471-832122F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DD1-AEDB-46DF-83F8-BFFB9BA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85E-6641-4D5F-9AFC-7AA4590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C2B-F086-4268-9F87-F2F8F40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FE7-5B0A-47C7-8137-81848A1FA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BDB2-FFCB-4F95-BC85-16F4D2AE6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asxa.eparhia.ru/www/news2008/2_MG_6358_6497256944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здавна человек тянулся к реке. Все старинные города, деревни и сёла возникали у больших и малых р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064360" cy="46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5FC-9A95-4BA8-807C-78D39E1DCE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о неподалёку, в тени больших кустов, река может образовать омут. Он опасен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064360" cy="45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B89-E8EF-487B-BE5D-D50551342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к одна вода разлучает, а другая- соединяет, одна –радует, а другая- губит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280360" cy="46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C4B-6AB6-465B-84F9-A54F4E8E8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5832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932000" y="404640"/>
            <a:ext cx="3683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чёт вода в реке.. Меняется, обновляется. Она неостановима, как время. Время тоже течёт, и новый день не похож на вчерашний. Когда прошло много времени, говорят: «Сколько воды утекло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C90-0E2B-4888-A407-3DBDD5E179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 сказок мы знаем ещё и о «живой воде», которая оживляет мёртвое тело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346640" cy="4703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4815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415-A871-44E5-A90B-9B9B83BB96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 есть вода особая- святая. В январе, в праздник Крещения Господня, на реках делают проруб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8A0-2D73-4661-8628-7E26FDAF1F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16280" cy="61214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ященник крестом и молитвой святит воду. Святая вода, по вере многих людей, очищает человека, помогает не умереть и телу, и ду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657-6419-4204-BC42-B74A9277D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вятую крещенскую воду принято употреблять натощак вместе с просфорой после утреннего молитвенного правила с особым благоговением как святыню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Картинка 14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133720"/>
            <a:ext cx="734544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F19-77BE-4E9D-9EBF-B3A4262066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37875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впервые окунаемся в нее в Крещении, когда при принятии этого таинства трижды бываем погружаемы в купель, наполненную свят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7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E42-05F5-441B-8982-E541D26273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00000" y="1455840"/>
            <a:ext cx="7056720" cy="5292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Река кормила, поила, защищала, очищала, служила надёжной дорогой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327-B4B0-4E86-B57E-F4BE267D6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 берегу реки своя, особая жизнь. Здесь расстаются-провожают в далёкий путь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16000" y="1779480"/>
            <a:ext cx="6551640" cy="486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7B8-0F71-43DB-926A-CCB5C7491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тсюда вглядываются в речные дали- ждут возвращения и встреч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42920" y="1679400"/>
            <a:ext cx="720108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CAA-2240-4B43-9C1E-B3493E4B0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юда приходят помолчать, подумать, погрустить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2095560"/>
            <a:ext cx="7416720" cy="43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B0C-491B-4ABC-A31A-F913243641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ечерами жгут костры. Слышны песн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69080" cy="50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BC3-EF33-47BA-8049-E4187DC92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десь часто сидят рыба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7993080" cy="487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619-E6E5-4B09-8825-8F876855F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 реки бывает и свой нрав. У быстрой реки и берега круты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630920" cy="50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976-8E80-4516-95FF-49B836675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А вот она выпрямила своё русло и образовала тихий плёс. В нём любят купаться. Вода дарит радость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137440" cy="46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8FB-B37B-4C78-B3AE-295389967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9:51:26Z</dcterms:created>
  <dc:creator>Admin</dc:creator>
  <dc:description/>
  <dc:language>en-US</dc:language>
  <cp:lastModifiedBy>Admin</cp:lastModifiedBy>
  <dcterms:modified xsi:type="dcterms:W3CDTF">2010-12-05T17:59:37Z</dcterms:modified>
  <cp:revision>4</cp:revision>
  <dc:subject/>
  <dc:title>Издавна человек тянулся к реке. Все старинные города, деревни и сёла возникали у больших и малых рек.</dc:title>
</cp:coreProperties>
</file>