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BD2B-4EDF-4D67-A03C-13BB59365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AFB1-4199-483B-9F8B-B33936CB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E64D-1233-4AD2-8968-C9AF9278F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384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216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8552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384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216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D983-C5D8-4DDE-9A75-727FA1793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18B0-40AA-43E5-9F55-09DE7B806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F7D2-B144-4ADD-8AF2-E9C7E8E2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003E-8EDA-4A50-A957-EA04AA27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CCE7-F8B3-42C4-A6E1-587066D7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C42D-8DFD-4885-800F-441A7DA6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14240" y="2854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E62E-EB5F-4EAE-912D-6F3B49DE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7A3D-D329-4442-8459-C990E3E4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6DE0-0C73-4E0A-910B-C82EE3D5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F756-66AE-42FD-96EA-B3BCDD89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4D9A-348E-4020-8E6D-517566C1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79A7-7D77-40E0-9F6B-440E9967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DBB0-F5B2-4571-A412-83B559D9F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384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216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8552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384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216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2589-0AA8-4847-9D19-58408EB1A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17E3-0F93-46D8-A02A-0B08EA6C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6B5D-2F34-406E-A573-F2EE8A86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2189-409B-43BD-91FC-7410BB67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4240" y="2854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7411-4697-4E29-A4DA-6A929E7F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6373-D8F3-4A9E-BF3C-640C48CC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402D-CBEF-4FA6-99DC-469DD735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283C-4987-4458-AB3F-B66FF049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A32D-AD64-4C44-8142-BC47346BB54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B90A-AE87-4088-88C7-4677136057A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hyperlink" Target="http://www.moderntheorie.com/wp-content/uploads/2010/11/E-mail-is-very-important-to-the-Company.jpg" TargetMode="External"/><Relationship Id="rId4" Type="http://schemas.openxmlformats.org/officeDocument/2006/relationships/hyperlink" Target="http://www.nppbillon.ru/images/e-mail.png" TargetMode="External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nsportal.ru/" TargetMode="External"/><Relationship Id="rId3" Type="http://schemas.openxmlformats.org/officeDocument/2006/relationships/hyperlink" Target="http://nsportal.ru/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71480" y="1142640"/>
            <a:ext cx="634356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Из опыта работы по созданию персонального сайта и поддержка информационного пространства в сети Интернет»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00280" y="4581000"/>
            <a:ext cx="5400720" cy="14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трова Ольг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математики МБОУ СОШ №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сшая квалификационная катег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Спасибо за внимание!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07" name="Текст 2" descr=""/>
          <p:cNvPicPr/>
          <p:nvPr/>
        </p:nvPicPr>
        <p:blipFill>
          <a:blip r:embed="rId2"/>
          <a:stretch/>
        </p:blipFill>
        <p:spPr>
          <a:xfrm>
            <a:off x="2556000" y="1484280"/>
            <a:ext cx="3097080" cy="2228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724360" y="112536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2124000" y="3716280"/>
            <a:ext cx="2246400" cy="2808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539640" y="1125360"/>
            <a:ext cx="2016360" cy="1989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4716360" y="4110120"/>
            <a:ext cx="360072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2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142800" y="1428480"/>
            <a:ext cx="58006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moderntheorie.com/wp-content/uploads/2010/11/E-mail-is-very-important-to-the-Company.jp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nppbillon.ru/images/e-mail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МОУ «Павловская сош 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с.Павлов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Алтай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3" descr=""/>
          <p:cNvPicPr/>
          <p:nvPr/>
        </p:nvPicPr>
        <p:blipFill>
          <a:blip r:embed="rId5"/>
          <a:stretch/>
        </p:blipFill>
        <p:spPr>
          <a:xfrm>
            <a:off x="1500120" y="142884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d:\Мои документы\Мои рисунки\e-mail.png"/>
          <p:cNvPicPr/>
          <p:nvPr/>
        </p:nvPicPr>
        <p:blipFill>
          <a:blip r:embed="rId6"/>
          <a:stretch/>
        </p:blipFill>
        <p:spPr>
          <a:xfrm>
            <a:off x="1571760" y="30718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Этапы использования компьютера в педагогической деятельности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дагог освоил и использует компьютер в качестве «пишущей машинк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комство учителя с пакетом офисных программ, их возможностями, приобретение элементарных навыков использования CD-дисков в свое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можность подключения и выхода в Интернет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вые информационные технологии внедряются в структуру традиционного урока и становятся его неотъемлемой ча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учителя появляется потребность в систематизации и модернизации накопленного дидактического опыта( потребность в создании электронного пакета документов, который позволит продемонстрировать компетентность учител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689040" y="620640"/>
            <a:ext cx="8208000" cy="5822280"/>
            <a:chOff x="689040" y="620640"/>
            <a:chExt cx="8208000" cy="5822280"/>
          </a:xfrm>
        </p:grpSpPr>
        <p:cxnSp>
          <p:nvCxnSpPr>
            <p:cNvPr id="87" name="_s22541"/>
            <p:cNvCxnSpPr>
              <a:stCxn id="88" idx="0"/>
              <a:endCxn id="89" idx="2"/>
            </p:cNvCxnSpPr>
            <p:nvPr/>
          </p:nvCxnSpPr>
          <p:spPr>
            <a:xfrm flipV="1" rot="16200000">
              <a:off x="5646960" y="2094480"/>
              <a:ext cx="1164960" cy="2873520"/>
            </a:xfrm>
            <a:prstGeom prst="bentConnector3">
              <a:avLst>
                <a:gd name="adj1" fmla="val 921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0" name="_s22540"/>
            <p:cNvCxnSpPr>
              <a:stCxn id="91" idx="0"/>
              <a:endCxn id="89" idx="2"/>
            </p:cNvCxnSpPr>
            <p:nvPr/>
          </p:nvCxnSpPr>
          <p:spPr>
            <a:xfrm flipV="1">
              <a:off x="4792680" y="2949120"/>
              <a:ext cx="3240" cy="1164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22539"/>
            <p:cNvCxnSpPr>
              <a:stCxn id="93" idx="0"/>
              <a:endCxn id="89" idx="2"/>
            </p:cNvCxnSpPr>
            <p:nvPr/>
          </p:nvCxnSpPr>
          <p:spPr>
            <a:xfrm flipH="1" flipV="1" rot="5400000">
              <a:off x="2774160" y="2094840"/>
              <a:ext cx="1164960" cy="2873520"/>
            </a:xfrm>
            <a:prstGeom prst="bentConnector3">
              <a:avLst>
                <a:gd name="adj1" fmla="val 921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9" name="_s22535"/>
            <p:cNvSpPr/>
            <p:nvPr/>
          </p:nvSpPr>
          <p:spPr>
            <a:xfrm>
              <a:off x="3561840" y="620640"/>
              <a:ext cx="2462400" cy="23288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Образовательное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ространство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_s22536"/>
            <p:cNvSpPr/>
            <p:nvPr/>
          </p:nvSpPr>
          <p:spPr>
            <a:xfrm>
              <a:off x="689040" y="4114080"/>
              <a:ext cx="2462400" cy="23288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Учитель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_s22537"/>
            <p:cNvSpPr/>
            <p:nvPr/>
          </p:nvSpPr>
          <p:spPr>
            <a:xfrm>
              <a:off x="3561840" y="4114080"/>
              <a:ext cx="2462400" cy="23288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Среда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_s22538"/>
            <p:cNvSpPr/>
            <p:nvPr/>
          </p:nvSpPr>
          <p:spPr>
            <a:xfrm>
              <a:off x="6434640" y="4114080"/>
              <a:ext cx="2462400" cy="23288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Ученик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4240" y="285840"/>
            <a:ext cx="8229600" cy="14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Вывод Л. Выготского о трехстороннем активном процессе</a:t>
            </a: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85520" y="2349360"/>
            <a:ext cx="815796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ктивен учитель, активен ученик, активна среда между ними-  «идеальная форма среды»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832360" y="4319640"/>
            <a:ext cx="331164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Персональный сайт - эффективное средство решения задач: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547640" y="1844280"/>
            <a:ext cx="730440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                        систематизация дидактического материала, накопленного за время работы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                        создание каталога ресурсов Интернет по интересующим педагога темам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                          возможность общения с коллегами, учениками, их родителями и просто заинтересованными в школьной жизни людьми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*             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             использование сайта как портфолио, для представления себя педагогическому сообществу, демонстрации своих профессиональных достижений;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*                         использование сайта как площадки для дистанционного консультирования учащихся  и их родителей,  проектной деятельности;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*                        организация для учащихся доступа к  дополнительным  учебным материалам, необходимым для успешной учебы, выполнения заданий учителя, самостоятельного обучения.</a:t>
            </a: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01" name="Текст 2" descr=""/>
          <p:cNvPicPr/>
          <p:nvPr/>
        </p:nvPicPr>
        <p:blipFill>
          <a:blip r:embed="rId2"/>
          <a:stretch/>
        </p:blipFill>
        <p:spPr>
          <a:xfrm>
            <a:off x="971640" y="641520"/>
            <a:ext cx="781344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Социальная сеть работников_x000b_образования 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nsportal.ru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1042920" y="1413000"/>
            <a:ext cx="77058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Литература: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1628280"/>
            <a:ext cx="640080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Хуторской А.В., Орешко А.П. «Технология создания сайтов», электронная книга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Кутыев И. «Пособие о поисковых системах Интернета или Как найти иголку в стоге сена», электронная книга,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Борисов А. «Как создать свой сайт за час!», электронная  книга,200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07:55:38Z</dcterms:created>
  <dc:creator>Comp</dc:creator>
  <dc:description/>
  <dc:language>en-US</dc:language>
  <cp:lastModifiedBy>Admin</cp:lastModifiedBy>
  <dcterms:modified xsi:type="dcterms:W3CDTF">2012-11-04T09:46:50Z</dcterms:modified>
  <cp:revision>7</cp:revision>
  <dc:subject/>
  <dc:title>Слайд 1</dc:title>
</cp:coreProperties>
</file>