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dt" idx="17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33B6A-8CA7-4312-82CF-1F57364A585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002A8-58B7-4036-9A9D-CA3037A8560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F4E50-5535-4A2C-9719-2A89D71D5F9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57190-881B-4F48-AFD0-CA5B67646CE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D3AB2-0E67-41B7-B2CC-F908CA4965F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A3585-5DD7-4C5C-AC6A-65DD575520F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B5E25-8076-46FE-B7DF-144A74AC98B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31FD1-488B-48A1-AEB9-CCA2EB0D414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61783-DEBC-4705-B85D-E3775E0130F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E4965-1672-43E1-ACDD-298947D53A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AC836-CA88-48D7-A5ED-256067CD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AAB78-476B-41B3-887B-F7948C79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800E0-2578-4C7C-931D-6EEC28A47A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59E1E-A741-48FD-9298-C346D979F3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36327-4670-4F89-96A8-7E147303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9CAA5-7083-401F-AFED-7388FDC3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8D9AD-913C-4E63-89B7-8B10B3ED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BB56C-256E-4682-A31A-93CA2FB7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E4936-7945-4905-8C1E-49F085DB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056DA-B74E-405F-9F7D-5D492672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509CB-935D-4451-B92D-54F64791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987BC-183A-426A-A84D-76FE10E3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A1D5E-ADF1-4AC3-BDFB-116FF5CA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89F74-FB22-4B55-BD40-0654F91F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90B62-7D5C-4C67-8563-EA62405A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54C21-AF65-4C50-AB80-5A71F8DA22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DCA7-26B3-4424-92A4-78E4992C41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26E6-0B19-45C1-8D4E-7B75D37B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852C-B60C-41BF-85DF-C0F681A5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0B12-80CD-41B2-9697-5355D15A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1B51-FC0D-4BF6-993E-95D26EBC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DEEE6-A130-4DBB-8301-A7913FF2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2711-B1CA-488B-81E4-D88FFEDB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6A98-8384-47AD-9672-566F6C9A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91EF-E42C-4ACA-A8F2-F9DB61A4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4DB2-9903-45E5-A1E1-28E29583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76C2-3E02-4B61-A5AC-728D8906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DB6D-9F26-460F-8C91-7756A667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EB87-2F45-4B42-B2B1-013658925D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D12766-B850-4FCC-B981-0B55B408D3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A1F686-AB86-4BDC-AF85-25C9DF58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DD82C-B519-4C51-8150-62DEC68A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CAFA0-2CBB-42FC-B9B8-9EFB27A8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59B21-4CC3-430C-B11F-16F9EE43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1FE6C-346A-4F25-B213-7A92B3A2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9453E9-B378-43F6-B044-385A4E7B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AC87A-1473-40D0-B52B-C9CBF325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79C7FE-E5DC-4FAA-B5F3-EB06809A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7754A-3555-48ED-BC95-E743AF24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1006BC-7626-4E33-B127-77D58AE3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766C52-6CBD-499B-9AB7-6638D88D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DC8ABD-16D7-4990-A0F3-DEB53953F2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C23F41-C474-4414-8A48-606CA75C39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E5B11-363F-4193-AE5F-0CDDBEEB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A7EF70-89EC-418E-A453-387B159D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C39525-F9A6-40A2-A560-085C1A30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06D7A2-B250-4830-8459-A60514A0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2227D4-59EC-48CE-AED4-5E96432E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33B08A-8B79-49C2-87D1-0B345E61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D5F81C-6996-4F4E-9200-328C33BD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EABD0F-7ABD-4427-B6B3-CE0BA082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E7FAC9-1E83-499F-8CAD-D5C79455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BE13FB-3782-4FC0-9848-2BE7F31D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1934C9-5E1D-4882-BF37-28765FCB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0F685-9C29-4B23-A925-28F6A394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F727C4-CD35-47A0-B755-C925B5AA41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55BE3A-4388-488E-8845-B1A59557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F7FE09-7410-45A2-AD19-26BD8CFA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108F71-1FA4-4912-83E0-1890E2CF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3873AA-5BF6-43EA-AEC5-0F2EEE30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3E30BB-97CA-45FE-921B-68BEFDCA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674A85-9F65-4D59-82CF-AF5E4EA0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0F3004-B0A2-4549-ABD1-62A79EBA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7E7A69-74BE-4AAC-9B05-B6E85607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3C291A-D639-422B-8634-6B7D4870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6F7BD-A7F9-475D-8A9E-754F70EB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99F037-9D4A-4273-8C84-AC18C5FF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7C88FB-6E8A-4D6E-A59D-C042928F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93D4EF-E309-4D95-9AAB-C82393FC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66C27D-1CCE-4F33-9238-A32E2182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2AEE6A-78BD-47A3-85B0-11C4AD25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8D8155-0B72-4E1C-97FA-6D8D9B76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E8FCE0-A1DC-4901-85A8-1030ED1B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19EE11-DD7A-4352-B23A-4CD1EA76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79B503-096E-4511-8DC0-1B876A81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7E608B-FC4F-412B-9350-AD34F9E6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E8281-2F6D-4F5A-AD0F-D6FE7743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5A275C-AFAB-4977-A9CC-AF8F5027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FECC1E-3F2F-48A8-B053-9E766ADF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947614-4F19-4934-A02E-699376DF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904035-6982-4DFC-A515-95FDBA9A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203682-327E-448F-BFA8-7A7539D8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F289B-DC86-464A-A821-E0CF8ED8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28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74628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880" y="266760"/>
            <a:ext cx="200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6994080" y="37353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520" y="5733720"/>
            <a:ext cx="6048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tt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EF8FA-9D4C-4E80-80B3-016BBB4743C5}" type="slidenum"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28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74628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9096480" y="217080"/>
            <a:ext cx="228096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08120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1339920" y="4928760"/>
            <a:ext cx="60480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tt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93CE6-AB46-470E-8853-318BB1120283}" type="slidenum">
              <a:rPr b="1" lang="tt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28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74628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8786880" y="266760"/>
            <a:ext cx="200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8129520" y="5733720"/>
            <a:ext cx="6048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tt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9E9C5E-90E3-404F-830B-49FFF95292A6}" type="slidenum">
              <a:rPr b="1" lang="tt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69944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7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28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74628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8786880" y="266760"/>
            <a:ext cx="200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8"/>
          </p:nvPr>
        </p:nvSpPr>
        <p:spPr>
          <a:xfrm>
            <a:off x="8129520" y="5733720"/>
            <a:ext cx="6048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tt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D50AE5-EDB8-40E3-AAD6-836B39FD35F0}" type="slidenum">
              <a:rPr b="1" lang="tt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2"/>
          <p:cNvSpPr/>
          <p:nvPr/>
        </p:nvSpPr>
        <p:spPr>
          <a:xfrm rot="5400000">
            <a:off x="69944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1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28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74628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9"/>
          </p:nvPr>
        </p:nvSpPr>
        <p:spPr>
          <a:xfrm>
            <a:off x="8786880" y="266760"/>
            <a:ext cx="200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0"/>
          </p:nvPr>
        </p:nvSpPr>
        <p:spPr>
          <a:xfrm>
            <a:off x="8129520" y="5733720"/>
            <a:ext cx="6048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tt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FEAC50-4237-4748-9AF3-0EE3B85070C6}" type="slidenum">
              <a:rPr b="1" lang="tt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2"/>
          <p:cNvSpPr/>
          <p:nvPr/>
        </p:nvSpPr>
        <p:spPr>
          <a:xfrm rot="5400000">
            <a:off x="69944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1"/>
          <p:cNvGrpSpPr/>
          <p:nvPr/>
        </p:nvGrpSpPr>
        <p:grpSpPr>
          <a:xfrm>
            <a:off x="0" y="0"/>
            <a:ext cx="9142560" cy="6932160"/>
            <a:chOff x="0" y="0"/>
            <a:chExt cx="9142560" cy="6932160"/>
          </a:xfrm>
        </p:grpSpPr>
        <p:sp>
          <p:nvSpPr>
            <p:cNvPr id="248" name="Freeform 2"/>
            <p:cNvSpPr/>
            <p:nvPr/>
          </p:nvSpPr>
          <p:spPr>
            <a:xfrm>
              <a:off x="0" y="3504240"/>
              <a:ext cx="3991680" cy="312624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50000">
                  <a:srgbClr val="008000"/>
                </a:gs>
                <a:gs pos="100000">
                  <a:srgbClr val="0058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49" name="Freeform 3"/>
            <p:cNvSpPr/>
            <p:nvPr/>
          </p:nvSpPr>
          <p:spPr>
            <a:xfrm>
              <a:off x="0" y="3961440"/>
              <a:ext cx="3351960" cy="254556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50" name="Freeform 4"/>
            <p:cNvSpPr/>
            <p:nvPr/>
          </p:nvSpPr>
          <p:spPr>
            <a:xfrm>
              <a:off x="3320280" y="5131080"/>
              <a:ext cx="5821920" cy="149616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51" name="Freeform 5"/>
            <p:cNvSpPr/>
            <p:nvPr/>
          </p:nvSpPr>
          <p:spPr>
            <a:xfrm>
              <a:off x="0" y="831600"/>
              <a:ext cx="1544400" cy="189612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52" name="Freeform 6"/>
            <p:cNvSpPr/>
            <p:nvPr/>
          </p:nvSpPr>
          <p:spPr>
            <a:xfrm>
              <a:off x="5059800" y="1080"/>
              <a:ext cx="4079160" cy="35964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53" name="Freeform 7"/>
            <p:cNvSpPr/>
            <p:nvPr/>
          </p:nvSpPr>
          <p:spPr>
            <a:xfrm>
              <a:off x="5594760" y="1080"/>
              <a:ext cx="3468240" cy="239328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54" name="Freeform 8"/>
            <p:cNvSpPr/>
            <p:nvPr/>
          </p:nvSpPr>
          <p:spPr>
            <a:xfrm>
              <a:off x="0" y="1029960"/>
              <a:ext cx="1294920" cy="127908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55" name="Freeform 9"/>
            <p:cNvSpPr/>
            <p:nvPr/>
          </p:nvSpPr>
          <p:spPr>
            <a:xfrm>
              <a:off x="0" y="2451960"/>
              <a:ext cx="1209240" cy="16956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56" name="Freeform 10"/>
            <p:cNvSpPr/>
            <p:nvPr/>
          </p:nvSpPr>
          <p:spPr>
            <a:xfrm>
              <a:off x="3672720" y="5445360"/>
              <a:ext cx="5050440" cy="118224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57" name="Rectangle 11"/>
            <p:cNvSpPr/>
            <p:nvPr/>
          </p:nvSpPr>
          <p:spPr>
            <a:xfrm>
              <a:off x="304560" y="20124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58" name="Rectangle 12"/>
            <p:cNvSpPr/>
            <p:nvPr/>
          </p:nvSpPr>
          <p:spPr>
            <a:xfrm>
              <a:off x="323640" y="20772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59" name="Freeform 13"/>
            <p:cNvSpPr/>
            <p:nvPr/>
          </p:nvSpPr>
          <p:spPr>
            <a:xfrm>
              <a:off x="0" y="6399000"/>
              <a:ext cx="914256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28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60" name="Freeform 14"/>
            <p:cNvSpPr/>
            <p:nvPr/>
          </p:nvSpPr>
          <p:spPr>
            <a:xfrm>
              <a:off x="0" y="6399000"/>
              <a:ext cx="9142560" cy="5331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28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61" name="Freeform 15"/>
            <p:cNvSpPr/>
            <p:nvPr/>
          </p:nvSpPr>
          <p:spPr>
            <a:xfrm>
              <a:off x="0" y="0"/>
              <a:ext cx="914256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62" name="Freeform 16"/>
            <p:cNvSpPr/>
            <p:nvPr/>
          </p:nvSpPr>
          <p:spPr>
            <a:xfrm>
              <a:off x="807840" y="363240"/>
              <a:ext cx="5059800" cy="321192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63" name="Freeform 17"/>
            <p:cNvSpPr/>
            <p:nvPr/>
          </p:nvSpPr>
          <p:spPr>
            <a:xfrm>
              <a:off x="2133360" y="464760"/>
              <a:ext cx="3402720" cy="283572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64" name="Freeform 18"/>
            <p:cNvSpPr/>
            <p:nvPr/>
          </p:nvSpPr>
          <p:spPr>
            <a:xfrm>
              <a:off x="4653360" y="2742480"/>
              <a:ext cx="4488840" cy="37548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50000">
                  <a:srgbClr val="008000"/>
                </a:gs>
                <a:gs pos="100000">
                  <a:srgbClr val="0058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65" name="Freeform 19"/>
            <p:cNvSpPr/>
            <p:nvPr/>
          </p:nvSpPr>
          <p:spPr>
            <a:xfrm>
              <a:off x="5015520" y="2951640"/>
              <a:ext cx="3431520" cy="30690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1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tt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8BDAA-5946-4519-ABCE-94AE2925A5D9}" type="slidenum">
              <a:rPr b="0" lang="tt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1"/>
          <p:cNvGrpSpPr/>
          <p:nvPr/>
        </p:nvGrpSpPr>
        <p:grpSpPr>
          <a:xfrm>
            <a:off x="0" y="0"/>
            <a:ext cx="9142560" cy="6932160"/>
            <a:chOff x="0" y="0"/>
            <a:chExt cx="9142560" cy="6932160"/>
          </a:xfrm>
        </p:grpSpPr>
        <p:sp>
          <p:nvSpPr>
            <p:cNvPr id="308" name="Freeform 2"/>
            <p:cNvSpPr/>
            <p:nvPr/>
          </p:nvSpPr>
          <p:spPr>
            <a:xfrm>
              <a:off x="0" y="3504240"/>
              <a:ext cx="3991680" cy="312624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50000">
                  <a:srgbClr val="008000"/>
                </a:gs>
                <a:gs pos="100000">
                  <a:srgbClr val="0058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09" name="Freeform 3"/>
            <p:cNvSpPr/>
            <p:nvPr/>
          </p:nvSpPr>
          <p:spPr>
            <a:xfrm>
              <a:off x="0" y="3961440"/>
              <a:ext cx="3351960" cy="254556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10" name="Freeform 4"/>
            <p:cNvSpPr/>
            <p:nvPr/>
          </p:nvSpPr>
          <p:spPr>
            <a:xfrm>
              <a:off x="3320280" y="5131080"/>
              <a:ext cx="5821920" cy="149616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11" name="Freeform 5"/>
            <p:cNvSpPr/>
            <p:nvPr/>
          </p:nvSpPr>
          <p:spPr>
            <a:xfrm>
              <a:off x="0" y="831600"/>
              <a:ext cx="1544400" cy="189612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12" name="Freeform 6"/>
            <p:cNvSpPr/>
            <p:nvPr/>
          </p:nvSpPr>
          <p:spPr>
            <a:xfrm>
              <a:off x="5059800" y="1080"/>
              <a:ext cx="4079160" cy="35964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13" name="Freeform 7"/>
            <p:cNvSpPr/>
            <p:nvPr/>
          </p:nvSpPr>
          <p:spPr>
            <a:xfrm>
              <a:off x="5594760" y="1080"/>
              <a:ext cx="3468240" cy="239328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14" name="Freeform 8"/>
            <p:cNvSpPr/>
            <p:nvPr/>
          </p:nvSpPr>
          <p:spPr>
            <a:xfrm>
              <a:off x="0" y="1029960"/>
              <a:ext cx="1294920" cy="127908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15" name="Freeform 9"/>
            <p:cNvSpPr/>
            <p:nvPr/>
          </p:nvSpPr>
          <p:spPr>
            <a:xfrm>
              <a:off x="0" y="2451960"/>
              <a:ext cx="1209240" cy="16956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16" name="Freeform 10"/>
            <p:cNvSpPr/>
            <p:nvPr/>
          </p:nvSpPr>
          <p:spPr>
            <a:xfrm>
              <a:off x="3672720" y="5445360"/>
              <a:ext cx="5050440" cy="118224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304560" y="20124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18" name="Rectangle 12"/>
            <p:cNvSpPr/>
            <p:nvPr/>
          </p:nvSpPr>
          <p:spPr>
            <a:xfrm>
              <a:off x="323640" y="20772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19" name="Freeform 13"/>
            <p:cNvSpPr/>
            <p:nvPr/>
          </p:nvSpPr>
          <p:spPr>
            <a:xfrm>
              <a:off x="0" y="6399000"/>
              <a:ext cx="914256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28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20" name="Freeform 14"/>
            <p:cNvSpPr/>
            <p:nvPr/>
          </p:nvSpPr>
          <p:spPr>
            <a:xfrm>
              <a:off x="0" y="6399000"/>
              <a:ext cx="9142560" cy="5331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28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21" name="Freeform 15"/>
            <p:cNvSpPr/>
            <p:nvPr/>
          </p:nvSpPr>
          <p:spPr>
            <a:xfrm>
              <a:off x="0" y="0"/>
              <a:ext cx="914256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22" name="Freeform 16"/>
            <p:cNvSpPr/>
            <p:nvPr/>
          </p:nvSpPr>
          <p:spPr>
            <a:xfrm>
              <a:off x="807840" y="363240"/>
              <a:ext cx="5059800" cy="321192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23" name="Freeform 17"/>
            <p:cNvSpPr/>
            <p:nvPr/>
          </p:nvSpPr>
          <p:spPr>
            <a:xfrm>
              <a:off x="2133360" y="464760"/>
              <a:ext cx="3402720" cy="283572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24" name="Freeform 18"/>
            <p:cNvSpPr/>
            <p:nvPr/>
          </p:nvSpPr>
          <p:spPr>
            <a:xfrm>
              <a:off x="4653360" y="2742480"/>
              <a:ext cx="4488840" cy="37548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50000">
                  <a:srgbClr val="008000"/>
                </a:gs>
                <a:gs pos="100000">
                  <a:srgbClr val="0058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25" name="Freeform 19"/>
            <p:cNvSpPr/>
            <p:nvPr/>
          </p:nvSpPr>
          <p:spPr>
            <a:xfrm>
              <a:off x="5015520" y="2951640"/>
              <a:ext cx="3431520" cy="30690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tt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88D92-EF9D-4366-9418-B88B373B9CB8}" type="slidenum">
              <a:rPr b="0" lang="tt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1"/>
          <p:cNvSpPr/>
          <p:nvPr/>
        </p:nvSpPr>
        <p:spPr>
          <a:xfrm>
            <a:off x="395280" y="1773360"/>
            <a:ext cx="835344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t-RU" sz="14400" spc="-1" strike="noStrike">
                <a:solidFill>
                  <a:srgbClr val="ffffcc"/>
                </a:solidFill>
                <a:latin typeface="Georgia"/>
              </a:rPr>
              <a:t>САННАР</a:t>
            </a:r>
            <a:endParaRPr b="0" lang="en-US" sz="144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1760400" y="1738440"/>
            <a:ext cx="4800600" cy="1828800"/>
          </a:xfrm>
          <a:prstGeom prst="rect">
            <a:avLst/>
          </a:prstGeom>
          <a:ln w="0">
            <a:noFill/>
          </a:ln>
        </p:spPr>
      </p:pic>
      <p:pic>
        <p:nvPicPr>
          <p:cNvPr id="378" name="WordArt 3" descr=""/>
          <p:cNvPicPr/>
          <p:nvPr/>
        </p:nvPicPr>
        <p:blipFill>
          <a:blip r:embed="rId2"/>
          <a:stretch/>
        </p:blipFill>
        <p:spPr>
          <a:xfrm>
            <a:off x="4359240" y="3718080"/>
            <a:ext cx="2932200" cy="2639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68000" y="26028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3600" spc="-1" strike="noStrike" u="sng">
                <a:solidFill>
                  <a:srgbClr val="f2f2f2"/>
                </a:solidFill>
                <a:uFillTx/>
                <a:latin typeface="Times New Roman"/>
              </a:rPr>
              <a:t>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2800" spc="-1" strike="noStrike">
                <a:solidFill>
                  <a:srgbClr val="ffffff"/>
                </a:solidFill>
                <a:latin typeface="Times New Roman"/>
              </a:rPr>
              <a:t>1. Әхмәт Фәйзинең “Кечкенә Апуш” әсәреннән алынган кайсы җөмләдә тәртип саны кулланылган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tt-RU" sz="2800" spc="-1" strike="noStrike">
                <a:solidFill>
                  <a:srgbClr val="ffff00"/>
                </a:solidFill>
                <a:latin typeface="Times New Roman"/>
              </a:rPr>
              <a:t>а) Бу вакыйгадан соң бер ай чамасы вакыт уз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tt-RU" sz="2800" spc="-1" strike="noStrike">
                <a:solidFill>
                  <a:srgbClr val="ffff00"/>
                </a:solidFill>
                <a:latin typeface="Times New Roman"/>
              </a:rPr>
              <a:t>ә) Икенче көнне чыптачының базар белән эшләре тәмам бул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tt-RU" sz="2800" spc="-1" strike="noStrike">
                <a:solidFill>
                  <a:srgbClr val="ffff00"/>
                </a:solidFill>
                <a:latin typeface="Times New Roman"/>
              </a:rPr>
              <a:t>б) Тегесе дә, бусы да берәр тапкыр, бер- берсенең биленнән алырга теләп, сөлгене тартып куйды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tt-RU" sz="2800" spc="-1" strike="noStrike">
                <a:solidFill>
                  <a:srgbClr val="ffff00"/>
                </a:solidFill>
                <a:latin typeface="Times New Roman"/>
              </a:rPr>
              <a:t>в) Алар янә кыр уртасында арба саклап икәүдән – икәү калалар</a:t>
            </a: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24000" y="404280"/>
            <a:ext cx="82245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Times New Roman"/>
              </a:rPr>
              <a:t>2. Дөрес җавапны табыгыз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tt-RU" sz="3200" spc="-1" strike="noStrike">
                <a:solidFill>
                  <a:srgbClr val="ffff00"/>
                </a:solidFill>
                <a:latin typeface="Times New Roman"/>
              </a:rPr>
              <a:t>а) Сан – ул предметны һәм санаганда аның тәртибен күрсәтүче мөстәкыйл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ь</a:t>
            </a:r>
            <a:r>
              <a:rPr b="0" lang="tt-RU" sz="3200" spc="-1" strike="noStrike">
                <a:solidFill>
                  <a:srgbClr val="ffff00"/>
                </a:solidFill>
                <a:latin typeface="Times New Roman"/>
              </a:rPr>
              <a:t> сүз төркем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32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tt-RU" sz="3200" spc="-1" strike="noStrike">
                <a:solidFill>
                  <a:srgbClr val="ffff00"/>
                </a:solidFill>
                <a:latin typeface="Times New Roman"/>
              </a:rPr>
              <a:t>ә) Сан – ул предметның санын, исәбен белдерә торган мөстәкыйл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ь</a:t>
            </a:r>
            <a:r>
              <a:rPr b="0" lang="tt-RU" sz="3200" spc="-1" strike="noStrike">
                <a:solidFill>
                  <a:srgbClr val="ffff00"/>
                </a:solidFill>
                <a:latin typeface="Times New Roman"/>
              </a:rPr>
              <a:t> сүз төркем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32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tt-RU" sz="3200" spc="-1" strike="noStrike">
                <a:solidFill>
                  <a:srgbClr val="ffff00"/>
                </a:solidFill>
                <a:latin typeface="Times New Roman"/>
              </a:rPr>
              <a:t>б) Сан – ул предметның санын, исәбен, санаганда предметларның тәртибен белдерә торган ярдәмче сүз төркем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32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tt-RU" sz="3200" spc="-1" strike="noStrike">
                <a:solidFill>
                  <a:srgbClr val="ffff00"/>
                </a:solidFill>
                <a:latin typeface="Times New Roman"/>
              </a:rPr>
              <a:t>в) Сан – ул предметның билгесен белдерә торган мөстәкыйл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ь</a:t>
            </a:r>
            <a:r>
              <a:rPr b="0" lang="tt-RU" sz="3200" spc="-1" strike="noStrike">
                <a:solidFill>
                  <a:srgbClr val="ffff00"/>
                </a:solidFill>
                <a:latin typeface="Times New Roman"/>
              </a:rPr>
              <a:t> сүз төркем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94920" y="33336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Times New Roman"/>
              </a:rPr>
              <a:t>3. Дөрес булмаган җавапны күрсәтегез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tt-RU" sz="3200" spc="-1" strike="noStrike">
                <a:solidFill>
                  <a:srgbClr val="ffff00"/>
                </a:solidFill>
                <a:latin typeface="Times New Roman"/>
              </a:rPr>
              <a:t>а) кырык сигез – бу мик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ъ</a:t>
            </a:r>
            <a:r>
              <a:rPr b="0" lang="tt-RU" sz="3200" spc="-1" strike="noStrike">
                <a:solidFill>
                  <a:srgbClr val="ffff00"/>
                </a:solidFill>
                <a:latin typeface="Times New Roman"/>
              </a:rPr>
              <a:t>дар сан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32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tt-RU" sz="3200" spc="-1" strike="noStrike">
                <a:solidFill>
                  <a:srgbClr val="ffff00"/>
                </a:solidFill>
                <a:latin typeface="Times New Roman"/>
              </a:rPr>
              <a:t>ә) бишәү – бу җыю сан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32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tt-RU" sz="3200" spc="-1" strike="noStrike">
                <a:solidFill>
                  <a:srgbClr val="ffff00"/>
                </a:solidFill>
                <a:latin typeface="Times New Roman"/>
              </a:rPr>
              <a:t>б) дүрттән бер – бу чама сан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32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tt-RU" sz="3200" spc="-1" strike="noStrike">
                <a:solidFill>
                  <a:srgbClr val="ffff00"/>
                </a:solidFill>
                <a:latin typeface="Times New Roman"/>
              </a:rPr>
              <a:t>в) утыз алтышар – бу бүлем сан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Times New Roman"/>
              </a:rPr>
              <a:t>4. Хаталы юлны күрсәтегез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32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tt-RU" sz="3200" spc="-1" strike="noStrike">
                <a:solidFill>
                  <a:srgbClr val="ffff00"/>
                </a:solidFill>
                <a:latin typeface="Times New Roman"/>
              </a:rPr>
              <a:t>а) биш, унбиш, илле, биш йөз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32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tt-RU" sz="3200" spc="-1" strike="noStrike">
                <a:solidFill>
                  <a:srgbClr val="ffff00"/>
                </a:solidFill>
                <a:latin typeface="Times New Roman"/>
              </a:rPr>
              <a:t>ә) җиде, ун җиде, җитмеш, җиде йөз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32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tt-RU" sz="3200" spc="-1" strike="noStrike">
                <a:solidFill>
                  <a:srgbClr val="ffff00"/>
                </a:solidFill>
                <a:latin typeface="Times New Roman"/>
              </a:rPr>
              <a:t>б) алты, уналты, алтмыш, алты йөз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32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tt-RU" sz="3200" spc="-1" strike="noStrike">
                <a:solidFill>
                  <a:srgbClr val="ffff00"/>
                </a:solidFill>
                <a:latin typeface="Times New Roman"/>
              </a:rPr>
              <a:t>в) сигез, унсигез, сиксән, сигез йөз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9600" spc="-1" strike="noStrike">
                <a:solidFill>
                  <a:srgbClr val="ff0000"/>
                </a:solidFill>
                <a:latin typeface="Times New Roman"/>
              </a:rPr>
              <a:t>АФӘРИН!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"/>
          <p:cNvSpPr/>
          <p:nvPr/>
        </p:nvSpPr>
        <p:spPr>
          <a:xfrm>
            <a:off x="250920" y="620640"/>
            <a:ext cx="871380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60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38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tt-RU" sz="6000" spc="-1" strike="noStrike">
                <a:solidFill>
                  <a:srgbClr val="ffc000"/>
                </a:solidFill>
                <a:latin typeface="Georgia"/>
              </a:rPr>
              <a:t>Беләге юан берне егар,</a:t>
            </a:r>
            <a:endParaRPr b="0" lang="en-US" sz="60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38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tt-RU" sz="6000" spc="-1" strike="noStrike">
                <a:solidFill>
                  <a:srgbClr val="ffc000"/>
                </a:solidFill>
                <a:latin typeface="Georgia"/>
              </a:rPr>
              <a:t>белеме юан меңне егар.</a:t>
            </a:r>
            <a:r>
              <a:rPr b="0" lang="tt-RU" sz="6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1"/>
          <p:cNvSpPr/>
          <p:nvPr/>
        </p:nvSpPr>
        <p:spPr>
          <a:xfrm>
            <a:off x="395280" y="0"/>
            <a:ext cx="7467480" cy="61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tt-RU" sz="5400" spc="-1" strike="noStrike">
                <a:solidFill>
                  <a:srgbClr val="ffffff"/>
                </a:solidFill>
                <a:latin typeface="Times New Roman"/>
              </a:rPr>
              <a:t>Нинди сүз төркеме сан дип атала?</a:t>
            </a:r>
            <a:endParaRPr b="0" lang="en-US" sz="5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38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tt-RU" sz="4000" spc="-1" strike="noStrike">
                <a:solidFill>
                  <a:srgbClr val="ffffff"/>
                </a:solidFill>
                <a:latin typeface="Georgia"/>
              </a:rPr>
              <a:t>Предметның санын,исәбен белдереп, </a:t>
            </a:r>
            <a:r>
              <a:rPr b="1" lang="tt-RU" sz="4000" spc="-1" strike="noStrike">
                <a:solidFill>
                  <a:srgbClr val="ffffff"/>
                </a:solidFill>
                <a:latin typeface="Georgia"/>
              </a:rPr>
              <a:t>күпме? никадәр? ничәнче? ничәшәр? ничәләп? ничәү? </a:t>
            </a:r>
            <a:r>
              <a:rPr b="0" lang="tt-RU" sz="4000" spc="-1" strike="noStrike">
                <a:solidFill>
                  <a:srgbClr val="ffffff"/>
                </a:solidFill>
                <a:latin typeface="Georgia"/>
              </a:rPr>
              <a:t>сорауларына җавап бирә торган мөстәкыйль сүз төркеме сан дип атала.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-500040" y="5715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755640" y="1916280"/>
            <a:ext cx="7345440" cy="4321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383" name="Picture 4" descr=""/>
          <p:cNvPicPr/>
          <p:nvPr/>
        </p:nvPicPr>
        <p:blipFill>
          <a:blip r:embed="rId1"/>
          <a:stretch/>
        </p:blipFill>
        <p:spPr>
          <a:xfrm>
            <a:off x="7885080" y="5734080"/>
            <a:ext cx="1258920" cy="1123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457200" y="1706400"/>
            <a:ext cx="822960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tt-RU" sz="4800" spc="-1" strike="noStrike">
                <a:solidFill>
                  <a:srgbClr val="ffffff"/>
                </a:solidFill>
                <a:latin typeface="Times New Roman"/>
              </a:rPr>
              <a:t>Ясалышлары ягыннан саннарның нинди төрләре бар?</a:t>
            </a:r>
            <a:endParaRPr b="0" lang="en-US" sz="48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1"/>
          <p:cNvSpPr/>
          <p:nvPr/>
        </p:nvSpPr>
        <p:spPr>
          <a:xfrm>
            <a:off x="457200" y="187200"/>
            <a:ext cx="74674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t-RU" sz="5600" spc="-1" strike="noStrike">
                <a:solidFill>
                  <a:srgbClr val="ffffcc"/>
                </a:solidFill>
                <a:latin typeface="Georgia"/>
              </a:rPr>
              <a:t>ЯСАЛЫШЫ ЯГЫННАН САННАР</a:t>
            </a:r>
            <a:endParaRPr b="0" lang="en-US" sz="5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6" name="Text Box 2"/>
          <p:cNvSpPr/>
          <p:nvPr/>
        </p:nvSpPr>
        <p:spPr>
          <a:xfrm>
            <a:off x="252360" y="2001960"/>
            <a:ext cx="82296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38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амыр                            тезм</a:t>
            </a:r>
            <a:r>
              <a:rPr b="0" lang="tt-RU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38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ушма                             парлы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cxnSp>
        <p:nvCxnSpPr>
          <p:cNvPr id="387" name="Прямая со стрелкой 2"/>
          <p:cNvCxnSpPr/>
          <p:nvPr/>
        </p:nvCxnSpPr>
        <p:spPr>
          <a:xfrm>
            <a:off x="5076360" y="2420640"/>
            <a:ext cx="57564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Прямая со стрелкой 5"/>
          <p:cNvCxnSpPr/>
          <p:nvPr/>
        </p:nvCxnSpPr>
        <p:spPr>
          <a:xfrm>
            <a:off x="6516720" y="2707920"/>
            <a:ext cx="79272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9" name="Прямая со стрелкой 7"/>
          <p:cNvCxnSpPr/>
          <p:nvPr/>
        </p:nvCxnSpPr>
        <p:spPr>
          <a:xfrm flipH="1">
            <a:off x="1402560" y="2421000"/>
            <a:ext cx="57708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Прямая со стрелкой 10"/>
          <p:cNvCxnSpPr/>
          <p:nvPr/>
        </p:nvCxnSpPr>
        <p:spPr>
          <a:xfrm flipH="1">
            <a:off x="2626920" y="2707920"/>
            <a:ext cx="65016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1" name="Rectangle 7"/>
          <p:cNvSpPr/>
          <p:nvPr/>
        </p:nvSpPr>
        <p:spPr>
          <a:xfrm>
            <a:off x="217440" y="2427120"/>
            <a:ext cx="8264520" cy="309564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971640" y="112536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tt-RU" sz="4800" spc="-1" strike="noStrike">
                <a:solidFill>
                  <a:srgbClr val="ffffff"/>
                </a:solidFill>
                <a:latin typeface="Times New Roman"/>
              </a:rPr>
              <a:t>Нинди сан төркемчәләрен беләсез?</a:t>
            </a:r>
            <a:endParaRPr b="0" lang="en-US" sz="48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5292720" y="4149720"/>
            <a:ext cx="2735280" cy="21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900000" y="-3719520"/>
            <a:ext cx="7024680" cy="60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5600"/>
            </a:br>
            <a:br>
              <a:rPr sz="5600"/>
            </a:br>
            <a:br>
              <a:rPr sz="5600"/>
            </a:br>
            <a:br>
              <a:rPr sz="5600"/>
            </a:br>
            <a:br>
              <a:rPr sz="5600"/>
            </a:br>
            <a:r>
              <a:rPr b="0" lang="tt-RU" sz="5600" spc="-1" strike="noStrike">
                <a:solidFill>
                  <a:srgbClr val="ffffcc"/>
                </a:solidFill>
                <a:latin typeface="Georgia"/>
              </a:rPr>
              <a:t> </a:t>
            </a:r>
            <a:r>
              <a:rPr b="0" lang="tt-RU" sz="4800" spc="-1" strike="noStrike">
                <a:solidFill>
                  <a:srgbClr val="ffffcc"/>
                </a:solidFill>
                <a:latin typeface="Georgia"/>
              </a:rPr>
              <a:t>САН ТӨРКЕМЧӘЛӘРЕ</a:t>
            </a:r>
            <a:br>
              <a:rPr sz="5600"/>
            </a:br>
            <a:endParaRPr b="0" lang="en-US" sz="4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5" name="Text Box 2"/>
          <p:cNvSpPr/>
          <p:nvPr/>
        </p:nvSpPr>
        <p:spPr>
          <a:xfrm>
            <a:off x="685800" y="1336680"/>
            <a:ext cx="849456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Мик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ъ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дар саны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Тәртип саны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Бүлем саны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Җыю саны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Чама саны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cxnSp>
        <p:nvCxnSpPr>
          <p:cNvPr id="396" name="AutoShape 3"/>
          <p:cNvCxnSpPr>
            <a:stCxn id="395" idx="3"/>
            <a:endCxn id="395" idx="3"/>
          </p:cNvCxnSpPr>
          <p:nvPr/>
        </p:nvCxnSpPr>
        <p:spPr>
          <a:xfrm>
            <a:off x="9180000" y="3983040"/>
            <a:ext cx="39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pic>
        <p:nvPicPr>
          <p:cNvPr id="397" name="Picture 4" descr=""/>
          <p:cNvPicPr/>
          <p:nvPr/>
        </p:nvPicPr>
        <p:blipFill>
          <a:blip r:embed="rId1"/>
          <a:stretch/>
        </p:blipFill>
        <p:spPr>
          <a:xfrm>
            <a:off x="826920" y="4653000"/>
            <a:ext cx="1905120" cy="1806480"/>
          </a:xfrm>
          <a:prstGeom prst="rect">
            <a:avLst/>
          </a:prstGeom>
          <a:ln w="0">
            <a:noFill/>
          </a:ln>
        </p:spPr>
      </p:pic>
      <p:sp>
        <p:nvSpPr>
          <p:cNvPr id="398" name="Line 5"/>
          <p:cNvSpPr/>
          <p:nvPr/>
        </p:nvSpPr>
        <p:spPr>
          <a:xfrm>
            <a:off x="1817640" y="1558800"/>
            <a:ext cx="162000" cy="93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9" name="Line 6"/>
          <p:cNvSpPr/>
          <p:nvPr/>
        </p:nvSpPr>
        <p:spPr>
          <a:xfrm>
            <a:off x="3492360" y="1558800"/>
            <a:ext cx="43200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0" name="Line 7"/>
          <p:cNvSpPr/>
          <p:nvPr/>
        </p:nvSpPr>
        <p:spPr>
          <a:xfrm>
            <a:off x="4599000" y="1558800"/>
            <a:ext cx="430200" cy="232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1" name="Line 8"/>
          <p:cNvSpPr/>
          <p:nvPr/>
        </p:nvSpPr>
        <p:spPr>
          <a:xfrm>
            <a:off x="5715000" y="1600200"/>
            <a:ext cx="685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2" name="Line 9"/>
          <p:cNvSpPr/>
          <p:nvPr/>
        </p:nvSpPr>
        <p:spPr>
          <a:xfrm>
            <a:off x="6858000" y="1600200"/>
            <a:ext cx="631800" cy="33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468360" y="333360"/>
            <a:ext cx="82803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1199"/>
              </a:spcBef>
              <a:buClr>
                <a:srgbClr val="9966ff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tt-RU" sz="4800" spc="-1" strike="noStrike">
                <a:solidFill>
                  <a:srgbClr val="ffffff"/>
                </a:solidFill>
                <a:latin typeface="Times New Roman"/>
              </a:rPr>
              <a:t>Тәртип саны ничек ясала?</a:t>
            </a:r>
            <a:endParaRPr b="0" lang="en-US" sz="4800" spc="-1" strike="noStrike">
              <a:solidFill>
                <a:srgbClr val="ffffff"/>
              </a:solidFill>
              <a:latin typeface="Century Schoolbook"/>
            </a:endParaRPr>
          </a:p>
          <a:p>
            <a:pPr marL="338040" indent="-338040">
              <a:lnSpc>
                <a:spcPct val="100000"/>
              </a:lnSpc>
              <a:spcBef>
                <a:spcPts val="1199"/>
              </a:spcBef>
              <a:buClr>
                <a:srgbClr val="9966ff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tt-RU" sz="4800" spc="-1" strike="noStrike">
                <a:solidFill>
                  <a:srgbClr val="ffffff"/>
                </a:solidFill>
                <a:latin typeface="Times New Roman"/>
              </a:rPr>
              <a:t>Чама саны нинди кушымчалар ярдәмендә ясала?</a:t>
            </a:r>
            <a:endParaRPr b="0" lang="en-US" sz="4800" spc="-1" strike="noStrike">
              <a:solidFill>
                <a:srgbClr val="ffffff"/>
              </a:solidFill>
              <a:latin typeface="Century Schoolbook"/>
            </a:endParaRPr>
          </a:p>
          <a:p>
            <a:pPr marL="338040" indent="-338040">
              <a:lnSpc>
                <a:spcPct val="100000"/>
              </a:lnSpc>
              <a:spcBef>
                <a:spcPts val="1199"/>
              </a:spcBef>
              <a:buClr>
                <a:srgbClr val="9966ff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tt-RU" sz="4800" spc="-1" strike="noStrike">
                <a:solidFill>
                  <a:srgbClr val="ffffff"/>
                </a:solidFill>
                <a:latin typeface="Times New Roman"/>
              </a:rPr>
              <a:t>Бүлем саны нинди сорауларга җавап бирә?</a:t>
            </a:r>
            <a:endParaRPr b="0" lang="en-US" sz="4800" spc="-1" strike="noStrike">
              <a:solidFill>
                <a:srgbClr val="ffffff"/>
              </a:solidFill>
              <a:latin typeface="Century Schoolbook"/>
            </a:endParaRPr>
          </a:p>
          <a:p>
            <a:pPr marL="338040" indent="-338040">
              <a:lnSpc>
                <a:spcPct val="100000"/>
              </a:lnSpc>
              <a:spcBef>
                <a:spcPts val="1199"/>
              </a:spcBef>
              <a:buClr>
                <a:srgbClr val="9966ff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tt-RU" sz="4800" spc="-1" strike="noStrike">
                <a:solidFill>
                  <a:srgbClr val="ffffff"/>
                </a:solidFill>
                <a:latin typeface="Times New Roman"/>
              </a:rPr>
              <a:t>Җыю саны нинди сорауларга җавап бирә?</a:t>
            </a:r>
            <a:endParaRPr b="0" lang="en-US" sz="4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94920" y="33336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011 нче ел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–        ике мең унберенче е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сыйныф –       алтынчы сыйныф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42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чыршы –        дүрт йөз кырык ике чырш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74,7 га җир –        җитмеш дүрт бөтен унна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җиде га җир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50-55ләп кеше –   илле–илле бишләп кеш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бакчаның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¼ өлеше –             бакчаның дүрттән бе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өлеш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12 нче бала –        уникенче ба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3564000" y="476280"/>
            <a:ext cx="5140440" cy="568944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07:15:26Z</dcterms:created>
  <dc:creator>Елена</dc:creator>
  <dc:description/>
  <dc:language>en-US</dc:language>
  <cp:lastModifiedBy>Сурия</cp:lastModifiedBy>
  <dcterms:modified xsi:type="dcterms:W3CDTF">2011-04-12T05:10:52Z</dcterms:modified>
  <cp:revision>39</cp:revision>
  <dc:subject/>
  <dc:title>САННАР</dc:title>
</cp:coreProperties>
</file>