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96F91-CD30-494F-A15F-406EA33A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E71B3-C068-48D9-B804-C5073F60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303D0-08A4-4370-9B41-6302FB24D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343B0-024C-4BEE-8D32-12828ACD6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AC7E-075A-4456-B349-0207F08ED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AC4D-41B9-45D9-BC66-D1451EB1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DB44-4DE6-441B-8C8D-B0B1C1F5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C857-6A68-42C9-913E-0F0EE7FA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1671-5772-4894-9F90-40DB125C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D96C-4287-4F3B-8C8D-FC335F03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28A6-D1BD-4A7F-A295-87102A34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AA13D-6EE3-45DC-9B07-ED2B81F0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9E04-0390-4C17-92BB-40C876BD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5F6F-35A3-4A7D-BD7D-1BCDFC4E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2D86-887B-43E6-931B-EBBE2399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FD39-1307-4AB0-AFE4-9B782FBC4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7AB6-5CB1-4453-AAE1-239873D50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CA6F8-42FC-4027-AAE1-29D9BB2A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9C8ED-3BC9-4388-A243-0EA9F2AB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CBF55-ADAF-4C81-8014-CA9FA2DD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19B05-7809-4D60-B81A-1F732469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AFF3F-A254-444B-B629-71AEFFE3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1881E-D4DF-4D0F-B0D5-660B367E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CFFF6-73C9-45FB-B1B8-9A187C1F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368F-2B9A-437A-B518-B75C5CA3211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363A-492A-4E58-9C79-A5298F005ED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1001-kids-books.livejournal.com/5044.html" TargetMode="External"/><Relationship Id="rId2" Type="http://schemas.openxmlformats.org/officeDocument/2006/relationships/hyperlink" Target="http://1001-kids-books.livejournal.com/5044.html" TargetMode="External"/><Relationship Id="rId3" Type="http://schemas.openxmlformats.org/officeDocument/2006/relationships/hyperlink" Target="http://audioskazki.net/archives/375" TargetMode="External"/><Relationship Id="rId4" Type="http://schemas.openxmlformats.org/officeDocument/2006/relationships/hyperlink" Target="http://audioskazki.net/archives/375" TargetMode="External"/><Relationship Id="rId5" Type="http://schemas.openxmlformats.org/officeDocument/2006/relationships/hyperlink" Target="http://audioskazki.net/archives/375" TargetMode="External"/><Relationship Id="rId6" Type="http://schemas.openxmlformats.org/officeDocument/2006/relationships/hyperlink" Target="http://audioskazki.net/archives/375" TargetMode="External"/><Relationship Id="rId7" Type="http://schemas.openxmlformats.org/officeDocument/2006/relationships/hyperlink" Target="http://audioskazki.net/archives/375" TargetMode="External"/><Relationship Id="rId8" Type="http://schemas.openxmlformats.org/officeDocument/2006/relationships/hyperlink" Target="http://audioskazki.net/archives/375" TargetMode="External"/><Relationship Id="rId9" Type="http://schemas.openxmlformats.org/officeDocument/2006/relationships/hyperlink" Target="http://www.fairy-tales.su/narodnye/kalmyckie-skazki" TargetMode="External"/><Relationship Id="rId10" Type="http://schemas.openxmlformats.org/officeDocument/2006/relationships/hyperlink" Target="http://www.pycckue-cka3ku.ru/skazka_kroshechka_havroshechka_text.html" TargetMode="External"/><Relationship Id="rId11" Type="http://schemas.openxmlformats.org/officeDocument/2006/relationships/hyperlink" Target="http://www.pycckue-cka3ku.ru/skazka_kroshechka_havroshechka_text.html" TargetMode="External"/><Relationship Id="rId12" Type="http://schemas.openxmlformats.org/officeDocument/2006/relationships/hyperlink" Target="http://www.pycckue-cka3ku.ru/skazka_kroshechka_havroshechka_text.html" TargetMode="External"/><Relationship Id="rId13" Type="http://schemas.openxmlformats.org/officeDocument/2006/relationships/hyperlink" Target="http://illustrators.ru/illustrations/329305" TargetMode="External"/><Relationship Id="rId14" Type="http://schemas.openxmlformats.org/officeDocument/2006/relationships/hyperlink" Target="http://www.toys-house.ru/skazki.php?id=3151" TargetMode="External"/><Relationship Id="rId15" Type="http://schemas.openxmlformats.org/officeDocument/2006/relationships/hyperlink" Target="http://www.toys-house.ru/skazki.php?id=3151" TargetMode="External"/><Relationship Id="rId16" Type="http://schemas.openxmlformats.org/officeDocument/2006/relationships/hyperlink" Target="http://www.toys-house.ru/skazki.php?id=3151" TargetMode="External"/><Relationship Id="rId17" Type="http://schemas.openxmlformats.org/officeDocument/2006/relationships/hyperlink" Target="http://www.toys-house.ru/skazki.php?id=3151" TargetMode="External"/><Relationship Id="rId1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ahoma"/>
              </a:rPr>
              <a:t>Итоговое занятие кружка 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ahoma"/>
              </a:rPr>
              <a:t>«В гостях у сказки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 первом классе.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одготовила учитель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начальных классов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тригина Галина Григорьев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49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Русская народная сказка 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  «Заяц – хваста»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заяц"/>
          <p:cNvPicPr/>
          <p:nvPr/>
        </p:nvPicPr>
        <p:blipFill>
          <a:blip r:embed="rId1"/>
          <a:stretch/>
        </p:blipFill>
        <p:spPr>
          <a:xfrm>
            <a:off x="1619280" y="333360"/>
            <a:ext cx="6408720" cy="4535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Нет, брат, — говорит лось. — Трусливое у тебя сердце, а трусу и самые большие рога не помогут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Получай-ка ты длинные уши. Пускай все знают, что ты подслушивать любиш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Мансийская сказка  </a:t>
            </a:r>
            <a:br>
              <a:rPr sz="3800"/>
            </a:b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«Отчего у зайца длинные уши»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2" name="" descr="Отчего у зайца длинные уши"/>
          <p:cNvPicPr/>
          <p:nvPr/>
        </p:nvPicPr>
        <p:blipFill>
          <a:blip r:embed="rId1"/>
          <a:stretch/>
        </p:blipFill>
        <p:spPr>
          <a:xfrm>
            <a:off x="2556000" y="260280"/>
            <a:ext cx="4537080" cy="4753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мазала курочка петушку горлышко. Бобовое зёрнышко проскочило. Петушок вскочил и во всё горло закричал:           «Ку-ка-ре-ку!»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Русская народная сказка  </a:t>
            </a:r>
            <a:br>
              <a:rPr sz="3800"/>
            </a:b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«Петушок и бобовое зёрнышко»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5689440" cy="4751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Нет, тетеревочек, мой дружочек, нынче указ объявлен, чтобы по всей земле мир был. Нынче уж звери друг друга не трогают.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329305_original"/>
          <p:cNvPicPr/>
          <p:nvPr/>
        </p:nvPicPr>
        <p:blipFill>
          <a:blip r:embed="rId1"/>
          <a:stretch/>
        </p:blipFill>
        <p:spPr>
          <a:xfrm>
            <a:off x="1258920" y="0"/>
            <a:ext cx="6913440" cy="5661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258920" y="5667480"/>
            <a:ext cx="72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Русская народная сказка 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«Лиса и тетерев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964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- Коровушка-матушка! Меня бьют, журят, хлеба не дают, плакать не велят. К завтрему дали пять пудов напрясть, наткать, побелить, в трубы покатать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340000" y="260280"/>
            <a:ext cx="4762440" cy="6039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С тех пор петухи каждый день три раза — утром, в полдень и вечером — зовут павлина, который унес их прежний красивый наряд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Викторина «Угадай сказку по отрывку».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57182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Калмыцкая сказка </a:t>
            </a:r>
            <a:br>
              <a:rPr sz="3800"/>
            </a:b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«Петух и павлин»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6840720" cy="5473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11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Молодцы!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Использованы сайты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://1001-kids-books.livejournal.com/5044.html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http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://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audioskazki.net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6"/>
              </a:rPr>
              <a:t>/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7"/>
              </a:rPr>
              <a:t>archives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8"/>
              </a:rPr>
              <a:t>/375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9"/>
              </a:rPr>
              <a:t>http://www.fairy-tales.su/narodnye/kalmyckie-skazk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10"/>
              </a:rPr>
              <a:t>http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11"/>
              </a:rPr>
              <a:t>://www.pycckue-cka3ku.ru/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12"/>
              </a:rPr>
              <a:t>skazka_kroshechka_havroshechka_text.html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13"/>
              </a:rPr>
              <a:t>http://illustrators.ru/illustrations/329305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14"/>
              </a:rPr>
              <a:t>http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15"/>
              </a:rPr>
              <a:t>://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16"/>
              </a:rPr>
              <a:t>www.toys-house.ru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17"/>
              </a:rPr>
              <a:t>/skazki.php?id=3151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964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агнулась Алёнка над грядкой, чтоб разглядеть, кто там такой страшный сидит, и вдруг увидела: лежит на грядке какой-то колючий клубочек, глазками-бусинками поблёскивает и пыхтит:                    - Пшш-ппы-ы-хх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00000" y="522936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Белорусская народная сказка «Пых»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0" name="" descr=" - Пых: Белорусская народная сказка (обраб. Пшеничных С.Г.; худ. Салиенко Н.). Серия: Семицветик"/>
          <p:cNvPicPr/>
          <p:nvPr/>
        </p:nvPicPr>
        <p:blipFill>
          <a:blip r:embed="rId1"/>
          <a:stretch/>
        </p:blipFill>
        <p:spPr>
          <a:xfrm>
            <a:off x="2195640" y="189000"/>
            <a:ext cx="4968720" cy="4968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Что сказать в ответ? И сказать нечего. Стали Круть и Верть вылезать из-за стола, а петушок их не удерживает. Не за что таких лодырей и лентяев пирогами угощать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515736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Украинская народная сказка «Колосок»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7272360" cy="4608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- Ку-ка-ре-ку! Иду на пятах, несу косу на плечах, хочу лису посечи. Слезай, лиса, с печи! 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52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Русская народная сказка  </a:t>
            </a:r>
            <a:br>
              <a:rPr sz="3800"/>
            </a:b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«Заячья избушка»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400720" cy="4969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- У меня не усы, а усищи, не лапы, а лапищи, не зубы, а зубищи - я никого не боюсь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7T18:06:11Z</dcterms:created>
  <dc:creator>Admin</dc:creator>
  <dc:description/>
  <dc:language>en-US</dc:language>
  <cp:lastModifiedBy>Admin</cp:lastModifiedBy>
  <dcterms:modified xsi:type="dcterms:W3CDTF">2012-11-05T13:01:02Z</dcterms:modified>
  <cp:revision>34</cp:revision>
  <dc:subject/>
  <dc:title>Белорусская народная сказка «Пых»</dc:title>
</cp:coreProperties>
</file>