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.gif" ContentType="image/gif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73B-6045-4DFB-8BF1-906A7D4B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397-BA66-40E2-B944-3BBD176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BED-990D-4D84-BD8A-6CEB9572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250-40F3-413F-BA7F-75ADA5EA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62A3-F54B-4721-84E4-CAC9B02C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1D8E-1E3E-45ED-98CB-55FB6147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8DC0-20B8-4ABF-8A40-80A27665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CE6E-555C-449C-9FFD-0133356F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9E4D-90F6-4F06-8D6D-887DFB2D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A071-19E3-4219-AC03-E66D639E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4F45-FC3D-4CFF-9481-3D1FB900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16A-E78D-4284-A699-318EA3F5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F31A-9AF7-4D73-9925-F8886D6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802D-8D8C-4655-9457-2B68D754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43D6-0117-4F8D-9BE4-70030710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C500-7FBB-4CD3-B768-AB92EFBF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63B8-877C-4124-B801-0F6E2806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C5E-1EA7-4DF9-AE0C-C799A9F6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0F5-BB79-4626-AB97-D0D00E74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41F-5345-4A40-9022-FA0FC15C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3B6-8B96-4CD6-B499-98735654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B35-87DA-4D48-A00B-AFDCBE6E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68F-4026-4586-9230-AD141786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89E-0464-4492-A037-661D7EA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FAEF-57A9-4E33-A84A-48C177B48A7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8646-3501-436B-80AF-512B81E1E57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реды жизни и местообитания животны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o14"/>
          <p:cNvPicPr/>
          <p:nvPr/>
        </p:nvPicPr>
        <p:blipFill>
          <a:blip r:embed="rId1"/>
          <a:stretch/>
        </p:blipFill>
        <p:spPr>
          <a:xfrm>
            <a:off x="7539120" y="5253120"/>
            <a:ext cx="1604880" cy="16048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sobaka23.gif"/>
          <p:cNvPicPr/>
          <p:nvPr/>
        </p:nvPicPr>
        <p:blipFill>
          <a:blip r:embed="rId2"/>
          <a:stretch/>
        </p:blipFill>
        <p:spPr>
          <a:xfrm>
            <a:off x="0" y="4762440"/>
            <a:ext cx="1676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75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ганизменная сред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42037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илие пищ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стабильность услов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щенность от неблагоприятных факторов внешней сре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тивное сопротивление организма-хозя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труднено осуществление жизненного цик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12" descr="f_0067"/>
          <p:cNvPicPr/>
          <p:nvPr/>
        </p:nvPicPr>
        <p:blipFill>
          <a:blip r:embed="rId1"/>
          <a:stretch/>
        </p:blipFill>
        <p:spPr>
          <a:xfrm>
            <a:off x="0" y="4605480"/>
            <a:ext cx="298764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f_0068"/>
          <p:cNvPicPr/>
          <p:nvPr/>
        </p:nvPicPr>
        <p:blipFill>
          <a:blip r:embed="rId2"/>
          <a:stretch/>
        </p:blipFill>
        <p:spPr>
          <a:xfrm>
            <a:off x="0" y="1341360"/>
            <a:ext cx="3137040" cy="236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f_0025"/>
          <p:cNvPicPr/>
          <p:nvPr/>
        </p:nvPicPr>
        <p:blipFill>
          <a:blip r:embed="rId3"/>
          <a:stretch/>
        </p:blipFill>
        <p:spPr>
          <a:xfrm>
            <a:off x="2411280" y="3141720"/>
            <a:ext cx="2368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ывод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деляют 4 среды жиз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ждая среда характеризуется рядом фактор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ждый организм хорошо приспособлен к жизни в определенной сре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 внешнему виду животного можно определить среду его обит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Рисунок 5" descr="str_7.gif"/>
          <p:cNvPicPr/>
          <p:nvPr/>
        </p:nvPicPr>
        <p:blipFill>
          <a:blip r:embed="rId1"/>
          <a:stretch/>
        </p:blipFill>
        <p:spPr>
          <a:xfrm>
            <a:off x="1428840" y="71424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2276640"/>
          <a:ext cx="8964720" cy="4316400"/>
        </p:xfrm>
        <a:graphic>
          <a:graphicData uri="http://schemas.openxmlformats.org/drawingml/2006/table">
            <a:tbl>
              <a:tblPr/>
              <a:tblGrid>
                <a:gridCol w="2843280"/>
                <a:gridCol w="3821040"/>
                <a:gridCol w="2300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реда жизни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стообитания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животного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дная 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ки и озера с чистой водо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олща морской 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рское дно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емно-воздушна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мешанный ле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епь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нутренняя среда организм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ишечник свинь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ишечник челове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знания о многообразии экологических факторов, влияющих на живые организм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ширить знания об адаптации организмов к различным условиям жизни в различных сред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втор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признаки присущи всем живым организмам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признаки отсутствуют у большинства животны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ово значение животны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Это та часть природы, которая окружает живой организм и с которой он непосредственно взаимодействуе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987640" y="907920"/>
            <a:ext cx="4535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реда обитани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Рисунок 6" descr="ribka20.gif"/>
          <p:cNvPicPr/>
          <p:nvPr/>
        </p:nvPicPr>
        <p:blipFill>
          <a:blip r:embed="rId3"/>
          <a:stretch/>
        </p:blipFill>
        <p:spPr>
          <a:xfrm>
            <a:off x="6929280" y="4089240"/>
            <a:ext cx="2214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Это отдельные свойства или части среды, воздействующие на организмы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2484360" y="1197000"/>
            <a:ext cx="511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Экологические фактор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Рисунок 5" descr="85435ed910a89086e844166fd42433f8.gif"/>
          <p:cNvPicPr/>
          <p:nvPr/>
        </p:nvPicPr>
        <p:blipFill>
          <a:blip r:embed="rId3"/>
          <a:stretch/>
        </p:blipFill>
        <p:spPr>
          <a:xfrm>
            <a:off x="6429240" y="4408560"/>
            <a:ext cx="27147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йдите ошибки и исправьте и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2362320"/>
          <a:ext cx="7981920" cy="3514680"/>
        </p:xfrm>
        <a:graphic>
          <a:graphicData uri="http://schemas.openxmlformats.org/drawingml/2006/table">
            <a:tbl>
              <a:tblPr/>
              <a:tblGrid>
                <a:gridCol w="2660760"/>
                <a:gridCol w="2660760"/>
                <a:gridCol w="2660400"/>
              </a:tblGrid>
              <a:tr h="603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акторы сред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иотически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биотически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тропогенны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те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емпература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ет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хот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грязнения окружающей сре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ушения боло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ищничество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курен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аразитизм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дная сред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Большая плотнос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ильные перепады дав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Малое содержание кисло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ильное поглощение солнечных луч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левой режи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орость те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йства грун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6" descr="f_0184"/>
          <p:cNvPicPr/>
          <p:nvPr/>
        </p:nvPicPr>
        <p:blipFill>
          <a:blip r:embed="rId1"/>
          <a:stretch/>
        </p:blipFill>
        <p:spPr>
          <a:xfrm>
            <a:off x="5962680" y="0"/>
            <a:ext cx="3181320" cy="239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_0048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293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f_0211"/>
          <p:cNvPicPr/>
          <p:nvPr/>
        </p:nvPicPr>
        <p:blipFill>
          <a:blip r:embed="rId3"/>
          <a:stretch/>
        </p:blipFill>
        <p:spPr>
          <a:xfrm>
            <a:off x="6156360" y="4605480"/>
            <a:ext cx="2987640" cy="22525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9"/>
          <p:cNvSpPr txBox="1"/>
          <p:nvPr/>
        </p:nvSpPr>
        <p:spPr>
          <a:xfrm rot="5400000">
            <a:off x="2376000" y="2960640"/>
            <a:ext cx="575928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гидробионты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64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земно–воздушная сре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61000" y="2361960"/>
            <a:ext cx="413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азообразная с низкой плотность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ысокое содержание кисло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Малое количество водяных пар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ная интенсивность света и температу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10" descr="f_0106"/>
          <p:cNvPicPr/>
          <p:nvPr/>
        </p:nvPicPr>
        <p:blipFill>
          <a:blip r:embed="rId1"/>
          <a:stretch/>
        </p:blipFill>
        <p:spPr>
          <a:xfrm>
            <a:off x="2124000" y="4657680"/>
            <a:ext cx="2916360" cy="220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f_0589"/>
          <p:cNvPicPr/>
          <p:nvPr/>
        </p:nvPicPr>
        <p:blipFill>
          <a:blip r:embed="rId2"/>
          <a:stretch/>
        </p:blipFill>
        <p:spPr>
          <a:xfrm>
            <a:off x="1908000" y="1341360"/>
            <a:ext cx="288468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f_0377"/>
          <p:cNvPicPr/>
          <p:nvPr/>
        </p:nvPicPr>
        <p:blipFill>
          <a:blip r:embed="rId3"/>
          <a:stretch/>
        </p:blipFill>
        <p:spPr>
          <a:xfrm>
            <a:off x="0" y="2781360"/>
            <a:ext cx="2776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чвенная сред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вердые границы окружены воздухом с вод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глажены температурные колеб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ет практически не играет рол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почвы, ее влажность, химический соста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8" descr="f_0540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f_0027"/>
          <p:cNvPicPr/>
          <p:nvPr/>
        </p:nvPicPr>
        <p:blipFill>
          <a:blip r:embed="rId2"/>
          <a:stretch/>
        </p:blipFill>
        <p:spPr>
          <a:xfrm>
            <a:off x="5364000" y="4008600"/>
            <a:ext cx="3780000" cy="28494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0"/>
          <p:cNvSpPr txBox="1"/>
          <p:nvPr/>
        </p:nvSpPr>
        <p:spPr>
          <a:xfrm rot="5400000">
            <a:off x="2376000" y="2816280"/>
            <a:ext cx="6120000" cy="12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эдафобионты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7:53:11Z</dcterms:created>
  <dc:creator>светлана</dc:creator>
  <dc:description/>
  <dc:language>en-US</dc:language>
  <cp:lastModifiedBy>User</cp:lastModifiedBy>
  <dcterms:modified xsi:type="dcterms:W3CDTF">2012-11-05T10:58:33Z</dcterms:modified>
  <cp:revision>12</cp:revision>
  <dc:subject/>
  <dc:title>Среды жизни и местообитания животных</dc:title>
</cp:coreProperties>
</file>