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DAF-BFAC-41C4-A585-E88CE0A0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64E-5A29-4FC6-B6FB-62DF5B4C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B8B-0AFD-4743-AB09-77C99CF2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C1B-0601-420B-8558-6FA60B46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10C-5695-4E34-A02C-07567D6D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FF1-F1EC-49D9-86D3-6B39B7B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AF4-F3E3-4E5D-931C-87FE1CAD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530D-EC07-429C-839C-526190A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1E4E-E984-4FC7-9252-68B93D7E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2D2C-B1F1-48CC-8AD7-46487932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1F63-9D20-454B-83C5-ABAC9A1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24D-80B1-424B-B05B-93086EA5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C553-B62C-42ED-A2DB-24FFEFA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0D7A-FEC4-465D-9283-945D10F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8D99-F934-42B4-9EA0-21BCA2C4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82BA-6579-469A-8D7D-E7D02353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0262-8BBF-4B8A-BA7A-47FA8768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B93-F4C3-467D-936E-60C83DF6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BB7-0E83-4E80-8BB9-4BE12F2D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ABD-7052-4FB4-B691-1FF4985E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3DD-68E8-40D0-BC01-77E6FBE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F0A-2B29-4513-B6B9-4F3B57FB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236-58AE-4259-B137-F973A22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438-1BB2-41B2-A3A6-5C11028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0069-15F7-425C-845B-7524E9826C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993C-753F-4736-B224-B8E8B24406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ИГ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Выполнил ученик МБУ лицея № 6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Ермолаев Егор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учитель Чернышова Наталья Валери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ТИГ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битают эти полосатые кошки в лесах Сибири, Северного Китая и Кореи, Индии, островах Суматра, Ява и Бали.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88000" cy="3246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959280" cy="297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2"/>
          <a:stretch/>
        </p:blipFill>
        <p:spPr>
          <a:xfrm>
            <a:off x="250920" y="277920"/>
            <a:ext cx="4321080" cy="3241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414000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5"/>
          <a:stretch/>
        </p:blipFill>
        <p:spPr>
          <a:xfrm>
            <a:off x="4859280" y="367200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4"/>
          <a:stretch/>
        </p:blipFill>
        <p:spPr>
          <a:xfrm>
            <a:off x="4932360" y="3500280"/>
            <a:ext cx="38876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Tahoma"/>
              </a:rPr>
              <a:t>ДАВАЙТЕ БЕРЕЧЬ ЖИВУЮ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Tahoma"/>
              </a:rPr>
              <a:t>ПРИРОДУ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КОН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8:13:36Z</dcterms:created>
  <dc:creator>Олег</dc:creator>
  <dc:description/>
  <dc:language>en-US</dc:language>
  <cp:lastModifiedBy>Олег</cp:lastModifiedBy>
  <dcterms:modified xsi:type="dcterms:W3CDTF">2012-11-05T08:27:02Z</dcterms:modified>
  <cp:revision>4</cp:revision>
  <dc:subject/>
  <dc:title>ТИГРЫ</dc:title>
</cp:coreProperties>
</file>