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0.jpeg" ContentType="image/jpeg"/>
  <Override PartName="/ppt/media/image31.png" ContentType="image/pn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244-54D8-45EC-8E28-5417C2F5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566-8DB9-4B43-A098-DED59D7A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D45-4326-43B7-85DF-03254D26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41F-610A-441D-9A18-26F945DD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AE18-1DCB-4632-8D1D-A01091D4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E44E-7415-474C-B37B-B9F5AA60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598-3650-4D96-9D3C-0C939CC2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0E74-6684-48D1-8DDD-CDB5B43B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25C5-902F-4FF5-AC44-F077FC72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4C0D-4385-4831-9B7E-E9BADADD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B2B1-90A2-40DF-A43D-33BF7B1D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24C-8689-4148-AC3D-B95BE465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6D84-E9B2-45F2-9E18-C20B1373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2E7C-AE4A-41FD-9499-21405E79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FB23-8726-47E1-8B66-A0A4876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D73E-576B-42AB-A5D8-9660165B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B0EF-E223-4418-A7D2-607F2EDC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6CE-79E7-4797-81B6-EFD5E09A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C9C-A4FF-4234-9AD5-B5B46670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D05-B2A9-4335-80B1-883C1051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C0A-1AED-487B-BF35-66A9BA25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8E3-8E3B-4285-9B46-5EE3E9EA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68C-2074-428D-AFEF-15FE2B70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C60-13CB-4484-BDD4-756E866A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847-5E0E-4D76-B216-BA4E5AC475E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1CD4-FE82-4AD9-8DC2-9BCCF9A6C19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За Жигулевскими горами град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льятти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славит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 путешествие по Тольятти решили мы отправить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 виртуальное пока что…, а потом в реальное!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сё узнаем – разузнаем: путь-дорога «дальня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227640" y="2852640"/>
            <a:ext cx="29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 экскурсию отправля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частники про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ренков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енков Ар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фатов Дмит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влиевская Крис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чугин Анд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уководители про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щенко Л. 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аева Н.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CIMG22151"/>
          <p:cNvPicPr/>
          <p:nvPr/>
        </p:nvPicPr>
        <p:blipFill>
          <a:blip r:embed="rId1"/>
          <a:stretch/>
        </p:blipFill>
        <p:spPr>
          <a:xfrm>
            <a:off x="1042920" y="2637000"/>
            <a:ext cx="3889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Колокольня храма"/>
          <p:cNvPicPr/>
          <p:nvPr/>
        </p:nvPicPr>
        <p:blipFill>
          <a:blip r:embed="rId1"/>
          <a:stretch/>
        </p:blipFill>
        <p:spPr>
          <a:xfrm>
            <a:off x="2627280" y="3213000"/>
            <a:ext cx="2438280" cy="32940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3564000" y="260280"/>
            <a:ext cx="5286240" cy="2232000"/>
          </a:xfrm>
          <a:prstGeom prst="wedgeRoundRectCallout">
            <a:avLst>
              <a:gd name="adj1" fmla="val -79310"/>
              <a:gd name="adj2" fmla="val 19773"/>
              <a:gd name="adj3" fmla="val 16667"/>
            </a:avLst>
          </a:prstGeom>
          <a:gradFill rotWithShape="0">
            <a:gsLst>
              <a:gs pos="0">
                <a:srgbClr val="ffde66"/>
              </a:gs>
              <a:gs pos="50000">
                <a:srgbClr val="ffffff"/>
              </a:gs>
              <a:gs pos="100000">
                <a:srgbClr val="ffde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Я приглашаю вас побывать в  главных  святынях города -  Храме Казанской иконы Божьей Матери и Спасо-Преображенском соборе, который поражает нас своими куполам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0" descr="Файл:Preobrazhensky Sobor, Togliatti, Russia.JPG"/>
          <p:cNvPicPr/>
          <p:nvPr/>
        </p:nvPicPr>
        <p:blipFill>
          <a:blip r:embed="rId2"/>
          <a:stretch/>
        </p:blipFill>
        <p:spPr>
          <a:xfrm>
            <a:off x="6156360" y="3284640"/>
            <a:ext cx="2413080" cy="321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395280" y="0"/>
            <a:ext cx="2063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249120" y="268200"/>
            <a:ext cx="863928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4572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пасо - Преображенский собор был построен на средства автозавода в 2002 г.  Спасо -Преображенский собор (Автозаводский район). Построен в 2002 году. Архитектор — Дмитрий Сергеевич Соколов (Москва). Огромный, радостный, светлый, выполненный со вкусом храм. Неплох также иконостас, иконы выполнены в стиле, напоминающем стиль Дионис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Спасо-Преображенский собор. Фото: Олег Манаенков"/>
          <p:cNvPicPr/>
          <p:nvPr/>
        </p:nvPicPr>
        <p:blipFill>
          <a:blip r:embed="rId2"/>
          <a:stretch/>
        </p:blipFill>
        <p:spPr>
          <a:xfrm>
            <a:off x="4716360" y="1484280"/>
            <a:ext cx="3959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Храм Успения Пресвятой Богородицы (Портпоселок) — Комсомольское шоссе, 2-А (вниз по Нагорной от Комсомольского шоссе). Очень симпатичный деревянный храм, построен в 2000 год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Храм Успения Пресвятой Богородицы (2000).&#13;&#10;    Фото: Олег Манаенков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«Памятник верности» находится (Автозаводский район) — на пересечении Южного шоссе и улицы Льва Яшина. Это памятник собаке, 7 лет, до самой своей смерти, ждавшей на месте автокатастрофы своих хозяев, увезенных с места аварии на скорой, но не выживших. Говорят, что надо потереть бронзовой собаке нос на счастье. </a:t>
            </a: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i?id=5597160&amp;tov=5"/>
          <p:cNvPicPr/>
          <p:nvPr/>
        </p:nvPicPr>
        <p:blipFill>
          <a:blip r:embed="rId2"/>
          <a:stretch/>
        </p:blipFill>
        <p:spPr>
          <a:xfrm>
            <a:off x="5332320" y="1844640"/>
            <a:ext cx="2606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4211640" y="3573360"/>
            <a:ext cx="4465800" cy="3284640"/>
          </a:xfrm>
          <a:prstGeom prst="wedgeEllipseCallout">
            <a:avLst>
              <a:gd name="adj1" fmla="val -78189"/>
              <a:gd name="adj2" fmla="val -5072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88000" y="414972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приглашаю вас полюбоваться на мощь и красоту самой знаменитой реки России – ВОЛ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2352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5364000" y="333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остановимся у подножия гор – Жигу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1828800" y="469800"/>
            <a:ext cx="5999040" cy="115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108Г"/>
          <p:cNvPicPr/>
          <p:nvPr/>
        </p:nvPicPr>
        <p:blipFill>
          <a:blip r:embed="rId2"/>
          <a:stretch/>
        </p:blipFill>
        <p:spPr>
          <a:xfrm>
            <a:off x="250920" y="3232080"/>
            <a:ext cx="3241440" cy="3224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lip_image001"/>
          <p:cNvPicPr/>
          <p:nvPr/>
        </p:nvPicPr>
        <p:blipFill>
          <a:blip r:embed="rId3"/>
          <a:stretch/>
        </p:blipFill>
        <p:spPr>
          <a:xfrm>
            <a:off x="6588000" y="189000"/>
            <a:ext cx="2082960" cy="2882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111_"/>
          <p:cNvPicPr/>
          <p:nvPr/>
        </p:nvPicPr>
        <p:blipFill>
          <a:blip r:embed="rId4"/>
          <a:stretch/>
        </p:blipFill>
        <p:spPr>
          <a:xfrm>
            <a:off x="6732720" y="3284640"/>
            <a:ext cx="2101680" cy="3255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церковь"/>
          <p:cNvPicPr/>
          <p:nvPr/>
        </p:nvPicPr>
        <p:blipFill>
          <a:blip r:embed="rId5"/>
          <a:stretch/>
        </p:blipFill>
        <p:spPr>
          <a:xfrm>
            <a:off x="0" y="189000"/>
            <a:ext cx="3564000" cy="2809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Сарыч"/>
          <p:cNvPicPr/>
          <p:nvPr/>
        </p:nvPicPr>
        <p:blipFill>
          <a:blip r:embed="rId6"/>
          <a:stretch/>
        </p:blipFill>
        <p:spPr>
          <a:xfrm>
            <a:off x="3708360" y="3789360"/>
            <a:ext cx="2735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clubochek.ru/images/products/19201/133368234.jpeg"/>
          <p:cNvPicPr/>
          <p:nvPr/>
        </p:nvPicPr>
        <p:blipFill>
          <a:blip r:embed="rId1"/>
          <a:stretch/>
        </p:blipFill>
        <p:spPr>
          <a:xfrm>
            <a:off x="357120" y="285840"/>
            <a:ext cx="2857680" cy="21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www.clubochek.ru/images/products/19201/578308650.jpeg"/>
          <p:cNvPicPr/>
          <p:nvPr/>
        </p:nvPicPr>
        <p:blipFill>
          <a:blip r:embed="rId2"/>
          <a:stretch/>
        </p:blipFill>
        <p:spPr>
          <a:xfrm>
            <a:off x="5857920" y="2858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www.clubochek.ru/images/products/19201/457974596.jpeg"/>
          <p:cNvPicPr/>
          <p:nvPr/>
        </p:nvPicPr>
        <p:blipFill>
          <a:blip r:embed="rId3"/>
          <a:stretch/>
        </p:blipFill>
        <p:spPr>
          <a:xfrm>
            <a:off x="5643720" y="3857760"/>
            <a:ext cx="3085920" cy="23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www.clubochek.ru/images/products/19201/108733767.jpeg"/>
          <p:cNvPicPr/>
          <p:nvPr/>
        </p:nvPicPr>
        <p:blipFill>
          <a:blip r:embed="rId4"/>
          <a:stretch/>
        </p:blipFill>
        <p:spPr>
          <a:xfrm>
            <a:off x="320760" y="2857680"/>
            <a:ext cx="2894040" cy="3357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3203640" y="1484280"/>
            <a:ext cx="27367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благодарны Интернету за то,                   что мир для нас откры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любим город свой - Тольят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отим чтоб мир его люби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асибо з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Мы хотим вас ознакомить с географическим положением города Тольятт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селение 704.9 тысяч (2006), координаты 53°31´ с. ш., 49°25´ в.д. Расположен на левом берегу Волги, вверх по течению Волги примерно в 100 км от Самары по автодороге М5. Тольятти — самый большой из городов Российской Федерации, не являющийся областным или республиканским центр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5" descr="mapdata?CxVJ4zADHSHu8QIg____________AQwtSeMwAzUh7vECQLACSJwBUgJSVWgBkAEHygECcnU"/>
          <p:cNvPicPr/>
          <p:nvPr/>
        </p:nvPicPr>
        <p:blipFill>
          <a:blip r:embed="rId2"/>
          <a:stretch/>
        </p:blipFill>
        <p:spPr>
          <a:xfrm>
            <a:off x="4390920" y="1773360"/>
            <a:ext cx="47530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4005360"/>
            <a:ext cx="6300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В 1739 году 14 мая был опубликован указ об именовании города и крепости Ставропо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Ставрополь означает "город креста"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Итак, первый этап приходится на ХVIII-середину XX век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Рисунок 11" descr="http://www.kp.ru/upimg/logo/126070.jpg"/>
          <p:cNvPicPr/>
          <p:nvPr/>
        </p:nvPicPr>
        <p:blipFill>
          <a:blip r:embed="rId1"/>
          <a:stretch/>
        </p:blipFill>
        <p:spPr>
          <a:xfrm>
            <a:off x="6357960" y="3213000"/>
            <a:ext cx="2786040" cy="33987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3238560" y="404640"/>
            <a:ext cx="5905440" cy="2519640"/>
          </a:xfrm>
          <a:prstGeom prst="wedgeRoundRectCallout">
            <a:avLst>
              <a:gd name="adj1" fmla="val -72768"/>
              <a:gd name="adj2" fmla="val 16476"/>
              <a:gd name="adj3" fmla="val 16667"/>
            </a:avLst>
          </a:prstGeom>
          <a:gradFill rotWithShape="0">
            <a:gsLst>
              <a:gs pos="0">
                <a:srgbClr val="ffde66"/>
              </a:gs>
              <a:gs pos="50000">
                <a:srgbClr val="ffffff"/>
              </a:gs>
              <a:gs pos="100000">
                <a:srgbClr val="ffde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нём   экскурсию по городу Тольятти с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сторическ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центра гор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дом основания Тольятти считается 1737 год. Как и многие русские города, его рождение началось с постройки крепости.                                    Её возведением занимался наш земляк 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асилий Татищев.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0" y="189000"/>
            <a:ext cx="25160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2" descr="http://content.foto.mail.ru/mail/jenya5505/_answers/i-292.jpg"/>
          <p:cNvPicPr/>
          <p:nvPr/>
        </p:nvPicPr>
        <p:blipFill>
          <a:blip r:embed="rId1"/>
          <a:stretch/>
        </p:blipFill>
        <p:spPr>
          <a:xfrm>
            <a:off x="1692360" y="2205000"/>
            <a:ext cx="5400720" cy="3232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же во второй половине ХХ века Совет Министров СССР утвердил план строительства на реке Волга гидроузла. Май 1953 года - начало переноса города Ставрополя из зоны затопления на новую площадку: в 10 км к востоку от старого города был построен рабочий посёлок Комсомольск, а в 4 км от него вниз по Волге — посёлок Шлюзовой. Оба посёлка позднее вошли в состав нового Ставрополя. Такие перемены в жизни города, называют "вторым рождением"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5546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оответственно третье рождение - это события, связанные с появлением автомобильного завода. 1966 год – принятие решения о строительстве крупнейшего завода по выпуску легковых автомобилей - Волжского автозав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2" descr="http://revarchiv.narod.ru/toglia1.jpg"/>
          <p:cNvPicPr/>
          <p:nvPr/>
        </p:nvPicPr>
        <p:blipFill>
          <a:blip r:embed="rId1"/>
          <a:stretch/>
        </p:blipFill>
        <p:spPr>
          <a:xfrm>
            <a:off x="6588000" y="2421000"/>
            <a:ext cx="2171880" cy="2857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68360" y="3645000"/>
            <a:ext cx="5864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ынешнее свое название Тольятти получил в 1964 году в честь организатора борьбы с фашизмом в Европе - итальянского коммуниста Пальмиро Тольятти, так как  благодаря его большому участию  известнейший итальянский автомобильный завод «Fiat» начал строительство на Волге мощного автомобильного завода, названного впоследствии «АвтоВАЗ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ьная выноска 4"/>
          <p:cNvSpPr/>
          <p:nvPr/>
        </p:nvSpPr>
        <p:spPr>
          <a:xfrm>
            <a:off x="3214800" y="285840"/>
            <a:ext cx="5429160" cy="1357200"/>
          </a:xfrm>
          <a:prstGeom prst="wedgeEllipseCallout">
            <a:avLst>
              <a:gd name="adj1" fmla="val -68916"/>
              <a:gd name="adj2" fmla="val 77717"/>
            </a:avLst>
          </a:prstGeom>
          <a:solidFill>
            <a:srgbClr val="fef0d7">
              <a:alpha val="91000"/>
            </a:srgbClr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почему у города сейчас такое необычное  название?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250920" y="0"/>
            <a:ext cx="22287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07640" cy="132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0" y="765000"/>
            <a:ext cx="914400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ы обязательно посетим краеведческий музей - место, где представлены образцы произведений искусства и культуры прошлого  и настоящего   города. Очень интересна экспозиция “Ставрополь провинциальный”, посвящённая истории края, начиная с древности и заканчивая современностью. В экспозиции представлены предметы из повседневной жизни народов Поволжья, их национальные костюмы, интерьеры крестьянской избы, дома зажиточных горожан и квартиры жителей города первых лет советской власт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Рисунок 3" descr="Краеведческий музей г. Тольятти"/>
          <p:cNvPicPr/>
          <p:nvPr/>
        </p:nvPicPr>
        <p:blipFill>
          <a:blip r:embed="rId2"/>
          <a:stretch/>
        </p:blipFill>
        <p:spPr>
          <a:xfrm>
            <a:off x="611280" y="3645000"/>
            <a:ext cx="5256000" cy="2940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Зал археологии Краеведческого музея г. Тольятти"/>
          <p:cNvPicPr/>
          <p:nvPr/>
        </p:nvPicPr>
        <p:blipFill>
          <a:blip r:embed="rId3"/>
          <a:stretch/>
        </p:blipFill>
        <p:spPr>
          <a:xfrm>
            <a:off x="6156360" y="3213000"/>
            <a:ext cx="2519280" cy="16797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Дворянская усадьба - экспозиция Краеведческого музея г. Тольятти"/>
          <p:cNvPicPr/>
          <p:nvPr/>
        </p:nvPicPr>
        <p:blipFill>
          <a:blip r:embed="rId4"/>
          <a:stretch/>
        </p:blipFill>
        <p:spPr>
          <a:xfrm>
            <a:off x="6156360" y="5083200"/>
            <a:ext cx="25192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468360" y="26028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завод Тольят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8" descr="69951938"/>
          <p:cNvPicPr/>
          <p:nvPr/>
        </p:nvPicPr>
        <p:blipFill>
          <a:blip r:embed="rId3"/>
          <a:stretch/>
        </p:blipFill>
        <p:spPr>
          <a:xfrm>
            <a:off x="3780000" y="3357720"/>
            <a:ext cx="536400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3492360" y="981000"/>
            <a:ext cx="5472360" cy="2160720"/>
          </a:xfrm>
          <a:prstGeom prst="wedgeRoundRectCallout">
            <a:avLst>
              <a:gd name="adj1" fmla="val -73412"/>
              <a:gd name="adj2" fmla="val 28694"/>
              <a:gd name="adj3" fmla="val 16667"/>
            </a:avLst>
          </a:prstGeom>
          <a:gradFill rotWithShape="0">
            <a:gsLst>
              <a:gs pos="0">
                <a:srgbClr val="ffde66"/>
              </a:gs>
              <a:gs pos="50000">
                <a:srgbClr val="ffffff"/>
              </a:gs>
              <a:gs pos="100000">
                <a:srgbClr val="ffde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 я, как и многие люди, услышав название города Тольятти, сразу думаю о самой главной достопримечательности нашего города, об Автозаводе Тольятти или ОАО «АВТОВАЗ».   Сегодня завод выпускает такие марки машин как: Лада , Renault и Niss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3025800" cy="298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5"/>
          <a:stretch/>
        </p:blipFill>
        <p:spPr>
          <a:xfrm>
            <a:off x="395280" y="907920"/>
            <a:ext cx="22701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44956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ша экскурсия по городу продолжается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Мы находимся в парке Центрального района, где в 2006 году был открыт памятник «Скорбящий ангел» репрессирован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корбящего ангела с книгой в руках, появившегося в парке, можно назвать, пожалуй, одним из интереснейших памятников Тольятти. Скульптура, окруженная табличками с именами жертв политических репрессий, выглядит очень внушительно.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 день траура у «Скорбящего ангела» 1 ноября 2007 года были установлены горящие свечи в связи с трагическими события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P1180073.jpg"/>
          <p:cNvPicPr/>
          <p:nvPr/>
        </p:nvPicPr>
        <p:blipFill>
          <a:blip r:embed="rId2"/>
          <a:stretch/>
        </p:blipFill>
        <p:spPr>
          <a:xfrm>
            <a:off x="4572000" y="1268280"/>
            <a:ext cx="4176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1599840"/>
            <a:ext cx="42447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Тольятти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на площади перед Городской Думой год назад установили скульптурную композицию - памятник святому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Николаю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чудотворцу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 фонтаном и чаш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Картинка 1 из 9"/>
          <p:cNvPicPr/>
          <p:nvPr/>
        </p:nvPicPr>
        <p:blipFill>
          <a:blip r:embed="rId2"/>
          <a:stretch/>
        </p:blipFill>
        <p:spPr>
          <a:xfrm>
            <a:off x="4932360" y="1557360"/>
            <a:ext cx="3814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0:00:46Z</dcterms:created>
  <dc:creator>student</dc:creator>
  <dc:description/>
  <dc:language>en-US</dc:language>
  <cp:lastModifiedBy>рыщенко</cp:lastModifiedBy>
  <dcterms:modified xsi:type="dcterms:W3CDTF">2012-11-05T11:38:44Z</dcterms:modified>
  <cp:revision>29</cp:revision>
  <dc:subject/>
  <dc:title>Слайд 1</dc:title>
</cp:coreProperties>
</file>