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8.wmf" ContentType="image/x-wmf"/>
  <Override PartName="/ppt/media/image9.png" ContentType="image/png"/>
  <Override PartName="/ppt/media/image11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0.jpeg" ContentType="image/jpeg"/>
  <Override PartName="/ppt/media/image5.jpeg" ContentType="image/jpeg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124B-0228-407E-BECA-7E752193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0C93-55D9-4CFB-A264-2F8D11A5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03D6-2074-437E-84B2-F57135A7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0928-B366-4407-BF15-D86CD1F1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86D3-1C7C-4D80-A820-CC4C9C9F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D35F-43F1-486E-AD58-97327497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40DD-CDE3-431D-90E3-78D2C7D2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035B-6196-4072-B54B-8227B7B6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BD8E-BEBE-462D-8434-6F858E2C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9608-3864-4DD5-808A-7676C3B4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E4B0-CB86-4919-B813-38F1303A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7980-2666-493D-9593-4FC63462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535A-0630-485C-A7C2-5443F35866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74;&#1086;&#1076;&#1080;&#1090;&#1100;%20&#1079;&#1072;%20&#1085;&#1086;&#1089;&amp;img_url=www.tvoyrebenok.ru%2Fimages%2Ffrazeologizmy%2F7.jpg&amp;pos=7&amp;rpt=simage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324000" y="907920"/>
            <a:ext cx="8496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Турнир русского языка с Буквознаем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2" name="Picture 6" descr="http://illustrators.ru/illustrations/413677_original.jpg?1330939272"/>
          <p:cNvPicPr/>
          <p:nvPr/>
        </p:nvPicPr>
        <p:blipFill>
          <a:blip r:embed="rId1"/>
          <a:srcRect l="19196" t="5602" r="17314" b="0"/>
          <a:stretch/>
        </p:blipFill>
        <p:spPr>
          <a:xfrm>
            <a:off x="2987640" y="2852640"/>
            <a:ext cx="3097080" cy="364176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</p:spTree>
  </p:cSld>
  <p:transition spd="slow"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Вертикальный свиток 5"/>
          <p:cNvSpPr/>
          <p:nvPr/>
        </p:nvSpPr>
        <p:spPr>
          <a:xfrm>
            <a:off x="179280" y="404640"/>
            <a:ext cx="8785440" cy="61200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5"/>
          <p:cNvSpPr txBox="1"/>
          <p:nvPr/>
        </p:nvSpPr>
        <p:spPr>
          <a:xfrm>
            <a:off x="1258920" y="1844640"/>
            <a:ext cx="6769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Конкурс «Собери слово»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2156040" y="4192920"/>
            <a:ext cx="418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Отгадайте сл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собрав их по частям.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 rot="5400000">
            <a:off x="1619640" y="-747000"/>
            <a:ext cx="6048360" cy="82090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2900"/>
                </a:solidFill>
                <a:latin typeface="Comic Sans MS"/>
              </a:rPr>
              <a:t>Уважаемые болельщик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2900"/>
                </a:solidFill>
                <a:latin typeface="Comic Sans MS"/>
              </a:rPr>
              <a:t>Вы, наверняка, замечали, ч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2900"/>
                </a:solidFill>
                <a:latin typeface="Comic Sans MS"/>
              </a:rPr>
              <a:t>иногда человека сравнив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2900"/>
                </a:solidFill>
                <a:latin typeface="Comic Sans MS"/>
              </a:rPr>
              <a:t>с каким-либо живот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2900"/>
                </a:solidFill>
                <a:latin typeface="Comic Sans MS"/>
              </a:rPr>
              <a:t>Если вы правильно отгада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2900"/>
                </a:solidFill>
                <a:latin typeface="Comic Sans MS"/>
              </a:rPr>
              <a:t>названия животных, то узна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2900"/>
                </a:solidFill>
                <a:latin typeface="Comic Sans MS"/>
              </a:rPr>
              <a:t>как в русском языке называ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2900"/>
                </a:solidFill>
                <a:latin typeface="Comic Sans MS"/>
              </a:rPr>
              <a:t>слова, сравнивающие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2900"/>
                </a:solidFill>
                <a:latin typeface="Comic Sans MS"/>
              </a:rPr>
              <a:t>с животны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395280" y="404640"/>
          <a:ext cx="8353440" cy="4608720"/>
        </p:xfrm>
        <a:graphic>
          <a:graphicData uri="http://schemas.openxmlformats.org/drawingml/2006/table">
            <a:tbl>
              <a:tblPr/>
              <a:tblGrid>
                <a:gridCol w="642960"/>
                <a:gridCol w="642960"/>
                <a:gridCol w="641160"/>
                <a:gridCol w="642960"/>
                <a:gridCol w="642960"/>
                <a:gridCol w="676440"/>
                <a:gridCol w="608040"/>
                <a:gridCol w="642960"/>
                <a:gridCol w="642960"/>
                <a:gridCol w="642960"/>
                <a:gridCol w="641160"/>
                <a:gridCol w="642960"/>
                <a:gridCol w="642960"/>
              </a:tblGrid>
              <a:tr h="65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Rectangle 380"/>
          <p:cNvSpPr/>
          <p:nvPr/>
        </p:nvSpPr>
        <p:spPr>
          <a:xfrm>
            <a:off x="468360" y="5300640"/>
            <a:ext cx="813600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1) Трусливый, как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81"/>
          <p:cNvSpPr/>
          <p:nvPr/>
        </p:nvSpPr>
        <p:spPr>
          <a:xfrm>
            <a:off x="468360" y="5300640"/>
            <a:ext cx="813600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2) Голодный, как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82"/>
          <p:cNvSpPr/>
          <p:nvPr/>
        </p:nvSpPr>
        <p:spPr>
          <a:xfrm>
            <a:off x="468360" y="5300640"/>
            <a:ext cx="813600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3) Преданный, как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83"/>
          <p:cNvSpPr/>
          <p:nvPr/>
        </p:nvSpPr>
        <p:spPr>
          <a:xfrm>
            <a:off x="468360" y="5300640"/>
            <a:ext cx="813600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4) Грязный, как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84"/>
          <p:cNvSpPr/>
          <p:nvPr/>
        </p:nvSpPr>
        <p:spPr>
          <a:xfrm>
            <a:off x="468360" y="5373720"/>
            <a:ext cx="813600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5) Зубастый, как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85"/>
          <p:cNvSpPr/>
          <p:nvPr/>
        </p:nvSpPr>
        <p:spPr>
          <a:xfrm>
            <a:off x="468360" y="5373720"/>
            <a:ext cx="813600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6) Трудолюбивый, как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87"/>
          <p:cNvSpPr/>
          <p:nvPr/>
        </p:nvSpPr>
        <p:spPr>
          <a:xfrm>
            <a:off x="468360" y="5373720"/>
            <a:ext cx="813600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7) Тихий, как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388"/>
          <p:cNvSpPr txBox="1"/>
          <p:nvPr/>
        </p:nvSpPr>
        <p:spPr>
          <a:xfrm>
            <a:off x="4284720" y="404640"/>
            <a:ext cx="2519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ЗАЯЦ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9" name="WordArt 389"/>
          <p:cNvSpPr txBox="1"/>
          <p:nvPr/>
        </p:nvSpPr>
        <p:spPr>
          <a:xfrm>
            <a:off x="3708360" y="1052640"/>
            <a:ext cx="244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ВОЛК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0" name="WordArt 390"/>
          <p:cNvSpPr txBox="1"/>
          <p:nvPr/>
        </p:nvSpPr>
        <p:spPr>
          <a:xfrm>
            <a:off x="3635280" y="1700280"/>
            <a:ext cx="3745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СОБАКА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1" name="WordArt 391"/>
          <p:cNvSpPr txBox="1"/>
          <p:nvPr/>
        </p:nvSpPr>
        <p:spPr>
          <a:xfrm>
            <a:off x="395280" y="2349360"/>
            <a:ext cx="5761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ПОРОСЁНОК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2" name="WordArt 392"/>
          <p:cNvSpPr txBox="1"/>
          <p:nvPr/>
        </p:nvSpPr>
        <p:spPr>
          <a:xfrm>
            <a:off x="468360" y="3068640"/>
            <a:ext cx="50403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КРОКОДИЛ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3" name="WordArt 393"/>
          <p:cNvSpPr txBox="1"/>
          <p:nvPr/>
        </p:nvSpPr>
        <p:spPr>
          <a:xfrm>
            <a:off x="4140360" y="3645000"/>
            <a:ext cx="4535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МУРАВЕЙ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4" name="WordArt 394"/>
          <p:cNvSpPr txBox="1"/>
          <p:nvPr/>
        </p:nvSpPr>
        <p:spPr>
          <a:xfrm>
            <a:off x="3635280" y="4365720"/>
            <a:ext cx="2521080" cy="6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МЫШЬ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l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539640" y="981000"/>
            <a:ext cx="7993080" cy="19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25560">
                  <a:solidFill>
                    <a:srgbClr val="339966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ООНИМЫ</a:t>
            </a:r>
            <a:endParaRPr b="0" lang="en-US" sz="8000" spc="1" strike="noStrike">
              <a:ln w="25560">
                <a:solidFill>
                  <a:srgbClr val="339966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Picture 3" descr="j0304933"/>
          <p:cNvPicPr/>
          <p:nvPr/>
        </p:nvPicPr>
        <p:blipFill>
          <a:blip r:embed="rId1"/>
          <a:stretch/>
        </p:blipFill>
        <p:spPr>
          <a:xfrm>
            <a:off x="3564000" y="3500280"/>
            <a:ext cx="1819080" cy="1668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j0233173"/>
          <p:cNvPicPr/>
          <p:nvPr/>
        </p:nvPicPr>
        <p:blipFill>
          <a:blip r:embed="rId2"/>
          <a:stretch/>
        </p:blipFill>
        <p:spPr>
          <a:xfrm>
            <a:off x="755640" y="3573360"/>
            <a:ext cx="1793880" cy="2595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j0215295"/>
          <p:cNvPicPr/>
          <p:nvPr/>
        </p:nvPicPr>
        <p:blipFill>
          <a:blip r:embed="rId3"/>
          <a:stretch/>
        </p:blipFill>
        <p:spPr>
          <a:xfrm>
            <a:off x="6094440" y="3789360"/>
            <a:ext cx="2322360" cy="243684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0">
            <a:hlinkClick r:id="rId4" action="ppaction://hlinksldjump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Вертикальный свиток 5"/>
          <p:cNvSpPr/>
          <p:nvPr/>
        </p:nvSpPr>
        <p:spPr>
          <a:xfrm>
            <a:off x="324000" y="404640"/>
            <a:ext cx="8569080" cy="61200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1476360" y="1341360"/>
            <a:ext cx="63356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Конкурс «Угадай пословицы»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1368360" y="3493800"/>
            <a:ext cx="640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Команде задаётся по одному перв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слову, дети должны догада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о какой пословице идёт реч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Вертикальный свиток 5"/>
          <p:cNvSpPr/>
          <p:nvPr/>
        </p:nvSpPr>
        <p:spPr>
          <a:xfrm>
            <a:off x="0" y="404640"/>
            <a:ext cx="8785080" cy="59040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5"/>
          <p:cNvSpPr txBox="1"/>
          <p:nvPr/>
        </p:nvSpPr>
        <p:spPr>
          <a:xfrm>
            <a:off x="1258920" y="1844640"/>
            <a:ext cx="6769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Конкурс «Весёлые картинки»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1979640" y="45831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116000" y="2764080"/>
            <a:ext cx="648036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Какие фразеологизмы изображены на рисунках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Что они обозначаю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2"/>
          <p:cNvPicPr/>
          <p:nvPr/>
        </p:nvPicPr>
        <p:blipFill>
          <a:blip r:embed="rId1"/>
          <a:stretch/>
        </p:blipFill>
        <p:spPr>
          <a:xfrm>
            <a:off x="2556000" y="404640"/>
            <a:ext cx="4537080" cy="4356360"/>
          </a:xfrm>
          <a:prstGeom prst="rect">
            <a:avLst/>
          </a:prstGeom>
          <a:ln w="9360">
            <a:solidFill>
              <a:srgbClr val="606060"/>
            </a:solidFill>
            <a:miter/>
          </a:ln>
        </p:spPr>
      </p:pic>
      <p:sp>
        <p:nvSpPr>
          <p:cNvPr id="108" name="Rectangle 3"/>
          <p:cNvSpPr/>
          <p:nvPr/>
        </p:nvSpPr>
        <p:spPr>
          <a:xfrm>
            <a:off x="468360" y="4894200"/>
            <a:ext cx="7754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Как курица лап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4"/>
          <p:cNvPicPr/>
          <p:nvPr/>
        </p:nvPicPr>
        <p:blipFill>
          <a:blip r:embed="rId1"/>
          <a:stretch/>
        </p:blipFill>
        <p:spPr>
          <a:xfrm>
            <a:off x="2124000" y="260280"/>
            <a:ext cx="4421160" cy="3745080"/>
          </a:xfrm>
          <a:prstGeom prst="rect">
            <a:avLst/>
          </a:prstGeom>
          <a:ln w="9360">
            <a:solidFill>
              <a:srgbClr val="606060"/>
            </a:solidFill>
            <a:miter/>
          </a:ln>
        </p:spPr>
      </p:pic>
      <p:sp>
        <p:nvSpPr>
          <p:cNvPr id="110" name="TextBox 3"/>
          <p:cNvSpPr/>
          <p:nvPr/>
        </p:nvSpPr>
        <p:spPr>
          <a:xfrm>
            <a:off x="900000" y="458136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Вставлять палки в колё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http://photopolygon.com/photo/fit/5152/16358/96041.jpg.700"/>
          <p:cNvPicPr/>
          <p:nvPr/>
        </p:nvPicPr>
        <p:blipFill>
          <a:blip r:embed="rId1"/>
          <a:stretch/>
        </p:blipFill>
        <p:spPr>
          <a:xfrm>
            <a:off x="2987640" y="260280"/>
            <a:ext cx="2808360" cy="4197600"/>
          </a:xfrm>
          <a:prstGeom prst="rect">
            <a:avLst/>
          </a:prstGeom>
          <a:ln w="9360">
            <a:solidFill>
              <a:srgbClr val="606060"/>
            </a:solidFill>
            <a:miter/>
          </a:ln>
        </p:spPr>
      </p:pic>
      <p:sp>
        <p:nvSpPr>
          <p:cNvPr id="112" name="TextBox 3"/>
          <p:cNvSpPr/>
          <p:nvPr/>
        </p:nvSpPr>
        <p:spPr>
          <a:xfrm>
            <a:off x="900000" y="458136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 </a:t>
            </a: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Брать быка за рог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ttp://im0-tub-ru.yandex.net/i?id=550897158-16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333360"/>
            <a:ext cx="4043520" cy="4043520"/>
          </a:xfrm>
          <a:prstGeom prst="rect">
            <a:avLst/>
          </a:prstGeom>
          <a:ln w="9360">
            <a:solidFill>
              <a:srgbClr val="606060"/>
            </a:solidFill>
            <a:miter/>
          </a:ln>
        </p:spPr>
      </p:pic>
      <p:sp>
        <p:nvSpPr>
          <p:cNvPr id="114" name="Rectangle 3"/>
          <p:cNvSpPr/>
          <p:nvPr/>
        </p:nvSpPr>
        <p:spPr>
          <a:xfrm>
            <a:off x="2170440" y="5117400"/>
            <a:ext cx="480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Водить за но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5"/>
          <p:cNvSpPr txBox="1"/>
          <p:nvPr/>
        </p:nvSpPr>
        <p:spPr>
          <a:xfrm>
            <a:off x="324000" y="549360"/>
            <a:ext cx="849600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Приветствие команд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(визитная карточка)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4" name="Picture 6" descr="http://illustrators.ru/illustrations/413677_original.jpg?1330939272"/>
          <p:cNvPicPr/>
          <p:nvPr/>
        </p:nvPicPr>
        <p:blipFill>
          <a:blip r:embed="rId1"/>
          <a:srcRect l="19196" t="5602" r="17314" b="0"/>
          <a:stretch/>
        </p:blipFill>
        <p:spPr>
          <a:xfrm>
            <a:off x="3059280" y="3284640"/>
            <a:ext cx="2881080" cy="33876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</p:spTree>
  </p:cSld>
  <p:transition spd="slow">
    <p:pull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www.onlinetambov.ru/upload/blog/b0d/b0dbf90478a34917e8f82e0eea3dd834.jpg"/>
          <p:cNvPicPr/>
          <p:nvPr/>
        </p:nvPicPr>
        <p:blipFill>
          <a:blip r:embed="rId1"/>
          <a:stretch/>
        </p:blipFill>
        <p:spPr>
          <a:xfrm>
            <a:off x="2268360" y="333360"/>
            <a:ext cx="4616640" cy="4032360"/>
          </a:xfrm>
          <a:prstGeom prst="rect">
            <a:avLst/>
          </a:prstGeom>
          <a:ln w="9360">
            <a:solidFill>
              <a:srgbClr val="606060"/>
            </a:solidFill>
            <a:miter/>
          </a:ln>
        </p:spPr>
      </p:pic>
      <p:sp>
        <p:nvSpPr>
          <p:cNvPr id="116" name="TextBox 3"/>
          <p:cNvSpPr/>
          <p:nvPr/>
        </p:nvSpPr>
        <p:spPr>
          <a:xfrm>
            <a:off x="1258920" y="479736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Сесть в луж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polunin.ru/photos/albums/kapusto07/zametaem_sledy.jpg"/>
          <p:cNvPicPr/>
          <p:nvPr/>
        </p:nvPicPr>
        <p:blipFill>
          <a:blip r:embed="rId1"/>
          <a:stretch/>
        </p:blipFill>
        <p:spPr>
          <a:xfrm>
            <a:off x="3059280" y="549360"/>
            <a:ext cx="2895480" cy="3857400"/>
          </a:xfrm>
          <a:prstGeom prst="rect">
            <a:avLst/>
          </a:prstGeom>
          <a:ln w="9360">
            <a:solidFill>
              <a:srgbClr val="606060"/>
            </a:solidFill>
            <a:miter/>
          </a:ln>
        </p:spPr>
      </p:pic>
      <p:sp>
        <p:nvSpPr>
          <p:cNvPr id="118" name="TextBox 3"/>
          <p:cNvSpPr/>
          <p:nvPr/>
        </p:nvSpPr>
        <p:spPr>
          <a:xfrm>
            <a:off x="611280" y="458136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mic Sans MS"/>
              </a:rPr>
              <a:t>Заметать сле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11"/>
          <p:cNvPicPr/>
          <p:nvPr/>
        </p:nvPicPr>
        <p:blipFill>
          <a:blip r:embed="rId1"/>
          <a:stretch/>
        </p:blipFill>
        <p:spPr>
          <a:xfrm>
            <a:off x="2050920" y="260280"/>
            <a:ext cx="5265720" cy="4032360"/>
          </a:xfrm>
          <a:prstGeom prst="rect">
            <a:avLst/>
          </a:prstGeom>
          <a:ln w="9360">
            <a:solidFill>
              <a:srgbClr val="606060"/>
            </a:solidFill>
            <a:miter/>
          </a:ln>
        </p:spPr>
      </p:pic>
      <p:sp>
        <p:nvSpPr>
          <p:cNvPr id="120" name="TextBox 5"/>
          <p:cNvSpPr/>
          <p:nvPr/>
        </p:nvSpPr>
        <p:spPr>
          <a:xfrm>
            <a:off x="477360" y="4797360"/>
            <a:ext cx="772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mic Sans MS"/>
              </a:rPr>
              <a:t>Работать спустя рука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6132"/>
          <p:cNvPicPr/>
          <p:nvPr/>
        </p:nvPicPr>
        <p:blipFill>
          <a:blip r:embed="rId1"/>
          <a:stretch/>
        </p:blipFill>
        <p:spPr>
          <a:xfrm>
            <a:off x="2771640" y="404640"/>
            <a:ext cx="3630600" cy="4176720"/>
          </a:xfrm>
          <a:prstGeom prst="rect">
            <a:avLst/>
          </a:prstGeom>
          <a:ln w="9360">
            <a:solidFill>
              <a:srgbClr val="606060"/>
            </a:solidFill>
            <a:miter/>
          </a:ln>
        </p:spPr>
      </p:pic>
      <p:sp>
        <p:nvSpPr>
          <p:cNvPr id="122" name="TextBox 3"/>
          <p:cNvSpPr/>
          <p:nvPr/>
        </p:nvSpPr>
        <p:spPr>
          <a:xfrm>
            <a:off x="755640" y="522936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mic Sans MS"/>
              </a:rPr>
              <a:t>Как с гуся в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6"/>
          <p:cNvPicPr/>
          <p:nvPr/>
        </p:nvPicPr>
        <p:blipFill>
          <a:blip r:embed="rId1"/>
          <a:stretch/>
        </p:blipFill>
        <p:spPr>
          <a:xfrm>
            <a:off x="2050920" y="404640"/>
            <a:ext cx="5015160" cy="3529080"/>
          </a:xfrm>
          <a:prstGeom prst="rect">
            <a:avLst/>
          </a:prstGeom>
          <a:ln w="9360">
            <a:solidFill>
              <a:srgbClr val="606060"/>
            </a:solidFill>
            <a:miter/>
          </a:ln>
        </p:spPr>
      </p:pic>
      <p:sp>
        <p:nvSpPr>
          <p:cNvPr id="124" name="TextBox 4"/>
          <p:cNvSpPr/>
          <p:nvPr/>
        </p:nvSpPr>
        <p:spPr>
          <a:xfrm>
            <a:off x="2501640" y="4292640"/>
            <a:ext cx="411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Повесить н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http://img-fotki.yandex.ru/get/5822/19411616.149/0_8aed9_fa7a1274_XL"/>
          <p:cNvPicPr/>
          <p:nvPr/>
        </p:nvPicPr>
        <p:blipFill>
          <a:blip r:embed="rId1"/>
          <a:stretch/>
        </p:blipFill>
        <p:spPr>
          <a:xfrm>
            <a:off x="2627280" y="476280"/>
            <a:ext cx="3857760" cy="4176720"/>
          </a:xfrm>
          <a:prstGeom prst="rect">
            <a:avLst/>
          </a:prstGeom>
          <a:ln w="9360">
            <a:solidFill>
              <a:srgbClr val="606060"/>
            </a:solidFill>
            <a:miter/>
          </a:ln>
        </p:spPr>
      </p:pic>
      <p:sp>
        <p:nvSpPr>
          <p:cNvPr id="126" name="TextBox 4"/>
          <p:cNvSpPr/>
          <p:nvPr/>
        </p:nvSpPr>
        <p:spPr>
          <a:xfrm>
            <a:off x="1654200" y="5084640"/>
            <a:ext cx="526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Летать в облак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395280" y="-111600"/>
            <a:ext cx="8485200" cy="68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Игра с залом. Найди крылатое выра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аша, не стучи: уже поздно, соседи спят, – сказала мама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 Саша стучит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 Прекрати стук! – сказал папа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 Саша стучит..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 Как об стенку горох, – говорит бабушка.– Ему хоть кол на голове теши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 он все свое...Отберу молоток!.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тучит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 Сказано – сделано! – Бабушка взяла у Саши молоток и унесла прочь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 Отдай!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 Завтра. А сейчас молотка не видать тебе, как своих ушей!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аша заплакал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 Я машину чиню..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 бабушка: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 Всему свое время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 Зачем молоток унесла?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 Ему про Фому, а он про Ерему. Да ты как с луны свалилс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усским языком сказано: поздно уже, все спят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 Не все: мы не спим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 Ну, хватит воду в ступе толочь. Марш в кровать!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апа сказал: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 Какая живая у нашей бабушки речь – вся пословицами пересыпана: что ни слово, то пословица или поговорка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 бабушка говорит: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 Кашу маслом не испортишь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395280" y="-111600"/>
            <a:ext cx="8485200" cy="68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Игра с залом. Найди крылатое выра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аша, не стучи: уже поздно, соседи спят, – сказала мама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 Саша стучит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 Прекрати стук! – сказал папа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 Саша стучит..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 </a:t>
            </a:r>
            <a:r>
              <a:rPr b="1" lang="ru-RU" sz="17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Как об стенку горох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– говорит бабушка.– Ему </a:t>
            </a:r>
            <a:r>
              <a:rPr b="1" lang="ru-RU" sz="17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хоть кол на голове теши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 он все свое...Отберу молоток!.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тучит.</a:t>
            </a:r>
            <a:br>
              <a:rPr sz="1700"/>
            </a:br>
            <a:r>
              <a:rPr b="1" lang="ru-RU" sz="17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– Сказано – сделано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! – Бабушка взяла у Саши молоток и унесла прочь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 Отдай!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 Завтра. А сейчас молотка </a:t>
            </a:r>
            <a:r>
              <a:rPr b="1" lang="ru-RU" sz="17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не видать тебе, как своих ушей!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аша заплакал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 Я машину чиню..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 бабушка: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 </a:t>
            </a:r>
            <a:r>
              <a:rPr b="1" lang="ru-RU" sz="17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Всему свое время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 Зачем молоток унесла?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 </a:t>
            </a:r>
            <a:r>
              <a:rPr b="1" lang="ru-RU" sz="17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Ему про Фому, а он про Ерему. Да ты как с луны свалилс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  </a:t>
            </a:r>
            <a:r>
              <a:rPr b="1" lang="ru-RU" sz="17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Русским языком сказано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поздно уже, все спят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 Не все: мы не спим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 Ну, </a:t>
            </a:r>
            <a:r>
              <a:rPr b="1" lang="ru-RU" sz="17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хватит воду в ступе толочь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Марш в кровать!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апа сказал: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 Какая живая у нашей бабушки речь – вся пословицами пересыпана: что ни слово, то пословица или поговорка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 бабушка говорит: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 </a:t>
            </a:r>
            <a:r>
              <a:rPr b="1" lang="ru-RU" sz="17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Кашу маслом не испортишь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Вертикальный свиток 5"/>
          <p:cNvSpPr/>
          <p:nvPr/>
        </p:nvSpPr>
        <p:spPr>
          <a:xfrm>
            <a:off x="324000" y="404640"/>
            <a:ext cx="8569080" cy="61200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1476360" y="1341360"/>
            <a:ext cx="63356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Конкурс «Пословицы в картинках»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2005200" y="3244680"/>
            <a:ext cx="51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Догадайся по картинка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о каких пословицах идёт реч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0011-004-Uznaj-frazeologizmy-i-vspomni-ikh-znachenija"/>
          <p:cNvPicPr/>
          <p:nvPr/>
        </p:nvPicPr>
        <p:blipFill>
          <a:blip r:embed="rId1"/>
          <a:stretch/>
        </p:blipFill>
        <p:spPr>
          <a:xfrm>
            <a:off x="2340000" y="466560"/>
            <a:ext cx="4979880" cy="5123160"/>
          </a:xfrm>
          <a:prstGeom prst="rect">
            <a:avLst/>
          </a:prstGeom>
          <a:ln w="9360">
            <a:solidFill>
              <a:srgbClr val="606060"/>
            </a:solidFill>
            <a:miter/>
          </a:ln>
        </p:spPr>
      </p:pic>
    </p:spTree>
  </p:cSld>
  <p:transition spd="slow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Вертикальный свиток 5"/>
          <p:cNvSpPr/>
          <p:nvPr/>
        </p:nvSpPr>
        <p:spPr>
          <a:xfrm>
            <a:off x="900000" y="404640"/>
            <a:ext cx="7559640" cy="61200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2268360" y="1197000"/>
            <a:ext cx="4967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Конкурс «Хвостоглав»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1332000" y="3933720"/>
            <a:ext cx="64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Ребя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та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,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та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рел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ка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,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ка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рти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на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,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на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4" descr="E:\data\articles\51\5195\519523\img12.jpg"/>
          <p:cNvPicPr/>
          <p:nvPr/>
        </p:nvPicPr>
        <p:blipFill>
          <a:blip r:embed="rId1"/>
          <a:stretch/>
        </p:blipFill>
        <p:spPr>
          <a:xfrm>
            <a:off x="1332000" y="1052640"/>
            <a:ext cx="6923160" cy="2808000"/>
          </a:xfrm>
          <a:prstGeom prst="rect">
            <a:avLst/>
          </a:prstGeom>
          <a:ln w="9360">
            <a:solidFill>
              <a:srgbClr val="606060"/>
            </a:solidFill>
            <a:miter/>
          </a:ln>
        </p:spPr>
      </p:pic>
    </p:spTree>
  </p:cSld>
  <p:transition spd="slow">
    <p:pull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Вертикальный свиток 5"/>
          <p:cNvSpPr/>
          <p:nvPr/>
        </p:nvSpPr>
        <p:spPr>
          <a:xfrm>
            <a:off x="324000" y="404640"/>
            <a:ext cx="8640720" cy="61200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5"/>
          <p:cNvSpPr txBox="1"/>
          <p:nvPr/>
        </p:nvSpPr>
        <p:spPr>
          <a:xfrm>
            <a:off x="1187280" y="1341360"/>
            <a:ext cx="6840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Конкурс «Внимание-ошибка!»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slow">
    <p:pull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-407880" y="237960"/>
            <a:ext cx="9289800" cy="1189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ьть в осини перваначальной              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откая, но дивная пара 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ь день стаит как бы хрустальны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лучезарны вечи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бодрый серб гулял и падал колас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ерь уш пусто всё - простор везд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шь поутины тонкий волас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истит на празднай баро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Заголовок 1" descr=""/>
          <p:cNvPicPr/>
          <p:nvPr/>
        </p:nvPicPr>
        <p:blipFill>
          <a:blip r:embed="rId1"/>
          <a:stretch/>
        </p:blipFill>
        <p:spPr>
          <a:xfrm>
            <a:off x="139680" y="268200"/>
            <a:ext cx="8553600" cy="1158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ь в ос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 пер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ьной              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ткая, но дивная п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 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ь день ст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 как бы хрустальны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лучезарны веч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бодрый се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улял и падал кол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ерь у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ж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усто всё - простор везд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шь п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ины тонкий вол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т на праздн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й б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 rot="5400000">
            <a:off x="1619640" y="-747000"/>
            <a:ext cx="6048360" cy="82090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Comic Sans MS"/>
              </a:rPr>
              <a:t>Уважаемые болельщик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Comic Sans MS"/>
              </a:rPr>
              <a:t>Как много звуков мы слыш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Comic Sans MS"/>
              </a:rPr>
              <a:t>от животных, но понимать 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Comic Sans MS"/>
              </a:rPr>
              <a:t>мы не в состоянии. Может б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Comic Sans MS"/>
              </a:rPr>
              <a:t>вам это удастся, когда 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Comic Sans MS"/>
              </a:rPr>
              <a:t>вырастете, а пока ответьт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Comic Sans MS"/>
              </a:rPr>
              <a:t>кто как по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3610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5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omic Sans MS"/>
              </a:rPr>
              <a:t>ФИЛ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5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omic Sans MS"/>
              </a:rPr>
              <a:t>ГЛУХ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5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omic Sans MS"/>
              </a:rPr>
              <a:t>К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5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omic Sans MS"/>
              </a:rPr>
              <a:t>КО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5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omic Sans MS"/>
              </a:rPr>
              <a:t>ЛИ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5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omic Sans MS"/>
              </a:rPr>
              <a:t>МЕДВ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284720" y="476280"/>
            <a:ext cx="4248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УХА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284720" y="1484280"/>
            <a:ext cx="4248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ТОКУ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4284720" y="2565360"/>
            <a:ext cx="4248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БЛЕ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4284720" y="4724280"/>
            <a:ext cx="4248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ТЯВКА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4284720" y="3645000"/>
            <a:ext cx="4248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РЖ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4284720" y="5805360"/>
            <a:ext cx="4248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РЫЧ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77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2" dur="770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4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6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3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5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7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77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770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6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8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7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77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6" dur="770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77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7" dur="770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9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1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Вертикальный свиток 5"/>
          <p:cNvSpPr/>
          <p:nvPr/>
        </p:nvSpPr>
        <p:spPr>
          <a:xfrm>
            <a:off x="324000" y="404640"/>
            <a:ext cx="8569080" cy="61200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1476360" y="1341360"/>
            <a:ext cx="6335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Конкурс «Прятки»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230040" y="2971440"/>
            <a:ext cx="817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Скоро деревья покроются зеленой листво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Иванов Степа дежурит очень добросовестн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На заводе мячи сложили в ящик и отвезли в магазин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На место происшествия немедленно прибыл пристав Караулов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В доме еще не было окон. Чан и его помощники взялись за работу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«Мы уже опаздываем. Скоренько собирайтесь!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«Запишите слово. Сочетание ЧН подчеркнит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 rot="5400000">
            <a:off x="1452960" y="-653400"/>
            <a:ext cx="6381720" cy="82090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Уважаемые болельщик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В русском языке есть одинак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по звучанию и написанию сл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но если к ним внимательн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присмотреться, они раз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Такие слова в русском язы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называют </a:t>
            </a:r>
            <a:r>
              <a:rPr b="1" lang="ru-RU" sz="3200" spc="-1" strike="noStrike" u="sng">
                <a:solidFill>
                  <a:srgbClr val="990000"/>
                </a:solidFill>
                <a:uFillTx/>
                <a:latin typeface="Comic Sans MS"/>
              </a:rPr>
              <a:t>ОМОНИМАМИ</a:t>
            </a: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Укажите, какой частью ре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являются омони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8920" y="278100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omic Sans MS"/>
              </a:rPr>
              <a:t>На полях, не скошенных </a:t>
            </a:r>
            <a:r>
              <a:rPr b="1" lang="ru-RU" sz="6000" spc="-1" strike="noStrike" u="sng">
                <a:solidFill>
                  <a:srgbClr val="0000ff"/>
                </a:solidFill>
                <a:uFillTx/>
                <a:latin typeface="Comic Sans MS"/>
              </a:rPr>
              <a:t>косой</a:t>
            </a:r>
            <a:r>
              <a:rPr b="1" lang="ru-RU" sz="6000" spc="-1" strike="noStrike">
                <a:solidFill>
                  <a:srgbClr val="0000ff"/>
                </a:solidFill>
                <a:latin typeface="Comic Sans MS"/>
              </a:rPr>
              <a:t>.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0000ff"/>
                </a:solidFill>
                <a:latin typeface="Comic Sans MS"/>
              </a:rPr>
              <a:t>Все утро дождик шел </a:t>
            </a:r>
            <a:r>
              <a:rPr b="1" lang="ru-RU" sz="6000" spc="-1" strike="noStrike" u="sng">
                <a:solidFill>
                  <a:srgbClr val="0000ff"/>
                </a:solidFill>
                <a:uFillTx/>
                <a:latin typeface="Comic Sans MS"/>
              </a:rPr>
              <a:t>косой</a:t>
            </a:r>
            <a:r>
              <a:rPr b="1" lang="ru-RU" sz="60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3"/>
          <p:cNvSpPr txBox="1"/>
          <p:nvPr/>
        </p:nvSpPr>
        <p:spPr>
          <a:xfrm>
            <a:off x="7308720" y="2276640"/>
            <a:ext cx="11764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сущ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2843280" y="4941720"/>
            <a:ext cx="11761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прил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p:transition spd="slow">
    <p:pull dir="ld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2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4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77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1" dur="770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3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5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Вертикальный свиток 5"/>
          <p:cNvSpPr/>
          <p:nvPr/>
        </p:nvSpPr>
        <p:spPr>
          <a:xfrm>
            <a:off x="324000" y="404640"/>
            <a:ext cx="8569080" cy="61200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5"/>
          <p:cNvSpPr txBox="1"/>
          <p:nvPr/>
        </p:nvSpPr>
        <p:spPr>
          <a:xfrm>
            <a:off x="1476360" y="1341360"/>
            <a:ext cx="63356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Конкурс «Капитанов»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slow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Вертикальный свиток 5"/>
          <p:cNvSpPr/>
          <p:nvPr/>
        </p:nvSpPr>
        <p:spPr>
          <a:xfrm>
            <a:off x="324000" y="260280"/>
            <a:ext cx="8820000" cy="63374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1547640" y="765000"/>
            <a:ext cx="648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Конкурс со скобками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332000" y="242100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Язык (до) Киева (до)ведё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2916360" y="2997360"/>
            <a:ext cx="48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Хорошее слово (до)сердца (до)йд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1258920" y="3645000"/>
            <a:ext cx="50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(С) горы (с)бежал поток провор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3924360" y="436572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(До)школы (до)шли быст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1332000" y="50846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Маша (за)вернула (за)уг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3"/>
          <p:cNvSpPr/>
          <p:nvPr/>
        </p:nvSpPr>
        <p:spPr>
          <a:xfrm>
            <a:off x="2700360" y="580536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Собака (по)бежала (по)тропи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5"/>
          <p:cNvSpPr txBox="1"/>
          <p:nvPr/>
        </p:nvSpPr>
        <p:spPr>
          <a:xfrm>
            <a:off x="468360" y="907920"/>
            <a:ext cx="8207280" cy="197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Подведение итогов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60" name="Picture 6" descr="http://illustrators.ru/illustrations/413677_original.jpg?1330939272"/>
          <p:cNvPicPr/>
          <p:nvPr/>
        </p:nvPicPr>
        <p:blipFill>
          <a:blip r:embed="rId1"/>
          <a:srcRect l="19196" t="5602" r="17314" b="0"/>
          <a:stretch/>
        </p:blipFill>
        <p:spPr>
          <a:xfrm>
            <a:off x="4643280" y="2924280"/>
            <a:ext cx="3097440" cy="364176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</p:spTree>
  </p:cSld>
  <p:transition spd="slow">
    <p:pull dir="ld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4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6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8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http://img0.liveinternet.ru/images/attach/c/2/74/164/74164312_3f3527d2.gif"/>
          <p:cNvPicPr/>
          <p:nvPr/>
        </p:nvPicPr>
        <p:blipFill>
          <a:blip r:embed="rId1"/>
          <a:stretch/>
        </p:blipFill>
        <p:spPr>
          <a:xfrm>
            <a:off x="2195640" y="2565360"/>
            <a:ext cx="4143240" cy="3857760"/>
          </a:xfrm>
          <a:prstGeom prst="rect">
            <a:avLst/>
          </a:prstGeom>
          <a:ln w="0">
            <a:noFill/>
          </a:ln>
        </p:spPr>
      </p:pic>
      <p:sp>
        <p:nvSpPr>
          <p:cNvPr id="162" name="WordArt 5"/>
          <p:cNvSpPr txBox="1"/>
          <p:nvPr/>
        </p:nvSpPr>
        <p:spPr>
          <a:xfrm>
            <a:off x="468360" y="907920"/>
            <a:ext cx="8207280" cy="197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До новых встреч!!!!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slow">
    <p:pull dir="ld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77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7" dur="770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9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1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 rot="5400000">
            <a:off x="1727640" y="-639000"/>
            <a:ext cx="5832360" cy="82090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1258920" y="1844640"/>
            <a:ext cx="6481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Конкурс болельщиков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932120" y="3975120"/>
            <a:ext cx="528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Отгадайте загад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где спрятались антони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Вертикальный свиток 5"/>
          <p:cNvSpPr/>
          <p:nvPr/>
        </p:nvSpPr>
        <p:spPr>
          <a:xfrm>
            <a:off x="324000" y="260280"/>
            <a:ext cx="8820000" cy="63374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1547640" y="1413000"/>
            <a:ext cx="648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Конкурс «Вопрос-ответ»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62" name="Picture 6" descr="http://cs10163.vkontakte.ru/u58419579/-6/x_d86a0f4b.jpg"/>
          <p:cNvPicPr/>
          <p:nvPr/>
        </p:nvPicPr>
        <p:blipFill>
          <a:blip r:embed="rId1"/>
          <a:stretch/>
        </p:blipFill>
        <p:spPr>
          <a:xfrm>
            <a:off x="2916360" y="2924280"/>
            <a:ext cx="3384360" cy="3384360"/>
          </a:xfrm>
          <a:prstGeom prst="rect">
            <a:avLst/>
          </a:prstGeom>
          <a:ln w="9360">
            <a:solidFill>
              <a:srgbClr val="606060"/>
            </a:solidFill>
            <a:miter/>
          </a:ln>
        </p:spPr>
      </p:pic>
    </p:spTree>
  </p:cSld>
  <p:transition spd="slow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"/>
          <p:cNvSpPr/>
          <p:nvPr/>
        </p:nvSpPr>
        <p:spPr>
          <a:xfrm rot="5400000">
            <a:off x="1727640" y="-639000"/>
            <a:ext cx="5832360" cy="82090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1258920" y="1844640"/>
            <a:ext cx="6481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Конкурс болельщиков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971640" y="457560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Отгадайте шара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2781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Моя первая буква – местоимение,</a:t>
            </a:r>
            <a:br>
              <a:rPr sz="4800"/>
            </a:b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Затем три буквы – времяисчисление,</a:t>
            </a:r>
            <a:br>
              <a:rPr sz="4800"/>
            </a:b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Последнюю букву из азбуки несу,</a:t>
            </a:r>
            <a:br>
              <a:rPr sz="4800"/>
            </a:b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А целое – сорвешь ее в лес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j0246099"/>
          <p:cNvPicPr/>
          <p:nvPr/>
        </p:nvPicPr>
        <p:blipFill>
          <a:blip r:embed="rId1"/>
          <a:stretch/>
        </p:blipFill>
        <p:spPr>
          <a:xfrm>
            <a:off x="3924360" y="2637000"/>
            <a:ext cx="4672080" cy="3571560"/>
          </a:xfrm>
          <a:prstGeom prst="rect">
            <a:avLst/>
          </a:prstGeom>
          <a:ln w="0">
            <a:noFill/>
          </a:ln>
        </p:spPr>
      </p:pic>
      <p:sp>
        <p:nvSpPr>
          <p:cNvPr id="70" name="WordArt 6"/>
          <p:cNvSpPr txBox="1"/>
          <p:nvPr/>
        </p:nvSpPr>
        <p:spPr>
          <a:xfrm>
            <a:off x="826920" y="692280"/>
            <a:ext cx="511344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Ягода</a:t>
            </a:r>
            <a:endParaRPr b="1" lang="en-US" sz="66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slow"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8920" y="2781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Сначала – месяц отыщи-ка.</a:t>
            </a:r>
            <a:br>
              <a:rPr sz="4800"/>
            </a:b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А дальше – что-то вроде крика.</a:t>
            </a:r>
            <a:br>
              <a:rPr sz="4800"/>
            </a:b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Коль верно решено заданье,</a:t>
            </a:r>
            <a:br>
              <a:rPr sz="4800"/>
            </a:b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Получится в ответе звань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900000" y="476280"/>
            <a:ext cx="511344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Майор</a:t>
            </a:r>
            <a:endParaRPr b="1" lang="en-US" sz="66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74" name="Picture 8" descr="http://cs11141.vkontakte.ru/u15946340/-14/x_8d159d72.jpg"/>
          <p:cNvPicPr/>
          <p:nvPr/>
        </p:nvPicPr>
        <p:blipFill>
          <a:blip r:embed="rId1"/>
          <a:stretch/>
        </p:blipFill>
        <p:spPr>
          <a:xfrm>
            <a:off x="5867280" y="2492280"/>
            <a:ext cx="2629080" cy="3857760"/>
          </a:xfrm>
          <a:prstGeom prst="rect">
            <a:avLst/>
          </a:prstGeom>
          <a:ln w="9360">
            <a:solidFill>
              <a:srgbClr val="606060"/>
            </a:solidFill>
            <a:miter/>
          </a:ln>
        </p:spPr>
      </p:pic>
    </p:spTree>
  </p:cSld>
  <p:transition spd="slow">
    <p:pull dir="l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7:52:32Z</dcterms:created>
  <dc:creator>Настя</dc:creator>
  <dc:description/>
  <dc:language>en-US</dc:language>
  <cp:lastModifiedBy>Клевченя</cp:lastModifiedBy>
  <dcterms:modified xsi:type="dcterms:W3CDTF">2012-11-05T06:18:04Z</dcterms:modified>
  <cp:revision>179</cp:revision>
  <dc:subject/>
  <dc:title>Слайд 1</dc:title>
</cp:coreProperties>
</file>