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7.jpeg" ContentType="image/jpeg"/>
  <Override PartName="/ppt/media/image10.png" ContentType="image/png"/>
  <Override PartName="/ppt/media/image12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D97-FD1C-4642-9644-686D9789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11A5-D16E-4BC1-902A-48BE7BEF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5B1-71DA-4804-8F15-12F7CF94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2DF-B89D-40B7-B732-3CB4EE6F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0945-6630-4A8D-A29D-0C358BFF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E897-FD10-4988-9628-A43977B1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6110-042F-44B7-A8D7-51CC03F8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9AE3-B86D-4462-99C5-C4D0482D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0F0B-99BE-4D44-9B2C-35C96A24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B961-E259-4545-BA92-E410AB49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5CB2-7716-4EE5-8D2D-7DD01E17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FB0-76CE-4285-8AB8-429C968E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EFF2-EC30-4809-96C7-C60C5D2C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E521-679A-47E4-9B4B-FC84502C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D12B-9732-4913-9339-AF53E1E5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C4D0-0905-4FF7-9B12-A01DF971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7D80-D451-4BD3-93B5-DD0116E9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192A1-940D-4368-99AB-3BB9C002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24086-6783-48E4-998F-A771CCF5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F36C7-5DFC-4530-A86C-FCF8BE95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F91F-A591-469B-9A16-48DFDBE5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3CE23-D0B5-44E3-8257-07FEDF46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165-8FCB-4D14-BB93-95F00285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E8AE1-7D4B-4BFA-A0E6-AFE875E2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FFAEC-D908-459D-B564-B9933E3F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61FD0-E620-4D36-87C5-9925AEA6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C69F-EE21-4722-92FD-6E43B576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951A7-7797-4AEA-BF0C-7F057AD5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AFF87-DE4D-4010-B183-46AB42F5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A6A7-E668-40CB-AF81-F2483103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8DF0C-BAC0-4BDD-8AB7-F410A640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41924-D203-45B4-A28A-C29CD683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9DB74-FF15-4F58-A9C1-7ADB34A0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BB2-DE78-4B26-9ADB-8FBDB8BA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B3DFD-001B-4AA8-B7F7-E4CC754B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50909-D3EE-4457-AB87-030253D6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ADC87-6F19-4297-8BB7-B918B5A0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4E940-58E7-48D4-9E94-D73AE447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29D05-535D-4D6B-84D3-DF92463C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3DACE-4DB5-4C73-9957-1625E58A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6B16A-0494-4728-AF7B-CBDDCBD9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777DD-0FA8-4BC6-ADCB-596B7C13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C86E5-3FCA-4681-A923-EFA7EA49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06A-C4A2-45B0-B187-BBE7D3E2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8584-C4E7-4684-94DC-BB99C82A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820-58DF-436D-858D-8A8C4DB2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539-2F15-4A58-B0B4-0E8BE873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EEB-42F2-4C78-8BEC-0A8AB30B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33E0-8EA4-468F-A8BC-7A22A151BF8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3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5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5209-8FC3-4648-B19C-83E5562C2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7A7D-1A1E-4EE0-BC37-D610C4F8A9E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79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0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2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F608-2904-44D2-9B6C-709E08D955C5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6600"/>
                </a:solidFill>
                <a:latin typeface="Arial"/>
              </a:rPr>
              <a:t>Урок математики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76" name="Рисунок 3" descr="j0198302.wmf"/>
          <p:cNvPicPr/>
          <p:nvPr/>
        </p:nvPicPr>
        <p:blipFill>
          <a:blip r:embed="rId1"/>
          <a:stretch/>
        </p:blipFill>
        <p:spPr>
          <a:xfrm>
            <a:off x="857160" y="3500280"/>
            <a:ext cx="2779920" cy="2521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j0178228"/>
          <p:cNvPicPr/>
          <p:nvPr/>
        </p:nvPicPr>
        <p:blipFill>
          <a:blip r:embed="rId2"/>
          <a:stretch/>
        </p:blipFill>
        <p:spPr>
          <a:xfrm>
            <a:off x="3000240" y="35712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j0178230"/>
          <p:cNvPicPr/>
          <p:nvPr/>
        </p:nvPicPr>
        <p:blipFill>
          <a:blip r:embed="rId3"/>
          <a:stretch/>
        </p:blipFill>
        <p:spPr>
          <a:xfrm>
            <a:off x="1071720" y="928800"/>
            <a:ext cx="809640" cy="828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j0178215"/>
          <p:cNvPicPr/>
          <p:nvPr/>
        </p:nvPicPr>
        <p:blipFill>
          <a:blip r:embed="rId4"/>
          <a:stretch/>
        </p:blipFill>
        <p:spPr>
          <a:xfrm>
            <a:off x="5500800" y="785880"/>
            <a:ext cx="819000" cy="857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j0178215"/>
          <p:cNvPicPr/>
          <p:nvPr/>
        </p:nvPicPr>
        <p:blipFill>
          <a:blip r:embed="rId5"/>
          <a:stretch/>
        </p:blipFill>
        <p:spPr>
          <a:xfrm>
            <a:off x="6357960" y="5214960"/>
            <a:ext cx="819000" cy="857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j0178228"/>
          <p:cNvPicPr/>
          <p:nvPr/>
        </p:nvPicPr>
        <p:blipFill>
          <a:blip r:embed="rId6"/>
          <a:stretch/>
        </p:blipFill>
        <p:spPr>
          <a:xfrm>
            <a:off x="4929120" y="442908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j0178230"/>
          <p:cNvPicPr/>
          <p:nvPr/>
        </p:nvPicPr>
        <p:blipFill>
          <a:blip r:embed="rId7"/>
          <a:stretch/>
        </p:blipFill>
        <p:spPr>
          <a:xfrm>
            <a:off x="6643800" y="3571920"/>
            <a:ext cx="8096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entury Gothic"/>
              </a:rPr>
              <a:t>Римские цифр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1214280" y="1428840"/>
            <a:ext cx="50724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entury Gothic"/>
              </a:rPr>
              <a:t>10 -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50 -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100 -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500 –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амостоятельная работа в парах с взаимопроверко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Century Gothic"/>
              <a:buAutoNum type="arabicPlain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  </a:t>
            </a: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85    153    370    524     2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entury Gothic"/>
              </a:rPr>
              <a:t>XXXIV  LXXXV   CLIII   CCCL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entury Gothic"/>
              </a:rPr>
              <a:t>DXXIV   CC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1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e4649"/>
                </a:solidFill>
                <a:latin typeface="Century Gothic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Прямоугольник 2"/>
          <p:cNvSpPr/>
          <p:nvPr/>
        </p:nvSpPr>
        <p:spPr>
          <a:xfrm>
            <a:off x="1000080" y="1571760"/>
            <a:ext cx="5857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entury Gothic"/>
              </a:rPr>
              <a:t>1.Запишите возраст членов своей семьи, используя римские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entury Gothic"/>
              </a:rPr>
              <a:t>2.Придумайте занимательное задание для своих одноклассников, используя правило записи римски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entury Gothic"/>
              </a:rPr>
              <a:t>3.* Узнайте, как записывали римляне многозначные числа и что означает это число - MDCCLV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385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385" fill="hold"/>
                                        <p:tgtEl>
                                          <p:spTgt spid="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385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385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765000"/>
            <a:ext cx="846936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ЭТОТ УРОК У НАС СЕЙЧАС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НАУКЕ ПОСВЯЩАЕТСЯ,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ЧТО МАТЕМАТИКОЙ ВСЕГДА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В ШКОЛЕ НАЗЫВАЕТСЯ.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НА ПОМОЖЕТ ВОСПИТАТЬ ТАКУЮ ТОЧНОСТЬ МЫСЛИ,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ЧТОБ В НАШЕЙ ЖИЗНИ ВСЕ ПОЗНАТЬ, ИЗМЕРИТЬ И ИСЧИСЛИТЬ!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643040" y="3928680"/>
            <a:ext cx="52149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Times New Roman"/>
              </a:rPr>
              <a:t>«Гимнастика ума»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6" name="TextBox 2"/>
          <p:cNvSpPr/>
          <p:nvPr/>
        </p:nvSpPr>
        <p:spPr>
          <a:xfrm>
            <a:off x="571680" y="1214280"/>
            <a:ext cx="742932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Счет десятками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от 10 до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Счет сотнями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от 100 до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Найдите лишние чис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345, 809, 687, 45, 243, 900, 106, 4, 2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Разделите числа на сумму разрядных слагаем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34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21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608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560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237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Разделите с остатк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15:4 =                  34:5 =                    42:10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61:6 =                  23:3 =                    72:1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10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00"/>
                </a:solidFill>
                <a:latin typeface="Century Gothic"/>
              </a:rPr>
              <a:t>Найдите лишнее слово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Gothic"/>
              </a:rPr>
              <a:t>ГОД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Gothic"/>
              </a:rPr>
              <a:t>ЧАС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Gothic"/>
              </a:rPr>
              <a:t>СЕКУНД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Gothic"/>
              </a:rPr>
              <a:t>МЕСЯЦ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Gothic"/>
              </a:rPr>
              <a:t>СУТК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Gothic"/>
              </a:rPr>
              <a:t>МИНУТ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Gothic"/>
              </a:rPr>
              <a:t>ЛИТР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Gothic"/>
              </a:rPr>
              <a:t>ВЕК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6600"/>
                </a:solidFill>
                <a:latin typeface="Times New Roman"/>
              </a:rPr>
              <a:t>ЗАГАДКА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Что всегда идет,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А с места не сойдет?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91" name="Рисунок 3" descr="1559[1].jpg"/>
          <p:cNvPicPr/>
          <p:nvPr/>
        </p:nvPicPr>
        <p:blipFill>
          <a:blip r:embed="rId1"/>
          <a:stretch/>
        </p:blipFill>
        <p:spPr>
          <a:xfrm>
            <a:off x="714240" y="4000680"/>
            <a:ext cx="1762200" cy="177624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4" descr="CLOCK88.JPG"/>
          <p:cNvPicPr/>
          <p:nvPr/>
        </p:nvPicPr>
        <p:blipFill>
          <a:blip r:embed="rId2"/>
          <a:stretch/>
        </p:blipFill>
        <p:spPr>
          <a:xfrm>
            <a:off x="3571920" y="4071960"/>
            <a:ext cx="2660760" cy="212868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5" descr="WATCH.JPG"/>
          <p:cNvPicPr/>
          <p:nvPr/>
        </p:nvPicPr>
        <p:blipFill>
          <a:blip r:embed="rId3"/>
          <a:stretch/>
        </p:blipFill>
        <p:spPr>
          <a:xfrm>
            <a:off x="5500800" y="1928880"/>
            <a:ext cx="2071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3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3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entury Gothic"/>
              </a:rPr>
              <a:t>РИМСКИЕ ЦИФР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1071720" y="1500120"/>
            <a:ext cx="742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В римской нумерации семь цифр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entury Gothic"/>
              </a:rPr>
              <a:t>I, V, X, L, C, D,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5"/>
          <p:cNvSpPr/>
          <p:nvPr/>
        </p:nvSpPr>
        <p:spPr>
          <a:xfrm>
            <a:off x="1214280" y="3429000"/>
            <a:ext cx="50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entury Gothic"/>
              </a:rPr>
              <a:t>IV = V – I,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entury Gothic"/>
              </a:rPr>
              <a:t>        </a:t>
            </a:r>
            <a:r>
              <a:rPr b="1" lang="en-US" sz="3200" spc="-1" strike="noStrike">
                <a:solidFill>
                  <a:srgbClr val="c00000"/>
                </a:solidFill>
                <a:latin typeface="Century Gothic"/>
              </a:rPr>
              <a:t>VI = V +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entury Gothic"/>
              </a:rPr>
              <a:t>                 </a:t>
            </a:r>
            <a:r>
              <a:rPr b="1" lang="en-US" sz="3200" spc="-1" strike="noStrike">
                <a:solidFill>
                  <a:srgbClr val="c00000"/>
                </a:solidFill>
                <a:latin typeface="Century Gothic"/>
              </a:rPr>
              <a:t>IX = X – I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entury Gothic"/>
              </a:rPr>
              <a:t>                         </a:t>
            </a:r>
            <a:r>
              <a:rPr b="1" lang="en-US" sz="3200" spc="-1" strike="noStrike">
                <a:solidFill>
                  <a:srgbClr val="c00000"/>
                </a:solidFill>
                <a:latin typeface="Century Gothic"/>
              </a:rPr>
              <a:t>XI = X +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entury Gothic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9" name="Детские песенки - Веселая зарядка (zvukoff.ru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6659640" y="1557360"/>
            <a:ext cx="1123920" cy="14954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5076720" y="4076640"/>
            <a:ext cx="933480" cy="13716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1763640" y="1773360"/>
            <a:ext cx="1123920" cy="14954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6"/>
          <a:stretch/>
        </p:blipFill>
        <p:spPr>
          <a:xfrm>
            <a:off x="4067280" y="1700280"/>
            <a:ext cx="1123920" cy="1495440"/>
          </a:xfrm>
          <a:prstGeom prst="rect">
            <a:avLst/>
          </a:prstGeom>
          <a:ln w="0">
            <a:noFill/>
          </a:ln>
        </p:spPr>
      </p:pic>
      <p:sp>
        <p:nvSpPr>
          <p:cNvPr id="304" name="Содержимое 2"/>
          <p:cNvSpPr/>
          <p:nvPr/>
        </p:nvSpPr>
        <p:spPr>
          <a:xfrm>
            <a:off x="1495440" y="1816200"/>
            <a:ext cx="525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7"/>
          <a:stretch/>
        </p:blipFill>
        <p:spPr>
          <a:xfrm>
            <a:off x="3203640" y="4076640"/>
            <a:ext cx="933480" cy="13716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1258920" y="4149720"/>
            <a:ext cx="93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7955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6600"/>
                </a:solidFill>
                <a:latin typeface="Times New Roman"/>
              </a:rPr>
              <a:t>Игра «</a:t>
            </a:r>
            <a:r>
              <a:rPr b="1" i="1" lang="en-US" sz="4800" spc="-1" strike="noStrike">
                <a:solidFill>
                  <a:srgbClr val="c05e00"/>
                </a:solidFill>
                <a:latin typeface="Times New Roman"/>
              </a:rPr>
              <a:t>Живые числа</a:t>
            </a:r>
            <a:r>
              <a:rPr b="1" i="1" lang="en-US" sz="4800" spc="-1" strike="noStrike">
                <a:solidFill>
                  <a:srgbClr val="996600"/>
                </a:solidFill>
                <a:latin typeface="Times New Roman"/>
              </a:rPr>
              <a:t>»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8" name="Прямоугольник 2"/>
          <p:cNvSpPr/>
          <p:nvPr/>
        </p:nvSpPr>
        <p:spPr>
          <a:xfrm>
            <a:off x="857160" y="1428840"/>
            <a:ext cx="6500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лько будет, если 18 : 6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му равно произведение 5 и 2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лько ног у двух петух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задумала число, отняла 2, получилось 6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ое число я задум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ой ответ всегда будет, если число разделить на самого себ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лько дней в неде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умножить на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1 уменьшить в 9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ое число на один больше 10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тное 25 и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 разделить 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1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6" dur="10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500"/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-85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500"/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-85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500"/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Times New Roman"/>
              </a:rPr>
              <a:t>Работа в тетради: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0" name="Прямоугольник 2"/>
          <p:cNvSpPr/>
          <p:nvPr/>
        </p:nvSpPr>
        <p:spPr>
          <a:xfrm>
            <a:off x="611280" y="1484280"/>
            <a:ext cx="7248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МСКИЕ ЦИФРЫ           АРАБСКИЕ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VII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X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X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X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XX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5:53:27Z</dcterms:created>
  <dc:creator>Григорьева Татьяна</dc:creator>
  <dc:description/>
  <dc:language>en-US</dc:language>
  <cp:lastModifiedBy>uchitel</cp:lastModifiedBy>
  <dcterms:modified xsi:type="dcterms:W3CDTF">2010-04-12T10:20:59Z</dcterms:modified>
  <cp:revision>30</cp:revision>
  <dc:subject/>
  <dc:title>Урок математики</dc:title>
</cp:coreProperties>
</file>