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346-7799-4300-AF5D-11378CC0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1BA-7E39-48FE-A828-1787CB69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974-C276-4F9C-8E15-FD0EC3AD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EDD-103E-4F95-A4CC-8F141E41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F83-9486-47EF-A2E4-4FC97D48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1E2-0198-4347-AA53-193EDFC9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76B8-D0AE-4F27-8CCE-6FF5564B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ED37-C542-4719-B961-316EF344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06F8-D596-404E-999D-416A7E0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69A-EF4E-4C81-8D66-FDBBEA3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4576-F66A-4CB5-B8FC-B6F3369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CA-F1BF-4E8A-8327-B6434B3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628A-EBDB-4134-9EFC-368730F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C08F-A9A6-4EA4-AC03-EAC0018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7E7-26B8-4623-BF6C-E6DD6302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AA0C-B8F5-44C6-A707-8892AE95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3C24-4201-4E1A-BA9F-A375B67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20D-51BE-4C6B-B714-8B19CD4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322-65D9-42E9-85E6-A80C504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936-7F70-4829-8EF9-611CA30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626-81AF-42F8-B749-82116C12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694-C75A-4DF9-A9A3-07958CD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694-A464-41CE-8A23-A833F3E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490-E679-4D65-8D02-F257817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2854-F8ED-423B-8FB4-06D0BD4CD8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1CB-F5DE-42B9-AC52-3689AE8A63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«Весы равноправия»</a:t>
            </a:r>
            <a:br>
              <a:rPr sz="2700"/>
            </a:b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(аспекты гендерной чувствительности общества).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8640" y="2482920"/>
            <a:ext cx="370692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зультаты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386080"/>
          <a:ext cx="4038480" cy="330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86080"/>
                    <a:ext cx="403848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2438280"/>
          <a:ext cx="4037040" cy="3198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438280"/>
                    <a:ext cx="403704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зультаты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2438280"/>
          <a:ext cx="4038480" cy="319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38280"/>
                    <a:ext cx="40384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648320" y="2438280"/>
          <a:ext cx="4038480" cy="3198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438280"/>
                    <a:ext cx="40384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2544840"/>
          <a:ext cx="4037040" cy="298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44840"/>
                    <a:ext cx="4037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9760" y="2544840"/>
          <a:ext cx="4037040" cy="2987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9760" y="2544840"/>
                    <a:ext cx="4037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Качественный соста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респондентов: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прошено 90 учащихся 9-х класс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одителей 20 человек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 национальносте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живают в город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редняя зарплата от 40 до 60 тысяч тенг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Занятость в сферах производства, транспор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44520" y="2629080"/>
            <a:ext cx="25891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Результаты тренинга «Гендерные стереотипы»: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ендерные стереотипы начинают формироваться в раннем детстве под влиянием многих факторов – отношений между родителями, посещение детского сада, выбора профе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кто не предпринимает попыток  оспорить гендерные стереотип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огие не находят возможностей их преодолеть и не считают нужным их отменять, ссылаясь на исторически сложившуюся ситуа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21160" y="2692440"/>
            <a:ext cx="311004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Понятия «женского» и «мужского счастья».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11300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 понятием женского счастья в основном понимают – уют в доме, наличие семьи  и детей. Мало кто сюда отнёс любимую или высокооплачиваемую работ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нятии мужское счастье все сомневаются, но подразумевают отд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личие женских и мужских профессий вызывает сомнение, связанное с оплатой труда и проявлением гендерных стереотипов, например, женские профессии – няня, санитарка, уборщица. Мужские профессии – военные,  подземные рабочие, рабочие буровых установ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09760" y="1981080"/>
            <a:ext cx="299880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e5ffff"/>
                </a:solidFill>
                <a:latin typeface="Tahoma"/>
              </a:rPr>
              <a:t>Проблематика культуры гендерных взаимоотношений является одной из самых серьезных тем, требующих всестороннего и профессионального обсуждения.</a:t>
            </a:r>
            <a:endParaRPr b="0" lang="en-US" sz="2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В условиях современной политической жизни   реального равноправия мужчин и женщин не существу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 Примеры политической жизни в нашей стране, в нашем городе говорят о том, что женщины могут быть успешными руководителями, проводить эффективную политик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Ситуация, когда женщин во власти мало, объясняется тем, что в нашем обществе преобладает традиционное сознание или гендерные стереотипы. Современные юноши 15 – 17 лет в большинстве своём уверены, что “политика – не женское дело”. Немало девочек руководителями видят представителей мужского пол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Проведённое исследование показало необходимость гендерного просвещения и развития гендерного образования, т.к. общество, в котором предстоит жить современной молодёжи, - это общество основано на принципах равноправия, уважения и приоритета лич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37160" y="2482920"/>
            <a:ext cx="23716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Характерные черты характеров женщин и мужчин: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асивая,                                                     сильн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брая;                                                         властн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рьёзная;                                                    мужественн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елая;                                                         невоспитанны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мная;                                                           грубия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зяйственная.                                            зл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19040" y="2901960"/>
            <a:ext cx="23720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леслов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Наука и разум не имеют пола. Истина и талант равно принадлежат мужчине и женщине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И. Герц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166920" y="3941640"/>
            <a:ext cx="274320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Актуальность темы исследования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кальные социально-экономические, политические и культурные изменения, происходящие в казахстанском обществе, появление новых ценностей закономерно приводят к переосмыслению и актуализации сложных социальных проблем, стоящих перед обществом, к числу которых, относятся проблемы гендерной системы, проявление гендерного неравенства мужчин и женщин их прав и возможнос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67320" y="2692440"/>
            <a:ext cx="274320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овременная казахстанская гендерная политика поверхностно затрагивает изначальные проявления гендерного неравенства, которые создают гендерные стереотипы, способствуя всем формам и видам проявления гендерного неравенст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403848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тивореч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наличии разработанных программ действий, стратегий, специализированных органов занимающихся гендерными исследованиями в современном казахстанском обществе по-прежнему много гендерных стереотипов и мало изменений в области гендерной политики и гендерного подх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19640" y="4232160"/>
            <a:ext cx="237636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Цели исследова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исследование гендерных отношений, гендерных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стереотипов у учащихся школы разных возрастов и их родителей.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6904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9200" y="2602080"/>
            <a:ext cx="27748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бор и изучение литературы по данной тем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работка анкет и опросников для уч-ся и родител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явление гендерных стереотипов уч-ся и род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следования гендерных отношений в семьях уч-с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лиз полученных данны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авление словаря терминов по гендерным отноше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6080" y="2763720"/>
            <a:ext cx="231120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Объект исследовани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:  гендерные отношения среди уч-ся и в семь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11012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едмет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ендерная политика и гендерные стереоти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41720" y="1981080"/>
            <a:ext cx="286056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отеза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разработать анкеты и опросники  и изучить гендерные отношения уч-ся в школе в семье, появление и распространение гендерных стереотипов,  составить словарь терминов,  то уч-ся и их родители познакомятся с темой,  пересмотрят свои взгляды на роль женщины в обществе, изменят своё отношение к проблеме по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360520"/>
            <a:ext cx="40384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e5ffff"/>
                </a:solidFill>
                <a:latin typeface="Tahoma"/>
              </a:rPr>
              <a:t>Ценность: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полученные данные можно использовать государственным органам и учреждениям, а словарь терминов необходим для знакомства с темой и ориентации в ней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етоды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анкетирование, анализ, сравнение и обобщение данных, бесе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жидаемый результа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словарь терминов по гендерным отношениям и  данные и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7:06:08Z</dcterms:created>
  <dc:creator>SamLab.ws</dc:creator>
  <dc:description/>
  <dc:language>en-US</dc:language>
  <cp:lastModifiedBy>SamLab.ws</cp:lastModifiedBy>
  <dcterms:modified xsi:type="dcterms:W3CDTF">2010-05-06T16:48:22Z</dcterms:modified>
  <cp:revision>5</cp:revision>
  <dc:subject/>
  <dc:title>«Весы равноправия» (аспекты гендерной чувствительности общества).</dc:title>
</cp:coreProperties>
</file>