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F4A0-3879-40B6-AE4B-D02C5385F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79C7-F02A-4C52-B83A-616E44CB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6DC3-B528-470B-98E1-B382B31AF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FFCE-174C-4421-BD92-ACBE95F8D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E5DB3-C2BC-497A-A947-30188F699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EAAA0-2DAD-4E9C-8506-DF96E512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DDB0F-76CA-41A6-9121-02280321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65A8F3-A2A5-4724-8E0D-70648021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CD01C-AF39-4788-A591-92E98C40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B75E3-76D8-4D17-BA44-9B11422F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69CF4-4CCE-4DFA-918D-C1C912ED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20B8-7222-43CE-BF58-8ED8EF26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17AF8-0F92-49DD-9388-B4923225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CA591-FD65-4155-ACD6-BAA8149C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53114-3984-4E1F-878E-2084CDD9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4B63F-E041-4049-B391-2E6B3B0C4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34C7B-C6F8-40F2-9AD4-94DB0B0A9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9F35-94EA-46DB-B06F-206E36C5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8B57-66A8-48E7-91A3-29893C38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421E-0AD1-41E2-9872-702DAA31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61E3-F0CC-48AD-A56A-5E4C3E88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4F6F-95B7-4872-B5A2-88136C22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CADA-4F64-4AA4-973B-12B52735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91DE-5868-44FC-859F-EE279ABD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8861-60B8-4D89-B40B-69986B7DC12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1A3D-5522-4CD9-B566-293383D1FEA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219320" y="0"/>
            <a:ext cx="7458120" cy="6858000"/>
            <a:chOff x="1219320" y="0"/>
            <a:chExt cx="7458120" cy="6858000"/>
          </a:xfrm>
        </p:grpSpPr>
        <p:pic>
          <p:nvPicPr>
            <p:cNvPr id="83" name="" descr=""/>
            <p:cNvPicPr/>
            <p:nvPr/>
          </p:nvPicPr>
          <p:blipFill>
            <a:blip r:embed="rId2">
              <a:lum bright="30000"/>
            </a:blip>
            <a:stretch/>
          </p:blipFill>
          <p:spPr>
            <a:xfrm>
              <a:off x="2057400" y="0"/>
              <a:ext cx="54864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 txBox="1"/>
            <p:nvPr/>
          </p:nvSpPr>
          <p:spPr>
            <a:xfrm>
              <a:off x="1219320" y="2743200"/>
              <a:ext cx="7458120" cy="336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1" strike="noStrike">
                  <a:ln w="9360">
                    <a:solidFill>
                      <a:srgbClr val="cc99ff"/>
                    </a:solidFill>
                    <a:miter/>
                  </a:ln>
                  <a:solidFill>
                    <a:srgbClr val="333333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Викторина </a:t>
              </a:r>
              <a:endParaRPr b="0" lang="en-US" sz="4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3333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1" strike="noStrike">
                  <a:ln w="9360">
                    <a:solidFill>
                      <a:srgbClr val="cc99ff"/>
                    </a:solidFill>
                    <a:miter/>
                  </a:ln>
                  <a:solidFill>
                    <a:srgbClr val="333333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"Если хочешь быть здоров".</a:t>
              </a:r>
              <a:endParaRPr b="0" lang="en-US" sz="4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3333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229600" cy="6553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85800" y="3733920"/>
            <a:ext cx="27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картофе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29200" y="1828800"/>
            <a:ext cx="207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морков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0560" y="5289480"/>
            <a:ext cx="26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горо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Задание    VI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Назовите игры, в которых присутствует мяч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638680" y="3657600"/>
            <a:ext cx="2894040" cy="2382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-380880" y="3352680"/>
            <a:ext cx="426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  футбо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  прят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  хокк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  тенни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  шахма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8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8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-360" y="1447920"/>
            <a:ext cx="8915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ahoma"/>
              </a:rPr>
              <a:t>Задание 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V I I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Что способствует закаливанию организм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3276720"/>
            <a:ext cx="7391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 длительный с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 подвижные игры на воздух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 обильное пит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 куп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 утренняя гимнастика, влажное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обтир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560" y="144792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ahoma"/>
              </a:rPr>
              <a:t>Задание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    V I I I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ак беречь здоровь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2895480"/>
            <a:ext cx="7924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 больше сп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 больше е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 меньше работ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 соблюдать правильный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распорядок д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 соблюдать правила науки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о здоровь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8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2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1219320" y="0"/>
            <a:ext cx="7458120" cy="6858000"/>
            <a:chOff x="1219320" y="0"/>
            <a:chExt cx="7458120" cy="6858000"/>
          </a:xfrm>
        </p:grpSpPr>
        <p:pic>
          <p:nvPicPr>
            <p:cNvPr id="127" name="" descr=""/>
            <p:cNvPicPr/>
            <p:nvPr/>
          </p:nvPicPr>
          <p:blipFill>
            <a:blip r:embed="rId2">
              <a:lum bright="30000"/>
            </a:blip>
            <a:stretch/>
          </p:blipFill>
          <p:spPr>
            <a:xfrm>
              <a:off x="2057400" y="0"/>
              <a:ext cx="54864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 txBox="1"/>
            <p:nvPr/>
          </p:nvSpPr>
          <p:spPr>
            <a:xfrm>
              <a:off x="1219320" y="2743200"/>
              <a:ext cx="7458120" cy="336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1" strike="noStrike">
                  <a:ln w="9360">
                    <a:solidFill>
                      <a:srgbClr val="cc99ff"/>
                    </a:solidFill>
                    <a:miter/>
                  </a:ln>
                  <a:solidFill>
                    <a:srgbClr val="333333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Викторина </a:t>
              </a:r>
              <a:endParaRPr b="0" lang="en-US" sz="4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3333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1" strike="noStrike">
                  <a:ln w="9360">
                    <a:solidFill>
                      <a:srgbClr val="cc99ff"/>
                    </a:solidFill>
                    <a:miter/>
                  </a:ln>
                  <a:solidFill>
                    <a:srgbClr val="333333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"Если хочешь быть здоров".</a:t>
              </a:r>
              <a:endParaRPr b="0" lang="en-US" sz="4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3333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7631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 Black"/>
              </a:rPr>
              <a:t>Задание I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В какой строчке указаны слова, описывающие здорового человека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4114800"/>
            <a:ext cx="8991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сутулый, крепкий, неуклюжий, высо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горбатый, бледный, хилый, низ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стройный, сильный, ловкий, стат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914400"/>
            <a:ext cx="769608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Задание I 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Что необходимо здоровому человек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2209680"/>
            <a:ext cx="701064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итание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г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жим д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ор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блет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66680"/>
            <a:ext cx="655344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Задание I I 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Сколько раз в день нужно ес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2971800"/>
            <a:ext cx="7619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ра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ра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ра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ем больше, тем лучш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09480" y="1066680"/>
            <a:ext cx="792504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Задание IV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Какой должна быть здоровая ед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2590920"/>
            <a:ext cx="7467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красив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разнообразн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горяч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холодн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вкусн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Выбери продукты, чтобы сварить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Бор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3" action="ppaction://hlinksldjump"/>
              </a:rPr>
              <a:t>Щ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Рассольн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5" action="ppaction://hlinksldjump"/>
              </a:rPr>
              <a:t>Гороховый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суп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114480"/>
            <a:ext cx="8229600" cy="67435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20160" y="2160720"/>
            <a:ext cx="251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Картофе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75000" y="4411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90920" y="3809880"/>
            <a:ext cx="2568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Морков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52880" y="3200400"/>
            <a:ext cx="1981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Свёк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8229600" cy="6629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469880" y="1744560"/>
            <a:ext cx="2492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8120" y="1676520"/>
            <a:ext cx="237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капу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05520" y="106668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картофе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36640" y="3232080"/>
            <a:ext cx="230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омид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8229600" cy="6629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657600" y="25146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ерлов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4038480"/>
            <a:ext cx="207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огурц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картофе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11-01-04T13:03:27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