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BFB-3A97-407A-AF90-6D9FACE2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45C-C073-4DFF-85FC-3A89A592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BCC-0F4A-4108-8813-6FDF6D74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494-DF8F-4080-BB88-17D429C9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849-AEFF-44F5-942D-7A82AEF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83E-F720-4277-8557-40ACE1F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404-E901-42A7-B1B1-D4A6BCE2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0E4-005F-4A19-A047-A2A117E3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A89-1E95-4A37-A508-CFF61E9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F65-6AED-4BB2-A505-483E49F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910-A3DA-4414-85CD-61D542A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AEF-F13D-4D28-A05C-7DF6A7A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6EE6-E1A9-415C-99B5-77FCA5C58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35280" y="1341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900428387[1]"/>
          <p:cNvPicPr/>
          <p:nvPr/>
        </p:nvPicPr>
        <p:blipFill>
          <a:blip r:embed="rId1"/>
          <a:stretch/>
        </p:blipFill>
        <p:spPr>
          <a:xfrm>
            <a:off x="5148360" y="-17136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95280" y="476280"/>
            <a:ext cx="53053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от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ОЙ РЫБ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684360" y="3213000"/>
            <a:ext cx="316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жили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ик и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324000" y="2349360"/>
            <a:ext cx="18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4788000" y="256536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4427640" y="3645000"/>
            <a:ext cx="394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чем первый раз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ёл невод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35280" y="1341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900428387[1]"/>
          <p:cNvPicPr/>
          <p:nvPr/>
        </p:nvPicPr>
        <p:blipFill>
          <a:blip r:embed="rId1"/>
          <a:stretch/>
        </p:blipFill>
        <p:spPr>
          <a:xfrm>
            <a:off x="5148360" y="-17136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395280" y="476280"/>
            <a:ext cx="53053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от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ОЙ РЫБ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684360" y="3213000"/>
            <a:ext cx="2808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чем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й раз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ё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вод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24000" y="2349360"/>
            <a:ext cx="18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4788000" y="256536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4427640" y="3357720"/>
            <a:ext cx="3943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 труб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а на ново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бе стари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старухи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835280" y="1341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C900428387[1]"/>
          <p:cNvPicPr/>
          <p:nvPr/>
        </p:nvPicPr>
        <p:blipFill>
          <a:blip r:embed="rId1"/>
          <a:stretch/>
        </p:blipFill>
        <p:spPr>
          <a:xfrm>
            <a:off x="5148360" y="-17136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395280" y="476280"/>
            <a:ext cx="53053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от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ОЙ РЫБ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684360" y="3213000"/>
            <a:ext cx="3311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ие ворот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и в ново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бе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24000" y="2349360"/>
            <a:ext cx="18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4788000" y="256536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4427640" y="3357720"/>
            <a:ext cx="4248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чём стоял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-дворян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рыльце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35280" y="1341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MC900428387[1]"/>
          <p:cNvPicPr/>
          <p:nvPr/>
        </p:nvPicPr>
        <p:blipFill>
          <a:blip r:embed="rId1"/>
          <a:stretch/>
        </p:blipFill>
        <p:spPr>
          <a:xfrm>
            <a:off x="5148360" y="-17136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95280" y="476280"/>
            <a:ext cx="53053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от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ОЙ РЫБ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84360" y="3213000"/>
            <a:ext cx="3311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сделал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 в гневе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пожелал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ть царицей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24000" y="2349360"/>
            <a:ext cx="18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4788000" y="256536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427640" y="3357720"/>
            <a:ext cx="453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ржит страж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и-цариц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лечах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835280" y="1341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C900428387[1]"/>
          <p:cNvPicPr/>
          <p:nvPr/>
        </p:nvPicPr>
        <p:blipFill>
          <a:blip r:embed="rId1"/>
          <a:stretch/>
        </p:blipFill>
        <p:spPr>
          <a:xfrm>
            <a:off x="5148360" y="-17136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71" name="WordArt 4"/>
          <p:cNvSpPr txBox="1"/>
          <p:nvPr/>
        </p:nvSpPr>
        <p:spPr>
          <a:xfrm>
            <a:off x="395280" y="476280"/>
            <a:ext cx="53053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от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ОЙ РЫБ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250920" y="3284640"/>
            <a:ext cx="399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ела за столом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-царица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324000" y="2349360"/>
            <a:ext cx="18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4788000" y="256536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4427640" y="3357720"/>
            <a:ext cx="453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да отправил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-дворян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ика работать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835280" y="1341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MC900428387[1]"/>
          <p:cNvPicPr/>
          <p:nvPr/>
        </p:nvPicPr>
        <p:blipFill>
          <a:blip r:embed="rId1"/>
          <a:stretch/>
        </p:blipFill>
        <p:spPr>
          <a:xfrm>
            <a:off x="5148360" y="-17136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WordArt 4"/>
          <p:cNvSpPr txBox="1"/>
          <p:nvPr/>
        </p:nvSpPr>
        <p:spPr>
          <a:xfrm>
            <a:off x="395280" y="476280"/>
            <a:ext cx="53053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от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ОЙ РЫБ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684360" y="3213000"/>
            <a:ext cx="331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встретил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и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-царица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24000" y="2349360"/>
            <a:ext cx="18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4788000" y="256536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4427640" y="3357720"/>
            <a:ext cx="453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аком дом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ла жить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уха в само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це сказки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1258920" y="105264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Желаем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готовил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ОУ «Георгиевская гимназ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. Егорьевска, Мо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ышненко Светла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40:12Z</dcterms:created>
  <dc:creator>User</dc:creator>
  <dc:description/>
  <dc:language>en-US</dc:language>
  <cp:lastModifiedBy>user</cp:lastModifiedBy>
  <dcterms:modified xsi:type="dcterms:W3CDTF">2012-11-05T11:08:06Z</dcterms:modified>
  <cp:revision>5</cp:revision>
  <dc:subject/>
  <dc:title>Слайд 1</dc:title>
</cp:coreProperties>
</file>