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1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CFD-CA76-463C-8F5F-668A6C19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184-BC14-42E7-9627-8EFF5B7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8AB-3CC8-4BF9-BC84-4A199309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69C-72A2-4871-8A74-586E6780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3D6-91E7-4519-8786-9E1954C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8BA-093B-4A13-8E3D-89D7200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D7A-600F-44FA-B8DE-E898BDD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F75-0CF8-47C2-B3FC-0E54634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899-E4EA-4A87-B21E-830AD34D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A56-8943-42E2-A01C-E5868A9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C7C-BF0B-45B2-9745-58B5F0B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AA9-CD6A-43CD-9F56-932C75E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8D7F-1590-497B-ACE9-537FA75DA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20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регулятивных умений 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 процессе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своения учебной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Этап интеллектуально-преобразователь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916280"/>
            <a:ext cx="57452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Формируются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ланировать свои действия для выполнения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ыбирать способ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нтролировать выполнение действий в соответствии с пла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рректировать результаты деятельности – вносить необходимые дополнения, ис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ценивать результаты выполненно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зультаты вы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484280"/>
            <a:ext cx="5688000" cy="44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нформативный вариант – 23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мпровизационный вариант – 21 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504d"/>
                </a:solidFill>
                <a:latin typeface="Arial"/>
              </a:rPr>
              <a:t>2. Придумай и запиши 5 слов  с безударной гласной в корне по теме « Лето». Подчеркни эти 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вристический  вариант – 28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2000" y="3716280"/>
            <a:ext cx="2700360" cy="223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198792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«Колька, приходи  с   м_чом на площадку, поигра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К_льцо,  з_мля, с_лач, м_лы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428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1. «Приходи сегодня вечером  с мечом, поигра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Эвристический вари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916280"/>
            <a:ext cx="763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писать записку другу, используя в тексте слова с безударной гласной в ко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Кристина,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выходи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 кататься на велосипеде на го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Алиса,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приходи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 на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площадку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, а потом пойдем ко мне в г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Миша,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приноси 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шарики, будем пускать их из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окна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Филипп,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давай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 погуляем после уроков, а потом пойдем </a:t>
            </a: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домой</a:t>
            </a:r>
            <a:r>
              <a:rPr b="0" i="1" lang="en-US" sz="20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флексив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Текст 2"/>
          <p:cNvGraphicFramePr/>
          <p:nvPr/>
        </p:nvGraphicFramePr>
        <p:xfrm>
          <a:off x="250920" y="1557360"/>
          <a:ext cx="3529080" cy="1901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352908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Текст 2"/>
          <p:cNvGraphicFramePr/>
          <p:nvPr/>
        </p:nvGraphicFramePr>
        <p:xfrm>
          <a:off x="250920" y="4005360"/>
          <a:ext cx="3600360" cy="1979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005360"/>
                    <a:ext cx="360036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924360" y="1484280"/>
            <a:ext cx="5040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иант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051000" cy="2247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2987640" cy="214956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23" name=""/>
          <p:cNvSpPr/>
          <p:nvPr/>
        </p:nvSpPr>
        <p:spPr>
          <a:xfrm>
            <a:off x="250920" y="1268280"/>
            <a:ext cx="23763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Тетя, тетя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кошка,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Выгляни в окошк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Есть хотят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котят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Ты живешь бога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Кто там стучится  у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Я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кошкин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дворник, старый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кот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7640" y="1268280"/>
            <a:ext cx="329400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В_сной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шумно бурлит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р_к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В_д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вышла из бере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00360" y="2133720"/>
          <a:ext cx="3168720" cy="1511280"/>
        </p:xfrm>
        <a:graphic>
          <a:graphicData uri="http://schemas.openxmlformats.org/drawingml/2006/table">
            <a:tbl>
              <a:tblPr/>
              <a:tblGrid>
                <a:gridCol w="2230560"/>
                <a:gridCol w="938160"/>
              </a:tblGrid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1" i="1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Times New Roman"/>
                        </a:rPr>
                        <a:t>Кто у 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У сл_на  - сл_ня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У к _та – к _тя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У с_ма – с_мята.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сом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сл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614920" y="1980360"/>
            <a:ext cx="3529080" cy="1008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т_ традь,  л_нейка,  д_ска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т_чилка,  к _р _нд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зменения шк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Текст 2" descr=""/>
          <p:cNvPicPr/>
          <p:nvPr/>
        </p:nvPicPr>
        <p:blipFill>
          <a:blip r:embed="rId2"/>
          <a:stretch/>
        </p:blipFill>
        <p:spPr>
          <a:xfrm>
            <a:off x="6084720" y="2603520"/>
            <a:ext cx="2533680" cy="208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1197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Я доволен(льна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) ………………..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                 (очень, не очень)</a:t>
            </a:r>
            <a:br>
              <a:rPr sz="1800"/>
            </a:b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запиской, которую написал сам ( с помощью друга,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349360"/>
            <a:ext cx="576108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силась мотивация к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осла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поняли и запомнили правило, могут его при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улируют высказывания, используя терм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ились работать с орфографическим слова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яют учебные действия в соответствии с пл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большим вниманием выполняют само- и взаимо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27280" cy="71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0000" y="321300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61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1624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чност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61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1624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егулятив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61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1624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ознаватель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61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1624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Коммуникатив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61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468360" y="170028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1624"/>
                </a:solidFill>
                <a:latin typeface="Arial"/>
              </a:rPr>
              <a:t>Виды универсальных учеб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162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61624"/>
                </a:solidFill>
                <a:latin typeface="Arial"/>
              </a:rPr>
              <a:t>действий (УУ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27280" cy="71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59640" y="1484280"/>
            <a:ext cx="2232000" cy="1225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5280" y="1413000"/>
            <a:ext cx="8137440" cy="5257800"/>
            <a:chOff x="395280" y="1413000"/>
            <a:chExt cx="8137440" cy="5257800"/>
          </a:xfrm>
        </p:grpSpPr>
        <p:sp>
          <p:nvSpPr>
            <p:cNvPr id="48" name=""/>
            <p:cNvSpPr/>
            <p:nvPr/>
          </p:nvSpPr>
          <p:spPr>
            <a:xfrm>
              <a:off x="3059280" y="1413000"/>
              <a:ext cx="3240000" cy="15843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1628640"/>
              <a:ext cx="30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504d"/>
                  </a:solidFill>
                  <a:latin typeface="Arial"/>
                </a:rPr>
                <a:t>Регулятивные 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35640" y="4149720"/>
              <a:ext cx="2232000" cy="12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7640" y="2852640"/>
              <a:ext cx="2232000" cy="1225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280" y="4149720"/>
              <a:ext cx="2232000" cy="12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6920" y="2781360"/>
              <a:ext cx="2232360" cy="12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9640" y="5445000"/>
              <a:ext cx="2232000" cy="1225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5280" y="1413000"/>
              <a:ext cx="2232000" cy="12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8360" y="18446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504d"/>
                  </a:solidFill>
                  <a:latin typeface="Arial"/>
                </a:rPr>
                <a:t>Целеполаг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42920" y="3141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План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80360" y="18446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9640" y="32130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Коррек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03280" y="4508640"/>
              <a:ext cx="22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Прогноз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40360" y="4581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Конт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35280" y="573408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504d"/>
                  </a:solidFill>
                  <a:latin typeface="Arial"/>
                </a:rPr>
                <a:t>Волевая само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700000" y="2060640"/>
              <a:ext cx="358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59280" y="2997360"/>
              <a:ext cx="144144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635280" y="2997360"/>
              <a:ext cx="865440" cy="172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0720" y="198900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6720" y="2997360"/>
              <a:ext cx="10796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76720" y="2997360"/>
              <a:ext cx="358920" cy="165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651280" y="5373720"/>
              <a:ext cx="93636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333360"/>
            <a:ext cx="871380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c0504d"/>
                </a:solidFill>
                <a:latin typeface="Arial"/>
              </a:rPr>
              <a:t>Русский язык </a:t>
            </a:r>
            <a:br>
              <a:rPr sz="2800"/>
            </a:br>
            <a:r>
              <a:rPr b="1" i="1" lang="en-US" sz="2800" spc="-1" strike="noStrike">
                <a:solidFill>
                  <a:srgbClr val="c0504d"/>
                </a:solidFill>
                <a:latin typeface="Arial"/>
              </a:rPr>
              <a:t>             1 класс</a:t>
            </a:r>
            <a:br>
              <a:rPr sz="2800"/>
            </a:br>
            <a:r>
              <a:rPr b="1" i="1" lang="en-US" sz="2800" spc="-1" strike="noStrike">
                <a:solidFill>
                  <a:srgbClr val="c0504d"/>
                </a:solidFill>
                <a:latin typeface="Arial"/>
              </a:rPr>
              <a:t> Безударная гласная. 3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М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«Перспектива»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«Перспективная начальная школа»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«Школа 2100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781360"/>
            <a:ext cx="86421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852640"/>
            <a:ext cx="8363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i="1" lang="ru-RU" sz="2400" spc="-1" strike="noStrike" u="sng">
                <a:solidFill>
                  <a:srgbClr val="c0504d"/>
                </a:solidFill>
                <a:uFillTx/>
                <a:latin typeface="Calibri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Сформирова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редставление о  правописании слов с безударной гласной в корн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Вв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правил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написания  слова с безударной гласной в кор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способы проверки написания слова с безударной гласной в ко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На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395280" y="2060640"/>
            <a:ext cx="7993080" cy="3240000"/>
            <a:chOff x="395280" y="2060640"/>
            <a:chExt cx="7993080" cy="32400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66920" y="3140280"/>
              <a:ext cx="16477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012000" y="2924280"/>
              <a:ext cx="72216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20116200">
              <a:off x="2050920" y="2636640"/>
              <a:ext cx="1512720" cy="1297080"/>
            </a:xfrm>
            <a:prstGeom prst="wedgeEllipseCallout">
              <a:avLst>
                <a:gd name="adj1" fmla="val -80935"/>
                <a:gd name="adj2" fmla="val -178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2411640" y="2924280"/>
              <a:ext cx="7920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95280" y="2060640"/>
              <a:ext cx="79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0504d"/>
                  </a:solidFill>
                  <a:latin typeface="Arial"/>
                  <a:ea typeface="Arial"/>
                </a:rPr>
                <a:t>Колька, приходи с мечом на площадку, поиграем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34240" y="88272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. Самоопределение к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6040" y="13874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итуативно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3933720"/>
            <a:ext cx="6769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504d"/>
                </a:solidFill>
                <a:latin typeface="Arial"/>
              </a:rPr>
              <a:t>самоопределение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ние осваивать учебный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знание потребности  изучения учеб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ановка лично значимой це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2565360"/>
            <a:ext cx="7632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 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блюдение за словами с безударными гласными, проверяемыми уд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Б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бота со словами с безударной гласной, проверяемой и непроверяемой уд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иагностика качества освоения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105264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Учебно – позна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Arial"/>
              </a:rPr>
              <a:t>ЗНАНИЕ          ПОНИМАНИЕ               У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404640"/>
            <a:ext cx="863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476280"/>
            <a:ext cx="12970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341360"/>
            <a:ext cx="3889440" cy="1406880"/>
            <a:chOff x="611280" y="1341360"/>
            <a:chExt cx="3889440" cy="1406880"/>
          </a:xfrm>
        </p:grpSpPr>
        <p:sp>
          <p:nvSpPr>
            <p:cNvPr id="88" name=""/>
            <p:cNvSpPr/>
            <p:nvPr/>
          </p:nvSpPr>
          <p:spPr>
            <a:xfrm>
              <a:off x="611280" y="1341360"/>
              <a:ext cx="388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_мой, и в дождик, и в метель, со мной ш_гает мой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132360" y="1630080"/>
              <a:ext cx="86508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43640" y="2349360"/>
              <a:ext cx="15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_ртф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124000" y="3789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Верно ли, что слово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ПЕНАЛ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можно проверить словом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ПЕНА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565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341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1484280"/>
            <a:ext cx="345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ите слова: </a:t>
            </a:r>
            <a:r>
              <a:rPr b="1" i="1" lang="en-US" sz="1800" spc="-1" strike="noStrike">
                <a:solidFill>
                  <a:srgbClr val="c0504d"/>
                </a:solidFill>
                <a:latin typeface="Arial"/>
              </a:rPr>
              <a:t>тетрадь, линейка, доска, карандаш, точил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на дв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оверяемые глас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проверяемые глас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3573360"/>
            <a:ext cx="35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796000" y="3933720"/>
            <a:ext cx="27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981000"/>
            <a:ext cx="799308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Arial"/>
              </a:rPr>
              <a:t>Регулятивные ум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авить ц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ланировать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гнозировать его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нтролировать выпол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носить ис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ценивать, проявляя волевую саморегуляцию о обеспечивать управление познавательной и учебн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зультаты диагност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Текст 2"/>
          <p:cNvGraphicFramePr/>
          <p:nvPr/>
        </p:nvGraphicFramePr>
        <p:xfrm>
          <a:off x="179280" y="1844640"/>
          <a:ext cx="4038840" cy="21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44640"/>
                    <a:ext cx="40388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Текст 2"/>
          <p:cNvGraphicFramePr/>
          <p:nvPr/>
        </p:nvGraphicFramePr>
        <p:xfrm>
          <a:off x="4356000" y="1844640"/>
          <a:ext cx="4038840" cy="2176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1844640"/>
                    <a:ext cx="40388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71640" y="4076640"/>
            <a:ext cx="70578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504d"/>
                </a:solidFill>
                <a:latin typeface="Arial"/>
              </a:rPr>
              <a:t>Результаты выполнения контрольно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72 обучаю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5» - 28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4» - 27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3» - 16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2» - 1 чел.            Качество: 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995640" y="4508640"/>
            <a:ext cx="4689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6:33:03Z</dcterms:created>
  <dc:creator>хосе</dc:creator>
  <dc:description>З.В. Александрова  http://aida.ucoz.ru</dc:description>
  <dc:language>en-US</dc:language>
  <cp:lastModifiedBy>home</cp:lastModifiedBy>
  <dcterms:modified xsi:type="dcterms:W3CDTF">2012-11-03T18:24:36Z</dcterms:modified>
  <cp:revision>26</cp:revision>
  <dc:subject/>
  <dc:title>Слайд 1</dc:title>
</cp:coreProperties>
</file>