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B13-931B-4D81-8FD3-932F4FFC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BA3-0DFE-4EFF-8E60-81C7D539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1E7-21BA-49A8-B6EE-9BB7E88A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CE9-4598-422C-AC2C-8A88CC81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670-3A66-43C7-BFC0-25B19274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B99-F18D-4237-A712-FE66AF87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FA8-E1FF-4DCF-99D2-8357146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968-1A71-4C13-BD8D-75D3E17A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317-262C-4179-A177-AAC7DBE7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E0A-0AFF-460E-A03C-BEE85B69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25D-BAA9-4651-9483-E79A15F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9D1-D4CD-46BD-85E1-3206A5C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DD5-0A4D-4F8C-8392-37D743CE1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115920"/>
            <a:ext cx="53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блака бегут быстрей,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ебо стало выше.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чирикал воробей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еселей на кр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6912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26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Глаголы прошедш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71840" y="82404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10480" y="27000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настоя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60280"/>
            <a:ext cx="28083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будущ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ccff"/>
                </a:solidFill>
                <a:latin typeface="Arial Black"/>
              </a:rPr>
              <a:t>  </a:t>
            </a:r>
            <a:r>
              <a:rPr b="1" lang="en-US" sz="8000" spc="-1" strike="noStrike">
                <a:solidFill>
                  <a:srgbClr val="ff0000"/>
                </a:solidFill>
                <a:latin typeface="com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844640"/>
            <a:ext cx="194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1844640"/>
            <a:ext cx="223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ЧТО СДЕЛАЕТ?          ЧТО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549360"/>
            <a:ext cx="763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лагол будущего времени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852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о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28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48400">
            <a:off x="3564000" y="1989000"/>
            <a:ext cx="288720" cy="1441440"/>
          </a:xfrm>
          <a:prstGeom prst="downArrow">
            <a:avLst>
              <a:gd name="adj1" fmla="val 50000"/>
              <a:gd name="adj2" fmla="val 124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316400">
            <a:off x="4710240" y="1937880"/>
            <a:ext cx="282600" cy="1465200"/>
          </a:xfrm>
          <a:prstGeom prst="downArrow">
            <a:avLst>
              <a:gd name="adj1" fmla="val 50000"/>
              <a:gd name="adj2" fmla="val 1296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00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30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872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ccff"/>
                </a:solidFill>
                <a:latin typeface="Arial Black"/>
              </a:rPr>
              <a:t>Моск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1916280"/>
            <a:ext cx="792360" cy="403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4149720"/>
            <a:ext cx="865080" cy="180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5300640"/>
            <a:ext cx="934920" cy="64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4653000"/>
            <a:ext cx="865440" cy="129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3429000"/>
            <a:ext cx="863280" cy="2521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2421000"/>
            <a:ext cx="936720" cy="352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4653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522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191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4149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3429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2421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ы с детства запомнили эти сло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о нет прекрасней и про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 города имени - город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М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сква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 площади -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"/>
              </a:rPr>
              <a:t>К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расная площадь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И. Токмакова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237960" y="1989000"/>
            <a:ext cx="890604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116000" y="620640"/>
            <a:ext cx="712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лание из будущего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916360" y="5229360"/>
            <a:ext cx="28080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8:57:09Z</dcterms:created>
  <dc:creator>Technika_8</dc:creator>
  <dc:description/>
  <dc:language>en-US</dc:language>
  <cp:lastModifiedBy>Technika_8</cp:lastModifiedBy>
  <dcterms:modified xsi:type="dcterms:W3CDTF">2009-04-13T16:43:34Z</dcterms:modified>
  <cp:revision>5</cp:revision>
  <dc:subject/>
  <dc:title>Облака б..гут быстрей, Небо стало выше. Зачирикал в…робей В…селей на крыше.</dc:title>
</cp:coreProperties>
</file>