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8A4B8-FC70-4157-9C53-803A4BDFF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6C9EA-9120-4C69-BDBD-9C28A6B2B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63ED9-E64A-48A8-A7F2-B249C4CCA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B00B6-F299-47F7-A7D2-142E126E9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93E72-F3CC-4FB1-9D70-B4A6733EF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9EA98-8174-43EB-A83C-346045F87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910AA-41F7-4C18-8B1E-84E5CA954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BA2BA-87CE-4BA7-9CF0-84A584AE5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92484-F5CF-4A35-BE1D-536639B7E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E149E-7058-4281-9F49-E0459C229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57DCD-8968-46EF-ABC5-1D0F9B9B2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771ED-FEC7-46AA-8C0A-78F33867E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ED28D-EB42-4BB0-B3EA-DEF0833F11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5thdimension.org/magazine-files/027/Leaves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http://5thdimension.org/magazine-files/027/Leaves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936440" y="2959200"/>
            <a:ext cx="6714000" cy="15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равописание гласных и согласн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в корне сло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овторение изученного в начальной школ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356760" y="54468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49920" y="2362320"/>
            <a:ext cx="369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рок-путешествие в осенний ле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00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838080" y="228600"/>
            <a:ext cx="800100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5199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50000">
                      <a:srgbClr val="4d0808"/>
                    </a:gs>
                    <a:gs pos="100000">
                      <a:srgbClr val="fff200"/>
                    </a:gs>
                  </a:gsLst>
                  <a:lin ang="108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"Осенние" слова </a:t>
            </a:r>
            <a:endParaRPr b="1" lang="en-US" sz="2800" spc="1" strike="noStrike">
              <a:ln w="936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50000">
                    <a:srgbClr val="4d0808"/>
                  </a:gs>
                  <a:gs pos="100000">
                    <a:srgbClr val="fff200"/>
                  </a:gs>
                </a:gsLst>
                <a:lin ang="108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50000">
                      <a:srgbClr val="4d0808"/>
                    </a:gs>
                    <a:gs pos="100000">
                      <a:srgbClr val="fff200"/>
                    </a:gs>
                  </a:gsLst>
                  <a:lin ang="108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для разбора по составу:</a:t>
            </a:r>
            <a:endParaRPr b="1" lang="en-US" sz="2800" spc="1" strike="noStrike">
              <a:ln w="936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50000">
                    <a:srgbClr val="4d0808"/>
                  </a:gs>
                  <a:gs pos="100000">
                    <a:srgbClr val="fff200"/>
                  </a:gs>
                </a:gsLst>
                <a:lin ang="108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1" strike="noStrike">
              <a:ln w="936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50000">
                    <a:srgbClr val="4d0808"/>
                  </a:gs>
                  <a:gs pos="100000">
                    <a:srgbClr val="fff200"/>
                  </a:gs>
                </a:gsLst>
                <a:lin ang="108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593800" y="2082960"/>
            <a:ext cx="24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Г Р И Б Н И 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58880" y="3228840"/>
            <a:ext cx="31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 Е Р Е Л Ё Т Н Ы 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503520" y="4724280"/>
            <a:ext cx="226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Ж Е Л Т Е Т 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484960" y="3200400"/>
            <a:ext cx="318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 Р О Х Л А Д Н Ы 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326280" y="6019920"/>
            <a:ext cx="196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дополнительно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04920" y="533520"/>
            <a:ext cx="8610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точн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.А.Ладыженкая, М.Т.Баранов и др.Учебник Русский язык. 5 клас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.А.Богданова Дидактические материалы по русскому языку: 5 клас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.П.Книгина Русский язык.5 кл. Тесты: в 2 ч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ртинки из интернет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80880" y="914400"/>
            <a:ext cx="84582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Цель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обобщить полученные ранее знания по теме «Правописание гласных и согласных в корне слова», развивать умение применять конкретное правило на практике, способствовать формированию интереса к слову и языку в цел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Рисунок 3" descr="yooy.ru_Osenniy_les_1600_2570.jpg"/>
          <p:cNvPicPr/>
          <p:nvPr/>
        </p:nvPicPr>
        <p:blipFill>
          <a:blip r:embed="rId1"/>
          <a:stretch/>
        </p:blipFill>
        <p:spPr>
          <a:xfrm>
            <a:off x="1143000" y="2971800"/>
            <a:ext cx="6842160" cy="372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50000">
              <a:srgbClr val="ff6600"/>
            </a:gs>
            <a:gs pos="100000">
              <a:srgbClr val="cc99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187560"/>
            <a:ext cx="7856640" cy="66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 На какие две группы мы можем разделить правописание гласных в корне слова? Приведите пример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2. На какие группы можно разделить правописание согласных в корн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 Какие звуки произносятся на месте выделенных согласных букв в словах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Травка, березка, дуб?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4. Как называется такая орфограмма? Сформулируйте правил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. Какие звуки произносятся на месте выделенных сочетаний букв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Солнце, устный, сердце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6. Как называется такая орфограмма? Сформулируйте правил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228600" y="457200"/>
            <a:ext cx="8914680" cy="5055120"/>
            <a:chOff x="228600" y="457200"/>
            <a:chExt cx="8914680" cy="5055120"/>
          </a:xfrm>
        </p:grpSpPr>
        <p:cxnSp>
          <p:nvCxnSpPr>
            <p:cNvPr id="49" name="_s7172"/>
            <p:cNvCxnSpPr>
              <a:stCxn id="50" idx="0"/>
              <a:endCxn id="51" idx="2"/>
            </p:cNvCxnSpPr>
            <p:nvPr/>
          </p:nvCxnSpPr>
          <p:spPr>
            <a:xfrm flipV="1" rot="16200000">
              <a:off x="6260040" y="2986560"/>
              <a:ext cx="632520" cy="1891800"/>
            </a:xfrm>
            <a:prstGeom prst="bentConnector3">
              <a:avLst>
                <a:gd name="adj1" fmla="val 4703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2" name="_s7173"/>
            <p:cNvCxnSpPr>
              <a:stCxn id="53" idx="0"/>
              <a:endCxn id="51" idx="2"/>
            </p:cNvCxnSpPr>
            <p:nvPr/>
          </p:nvCxnSpPr>
          <p:spPr>
            <a:xfrm flipH="1" flipV="1" rot="5400000">
              <a:off x="4369680" y="2986920"/>
              <a:ext cx="632520" cy="1891080"/>
            </a:xfrm>
            <a:prstGeom prst="bentConnector3">
              <a:avLst>
                <a:gd name="adj1" fmla="val 4703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4" name="_s7174"/>
            <p:cNvCxnSpPr>
              <a:stCxn id="51" idx="0"/>
              <a:endCxn id="55" idx="2"/>
            </p:cNvCxnSpPr>
            <p:nvPr/>
          </p:nvCxnSpPr>
          <p:spPr>
            <a:xfrm flipV="1" rot="16200000">
              <a:off x="4369320" y="1090800"/>
              <a:ext cx="632520" cy="1891080"/>
            </a:xfrm>
            <a:prstGeom prst="bentConnector3">
              <a:avLst>
                <a:gd name="adj1" fmla="val 4703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6" name="_s7175"/>
            <p:cNvCxnSpPr>
              <a:stCxn id="57" idx="0"/>
              <a:endCxn id="55" idx="2"/>
            </p:cNvCxnSpPr>
            <p:nvPr/>
          </p:nvCxnSpPr>
          <p:spPr>
            <a:xfrm flipH="1" flipV="1" rot="5400000">
              <a:off x="2478600" y="1090440"/>
              <a:ext cx="632520" cy="1891800"/>
            </a:xfrm>
            <a:prstGeom prst="bentConnector3">
              <a:avLst>
                <a:gd name="adj1" fmla="val 47038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55" name="_s7176"/>
            <p:cNvSpPr/>
            <p:nvPr/>
          </p:nvSpPr>
          <p:spPr>
            <a:xfrm>
              <a:off x="2119680" y="457200"/>
              <a:ext cx="3241440" cy="12636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Г Л А С Н Ы 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_s7177"/>
            <p:cNvSpPr/>
            <p:nvPr/>
          </p:nvSpPr>
          <p:spPr>
            <a:xfrm>
              <a:off x="228600" y="2352960"/>
              <a:ext cx="3241440" cy="12636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УДАРНЫЕ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(СИЛЬНАЯ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ПОЗИЦИЯ) ПИШЕМ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ТАК, КАК СЛЫШИМ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тр</a:t>
              </a:r>
              <a:r>
                <a:rPr b="0" lang="en-US" sz="2200" spc="-1" strike="noStrike">
                  <a:solidFill>
                    <a:srgbClr val="ff0000"/>
                  </a:solidFill>
                  <a:latin typeface="Arial"/>
                </a:rPr>
                <a:t>о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пы, л</a:t>
              </a: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о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дка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_s7178"/>
            <p:cNvSpPr/>
            <p:nvPr/>
          </p:nvSpPr>
          <p:spPr>
            <a:xfrm>
              <a:off x="4010400" y="2352960"/>
              <a:ext cx="3241440" cy="12636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БЕЗУДАРНЫЕ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(СЛАБАЯ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ПОЗИЦИЯ)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_s7179"/>
            <p:cNvSpPr/>
            <p:nvPr/>
          </p:nvSpPr>
          <p:spPr>
            <a:xfrm>
              <a:off x="2119680" y="4248720"/>
              <a:ext cx="3241440" cy="12585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ДА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(СИЛЬНАЯ ПОЗИЦИЯ)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ПИШЕМ ТАК СЛЫШИМ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ТР</a:t>
              </a: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О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ПА  - ТР</a:t>
              </a: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О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ПЫ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_s7180"/>
            <p:cNvSpPr/>
            <p:nvPr/>
          </p:nvSpPr>
          <p:spPr>
            <a:xfrm>
              <a:off x="5901840" y="4248720"/>
              <a:ext cx="3241440" cy="12636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НЕТ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(СЛОВАРНОЕ СЛОВО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ЗАПОМНИТЬ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О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КЗАЛ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"/>
          <p:cNvSpPr txBox="1"/>
          <p:nvPr/>
        </p:nvSpPr>
        <p:spPr>
          <a:xfrm>
            <a:off x="3924360" y="3860640"/>
            <a:ext cx="30956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I.ПРОВЕРИТЬ УДАРЕНИЕМ</a:t>
            </a:r>
            <a:endParaRPr b="0" lang="en-US" sz="9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6600"/>
            </a:gs>
            <a:gs pos="50000">
              <a:srgbClr val="ff9933"/>
            </a:gs>
            <a:gs pos="100000">
              <a:srgbClr val="cc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828800" y="457200"/>
            <a:ext cx="5410080" cy="52056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100000">
                <a:srgbClr val="0075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РФОГРАММЫ-СОГЛАС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 rot="14055000">
            <a:off x="2287440" y="683640"/>
            <a:ext cx="485640" cy="2013120"/>
          </a:xfrm>
          <a:prstGeom prst="downArrow">
            <a:avLst>
              <a:gd name="adj1" fmla="val 50000"/>
              <a:gd name="adj2" fmla="val 10363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 rot="7530000">
            <a:off x="6478560" y="682920"/>
            <a:ext cx="485640" cy="2013120"/>
          </a:xfrm>
          <a:prstGeom prst="downArrow">
            <a:avLst>
              <a:gd name="adj1" fmla="val 50000"/>
              <a:gd name="adj2" fmla="val 10363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V="1" rot="10702800">
            <a:off x="4419000" y="1141920"/>
            <a:ext cx="485640" cy="1295280"/>
          </a:xfrm>
          <a:prstGeom prst="downArrow">
            <a:avLst>
              <a:gd name="adj1" fmla="val 50000"/>
              <a:gd name="adj2" fmla="val 6667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4920" y="2627280"/>
            <a:ext cx="2361960" cy="33858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56676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Глухие и звонкие соглас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на конце слов и перед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другими согласны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у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улы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б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00400" y="2666880"/>
            <a:ext cx="2884320" cy="302004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56676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Непроизносимы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Соглас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час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ив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лас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339960" y="2666880"/>
            <a:ext cx="1989720" cy="302004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56676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Удвоенны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согласны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п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ти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ffff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532080" y="454680"/>
            <a:ext cx="7729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)Какое слово пишется не так, как произноситс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) вин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) вес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) кур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2131200"/>
            <a:ext cx="7839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) В каком ряду в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обоих словах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корне пропущена безударная проверяемая гласна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 в…сна, м…т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) к…тёнок, заб…жа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) г…мнаст, к…рм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33520" y="4340520"/>
            <a:ext cx="8305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) В каком ряду в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обоих словах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пропущена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одна и та же букв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 матро…, зале…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) вокру…, во…за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) оши…ка, ро…к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50000">
              <a:srgbClr val="ff9933"/>
            </a:gs>
            <a:gs pos="100000">
              <a:srgbClr val="ffff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5840" y="226440"/>
            <a:ext cx="9129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каком слове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нет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непроизносимой согласной в корне?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 праз…н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) опас…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) мес…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-2880" y="1978920"/>
            <a:ext cx="917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5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йди и подчеркни «третье лишнее» слово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каждом ряд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 уд…вление, по…вление, пл…с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) к…рмить, н…чной, зап…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) ж…знь, ж…ри, ж…вотн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0" y="3593520"/>
            <a:ext cx="8915400" cy="30682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             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б)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Определите границы предложени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                       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Поставьте знаки препин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 воздухе захолодало на кустах и деревьях пожелтела листва грачи и другие перелетные птицы давно уже собрались в стаи кончилось лето в эту пору все животные готовятся к зим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50000">
              <a:srgbClr val="99ff66"/>
            </a:gs>
            <a:gs pos="100000">
              <a:srgbClr val="ff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228600" y="685800"/>
          <a:ext cx="8686800" cy="3193920"/>
        </p:xfrm>
        <a:graphic>
          <a:graphicData uri="http://schemas.openxmlformats.org/drawingml/2006/table">
            <a:tbl>
              <a:tblPr/>
              <a:tblGrid>
                <a:gridCol w="1420920"/>
                <a:gridCol w="1606320"/>
                <a:gridCol w="1317600"/>
                <a:gridCol w="1603440"/>
                <a:gridCol w="1263600"/>
                <a:gridCol w="1474920"/>
              </a:tblGrid>
              <a:tr h="825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зударные гласные в корн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гласные в корн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57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)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яемы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прове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яемы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) прове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яемы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) непрове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яемы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) непро-износи-мы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)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дво-енны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3" name=""/>
          <p:cNvSpPr/>
          <p:nvPr/>
        </p:nvSpPr>
        <p:spPr>
          <a:xfrm>
            <a:off x="304920" y="3794400"/>
            <a:ext cx="8381880" cy="29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Шу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а, гру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п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, заг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а, спор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мен, ук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а, радо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т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ый, б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абан, оп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сть, к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, д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ить, пру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п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идор, п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жир, ст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, м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ч, з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рак, д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ждливый, 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тябр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984680" y="152280"/>
            <a:ext cx="632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 группа. Распределить по видам орфограмм в кор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ffff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228600" y="908640"/>
            <a:ext cx="83059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к хорош лес позней осенью! Ветра нет, в мяхком воздухе разлит осенний запох. Тонкий туман стаит над желтыми полями. Сквозь бурые сучья деревьев билеет небо, на липах весят последние золотые листь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 какой осенний, ястный, немножко халодный утром день! Береза вся золотая красиво рисуется на галубом небе. Осиновая роща вся сверкает. Свежий ветерок техонько шевелит и гонит упавшие листь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По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.С.Тургеневу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39160" y="380880"/>
            <a:ext cx="726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 группа.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Найдите слова с ошибками. Запишите их правиль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egistered</cp:lastModifiedBy>
  <dcterms:modified xsi:type="dcterms:W3CDTF">2012-11-04T13:31:46Z</dcterms:modified>
  <cp:revision>1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