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415B-5E09-47E8-87ED-34306155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E3B-CB57-494B-9206-32706EF6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20D-9E13-4299-B038-BE0DCC36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FFE-345A-4322-8059-E086118D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EC43-E559-4F83-A0C3-40C60076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EBFB-EE3F-4C07-A2FC-66A7E850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1B2-9119-4F49-A368-CC2B8B67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8F9-83F1-4A4E-9C31-B6143FE4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FA4-3C93-476D-A2A5-9EEFA9E2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7AE-F752-43E0-B102-21D4779B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B7E-135E-44B1-8321-5B85FE84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2055-5CC9-42E6-8B22-46756665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aea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33C9-89BF-4ADE-AA67-2E43604724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1628640"/>
            <a:ext cx="7417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32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50000">
                      <a:srgbClr val="ff0066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бро пожаловать!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0099"/>
                  </a:gs>
                  <a:gs pos="50000">
                    <a:srgbClr val="ff0066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F2.mp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4949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-1756080"/>
            <a:ext cx="5076720" cy="86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рошила дорож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украсила  . ко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ость детям  под. р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 санках прок. т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3d_183"/>
          <p:cNvPicPr/>
          <p:nvPr/>
        </p:nvPicPr>
        <p:blipFill>
          <a:blip r:embed="rId1"/>
          <a:stretch/>
        </p:blipFill>
        <p:spPr>
          <a:xfrm>
            <a:off x="611280" y="2421000"/>
            <a:ext cx="7488000" cy="424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2045 E">
                                      <p:cBhvr>
                                        <p:cTn id="2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361 0.37774 E">
                                      <p:cBhvr>
                                        <p:cTn id="3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782 0.52463 E">
                                      <p:cBhvr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с встречает             лес         Он стоит, как             терем  Полный сказок и чуд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32000" y="-1395360"/>
            <a:ext cx="1800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бе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004"/>
          <p:cNvPicPr/>
          <p:nvPr/>
        </p:nvPicPr>
        <p:blipFill>
          <a:blip r:embed="rId1"/>
          <a:stretch/>
        </p:blipFill>
        <p:spPr>
          <a:xfrm>
            <a:off x="1116000" y="2060640"/>
            <a:ext cx="7128000" cy="4643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7"/>
          <p:cNvSpPr/>
          <p:nvPr/>
        </p:nvSpPr>
        <p:spPr>
          <a:xfrm>
            <a:off x="4716360" y="-963720"/>
            <a:ext cx="19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зим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03 0.06431 L 0.01858 0.16933 E">
                                      <p:cBhvr>
                                        <p:cTn id="4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924 0.32524 E">
                                      <p:cBhvr>
                                        <p:cTn id="5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233208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од кустом притаился                     зверё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 него                   уши,                  хво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Тело покрыто                   шер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87640" y="260280"/>
            <a:ext cx="143964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бе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916360" y="981000"/>
            <a:ext cx="180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угли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95280" y="189000"/>
            <a:ext cx="172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ли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6588000" y="981000"/>
            <a:ext cx="1656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орот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RABBIT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7889 L 0.21649 0.35184 E">
                                      <p:cBhvr>
                                        <p:cTn id="5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0.06824 L 0.22049 0.54036 E">
                                      <p:cBhvr>
                                        <p:cTn id="6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8513E-006 L -0.16927 0.41961 E">
                                      <p:cBhvr>
                                        <p:cTn id="6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89 0.0775 L -0.08872 0.60213 E">
                                      <p:cBhvr>
                                        <p:cTn id="6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Окраской - серова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Походкой - вороват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Крикунья хриплова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Известная перс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Кто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305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284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5796000" y="335772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кака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7"/>
          <p:cNvSpPr txBox="1"/>
          <p:nvPr/>
        </p:nvSpPr>
        <p:spPr>
          <a:xfrm>
            <a:off x="1908000" y="907920"/>
            <a:ext cx="532944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шла з . ма.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 . ят м . розы.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 . мля покрылась снегом.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050920" y="3716280"/>
          <a:ext cx="4681800" cy="2017800"/>
        </p:xfrm>
        <a:graphic>
          <a:graphicData uri="http://schemas.openxmlformats.org/drawingml/2006/table">
            <a:tbl>
              <a:tblPr/>
              <a:tblGrid>
                <a:gridCol w="4681800"/>
              </a:tblGrid>
              <a:tr h="20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ровая холодна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ие силь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м пушисты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7"/>
          <p:cNvSpPr/>
          <p:nvPr/>
        </p:nvSpPr>
        <p:spPr>
          <a:xfrm>
            <a:off x="4933800" y="-77328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4357440" y="-84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3565440" y="-773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2340000" y="-74772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28 -0.10085 L 0.01528 0.23225 E">
                                      <p:cBhvr>
                                        <p:cTn id="98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06593 L -0.01615 0.34513 E">
                                      <p:cBhvr>
                                        <p:cTn id="10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8013E-006 L 0.03107 0.35577 E">
                                      <p:cBhvr>
                                        <p:cTn id="10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84 0.12122 L -0.01684 0.44645 E">
                                      <p:cBhvr>
                                        <p:cTn id="110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8"/>
          <p:cNvSpPr txBox="1"/>
          <p:nvPr/>
        </p:nvSpPr>
        <p:spPr>
          <a:xfrm>
            <a:off x="2195640" y="765000"/>
            <a:ext cx="45622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мя прилагательное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WordArt 9"/>
          <p:cNvSpPr txBox="1"/>
          <p:nvPr/>
        </p:nvSpPr>
        <p:spPr>
          <a:xfrm>
            <a:off x="2268360" y="2060640"/>
            <a:ext cx="4019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знаки предмета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WordArt 17"/>
          <p:cNvSpPr txBox="1"/>
          <p:nvPr/>
        </p:nvSpPr>
        <p:spPr>
          <a:xfrm>
            <a:off x="1403280" y="3284640"/>
            <a:ext cx="6343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ой? Какая? Какое? Какие?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WordArt 18"/>
          <p:cNvSpPr txBox="1"/>
          <p:nvPr/>
        </p:nvSpPr>
        <p:spPr>
          <a:xfrm>
            <a:off x="179280" y="4437000"/>
            <a:ext cx="8744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мя прилагательное + Имя существительное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8"/>
          <p:cNvSpPr txBox="1"/>
          <p:nvPr/>
        </p:nvSpPr>
        <p:spPr>
          <a:xfrm>
            <a:off x="1258920" y="3573360"/>
            <a:ext cx="698508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ы, ребята, молодцы!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се трудились от души!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хорошую работу вы получите призы!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WordArt 10"/>
          <p:cNvSpPr txBox="1"/>
          <p:nvPr/>
        </p:nvSpPr>
        <p:spPr>
          <a:xfrm>
            <a:off x="611280" y="54936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елеграмма от Зимы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0" name="Picture 11" descr="writingonbook"/>
          <p:cNvPicPr/>
          <p:nvPr/>
        </p:nvPicPr>
        <p:blipFill>
          <a:blip r:embed="rId1"/>
          <a:stretch/>
        </p:blipFill>
        <p:spPr>
          <a:xfrm>
            <a:off x="179280" y="1700280"/>
            <a:ext cx="345600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3:42:58Z</dcterms:created>
  <dc:creator>Technika_8</dc:creator>
  <dc:description/>
  <dc:language>en-US</dc:language>
  <cp:lastModifiedBy>Чумаков</cp:lastModifiedBy>
  <dcterms:modified xsi:type="dcterms:W3CDTF">2012-11-06T06:59:22Z</dcterms:modified>
  <cp:revision>5</cp:revision>
  <dc:subject/>
  <dc:title>Слайд 1</dc:title>
</cp:coreProperties>
</file>