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92A-4E94-4099-A52E-58D37128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2BE-7563-4EC0-8ED4-9B8F73B2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4C5-48D6-42A2-B707-6BADC948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80B-34DE-4136-B69F-6D0D03B8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6A9F8-F450-42A3-84EB-2EC9740B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15FCC-66B2-419B-993C-08262DFB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9F6E8-8202-4F80-8B00-EB4D1BB0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4F087-EEE9-4434-B941-550BCD07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F56FD-B603-4A78-9DD5-596C7B8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132C-A088-471F-B306-9F59E91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1BE5C-9782-4E23-AA2F-60AC1B5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D67-F970-45A7-9FA9-E40D2E86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9C2D8-FCCA-4FEC-98C1-9F5656EF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1CDD4-AF34-4C6B-8E19-0A5780B6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C82FB-1712-4B70-BABE-BB010086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70D2D-7C1A-4A43-A013-5CC7A6F0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52125-4A78-4473-BB10-E88D92FA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087-944F-468F-BA97-9ECEC9FC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CB0-BF79-4743-B941-45A84A54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2CD-3E56-44A8-80C7-E60F7A61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5CD-BF6B-4279-853C-11002EEC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A62-20FC-464A-980E-6749F31D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06C-927E-43BD-BD12-7599A952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9E6-6C24-4F0C-8857-2E9D67C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8E3B-E2EA-4418-9038-87FBD0F4B5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DF14-0D1F-469D-9A63-8121F85E3F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12 апреля – </a:t>
            </a: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День космонавтики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85960" y="2286000"/>
            <a:ext cx="6400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Полёт в космос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ракета"/>
          <p:cNvPicPr/>
          <p:nvPr/>
        </p:nvPicPr>
        <p:blipFill>
          <a:blip r:embed="rId1"/>
          <a:stretch/>
        </p:blipFill>
        <p:spPr>
          <a:xfrm rot="5938200">
            <a:off x="3778920" y="3278880"/>
            <a:ext cx="21380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463840" cy="3370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6643800" y="260280"/>
            <a:ext cx="2130480" cy="33289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6"/>
          <p:cNvSpPr txBox="1"/>
          <p:nvPr/>
        </p:nvSpPr>
        <p:spPr>
          <a:xfrm>
            <a:off x="395280" y="404640"/>
            <a:ext cx="3876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гари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рий Алексеевич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4067280" y="4429080"/>
            <a:ext cx="48798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лаева-Терешк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алентина Владимиро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планеты"/>
          <p:cNvPicPr/>
          <p:nvPr/>
        </p:nvPicPr>
        <p:blipFill>
          <a:blip r:embed="rId1"/>
          <a:stretch/>
        </p:blipFill>
        <p:spPr>
          <a:xfrm>
            <a:off x="896760" y="928800"/>
            <a:ext cx="65296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3019320" cy="335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 rot="1997400">
            <a:off x="5286240" y="499680"/>
            <a:ext cx="1954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143000" y="214200"/>
            <a:ext cx="70722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rcRect l="6251" t="3081" r="5299" b="2314"/>
          <a:stretch/>
        </p:blipFill>
        <p:spPr>
          <a:xfrm>
            <a:off x="714240" y="214200"/>
            <a:ext cx="5715000" cy="354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9183405"/>
          <p:cNvPicPr/>
          <p:nvPr/>
        </p:nvPicPr>
        <p:blipFill>
          <a:blip r:embed="rId2"/>
          <a:stretch/>
        </p:blipFill>
        <p:spPr>
          <a:xfrm>
            <a:off x="5286240" y="3214800"/>
            <a:ext cx="20034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000080" y="264960"/>
            <a:ext cx="678672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9183405"/>
          <p:cNvPicPr/>
          <p:nvPr/>
        </p:nvPicPr>
        <p:blipFill>
          <a:blip r:embed="rId1"/>
          <a:stretch/>
        </p:blipFill>
        <p:spPr>
          <a:xfrm>
            <a:off x="1357200" y="2301840"/>
            <a:ext cx="25718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648d"/>
          <p:cNvPicPr/>
          <p:nvPr/>
        </p:nvPicPr>
        <p:blipFill>
          <a:blip r:embed="rId1"/>
          <a:stretch/>
        </p:blipFill>
        <p:spPr>
          <a:xfrm>
            <a:off x="3619440" y="64296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5:01:42Z</dcterms:created>
  <dc:creator>Fadeev</dc:creator>
  <dc:description/>
  <dc:language>en-US</dc:language>
  <cp:lastModifiedBy>WIN7XP</cp:lastModifiedBy>
  <dcterms:modified xsi:type="dcterms:W3CDTF">2012-11-09T13:01:54Z</dcterms:modified>
  <cp:revision>20</cp:revision>
  <dc:subject/>
  <dc:title>12 апреля –  День космонавтики.</dc:title>
</cp:coreProperties>
</file>