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B8C-8E53-41CB-95F0-53463929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6FC-D8A6-431B-A502-262BEF3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A7F-918A-4BE9-8FBF-F8367397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881-4619-4441-9878-1BE73233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1D930-BEB0-4E4A-A56D-1D7E8F41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303E-3D8A-48AE-91F0-2EF8D472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EA54B-7ACF-44F8-8E4B-F4B2125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B16BF-E2B4-4DB6-A8AA-B863B0E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D30BD-4C26-40C8-931B-E5E4E12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203FF-6C8D-4C71-B589-6C591B8F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4961-8666-4DC5-8EE1-D97FB9D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ACE-112D-4C18-B152-86C9A79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D73A8-6766-40E2-8803-51FB30F7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3910-2886-4C00-B217-F5120CA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5621-9E1A-489E-9EA2-205731C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FE879-F6E1-45C3-8D40-CDAA804D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111C-CDE1-474F-A2D2-9651F837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6EB-4811-4C48-B2E0-63BF637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686-BF5C-4318-9A3D-750C089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C04-7B84-422B-B10B-8C04649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69E-8BD6-4E48-979B-9E22BF3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37A-E69B-4018-98FC-71298CE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586-4B78-4FBC-AA35-B710F62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DB-BEA7-4559-9FC4-2299A607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428A-E0F9-4411-AC96-DF7EFDCEAF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8EE-4078-4B27-8B4E-9FAADA9BCB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12 апреля – 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День космонавтики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85960" y="228600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олёт в космос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ракета"/>
          <p:cNvPicPr/>
          <p:nvPr/>
        </p:nvPicPr>
        <p:blipFill>
          <a:blip r:embed="rId1"/>
          <a:stretch/>
        </p:blipFill>
        <p:spPr>
          <a:xfrm rot="5938200">
            <a:off x="3778920" y="3278880"/>
            <a:ext cx="21380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463840" cy="3370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643800" y="260280"/>
            <a:ext cx="2130480" cy="33289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395280" y="404640"/>
            <a:ext cx="3876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гари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рий Алексеевич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4067280" y="4429080"/>
            <a:ext cx="48798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лаева-Тереш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лентина Владимир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планеты"/>
          <p:cNvPicPr/>
          <p:nvPr/>
        </p:nvPicPr>
        <p:blipFill>
          <a:blip r:embed="rId1"/>
          <a:stretch/>
        </p:blipFill>
        <p:spPr>
          <a:xfrm>
            <a:off x="896760" y="928800"/>
            <a:ext cx="65296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3019320" cy="335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 rot="1997400">
            <a:off x="5286240" y="499680"/>
            <a:ext cx="1954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70722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6251" t="3081" r="5299" b="2314"/>
          <a:stretch/>
        </p:blipFill>
        <p:spPr>
          <a:xfrm>
            <a:off x="714240" y="214200"/>
            <a:ext cx="5715000" cy="354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9183405"/>
          <p:cNvPicPr/>
          <p:nvPr/>
        </p:nvPicPr>
        <p:blipFill>
          <a:blip r:embed="rId2"/>
          <a:stretch/>
        </p:blipFill>
        <p:spPr>
          <a:xfrm>
            <a:off x="5286240" y="3214800"/>
            <a:ext cx="2003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000080" y="264960"/>
            <a:ext cx="67867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9183405"/>
          <p:cNvPicPr/>
          <p:nvPr/>
        </p:nvPicPr>
        <p:blipFill>
          <a:blip r:embed="rId1"/>
          <a:stretch/>
        </p:blipFill>
        <p:spPr>
          <a:xfrm>
            <a:off x="1357200" y="2301840"/>
            <a:ext cx="2571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648d"/>
          <p:cNvPicPr/>
          <p:nvPr/>
        </p:nvPicPr>
        <p:blipFill>
          <a:blip r:embed="rId1"/>
          <a:stretch/>
        </p:blipFill>
        <p:spPr>
          <a:xfrm>
            <a:off x="3619440" y="64296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01:42Z</dcterms:created>
  <dc:creator>Fadeev</dc:creator>
  <dc:description/>
  <dc:language>en-US</dc:language>
  <cp:lastModifiedBy>WIN7XP</cp:lastModifiedBy>
  <dcterms:modified xsi:type="dcterms:W3CDTF">2012-11-09T13:01:54Z</dcterms:modified>
  <cp:revision>20</cp:revision>
  <dc:subject/>
  <dc:title>12 апреля –  День космонавтики.</dc:title>
</cp:coreProperties>
</file>