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2F31-3B14-45A3-81C8-AADB2B025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517C-E9C1-4F84-95D2-97C0582AF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BDE1-D9F6-45CE-8E77-71F080E61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C88E-2642-47DE-99B9-6CD6C13EB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DF21-81C0-440D-AA48-806C1821E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E3BD-3113-427B-B5E6-0A8E06300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F76B-9C00-4544-8031-52D41E18F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E7AD-3812-4D7E-9BFF-193B25F93E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721B-AD4D-43CD-8F55-5D3B558EC7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A4AE-D31A-4604-AD71-4156435F8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BA3-1313-4A0D-B4C8-CE56F814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17B-63A7-46D7-9F75-6860422D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81E-1A5B-460C-8AFF-946C9BD9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FF4-088E-42CE-A162-5E48F874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38BB-CAAB-42FE-92E8-6B0B0AC9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B781-D0DF-4064-A12F-C3D5BF94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6050-821D-4646-BD59-C1EEDB4C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E35-7ADD-4641-AD6F-C553131C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002E-1E69-4EB8-88A3-F499FE8E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8FBF-A24C-4A80-A863-E6FD7B6D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FFF8-1901-4126-B44D-91044A3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183-FB60-4363-9AFB-C691A94C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020E-DF0D-485F-9414-2B4E4675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7B10-AE2A-4688-A8E9-968244C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D2FB-DB15-494D-8206-44DDF20F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9C39-9A03-4F83-9CC2-885C1B71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983B-ADCA-4F5D-863E-B130D49F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C16-29E0-4EBF-AB89-F7BD75BA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7FA-5B50-4A80-A621-C58E048F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5E1-4A92-42D4-988F-E699C883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C54-7223-48A5-9149-A962665A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267-1269-4D84-8610-A6C580D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759-11DD-4C50-B08C-2EAD5500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670-E8F0-459B-933D-3587C357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CA0F-332D-4E4C-81DB-5E87D4632A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7696-A6F2-4A55-A83E-1253E42D56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home.comcast.net/~geoaddict/LINGANE/Departure_from_Queenstown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900igr.net/datai/geografija/Atlanticheskij-okean/0009-004-Vidy-khozjajstvennoj-dejatelnosti-v-okeane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refashion.ru/img/arts/st_239_3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900igr.net/datai/geografija/Afrika-Alzhir/0012-042-KHozjajstvennaja-dejatelnost-naselenija.jpg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vesi72.ucoz.net/_si/0/40911676.jpg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www.a-ticket.ru/grape/upload/instance/1642307782/rafael5.jpg" TargetMode="External"/><Relationship Id="rId10" Type="http://schemas.openxmlformats.org/officeDocument/2006/relationships/image" Target="../media/image30.jpeg"/><Relationship Id="rId11" Type="http://schemas.openxmlformats.org/officeDocument/2006/relationships/hyperlink" Target="http://img-fotki.yandex.ru/get/6401/83650812.6f/0_7d9d4_798df449_XL" TargetMode="External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Atlantic_Ocean_surfac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andewy.ru/gml/okean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Атланти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7"/>
          <p:cNvSpPr txBox="1"/>
          <p:nvPr/>
        </p:nvSpPr>
        <p:spPr>
          <a:xfrm>
            <a:off x="539640" y="2852640"/>
            <a:ext cx="7920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тлантический океан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ЧЕРНЫЙ АЙСБЕРГ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3" descr="черный айсберг"/>
          <p:cNvPicPr/>
          <p:nvPr/>
        </p:nvPicPr>
        <p:blipFill>
          <a:blip r:embed="rId1"/>
          <a:stretch/>
        </p:blipFill>
        <p:spPr>
          <a:xfrm>
            <a:off x="3246480" y="2565360"/>
            <a:ext cx="5897520" cy="44229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250920" y="1773360"/>
            <a:ext cx="5184720" cy="1079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авучая чёрная ледяная гора, покрытая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стым слоем вулканической пыли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аким столкнулся «Титаник» в 1912 г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924280"/>
            <a:ext cx="4284720" cy="2592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2771640" y="5084640"/>
            <a:ext cx="2071800" cy="1657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Для океана характерны айсберги. 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Что вы знаете о них?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5" descr="Айсберг"/>
          <p:cNvPicPr/>
          <p:nvPr/>
        </p:nvPicPr>
        <p:blipFill>
          <a:blip r:embed="rId4"/>
          <a:stretch/>
        </p:blipFill>
        <p:spPr>
          <a:xfrm>
            <a:off x="6691320" y="115920"/>
            <a:ext cx="2452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Рыба-шар"/>
          <p:cNvPicPr/>
          <p:nvPr/>
        </p:nvPicPr>
        <p:blipFill>
          <a:blip r:embed="rId1"/>
          <a:stretch/>
        </p:blipFill>
        <p:spPr>
          <a:xfrm>
            <a:off x="0" y="2997360"/>
            <a:ext cx="3059280" cy="2085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2997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Рыба - ша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Рыба-утюг"/>
          <p:cNvPicPr/>
          <p:nvPr/>
        </p:nvPicPr>
        <p:blipFill>
          <a:blip r:embed="rId2"/>
          <a:stretch/>
        </p:blipFill>
        <p:spPr>
          <a:xfrm>
            <a:off x="3059280" y="2997360"/>
            <a:ext cx="3241440" cy="2087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564000" y="2997360"/>
            <a:ext cx="21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Рыба - утюг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Picture 6" descr="Рыба-молот"/>
          <p:cNvPicPr/>
          <p:nvPr/>
        </p:nvPicPr>
        <p:blipFill>
          <a:blip r:embed="rId3"/>
          <a:stretch/>
        </p:blipFill>
        <p:spPr>
          <a:xfrm>
            <a:off x="6084720" y="2997360"/>
            <a:ext cx="3059280" cy="2087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093080" y="299736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Рыба - молот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1" name="Picture 6" descr="Скат - обитатель глубин"/>
          <p:cNvPicPr/>
          <p:nvPr/>
        </p:nvPicPr>
        <p:blipFill>
          <a:blip r:embed="rId4"/>
          <a:stretch/>
        </p:blipFill>
        <p:spPr>
          <a:xfrm>
            <a:off x="0" y="5057640"/>
            <a:ext cx="305928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Морская звезда"/>
          <p:cNvPicPr/>
          <p:nvPr/>
        </p:nvPicPr>
        <p:blipFill>
          <a:blip r:embed="rId5"/>
          <a:stretch/>
        </p:blipFill>
        <p:spPr>
          <a:xfrm>
            <a:off x="3059280" y="5084640"/>
            <a:ext cx="3058920" cy="1773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5640" y="5013360"/>
            <a:ext cx="15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Скат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492360" y="5084640"/>
            <a:ext cx="2376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Морская звезда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5" name="Picture 6" descr="Морская черепаха"/>
          <p:cNvPicPr/>
          <p:nvPr/>
        </p:nvPicPr>
        <p:blipFill>
          <a:blip r:embed="rId6"/>
          <a:stretch/>
        </p:blipFill>
        <p:spPr>
          <a:xfrm>
            <a:off x="6084720" y="5084640"/>
            <a:ext cx="3059280" cy="1773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24680" y="501336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Зеленая черепаха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Picture 7" descr="Дельфин"/>
          <p:cNvPicPr/>
          <p:nvPr/>
        </p:nvPicPr>
        <p:blipFill>
          <a:blip r:embed="rId7"/>
          <a:stretch/>
        </p:blipFill>
        <p:spPr>
          <a:xfrm>
            <a:off x="0" y="836640"/>
            <a:ext cx="3059280" cy="2190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539640" y="836640"/>
            <a:ext cx="16336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Дельфин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9" name="Picture 6" descr="Императорские пингвины"/>
          <p:cNvPicPr/>
          <p:nvPr/>
        </p:nvPicPr>
        <p:blipFill>
          <a:blip r:embed="rId8"/>
          <a:stretch/>
        </p:blipFill>
        <p:spPr>
          <a:xfrm>
            <a:off x="3059280" y="836640"/>
            <a:ext cx="3025440" cy="2184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Альбатросы"/>
          <p:cNvPicPr/>
          <p:nvPr/>
        </p:nvPicPr>
        <p:blipFill>
          <a:blip r:embed="rId9"/>
          <a:stretch/>
        </p:blipFill>
        <p:spPr>
          <a:xfrm>
            <a:off x="6084720" y="836640"/>
            <a:ext cx="305928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6443640" y="836640"/>
            <a:ext cx="2425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Альбатросы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203640" y="765000"/>
            <a:ext cx="24256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Пингвины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Органический мир океа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Хозяйственное использов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00000" y="162828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Между 35-40 и 55-60 северными широтами проходят самые оживлённые морские пути не только в Атлантике, но и в Мировом океане.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Назовите крупные пор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В Атлантическом океане много промысловых рыб и морепродуктов.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Каки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На шельфе идёт добыча неф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Где именн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На берегах и островах находятся многочисленные районы отдыха и туризма.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Назовите те, которые вам извест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8280"/>
            <a:ext cx="2627280" cy="1878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262728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013360"/>
            <a:ext cx="2627280" cy="1844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5129280"/>
            <a:ext cx="2916360" cy="172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27640" y="1125360"/>
            <a:ext cx="29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27640" y="3068640"/>
            <a:ext cx="2916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Географическое положение океа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640" y="1773360"/>
            <a:ext cx="55512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торой по величине оке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лощадь 91,6 млн.кв.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ъём 329,7 млн. км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лёность 34–37,3 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меет широкое водное сообщение с холодными арктическими и антарктическими вод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Атлантический океан поверхнос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421000"/>
            <a:ext cx="28573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864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Географическое положен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Picture 2" descr="C:\Users\Танюха\Documents\Школа\Наглядные пособия\Class7\Географ. полож. Атлантического океана.int\start.jpg"/>
          <p:cNvPicPr/>
          <p:nvPr/>
        </p:nvPicPr>
        <p:blipFill>
          <a:blip r:embed="rId1"/>
          <a:stretch/>
        </p:blipFill>
        <p:spPr>
          <a:xfrm>
            <a:off x="0" y="1484280"/>
            <a:ext cx="6084720" cy="5373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6084720" y="1989000"/>
            <a:ext cx="28432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Между какими материками расположен Атлантический океан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Какие моря и заливы входят в состав данного океана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ор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419280" cy="2565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765000"/>
            <a:ext cx="28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Саргассово море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419280" cy="2398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378936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Карибское море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35640" y="4149720"/>
            <a:ext cx="3419280" cy="2324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280920" y="3789360"/>
            <a:ext cx="22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Средиземное море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08720" y="1125360"/>
            <a:ext cx="3240000" cy="2183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43760" y="76500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Балтийское море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79992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Интересные фак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Карта Атлантиды из «Мундус Субтерануес» Р.А.Кирхера (1665 год)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3867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187280" y="526212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арта Атлантиды 1665 г.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55897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Где-то здесь находится затонувшая Атлантид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2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троение дна океа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76720" y="1025280"/>
            <a:ext cx="586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амый молодой океан: образовался около 160 млн. лет назад при распаде Гондв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чти посередине океана проходит Срединно-Атлантический хреб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лина хребта более 17000 км. Ширина – 1000 к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рединно-Атлантический хребет – главная форма рельефа дна оке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atlantic-ocean"/>
          <p:cNvPicPr/>
          <p:nvPr/>
        </p:nvPicPr>
        <p:blipFill>
          <a:blip r:embed="rId1"/>
          <a:stretch/>
        </p:blipFill>
        <p:spPr>
          <a:xfrm>
            <a:off x="0" y="836640"/>
            <a:ext cx="32986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51280" y="765000"/>
            <a:ext cx="33130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Существует гипотеза, что между Флоридой, Кубой и Бермудами есть некое странное загадочное место, иначе говоря – аномальная зо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Что вы знаете о н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Бермудский Треугольник"/>
          <p:cNvPicPr/>
          <p:nvPr/>
        </p:nvPicPr>
        <p:blipFill>
          <a:blip r:embed="rId1"/>
          <a:stretch/>
        </p:blipFill>
        <p:spPr>
          <a:xfrm>
            <a:off x="324000" y="765000"/>
            <a:ext cx="5144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заимодействие океана, атмосферы и суш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77840" y="1844640"/>
            <a:ext cx="446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В водах Атлантики имеются тёплые и холодные течения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Перечислите 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Что представляют собой теч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Какое воздействие они оказывают на океан и климат прибрежных территори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471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850248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Объясните подобное распределение температур поверхности Атлантического оке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карта температур в Атлантике"/>
          <p:cNvPicPr/>
          <p:nvPr/>
        </p:nvPicPr>
        <p:blipFill>
          <a:blip r:embed="rId1"/>
          <a:stretch/>
        </p:blipFill>
        <p:spPr>
          <a:xfrm>
            <a:off x="1044720" y="692280"/>
            <a:ext cx="7775280" cy="4971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03360" y="0"/>
            <a:ext cx="24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лим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0:18:35Z</dcterms:created>
  <dc:creator>Долгорукова</dc:creator>
  <dc:description/>
  <dc:language>en-US</dc:language>
  <cp:lastModifiedBy>юля</cp:lastModifiedBy>
  <dcterms:modified xsi:type="dcterms:W3CDTF">2012-11-09T18:40:33Z</dcterms:modified>
  <cp:revision>38</cp:revision>
  <dc:subject/>
  <dc:title>Атлантический океан</dc:title>
</cp:coreProperties>
</file>