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2FF-FD93-4654-AA44-6AFFDA5D1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B80-20AE-4791-B51F-B60A0701A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C1B-EA36-4E07-8DA9-3A64AF4E1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409-137F-439C-B73A-E7B649394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284-FF77-45AF-8CFE-60AD62E90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B4B5-A212-413A-BC3F-1A3E8764C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2A6-8CD0-4D0E-B466-C92A8386D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856-87E5-4A56-860E-D17E8529D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3EF-A36B-4A6B-BD53-44F195F6A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1A42-61E7-495E-9D86-BD3D702CD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AF1-8DDA-4743-B3AE-BA0A387C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832-6CAD-49B2-B2C0-61212984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1DE-17A2-41FB-9A63-B5AF228F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FBF-F46D-4C1E-8B10-E7D45109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78C-29F1-4E79-AE7F-821C486F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5F34-AE86-4480-BD74-2686AC5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97D8-54DA-4015-BB35-E75E3E32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9C4B-8428-43F6-BB5F-2897FD11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6900-37B6-4683-89C2-25948B3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9A28-6805-486A-8D68-65BDFF64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97E-960F-4083-94BE-3C1E0D1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5E8-86E4-4614-8ACF-36BC4BF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9446-94F6-43AF-A15F-1288373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42C1-4301-405F-9F6A-75CECF0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6AC-8D4C-4FB3-AB99-9A952CA8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193F-9996-4AEA-9A08-2E10251F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C0BE-402E-4D41-8BAE-BD66E89B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8A3-9344-43B8-B789-58B07336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92D-F377-46BE-8CDA-6C33A9FA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5A7-8CE8-4CE4-8898-C16C94D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CC1-E8B6-468B-83D3-EF50808E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5DF-1688-4FAF-B0FB-F1C8508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DBA-480A-4BF5-8B20-14777A7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531-964C-46B9-8592-32E807B0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4DF-9ACF-4D95-8DF1-5965AEBEE7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44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6E99-2A56-41A7-8019-3CE084CAC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ome.comcast.net/~geoaddict/LINGANE/Departure_from_Queenstown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900igr.net/datai/geografija/Atlanticheskij-okean/0009-004-Vidy-khozjajstvennoj-dejatelnosti-v-okeane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refashion.ru/img/arts/st_239_3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900igr.net/datai/geografija/Afrika-Alzhir/0012-042-KHozjajstvennaja-dejatelnost-naselenija.jpg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vesi72.ucoz.net/_si/0/40911676.jpg" TargetMode="External"/><Relationship Id="rId8" Type="http://schemas.openxmlformats.org/officeDocument/2006/relationships/image" Target="../media/image29.jpeg"/><Relationship Id="rId9" Type="http://schemas.openxmlformats.org/officeDocument/2006/relationships/hyperlink" Target="http://www.a-ticket.ru/grape/upload/instance/1642307782/rafael5.jpg" TargetMode="External"/><Relationship Id="rId10" Type="http://schemas.openxmlformats.org/officeDocument/2006/relationships/image" Target="../media/image30.jpeg"/><Relationship Id="rId11" Type="http://schemas.openxmlformats.org/officeDocument/2006/relationships/hyperlink" Target="http://img-fotki.yandex.ru/get/6401/83650812.6f/0_7d9d4_798df449_XL" TargetMode="External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Atlantic_Ocean_surfac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ndewy.ru/gml/okea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Атлант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7"/>
          <p:cNvSpPr txBox="1"/>
          <p:nvPr/>
        </p:nvSpPr>
        <p:spPr>
          <a:xfrm>
            <a:off x="539640" y="2852640"/>
            <a:ext cx="792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тлантический океан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ЧЕРНЫЙ АЙСБЕРГ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3" descr="черный айсберг"/>
          <p:cNvPicPr/>
          <p:nvPr/>
        </p:nvPicPr>
        <p:blipFill>
          <a:blip r:embed="rId1"/>
          <a:stretch/>
        </p:blipFill>
        <p:spPr>
          <a:xfrm>
            <a:off x="3246480" y="2565360"/>
            <a:ext cx="5897520" cy="4422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250920" y="1773360"/>
            <a:ext cx="5184720" cy="1079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вучая чёрная ледяная гора, покрытая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стым слоем вулканической пыли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аким столкнулся «Титаник» в 1912 г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24280"/>
            <a:ext cx="428472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2771640" y="5084640"/>
            <a:ext cx="2071800" cy="1657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Для океана характерны айсберги. 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Что вы знаете о них?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Айсберг"/>
          <p:cNvPicPr/>
          <p:nvPr/>
        </p:nvPicPr>
        <p:blipFill>
          <a:blip r:embed="rId4"/>
          <a:stretch/>
        </p:blipFill>
        <p:spPr>
          <a:xfrm>
            <a:off x="6691320" y="115920"/>
            <a:ext cx="2452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Рыба-шар"/>
          <p:cNvPicPr/>
          <p:nvPr/>
        </p:nvPicPr>
        <p:blipFill>
          <a:blip r:embed="rId1"/>
          <a:stretch/>
        </p:blipFill>
        <p:spPr>
          <a:xfrm>
            <a:off x="0" y="2997360"/>
            <a:ext cx="3059280" cy="208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2997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Рыба - ша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Рыба-утюг"/>
          <p:cNvPicPr/>
          <p:nvPr/>
        </p:nvPicPr>
        <p:blipFill>
          <a:blip r:embed="rId2"/>
          <a:stretch/>
        </p:blipFill>
        <p:spPr>
          <a:xfrm>
            <a:off x="3059280" y="2997360"/>
            <a:ext cx="3241440" cy="208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564000" y="2997360"/>
            <a:ext cx="21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Рыба - утюг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Picture 6" descr="Рыба-молот"/>
          <p:cNvPicPr/>
          <p:nvPr/>
        </p:nvPicPr>
        <p:blipFill>
          <a:blip r:embed="rId3"/>
          <a:stretch/>
        </p:blipFill>
        <p:spPr>
          <a:xfrm>
            <a:off x="6084720" y="2997360"/>
            <a:ext cx="3059280" cy="208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93080" y="29973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Рыба - молот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1" name="Picture 6" descr="Скат - обитатель глубин"/>
          <p:cNvPicPr/>
          <p:nvPr/>
        </p:nvPicPr>
        <p:blipFill>
          <a:blip r:embed="rId4"/>
          <a:stretch/>
        </p:blipFill>
        <p:spPr>
          <a:xfrm>
            <a:off x="0" y="5057640"/>
            <a:ext cx="305928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Морская звезда"/>
          <p:cNvPicPr/>
          <p:nvPr/>
        </p:nvPicPr>
        <p:blipFill>
          <a:blip r:embed="rId5"/>
          <a:stretch/>
        </p:blipFill>
        <p:spPr>
          <a:xfrm>
            <a:off x="3059280" y="5084640"/>
            <a:ext cx="3058920" cy="1773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5013360"/>
            <a:ext cx="15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Скат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492360" y="5084640"/>
            <a:ext cx="2376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Морская звезда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5" name="Picture 6" descr="Морская черепаха"/>
          <p:cNvPicPr/>
          <p:nvPr/>
        </p:nvPicPr>
        <p:blipFill>
          <a:blip r:embed="rId6"/>
          <a:stretch/>
        </p:blipFill>
        <p:spPr>
          <a:xfrm>
            <a:off x="6084720" y="5084640"/>
            <a:ext cx="3059280" cy="177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24680" y="50133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Зеленая черепаха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7" descr="Дельфин"/>
          <p:cNvPicPr/>
          <p:nvPr/>
        </p:nvPicPr>
        <p:blipFill>
          <a:blip r:embed="rId7"/>
          <a:stretch/>
        </p:blipFill>
        <p:spPr>
          <a:xfrm>
            <a:off x="0" y="836640"/>
            <a:ext cx="3059280" cy="2190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539640" y="836640"/>
            <a:ext cx="1633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Дельфин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Picture 6" descr="Императорские пингвины"/>
          <p:cNvPicPr/>
          <p:nvPr/>
        </p:nvPicPr>
        <p:blipFill>
          <a:blip r:embed="rId8"/>
          <a:stretch/>
        </p:blipFill>
        <p:spPr>
          <a:xfrm>
            <a:off x="3059280" y="836640"/>
            <a:ext cx="3025440" cy="2184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Альбатросы"/>
          <p:cNvPicPr/>
          <p:nvPr/>
        </p:nvPicPr>
        <p:blipFill>
          <a:blip r:embed="rId9"/>
          <a:stretch/>
        </p:blipFill>
        <p:spPr>
          <a:xfrm>
            <a:off x="6084720" y="836640"/>
            <a:ext cx="305928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6443640" y="836640"/>
            <a:ext cx="2425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Альбатросы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203640" y="765000"/>
            <a:ext cx="24256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Пингвины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Органический мир оке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Хозяйственное использов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00000" y="162828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Между 35-40 и 55-60 северными широтами проходят самые оживлённые морские пути не только в Атлантике, но и в Мировом океане.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Назовите крупные пор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В Атлантическом океане много промысловых рыб и морепродуктов.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Каки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На шельфе идёт добыча неф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Где именн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На берегах и островах находятся многочисленные районы отдыха и туризма.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Назовите те, которые вам извест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2627280" cy="1878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262728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013360"/>
            <a:ext cx="2627280" cy="184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5129280"/>
            <a:ext cx="2916360" cy="17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27640" y="112536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3068640"/>
            <a:ext cx="2916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Географическое положение оке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640" y="1773360"/>
            <a:ext cx="5551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торой по величине оке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лощадь 91,6 млн.кв.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ъём 329,7 млн. км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лёность 34–37,3 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меет широкое водное сообщение с холодными арктическими и антарктическими вод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Атлантический океан поверхнос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421000"/>
            <a:ext cx="28573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86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Географическое полож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Picture 2" descr="C:\Users\Танюха\Documents\Школа\Наглядные пособия\Class7\Географ. полож. Атлантического океана.int\start.jpg"/>
          <p:cNvPicPr/>
          <p:nvPr/>
        </p:nvPicPr>
        <p:blipFill>
          <a:blip r:embed="rId1"/>
          <a:stretch/>
        </p:blipFill>
        <p:spPr>
          <a:xfrm>
            <a:off x="0" y="1484280"/>
            <a:ext cx="608472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6084720" y="1989000"/>
            <a:ext cx="28432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Между какими материками расположен Атлантический океан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Какие моря и заливы входят в состав данного океана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ор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419280" cy="256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76500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Саргассово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419280" cy="2398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378936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Карибское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35640" y="4149720"/>
            <a:ext cx="3419280" cy="2324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280920" y="378936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Средиземное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08720" y="1125360"/>
            <a:ext cx="3240000" cy="2183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43760" y="7650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Балтийское море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Интересные фак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3867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187280" y="526212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рта Атлантиды 1665 г.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5589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Где-то здесь находится затонувшая Атлантид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2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троение дна оке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720" y="1025280"/>
            <a:ext cx="586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амый молодой океан: образовался около 160 млн. лет назад при распаде Гонд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чти посередине океана проходит Срединно-Атлантический хреб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лина хребта более 17000 км. Ширина – 1000 к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рединно-Атлантический хребет – главная форма рельефа дна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atlantic-ocean"/>
          <p:cNvPicPr/>
          <p:nvPr/>
        </p:nvPicPr>
        <p:blipFill>
          <a:blip r:embed="rId1"/>
          <a:stretch/>
        </p:blipFill>
        <p:spPr>
          <a:xfrm>
            <a:off x="0" y="836640"/>
            <a:ext cx="32986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313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Существует гипотеза, что между Флоридой, Кубой и Бермудами есть некое странное загадочное место, иначе говоря – аномальная зо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Что вы знаете о н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324000" y="765000"/>
            <a:ext cx="5144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заимодействие океана, атмосферы и суш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77840" y="1844640"/>
            <a:ext cx="446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В водах Атлантики имеются тёплые и холодные течения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Перечисли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Что представляют собой теч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Какое воздействие они оказывают на океан и климат прибрежных территори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47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850248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Объясните подобное распределение температур поверхности Атлантического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карта температур в Атлантике"/>
          <p:cNvPicPr/>
          <p:nvPr/>
        </p:nvPicPr>
        <p:blipFill>
          <a:blip r:embed="rId1"/>
          <a:stretch/>
        </p:blipFill>
        <p:spPr>
          <a:xfrm>
            <a:off x="1044720" y="692280"/>
            <a:ext cx="7775280" cy="497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03360" y="0"/>
            <a:ext cx="24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лима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18:35Z</dcterms:created>
  <dc:creator>Долгорукова</dc:creator>
  <dc:description/>
  <dc:language>en-US</dc:language>
  <cp:lastModifiedBy>юля</cp:lastModifiedBy>
  <dcterms:modified xsi:type="dcterms:W3CDTF">2012-11-09T18:40:33Z</dcterms:modified>
  <cp:revision>38</cp:revision>
  <dc:subject/>
  <dc:title>Атлантический океан</dc:title>
</cp:coreProperties>
</file>