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005-C57E-4407-89AC-9C46855B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4F8-6008-4012-893D-C8B587A1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589-A540-4F67-A44B-734D6CD3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DED-8984-4C23-AD61-C07346BC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C99-83B4-41AA-B54D-1348E7DA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705-E31A-4B95-BDE4-17073390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EED-19CA-40A3-BD27-A6B80DEA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CD5-9F87-47A1-915D-4ECC11C0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910-FA94-4AA3-801A-7583F009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FA6-2A3C-4B4F-9550-9DEF46E1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2D3-CD6E-49A5-904B-CC18E48B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587-0DC5-4C53-8F84-02F7BF3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659" t="3250" r="2504" b="2720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87FB-BBC6-42EF-B9AE-338D4B707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83944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Что такое открыт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 издательского слова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РЫТКА — карточное издание, предназначенное для письма или для воспроизведения художественного произведения с целью пропаганды изоискусства и художественной фотографии, которая может использоваться и для письма, если на одной из сторон оставлено 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 толкового словаря Уш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РЫТКА - открытое письмо, почтовая карто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стория открыт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История открытки"/>
          <p:cNvPicPr/>
          <p:nvPr/>
        </p:nvPicPr>
        <p:blipFill>
          <a:blip r:embed="rId1"/>
          <a:stretch/>
        </p:blipFill>
        <p:spPr>
          <a:xfrm>
            <a:off x="4191120" y="3886200"/>
            <a:ext cx="4190760" cy="2706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История открытки"/>
          <p:cNvPicPr/>
          <p:nvPr/>
        </p:nvPicPr>
        <p:blipFill>
          <a:blip r:embed="rId2"/>
          <a:stretch/>
        </p:blipFill>
        <p:spPr>
          <a:xfrm>
            <a:off x="4191120" y="1219320"/>
            <a:ext cx="4114800" cy="2555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История открытки"/>
          <p:cNvPicPr/>
          <p:nvPr/>
        </p:nvPicPr>
        <p:blipFill>
          <a:blip r:embed="rId3"/>
          <a:stretch/>
        </p:blipFill>
        <p:spPr>
          <a:xfrm>
            <a:off x="1066680" y="1600200"/>
            <a:ext cx="2824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0040" y="2209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Мн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итай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4960" t="1596" r="15658" b="8811"/>
          <a:stretch/>
        </p:blipFill>
        <p:spPr>
          <a:xfrm>
            <a:off x="533520" y="609480"/>
            <a:ext cx="2917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Мнение француз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8676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Мнение англич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81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ткрыт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3276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История праздник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8 мар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1034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 марта 1857 года в Нью-Йорке как день борьбы за права женщ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10 год Международная конференция женщин социалист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Копенгаге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лара Цеткин"/>
          <p:cNvPicPr/>
          <p:nvPr/>
        </p:nvPicPr>
        <p:blipFill>
          <a:blip r:embed="rId1"/>
          <a:stretch/>
        </p:blipFill>
        <p:spPr>
          <a:xfrm>
            <a:off x="5638680" y="3581280"/>
            <a:ext cx="1793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Графический редактор Pai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0292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идеоредактор Windows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Movie Make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531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3746" r="0" b="10138"/>
          <a:stretch/>
        </p:blipFill>
        <p:spPr>
          <a:xfrm>
            <a:off x="2133720" y="152280"/>
            <a:ext cx="53308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14640" y="0"/>
            <a:ext cx="491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3726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63868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Открытка для ма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4286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ернышов Дани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к 5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У «Ле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ернышова Светл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онид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У «Ле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Цель работ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оздание поздравительной виртуальной открытки к Международному женскому дню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учить историю создания откры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учить историю праздника 8 м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ть в графическом редактор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nt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тавные элементы откры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знакомиться с программой Windows Movie Maker для создания виртуальной откры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ть виртуальную открытку к Международному женскому д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09-03-20T10:51:0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