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37F-9719-46D9-A11A-A85498F1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834-AB69-40E6-9EAA-C1B5AFFA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B52-47A4-4FEF-9B20-C83946BB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950-8130-41D0-8361-432A3AA0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46B-3FB7-41EF-8822-CF27D9CA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EA8-5077-4F09-84AF-347AF222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33A-0B63-4525-80C4-07FC0583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DA2-C0B4-4134-A968-A0885EDA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9BAE-DD5E-42F0-8E8D-0D719E0B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DA3-06A7-4DCF-842E-CC3115FC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13A-347D-43E9-B659-A928339A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0C62-73B5-4B94-92BE-4D390C91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659" t="3250" r="2504" b="2720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9C9A-D2B0-4844-9B57-3D57FC21F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372600" cy="70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839440" cy="61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Что такое открыт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з издательского слова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РЫТКА — карточное издание, предназначенное для письма или для воспроизведения художественного произведения с целью пропаганды изоискусства и художественной фотографии, которая может использоваться и для письма, если на одной из сторон оставлено 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з толкового словаря Уш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РЫТКА - открытое письмо, почтовая карто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372600" cy="70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История открыт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История открытки"/>
          <p:cNvPicPr/>
          <p:nvPr/>
        </p:nvPicPr>
        <p:blipFill>
          <a:blip r:embed="rId1"/>
          <a:stretch/>
        </p:blipFill>
        <p:spPr>
          <a:xfrm>
            <a:off x="4191120" y="3886200"/>
            <a:ext cx="4190760" cy="2706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История открытки"/>
          <p:cNvPicPr/>
          <p:nvPr/>
        </p:nvPicPr>
        <p:blipFill>
          <a:blip r:embed="rId2"/>
          <a:stretch/>
        </p:blipFill>
        <p:spPr>
          <a:xfrm>
            <a:off x="4191120" y="1219320"/>
            <a:ext cx="4114800" cy="2555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История открытки"/>
          <p:cNvPicPr/>
          <p:nvPr/>
        </p:nvPicPr>
        <p:blipFill>
          <a:blip r:embed="rId3"/>
          <a:stretch/>
        </p:blipFill>
        <p:spPr>
          <a:xfrm>
            <a:off x="1066680" y="1600200"/>
            <a:ext cx="2824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00040" y="2209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Мне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итай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4960" t="1596" r="15658" b="8811"/>
          <a:stretch/>
        </p:blipFill>
        <p:spPr>
          <a:xfrm>
            <a:off x="533520" y="609480"/>
            <a:ext cx="2917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Мнение француз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8676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Мнение англич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81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8640" y="12189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ткрытк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3276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История праздника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8 мар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10348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 марта 1857 года в Нью-Йорке как день борьбы за права женщ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10 год Международная конференция женщин социалист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Копенгаге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Клара Цеткин"/>
          <p:cNvPicPr/>
          <p:nvPr/>
        </p:nvPicPr>
        <p:blipFill>
          <a:blip r:embed="rId1"/>
          <a:stretch/>
        </p:blipFill>
        <p:spPr>
          <a:xfrm>
            <a:off x="5638680" y="3581280"/>
            <a:ext cx="1793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Графический редактор Pai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0292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идеоредактор Windows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Movie Make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5316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372600" cy="70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3746" r="0" b="10138"/>
          <a:stretch/>
        </p:blipFill>
        <p:spPr>
          <a:xfrm>
            <a:off x="2133720" y="152280"/>
            <a:ext cx="53308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7432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372600" cy="70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14640" y="0"/>
            <a:ext cx="491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372600" cy="70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372600" cy="70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372600" cy="70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638680" cy="63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Открытка для ма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42864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ернышов Дани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еник 5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У «Ле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ернышова Светл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Леонид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У «Ле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514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Цель работ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оздание поздравительной виртуальной открытки к Международному женскому дню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учить историю создания откры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учить историю праздника 8 м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ть в графическом редактор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nt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ставные элементы откры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знакомиться с программой Windows Movie Maker для создания виртуальной откры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ть виртуальную открытку к Международному женскому д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09-03-20T10:51:0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