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368-6BAD-40C8-90CA-B1306640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623-CBF4-4FD8-8BBA-F2BEC9E5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14F9C-8BEB-4E96-B029-EDA572C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EB24-D429-42D4-B678-2A034B89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FAD16-65F5-44DB-93F3-D71E918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A0EF-26BF-40F4-92F2-DD8BEEB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38D36-05FA-4ECD-89ED-46C6F82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C36E-06AD-4756-8F1A-1A6B3E7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94608-721F-49E5-B21C-5F19C42B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C34AE-C810-4692-A0E1-6A1F008D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FFCBD-ADA9-4425-9CDC-BF917F7B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9EEBE-ADE9-4BAC-BFAE-266D05D9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9EC-4FFB-4B25-AB17-BB12FD77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2021-8275-4E3D-8B02-3D4C179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C5BE0-01F7-4B34-BDD6-FEA17E7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7FE93-C942-43D7-8A25-F21899E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AB5F-03A7-4A9E-825C-B093112A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162F1-7B4D-414D-86D3-55F9068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F9347-62A1-41F4-AF06-3FE7C53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23D17-8A5B-4258-AAC7-C31BE39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FEE8F-1727-419D-8F3C-49F9ED1A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9220E-0C0A-49EE-B331-372F91F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3417E-621E-4E57-B46A-C0DB12E3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8B-F485-4338-8DB3-2527C87F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FE0CB-2FC6-41F3-A7FF-5B024603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B73788-6AAA-4646-8AC5-DE5CD26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D0C91-D91B-4C1A-9787-E2134AD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F59C5-F5B3-4511-989C-51FEEC50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B50E36-7939-42D6-931C-E82F465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02FD5B-5225-4406-8E6F-B912B85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72D66C-516C-4C40-9D67-642633CA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82B92E-440C-40FD-9BEA-6819AD8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14148D-DC0C-4A0A-A7C7-ED2A99A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65B229-CABD-4C89-AFF4-1D7B6CAC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4B2B-7E77-4017-ADA2-5044B4CE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16555D-E7FD-4251-940E-6FB40D8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6F25DF-F770-43DA-9A85-8B037A10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BE172-2A30-4596-9325-12C33F54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DFA05-D0A9-44A8-8937-879370C0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62239-EA0D-4E25-A502-C5E10A2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E3CBF-203B-4AA8-92FB-C0924211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13342-ACB6-4853-98FA-9349742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822F3-DAF4-411A-8B6A-750534EC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EE2B8-DA28-4410-8BE6-208A251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2005C-D6EA-45FA-A8E0-983007BA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78E-CC44-4446-903B-1E5A89B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FF5D5-60E1-4DE2-96BE-E449E86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CE597-D385-4996-8791-929CB4A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CDBBD-500F-4FC5-8974-6CB9469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0778A-2E1D-48C4-B355-5FB623FA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41C4F-9185-4480-BBE6-8CCCE340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CDDA9-E9E1-4A55-B9AD-4A7228D3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B0622-58CB-4AE3-B490-6CD9D772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2F3F9-9479-49E7-9C85-A7DD0D98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D6C80-03EE-41F4-8862-DB1CCE3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9BE3F-DBA7-4C79-9AD3-44B39CF4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DAD8-E4E8-421F-84DE-C022EB94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2F0BF-EB42-4B13-9B4E-ED1356C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F7130-46EB-4F4A-9524-575CE9A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CCEC4-ABAD-4053-B702-9EADD23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D3749-04B2-47B6-8F53-924FE1D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40FDB-F529-451D-B150-D08350B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9C70D-CECB-4D6F-B50F-23DCED7A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EF611-0AC6-49F4-8C60-88DC912A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AF88A-E4B0-48A7-BD7A-3454866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DA608-BECD-46B1-A5DE-9A761688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EE174-1CA5-4216-A4E1-293B92D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A608-A741-4FD6-8AC1-3331D0D8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154B9-6AB0-4795-B7CE-2A38730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98B8C-0A99-42D3-90C3-E569C3B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AE3F8-36A1-472B-9673-0EB7E14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FFC4D-5542-4654-9BEC-B23B4BE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950C9-0F97-4045-B9AC-F54D4D16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7A3FF-AF6B-4949-B79E-D03C1CF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F86A0-0342-42B2-8E32-D1A4E9B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38844-AEC6-4C4D-979C-503C1AF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E6BAA-DE4D-41DF-914D-B0A44005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29798-3BE8-486C-843D-785A1C5B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E715-88FF-4C6A-96C3-905BABF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60970-FDB9-474E-A04D-95A4304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EE94B-1089-41BB-8D67-4E7EBA4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9A9D8-B1E4-4D24-86E8-BE4E6AB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DEBA2-4AE7-46BE-928C-A6564536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0747F-9829-40DB-BA35-08624F7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160E2-3CD3-4D5E-8643-D5299D6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E619D-1365-4A80-B6E5-8E0EB2F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9360F-358A-404B-8D56-8FF36CE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10158-D5B0-4BBC-ADC5-FE6BD590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0FFC7-C301-4779-9F20-C3E34D8B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3E2-ECE9-4D2C-AFC8-E9B8BE7E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E2D4C-A170-4551-BECA-877F60BB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C4FD0-ABB2-4AC3-BF3D-2234240E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D971D-37D1-4BA1-B421-D96D0B3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85756-9E81-4804-BCAB-3E0F0C6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995DD-E8A3-4C7B-9E94-05AC9A6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07276-178D-4AB6-9A07-4780809E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0A6A2-7C33-4F8C-8FEB-AFFFE90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DDD88-29A0-4BEB-B857-2AD08A1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5E568-68D5-47E9-8F88-705244B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55517-0C11-433A-A835-DF8F21C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E7B9-2A8E-4582-8989-D2FC8E7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04CD2-0AF5-4E60-BD78-345743CB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58240-1336-4D3F-92BE-B9F9DB3E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693A5-62CC-44C3-AF0F-1D67378B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54443-A073-4094-BAB7-5CC32E75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69338-26E5-493C-91F1-AA8B4B59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42A7C-A9AA-4076-9478-151704D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43915-989E-4E4A-90BD-A594CD6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1BBE5-CC78-4446-864D-F88CB0F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4C04B-4C4E-409D-B6E0-3A01CD53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2722B-9454-4AC6-BC3E-1EF5636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BA8-F175-4766-BDF1-FE330A3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A8FF-0138-41D3-91B0-3267D4A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2D6DA-5DE1-4D3E-83D8-DE767E2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B1248-B160-4B03-B0B3-8530D6A3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1E017-B321-447F-BEBC-8211450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7BA21-EE52-4935-ACD1-5D58C4BF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3164B-6A68-4CCB-9F58-B858E8DA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46CB9-372D-4A43-9F2F-01EAF81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68863-5F92-4339-B524-1DA1F34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5C192-6280-4BFB-AF71-5141C35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99693-B941-4E2C-AEE1-3549459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7CFC4-EFDC-4182-B55E-BC0548F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9BF-9BAD-4384-A6AA-D65CC3D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4D07A-D8C3-40F5-ACB6-6B3F7E4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12584-0473-4FBE-AA9D-D4194CC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719BA-E9E0-498E-A692-5DEFBC2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78753-04CF-4056-8903-D69B00F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71E51-EC87-464F-A72E-808028B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6244A-FB3F-451F-9E19-EDA4AA72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9745B-10DD-43D9-8A14-1D51C0E6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A0E21-E054-4CE8-B99D-4209C15F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6921F-6F09-4231-84AA-5BC5B48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344C75-854D-4F15-BD9D-32CB3A4A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4854-D466-48A3-BBF0-49B782C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05445-9B43-4206-A885-5383D82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A9F9C-01F6-4E6C-887F-2D926D6B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A0E0B-EB1E-4D26-A772-8C90B64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C0929-2B10-4FD7-81E7-A6728147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722A6-8C36-4AB5-92DC-294D740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7DB117-F68B-48AC-A4F0-9D26A0E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F29C9-0921-4AF2-B69A-EFC9EEB7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07C8D-7FF4-4453-A2AF-97A8B9C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EF964-B414-4BBD-ACA8-C1EEEE1C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63EB7F-ED65-4AAF-A915-15FDB589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DE6-DA03-44B7-A6A9-8C2B9516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07725-9A62-4128-B35D-5259928F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EAF88-2655-4256-B1C5-8D278ADE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B7CB4-5E89-49F4-9B4F-9A6B7D69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56099-30E9-489C-BB10-BA60107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E8809-36DC-4CB9-82F6-B6B1DC6D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106AE-BA1D-407F-892D-7F0239A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76813-4ACD-4BBD-823E-719ED6BC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6948E-17A3-4023-A30A-2874527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4CE25-849A-4B75-9E4A-CD309E95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552CC-6261-46B7-A923-B6BF7A0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41A1-C5ED-4BCC-9F31-2934AB2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E6488-CADA-480F-B00C-EED2025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FC65A-C031-4822-978B-22DCDD65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AE930-B321-446D-A24C-32E1601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3DBC9-6262-492F-9B3D-F22F457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6E08C-7020-433C-A213-2A80BE78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9EFB8-2D8A-44D4-B47F-C9BD490A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019BC-40D0-4CB3-ABAB-EE49A08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C6890-0EC8-44A6-AA60-5D69977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29D8A-3111-448B-9D0B-D9275ED3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ABBD9-4AB0-4360-8E6F-EB9DF254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CE89-CC49-4C08-8E9B-E9588AA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5F5EB-4011-4049-9FEA-99C6D5D7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124C9-2FC8-488D-9767-C69807A2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87EBD-0F8B-4A09-8125-80AF19BB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959F90-E62B-43C0-B47F-AD6FD0A4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B4B9A-3414-4C48-9C4B-E2FE39F4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A2D68B-DE45-48BA-9878-F10A2F6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DF01C-5731-4CD6-911A-ACFB323C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D0A2D-0225-4C05-AF3E-BCFA832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A0BAD-3EB6-4B4F-8BE0-CBD0C9B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ABA0B-4A22-45E0-9816-5973D512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2E41-B41B-45D4-9446-B74C0709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A8656-07D1-4351-8B79-5B98099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83E7B-33A7-42D7-AD62-E3F7333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A6140D-5A92-4C4E-BF23-414174DF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32413-E998-43FE-9EC0-4CA5DDB1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3A364A-779E-417C-A9D9-FB35B816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F1AE-BE4E-4DCD-AE3D-7260E4BA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8AE5-D383-4194-98EC-957E1206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6F0E-A362-4F7E-8101-B4449D5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452-6566-4963-838D-40449BE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DD5D-4F53-41BC-BDEE-D9FCB88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AD0C-7530-4991-876F-9E9DE87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9313-FB4D-4080-AFFE-F038ED3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14CE-BDAE-4E05-8D78-58AEA09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EADB-EFCB-4E66-B964-517FB738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FB49-D617-4B18-84AB-F5BEF76C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9934-F62D-4E21-884D-5FC6E49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51A1-8DD9-4449-BEE2-91EDFCE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046F-932C-4AC7-B273-1B6377B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F297-C41D-47FA-8664-D0627D1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3DD-403E-4A60-964B-C57A4252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9D03-4F9A-4067-BD9B-49174B4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324D-E75C-4F38-84DC-6C87F7F5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E0C7-CA61-4158-9EF4-B95FA9D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06B5-A214-4874-8462-F38241B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FF30-C1EB-4051-8267-6AA3E7A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9E8D-756E-43C5-9E52-E772EB1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6427-CA98-4622-86F9-A54A9C7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97CA-BF57-4A24-94BE-C8180A4B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DC60-1F8A-48CB-B97F-4B73204E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6F75-34BD-4FF3-B6E2-8AD7849E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16D-932E-47D3-8614-F69CA3A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B0D2-6F42-4003-96CB-38FFB6CE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786C-9900-4FFD-B03E-EE1A0971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2AE7-7413-482A-9F39-7FC9D94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C9B7-55F5-4074-90DD-4E6845C5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096E-FEF6-462F-888F-466939B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C9CB-1CAC-4261-800E-77F26DE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308A-C4A5-4A11-AD04-F20F104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8487-EA82-4BB8-8FA7-0C90B00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9BDB-09AE-4393-BCAE-255A3C73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DB45-AA17-4697-84A4-9B677240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7AE-FD0D-4CEC-A80C-F2004E5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2ABE-4CAA-465A-9188-FC510A4B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EE018-EBCB-4193-B2F6-137A865F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1B011-39C8-4FE3-B864-A01A739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D0B8D-59A9-41B5-9926-1399E2E4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C659D-212E-4E99-962C-71CB700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B1098-F822-4B1F-838F-4D8EC67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9242C-E1DB-4770-8E20-6EC0F73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88565-87E1-46CF-AA8D-BF4F2ED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D70D2-94B7-4249-ADFC-A383C3B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B51D8-5234-4ED4-9AA4-B8906C0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387-5106-41BB-9EBA-7AC9F998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E643-48D8-407E-A028-37BF0C20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EB88F-E252-4372-B843-03D074C2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EA158-F69C-4972-8FC5-DC054E5A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834F-EB83-425D-AC51-3089A538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D487-45B9-4FCA-B4C0-577BEAA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801F-FD31-4547-BF58-B79B1B0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CB3C-B81E-427B-B948-8E730C04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6B01-D184-46E4-9948-827727F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81AF2-B731-4006-8B61-E157E93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D0CA-434F-4CD3-95B8-0900B8A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F4F-71A2-4008-AC6E-3578C9D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BE29-E389-4E70-91BE-459CB3F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D4C0-D874-448A-B281-46DFDD5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8154-2FF2-406E-A4DB-B873D668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DC14-3209-44EF-B3B6-D225A3C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2AAF-EB4E-4A83-9279-8B12DC90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F79C-4F53-433D-BD47-3A138366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382B-FB96-4879-B40D-769D4291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FFF7-0CBF-40B3-9EFC-0BF23AE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CAE96-6D91-4EF7-A271-A790B9A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6E12-F030-419B-BCCA-B755881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CCE-25ED-4E3E-8808-AC68D1A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99B4-85B6-4371-AA07-6A80EBE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07070-1B8A-482B-92A4-ED57368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26A82-8FD4-4124-90C6-A4FC221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2AD6C-6B12-42CB-A31A-F2018D2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80820-A724-45B4-A8E1-79C6D78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5BE6E-5EB0-4821-B334-930D69FC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3014-33EA-4B90-A09A-A67852AA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3D189-4DF2-4F47-A456-562679FF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F99E8-DBA9-419D-BF47-8492BD4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6473-E059-44CA-BBE5-6A66313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5C35-0F4C-469B-9576-6A04F507A5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8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454C-4090-44E5-9F20-63E3201E29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CC9-C2DA-4711-A7C0-C8C4DAE780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6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81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9328-0D5E-46D2-8206-131EFFCF49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7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942-0CDE-43E2-9AC1-FAAF9C8B22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22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3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4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2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26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7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8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9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0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1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2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3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4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5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6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7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8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39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0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1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2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3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4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5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6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5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5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5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D586-6796-4DE7-8953-EA7D459A0EF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06C-FB06-402E-A199-7736799594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9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4C8-D28E-46A6-AC9B-FEE6AE8E0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4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5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6DC5-8821-45D4-8E6A-A4B9057B08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002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3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4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5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5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5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41B-E961-4CDF-9133-DFD1D63429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5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25E-73A9-4257-B9D1-0EE2E0C564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71E-01F9-44F8-A0C6-1AC25294DA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9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086-0126-4335-9AE2-C33BDF2588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39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0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2846-0292-4955-92D2-12E2622BFB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83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84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5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6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7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8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9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0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1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2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3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4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5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6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97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E01-0F38-4BB3-88CF-54C67B50EB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3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7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20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6937-0A8B-46B9-8BFB-1DFC2129697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D4CE-44F5-49AE-84D7-7F595B910B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2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C5B2-2477-4F07-A8FA-ADC8BD274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C500-601E-44C0-A2A1-471550CA9A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3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4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D6B-F81F-4CF3-96A4-CA09406E34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7380-6A3C-4EFA-B054-8B94BED935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69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0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1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A5D-491C-4B2F-9C84-D5D4ECF242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f2fb5"/>
                </a:solidFill>
                <a:latin typeface="Garamond"/>
              </a:rPr>
              <a:t>Глобальное потепление и таяние  вечной мерзлоты на примере  г Якутска</a:t>
            </a:r>
            <a:endParaRPr b="1" lang="en-US" sz="36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0" name="Rectangle 8"/>
          <p:cNvSpPr/>
          <p:nvPr/>
        </p:nvSpPr>
        <p:spPr>
          <a:xfrm>
            <a:off x="4859280" y="501336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f2fb5"/>
                </a:solidFill>
                <a:latin typeface="Arial"/>
              </a:rPr>
              <a:t>Выполнила : ученица 3 «В» класса Слепцовой Елен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1" name="Picture 1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4537080" cy="296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оследствия влияния парниковых газов для биосферы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ъем уровня океа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градация вечной мерзл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прибрежных экосист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сух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ные пожа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вод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урожайности культурных раст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т лесных насаж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Киотский протоко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457200" y="1125360"/>
            <a:ext cx="8362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992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н подписал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согласно которому в 2008 - 2012 гг. подписавшие его страны должны снизить объемы выбросов парниковый газов на 5,2%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68000" y="2997000"/>
            <a:ext cx="82803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США на 7%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Япония и Канада на 6%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страны европейского союза на 8% по сравнению с уровнем 1990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826560" y="5013000"/>
            <a:ext cx="785988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иотский протокол ратифицирован 106 странами, но США и Австралия позднее отказались от подпис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ahoma"/>
              </a:rPr>
              <a:t>Возможные последствия потепления климата </a:t>
            </a:r>
            <a:br>
              <a:rPr sz="2600"/>
            </a:br>
            <a:r>
              <a:rPr b="1" lang="ru-RU" sz="2600" spc="-1" strike="noStrike">
                <a:solidFill>
                  <a:srgbClr val="ffffcc"/>
                </a:solidFill>
                <a:latin typeface="Tahoma"/>
              </a:rPr>
              <a:t>и влияния парниковых газов: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уровня океана на 0,5 метра к 2050 году, и на 1-1,5 метра к 2100 год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температуры поверхностного слоя океана до 2,5 градусов по Цельсию к концу 21 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% пахотных земель Египта и 14% посевных площадей Бангладеш вызовет переселение миллионов люд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зкие дельтовые равнины крупных рек Хуанхэ, Янцзы в Китае будут затопле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% берегов европейской части России (Находка, Санкт-Петербург, Архангельск) отступят на 100 метров вглуб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7" name="Picture 4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3961080" cy="245556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6"/>
          <p:cNvSpPr/>
          <p:nvPr/>
        </p:nvSpPr>
        <p:spPr>
          <a:xfrm>
            <a:off x="539640" y="2708280"/>
            <a:ext cx="4032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ушение песчаных пересыпей в Причерноморье и Приазовье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менение многолетнемерзлых пород технических систем в самом верхнем слое земной коры, случаи заторных наводнений, в том числе на малых реках (Татта, Ситте), природных пожаров в Якут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1" name="Picture 8" descr=""/>
          <p:cNvPicPr/>
          <p:nvPr/>
        </p:nvPicPr>
        <p:blipFill>
          <a:blip r:embed="rId1"/>
          <a:stretch/>
        </p:blipFill>
        <p:spPr>
          <a:xfrm>
            <a:off x="2627280" y="2612880"/>
            <a:ext cx="3816360" cy="319752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9"/>
          <p:cNvSpPr/>
          <p:nvPr/>
        </p:nvSpPr>
        <p:spPr>
          <a:xfrm>
            <a:off x="539640" y="1700280"/>
            <a:ext cx="799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тепление климата будет продолжаться несколько столетий и наиболее серьезная угроза ожидается в отдаленной перспективе, но эту проблему необходимо сейчас рассматривать как одну из главны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7a4af"/>
                </a:solidFill>
                <a:latin typeface="Garamond"/>
              </a:rPr>
              <a:t>Спасибо за внимание !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294" name="Picture 6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1028520" cy="1247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29559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ределить и обосновать условия возникновения глобального потепления и парниковых газов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ыявить возможные последствия их влияния на атмосферу Земли и мирового океан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10"/>
          <p:cNvSpPr/>
          <p:nvPr/>
        </p:nvSpPr>
        <p:spPr>
          <a:xfrm>
            <a:off x="468360" y="3429000"/>
            <a:ext cx="80643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аскрыть основные причины возникновения глобального потепления и парниковых газов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исать возможные последствия для человечества при глобальном потеплении климата.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вести прогнозы научных институтов для преодоления обозначенных проблем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5" name="Rectangle 11"/>
          <p:cNvSpPr/>
          <p:nvPr/>
        </p:nvSpPr>
        <p:spPr>
          <a:xfrm>
            <a:off x="324000" y="2637000"/>
            <a:ext cx="266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482472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обальное потепление климата (повышение средней температуры на Земле) и парниковые газы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8" name="Rectangle 14"/>
          <p:cNvSpPr/>
          <p:nvPr/>
        </p:nvSpPr>
        <p:spPr>
          <a:xfrm>
            <a:off x="2700360" y="191628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Актуальность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9" name="Rectangle 15"/>
          <p:cNvSpPr/>
          <p:nvPr/>
        </p:nvSpPr>
        <p:spPr>
          <a:xfrm>
            <a:off x="324000" y="242100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кое изменение климата произошло в последние                 десятилетия и протекает в наши дн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0" name="Rectangle 16"/>
          <p:cNvSpPr/>
          <p:nvPr/>
        </p:nvSpPr>
        <p:spPr>
          <a:xfrm>
            <a:off x="2987640" y="3284640"/>
            <a:ext cx="2736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Новизн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1" name="Rectangle 18"/>
          <p:cNvSpPr/>
          <p:nvPr/>
        </p:nvSpPr>
        <p:spPr>
          <a:xfrm>
            <a:off x="468360" y="4005360"/>
            <a:ext cx="8147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з приведенных данных по ряду стран, России, Республике Саха (Якутия), связанных с глобальным потеплением климата, изменением среднегодовых температур и влиянием данных процессов на криолитозону земной коры и состояние мирового океана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лобальное потеп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процесс неуклонного увеличения среднегодовой температуры атмосферы земли и мирового океана.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нение климата на земле происходит как в результате естественных внутренних процессов, так и в ответ на внешние воздейств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нение орбиты земли, солнечной актив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улканические выбро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рниковый эффек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Picture 7" descr=""/>
          <p:cNvPicPr/>
          <p:nvPr/>
        </p:nvPicPr>
        <p:blipFill>
          <a:blip r:embed="rId1"/>
          <a:stretch/>
        </p:blipFill>
        <p:spPr>
          <a:xfrm>
            <a:off x="5219640" y="3933720"/>
            <a:ext cx="2592360" cy="195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ФАКТЫ   и   ПРОГНОЗЫ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За послед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 лет среднегодовая температура в Северном полушарии увеличилась, в среднем,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на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0,6 º 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f2fb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гнозируемый рост температуры -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1,5 до  5,8 º 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648320" y="3922200"/>
            <a:ext cx="4038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f2fb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иболее вероятный вариант развития -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 2,5 до 3,0 º С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Цифры и факты, подтверждающие процесс глобального потепления климата</a:t>
            </a:r>
            <a:br>
              <a:rPr sz="2800"/>
            </a:b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на планете Земл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2 г. из-за таяния только антарктического шельфа уровень мирового океана повысился на 1,5 м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996 г. таяние льдов Гренландии удвоилос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доиндустриального периода концентрация углекислого газа и метана увеличилось на 31% и 49% соответств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1" name="Picture 6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600360" cy="231480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8" descr=""/>
          <p:cNvPicPr/>
          <p:nvPr/>
        </p:nvPicPr>
        <p:blipFill>
          <a:blip r:embed="rId2"/>
          <a:stretch/>
        </p:blipFill>
        <p:spPr>
          <a:xfrm>
            <a:off x="5219640" y="4021200"/>
            <a:ext cx="3529080" cy="2658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ируемые последствия глобального потепления (в цело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68360" y="1557360"/>
            <a:ext cx="403848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опление приморских равни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427280" y="1413000"/>
            <a:ext cx="4537080" cy="17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водоснабжения приморских го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95280" y="2349360"/>
            <a:ext cx="40384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абразив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427640" y="2349000"/>
            <a:ext cx="44654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лонение прибрежных грунтовых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9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040360" cy="2973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обильные выхлопы, заводские трубы и др. созданные человеком источники загрязнения вместе выбрасывают в атмосферу 2,2 млрд. тонн углекислого газа и других парниковых газов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0" name="Picture 7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032360" cy="252576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8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2004840" cy="24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глекислый газ - наиболее известный парниковый газ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95280" y="1557000"/>
            <a:ext cx="76420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адая в атмосферу, он может оставаться в ней очень дол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бы вывести углекислый газ естественным путем потребуе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611280" y="3443400"/>
            <a:ext cx="7129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первые 30%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30 лет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611280" y="4292280"/>
            <a:ext cx="81374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другие 3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кольк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тен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539280" y="508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остальные 2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станутся на многи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00 лет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31:34Z</dcterms:created>
  <dc:creator>user</dc:creator>
  <dc:description/>
  <dc:language>en-US</dc:language>
  <cp:lastModifiedBy>19</cp:lastModifiedBy>
  <dcterms:modified xsi:type="dcterms:W3CDTF">2011-10-13T07:45:13Z</dcterms:modified>
  <cp:revision>22</cp:revision>
  <dc:subject/>
  <dc:title>Цель работы </dc:title>
</cp:coreProperties>
</file>