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2AE-CDF1-44D5-AC0A-161C0DF3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095-6CBC-44C0-8D19-60581043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36C8C-D6D8-4033-B34E-2F7785A6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D1722-836D-44E6-95C1-09E7B6C5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F9347-D057-4D3E-9F7E-33F63BC7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78D3E-7499-4C86-8CE7-69BDCD09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AF269-DAAD-4A79-9453-F2C8EDAB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B6A1D-C8EA-4CC2-89E7-2CE7615D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6F3B4-BCB6-405D-A858-ADC4CAE8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D80EF-2EC6-4A43-B173-8B8091B3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EDF73-8C6C-4771-A1D5-670F7731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0737F-2A84-4667-8C98-60A812BB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328D-D2BB-40D0-8E5F-A9375099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6C4F5-40EB-4C64-B96E-10F18090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FC6D2-932E-4324-9447-B20AC244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7398B-FDC9-4D72-8156-9B8FBB87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3CB96-19C1-4C7C-AF2C-F0359B5F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03857-0D19-49D1-B94E-C2CC5DA8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2D5C1-3032-4A3A-B3EF-C520B74D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3EA0A-63AA-4F32-A82D-D7BB282F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74482-0BEA-4936-B3C6-97B8F166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0C0C9-4DCB-45A4-BC06-1F4BFA2E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F733B-B687-4F05-B884-08A90A8D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1ED-5E76-4FC1-8679-F43A2BB3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45E53-964F-4A7C-928D-09BCF23E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DD8C86-172A-4A50-B419-F54FCD42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225F10-ADEC-45FB-8EE2-3B3EEBF6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895398-CDE0-4513-97BC-7BE4FAC7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E516D5-C935-4C06-A2E8-0CB27AD2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3EBA10-2333-4672-9AA3-28BE95EE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ECF404-0296-437F-8487-F582D060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F4B0A7-85A8-4927-B76B-061AE603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DBFE84-0431-4D5C-8D18-F2959CDB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385B03-24D4-40CE-B5B2-6799D159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D43E-CC82-4D1C-89BC-00A70CDC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B25F79-1EC0-4480-B45A-03C3BCF5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534CD1-BAC8-475E-9C56-FE255864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7E9DBA-6131-4DD2-BED1-F146F90E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A67ED-2FA2-4381-9154-E781C483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83406-8ABF-4B34-BD1B-7C12A86D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249DA-7093-4A9B-96C4-B54D507E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3FAA7-84A0-49F2-A2F6-AD7B5543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28E66-D577-4FB5-9BE4-FD2939AF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38399-9352-40F4-BA2C-22F33A37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A6631-4C57-426E-8244-74665079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9BE3-503F-47C5-9380-18807983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527C5-A523-437A-8AC4-66BFC716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12324-4AB2-49B6-B2F7-EFC82BDF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5334C-AC87-43EE-9CAB-A1C85725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E8C0B-FCAB-48D5-A4CB-70CBBDB5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F70E8-7A25-428D-92FF-06D315D0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0E8E1-9E40-448F-8A54-2C7B22DF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A622B-31BB-449A-B5F0-F6675F30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9751C-EB0A-4BF9-A238-04999ADE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DC6C5-7070-4DFA-A21E-65FA11BE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FC468-9E84-4AE9-8E37-7B695FDB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C524-AD1A-4E96-82EB-E7197E13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A9C3B4-FB88-4DDA-ACEE-BE27FDCE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32054-FA5E-4A4E-8552-E7657346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94D8F-1A73-4DA3-94B6-98924C66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02FFCB-A38C-43C5-AFE7-91BF76D3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2D775-8095-4364-99DC-B3C6F1AD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9E0BD-FC90-4831-AD1C-EC45FE41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AD1A6-FFCD-44B9-8593-62CA7D39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D6C28F-ED60-4589-A0B6-A356EE72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3D1F5C-C9D7-4228-AF49-F9E6708D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F9BD78-A881-4020-AA62-20879A07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40E7-F11C-42E0-A40B-AF422E81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B3E65D-E389-405F-A405-AEC59707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A83D91-F6DA-4E36-8BDB-71B4E22F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445F9-C270-45FE-AF88-0756C2AC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12ECC-516A-46D6-9726-CB25902D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7C2D17-1415-4C08-A99E-855CF56C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644F7-D8E1-4CB3-9939-8F587A63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E14B93-561E-46AB-8CBC-D7ACBBAC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E10C51-54F0-44BF-92B7-C4087CFF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15D423-37F6-40DF-BA72-FC6A52DF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5ABCB6-C538-4EC8-A3D5-B837C917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DF34-33EC-462B-9881-ADBE893D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F4E029-84A4-45DB-9375-F23F3E5C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BB6AB-2DF9-4DB6-90FA-36C64814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CF6020-B084-462D-847A-51C9BDDC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C6FC02-88D5-4E56-BB85-85E116F4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9E4BE0-2989-4293-B9E7-802E86D7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0B6185-6326-4769-B85C-08B42B05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073B87-CEE2-43B9-BA3D-2A81BBF8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57E815-05BF-4881-A0BD-A70677D0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C3A68-9617-4A48-8941-5231AE81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281726-787D-4744-9197-AEDA0F47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94F4-96DA-41B5-A76D-ACBC78FD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6CA3A0-00A8-4321-B86C-F62D372F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C2D271-4B55-4363-A185-ED99F332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DE7099-1C68-4C57-9D49-D7CA61C0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9D0685-4B86-4BB8-AA0C-63388A03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DC2C29-D94F-4A1A-B3BA-03727997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F75FF8-8455-4AFA-86CA-3DA52C38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8612A2-E51E-4763-B905-0D54747E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C78F9F-6B2C-4DFC-9BFD-A9FB4417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6DD719-EA01-4608-8E29-4CD53212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2D6B66-5A0D-4AD7-90E6-913A98AA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F36C-F9B9-4559-92C8-D99AD349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E0887D-327E-43EA-B9ED-3BED21A8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D6B812-6FF8-4571-B3DC-FD206198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44497E-56CD-4CBE-839B-BACB8D6B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D4B1D7-F212-44E0-8D5A-962770E5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0D0D6D-7417-485B-810E-43420121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B1B596-5173-48F5-90AE-4FCB826E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4F6082-AC40-4C81-941A-A0A51D6A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07CF6D-2D6F-4483-AF9C-D6399FF1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B0ABEB-4250-4334-B547-1673C94F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9C8ED1-D13F-45ED-8F5A-984CBEC7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AAB9-E580-4AEF-9C02-841B9853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BC58-4937-46BE-942D-A3AE3E5A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6A3339-B3EC-4D60-86F8-0A89DD88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DC2BDF-6792-4A8F-A9AE-D52B546F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FC4E73-7203-4F56-95A2-A3FA87B3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B76894-0FB6-4915-B863-E4894D35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9F912E-2593-421D-B691-DC7471F9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107B3F-D482-482D-BB33-946B225F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3DBB3A-C856-411D-BD7D-F20163DE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D859D9-B8BF-4780-AEE1-D55ED5A4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B0C215-CF0C-43E2-A7E3-F7E1BC83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CAC01E-1B24-4F9D-B4E0-7A33C869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9165-AEAA-4479-A233-E78D8D44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C43E15-F9B4-4CD8-B502-B40E5754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B55D78-394B-4496-81F4-A234DB1D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6C709A-9EAF-4E5F-8C2D-B8AC8373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274F59-1C58-485D-AA2A-774278F3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760B0E-F0C1-4552-B6A2-A4189C16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5E55DE-CE1F-418E-8C78-8D2A89C8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24FAB8-801E-45A3-95EC-705A2530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A426B5-87A2-41F4-87F4-07E16FF1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9A6DFF-C2B7-444E-BBC8-FD82FE15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2FB7D3-18F9-4026-A3D5-147AC344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C639-10F4-4479-B003-41E24497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34C193-94E7-4C60-93D6-34A250B2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FD2F5C-E8EC-4205-8510-C4933C5E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060AD9-CE0E-4AD9-92E8-DA77A448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6C65D8-BD9B-46B0-9DD6-40EA2AA4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279629-88AD-4960-9325-CBD3FC47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942CFE-4908-4071-9B72-B0E84DE6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093C27-2C60-4984-86A6-13F7D3BF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AF1748-1D62-4E86-B64A-555FAE84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2BFBBF-B012-4E09-A3CE-B683465E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6DC231-DE97-404C-977B-0883F7B6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975C-A6B5-4BF4-A32B-AAAB287F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66AD25-56A3-4F77-AC79-A952BA03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AF4B7F-C96B-4850-9F9C-CF5E92C2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ADD84F-6924-437D-A1BC-068C471D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80A3E2-64CC-4BFA-954F-6641D4FC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11491F-2726-4D1F-834F-BB458E13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2E8D75-639F-48FE-BF60-9BD710EC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056FD3-7C2B-4D47-90A5-4ABE6FF0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A1064F-C8D2-4371-B529-5DB8967C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36D971-3DB2-41BD-8DB0-B3CBF9E4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97D50D-DDA7-4F4B-B7B9-B054920E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79B6-67A3-4041-89D1-DFB863D2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FD90BA-9725-4E60-A342-EB2101AD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24BE89-FC8B-4149-938A-DB86C924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691BF4-E434-4057-9B1A-09966C5E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E808DF-E0D9-48EA-A659-86F424AA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5DDA53-212D-4B6F-839F-A0E737C4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D576B6-6341-43FF-8FE4-211107CB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70B26C-DA29-4388-8AFC-FF9E16E1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8AF65A-2395-417A-90D0-45F780A6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4109A9-EB22-4B96-A6CA-697BABF8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4FB13C-D6E7-48CC-8261-A1F2A90D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D95D0-1E9E-4695-9697-6BE2B965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EA6782-7C39-49EC-B666-DEC7EBA8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3C7E23-01F8-4AF3-A6F0-A8D9B123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571D80-E68E-4453-BE4F-4686AA9E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8D245A-B640-4114-8803-1C8A326B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4070F7-764D-4664-BEF3-65F5C678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8E84B6-0199-4ED6-AE83-9CBED67C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58323D-BB25-459E-BB09-05348BB1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35B3AC-5B76-4C58-A060-6A4CA027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C31C59-16DD-4516-A18B-5F835C10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42A6CE-AE5D-4252-9791-1BF10B6E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6B987-615C-43E3-B9FB-3C55BE9C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7ACE88-3E96-4313-91A1-07E058EF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8D65FD-248A-41CA-8AD0-9FBE7CF3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A6CEE9-5450-49F1-B813-56D97EE4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76E3FB-B8A0-4086-8DA9-3142758A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434D46-1AF0-4E97-A50E-3C279C1C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54495-1082-487C-9B40-DB5408BF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99AD0-A367-49D3-AF67-6DD5CB6A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6CC03-7CF0-4D0F-8884-91E0CA84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22F0-2A8F-4589-8194-B78D0E6D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CD8A4-D802-48D6-B73E-1ABF409F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248A7-C744-42F1-808D-99B7A871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738F3-BBDC-40C3-83FA-354D9034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7D4C2-109E-47DB-BBDC-CA37AD17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18C13-6869-42FC-85C3-F03547DB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646E3-B6AF-4F72-9B35-2360141C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2E1C-2ECA-44AE-99D0-DB702304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6338D-ABB1-4B3B-B5C4-D2EAD5E6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EB0AB-E4A9-4F18-8529-8BFF9C87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DB056-6874-4BA9-88B2-F4FA1F36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A104-94E2-4A29-8AA1-9FB923F5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9907F-A5B8-4C7A-8EF0-A9BB366C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1CEFB-60B0-440B-B2F8-5891F17C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CA68B-C23E-4FC1-945C-D3AE32B9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C5B96-7AA0-4A74-B97B-E4549524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6BEC2-15E5-4D79-AAFC-31807149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0744B-2561-4BB3-8122-650C76CA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3FD55-10AB-4487-85ED-FD376B46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01034-6925-4788-8861-E6FA5654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5F665-71F7-422E-8695-66E5F0F3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D44EE-66A8-47E1-810C-CEDA3590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F3B-970A-44FE-AA7E-60536386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C1854-466D-4EFE-A60E-35EF913D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C1363-D2D0-4F7B-AE35-69965DCA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C348D-A4FE-4ECD-9DB4-22D27163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01FBD-C22A-4CC1-A653-D3D5B23A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C1D83-4CD8-4D23-ADD5-AF5DF906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D4F53-0DF0-4D0D-A295-D55D90E8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69E8D-7B79-4A0D-90D1-77CF8AD8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8C259-C3BA-4A7F-9A95-65ADDDE6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94C63-77CA-4A45-83BA-7F00684B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2209C-51B2-4266-AA15-D3EFC0B6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A7B-E54D-4AD9-A0F8-3A31E0FE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8A649-17E0-4BB9-A223-7E15C3B7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9CAE33-6F57-472D-9E44-B7B9111B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56CA3B-C492-4C2C-9E3A-C249FD76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CC4134-BDBE-4D23-8D10-C236EC65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BBC1B7-3863-407C-BBDD-58EC69F5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9666EB-6A63-4C0C-B407-303D3EAA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1FBBE1-9D18-4032-A9FE-F964D60C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BEAB01-DE98-4C14-B512-48B5EEEF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2BE9D4-15F6-44F0-B472-13843A1B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8A86B3-CFF7-45DB-BE87-97E7C3C5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924-8D2B-4DF2-843D-61F5A572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B9323-DD6F-4D3F-87D1-25B6DEB6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A1FDE-24E0-4DCD-87CC-4A355E02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F78358-2C34-432D-980E-B28468C7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88B73-C7D3-4A71-8A55-26667B52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5197D-8E87-4C42-89F9-2CC610CA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BB505-6784-4274-BEEF-0E7CB84A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DBEA8-79D1-471C-B962-B2F7AC36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966A4-E4B9-48BF-952E-4475463D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4F2A1-9D17-49E6-A6D1-F39BB23E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DB402-0ACF-47E5-A02A-EF39AEE7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135A-563E-4C6A-83FD-9F700D81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F8655-BDE8-41A0-B2AC-9D16CC4C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B1F3B-9A57-4A75-A234-44E00A23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07FC9-EB7B-4CC6-B72D-50FE8BA6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A29F6-C79A-4DBA-AC45-8F7AFE03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9B5CA-A507-4F0D-BFE4-94A7B24D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D2FB9-525C-4B97-86AE-9F030FAC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BADEE-637A-4797-B878-E41FFF46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C9BDE-64A8-42EA-B812-9720A8F4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6553E-4636-442C-B859-21DCFF30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4C839-3BFC-4B62-B89F-6D18D2B5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6CA-C078-4D13-B8DA-8DBC4E29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785B5-63F6-4FC9-B039-978F834B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ED4E5-55F5-47D1-B057-C67CC3FC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CE32B-3C4A-493C-8F18-FD9469CD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1DA55-5ED5-4A7B-8DF8-3D322263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EAC10-2B60-437C-A7DD-0155D249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FBF25-8AE8-4D44-AA7A-62452450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E4AB3-460E-403E-9547-A92DC512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B1B0E-5959-41CF-9480-D3029535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238F3-7001-4377-89B5-6F71A1A6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08180-6A6F-449D-90D1-AA15A045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3dde8"/>
                </a:gs>
                <a:gs pos="50000">
                  <a:srgbClr val="e0ebf6"/>
                </a:gs>
                <a:gs pos="100000">
                  <a:srgbClr val="d3dde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A4F7-9C49-450C-A016-41CB1962ED1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18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9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2948-9F57-424E-9722-3F8ECFFB579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A9F3-29A8-4FB7-9312-6DC4FD1733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5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6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67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68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9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0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1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2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3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4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5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6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7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8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9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0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81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3dde8"/>
                </a:gs>
                <a:gs pos="50000">
                  <a:srgbClr val="e0ebf6"/>
                </a:gs>
                <a:gs pos="100000">
                  <a:srgbClr val="d3dde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0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1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2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3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4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5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6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9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0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1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2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3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06D8-F7B1-4307-9A48-125C771E17C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67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3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3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91F3-40DD-4B11-8CF0-188410BEF0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22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3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4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72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26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27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28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29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30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31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32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33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34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35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36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37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38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739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0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1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2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3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4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5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6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75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5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5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5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5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5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75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5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A775-A631-4C05-894A-FCEFFA40198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0447-9509-4FEB-8C2B-006B8DB456A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8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8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8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8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8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grpSp>
            <p:nvGrpSpPr>
              <p:cNvPr id="9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34D1-4D4C-41FF-AFC2-6C4F823FF6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94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5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5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5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5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5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5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5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5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5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5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B8A5-1CE7-4FD1-B63F-DE2ABC836B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1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002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03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04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 type="dt" idx="5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 type="ftr" idx="5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 type="sldNum" idx="5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9C93-9466-4A40-AFCA-AB7BD724B47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 type="ftr" idx="5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2250-0A94-44D5-A8EB-866577BCF7A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E9B1-92EE-4E99-A5A8-630DF71C5F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09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1FC2-22DD-46F8-AC1A-02DDD5DF935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139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40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B7C6-A644-487A-92FD-7821C6D017B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83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184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85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86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87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88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89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0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1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2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3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4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5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6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97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9794-5AFB-49BE-B899-AA2C3CF170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3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5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10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7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8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09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14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15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16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17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18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19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120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13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3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3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3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3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13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278A-764D-44B3-8EF5-131806EF7C9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3207-E601-4814-9E85-9E30B423E3C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25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2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2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2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2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grpSp>
            <p:nvGrpSpPr>
              <p:cNvPr id="2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ECD1-3304-401F-9D9B-0C1B9F8521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3111-FEFF-470F-BFAB-93EAB30DA8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3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4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8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D521-6824-4820-81F7-AD559002C2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3B06-39F7-4B60-BB02-DEFD8CE0DE7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0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69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0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1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2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1755-635F-47D6-BA77-E2CD936B9A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f2fb5"/>
                </a:solidFill>
                <a:latin typeface="Garamond"/>
              </a:rPr>
              <a:t>Глобальное потепление и таяние  вечной мерзлоты на примере  г Якутска</a:t>
            </a:r>
            <a:endParaRPr b="1" lang="en-US" sz="36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40" name="Rectangle 8"/>
          <p:cNvSpPr/>
          <p:nvPr/>
        </p:nvSpPr>
        <p:spPr>
          <a:xfrm>
            <a:off x="4859280" y="5013360"/>
            <a:ext cx="389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f2fb5"/>
                </a:solidFill>
                <a:latin typeface="Arial"/>
              </a:rPr>
              <a:t>Выполнила : ученица 3 «В» класса Слепцовой Елены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41" name="Picture 14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4537080" cy="2965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оследствия влияния парниковых газов для биосферы Земли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трицатель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ъем уровня океа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градация вечной мерзл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ие прибрежных экосист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сух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сные пожа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вод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ожи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урожайности культурных раст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ст лесных насажд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Киотский протокол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457200" y="1125360"/>
            <a:ext cx="83628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1992 год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0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ан подписали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согласно которому в 2008 - 2012 гг. подписавшие его страны должны снизить объемы выбросов парниковый газов на 5,2%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468000" y="2997000"/>
            <a:ext cx="828036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6600"/>
                </a:solidFill>
                <a:latin typeface="Arial"/>
              </a:rPr>
              <a:t>США на 7%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6600"/>
                </a:solidFill>
                <a:latin typeface="Arial"/>
              </a:rPr>
              <a:t>Япония и Канада на 6%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6600"/>
                </a:solidFill>
                <a:latin typeface="Arial"/>
              </a:rPr>
              <a:t>страны европейского союза на 8% по сравнению с уровнем 1990 го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826560" y="5013000"/>
            <a:ext cx="785988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иотский протокол ратифицирован 106 странами, но США и Австралия позднее отказались от подпис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ahoma"/>
              </a:rPr>
              <a:t>Возможные последствия потепления климата </a:t>
            </a:r>
            <a:br>
              <a:rPr sz="2600"/>
            </a:br>
            <a:r>
              <a:rPr b="1" lang="ru-RU" sz="2600" spc="-1" strike="noStrike">
                <a:solidFill>
                  <a:srgbClr val="ffffcc"/>
                </a:solidFill>
                <a:latin typeface="Tahoma"/>
              </a:rPr>
              <a:t>и влияния парниковых газов: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ие уровня океана на 0,5 метра к 2050 году, и на 1-1,5 метра к 2100 год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ие температуры поверхностного слоя океана до 2,5 градусов по Цельсию к концу 21 ве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5% пахотных земель Египта и 14% посевных площадей Бангладеш вызовет переселение миллионов люд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зкие дельтовые равнины крупных рек Хуанхэ, Янцзы в Китае будут затоплен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0% берегов европейской части России (Находка, Санкт-Петербург, Архангельск) отступят на 100 метров вглуб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7" name="Picture 4" descr=""/>
          <p:cNvPicPr/>
          <p:nvPr/>
        </p:nvPicPr>
        <p:blipFill>
          <a:blip r:embed="rId1"/>
          <a:stretch/>
        </p:blipFill>
        <p:spPr>
          <a:xfrm>
            <a:off x="4716360" y="2276640"/>
            <a:ext cx="3961080" cy="2455560"/>
          </a:xfrm>
          <a:prstGeom prst="rect">
            <a:avLst/>
          </a:prstGeom>
          <a:ln w="0">
            <a:noFill/>
          </a:ln>
        </p:spPr>
      </p:pic>
      <p:sp>
        <p:nvSpPr>
          <p:cNvPr id="1288" name="Rectangle 6"/>
          <p:cNvSpPr/>
          <p:nvPr/>
        </p:nvSpPr>
        <p:spPr>
          <a:xfrm>
            <a:off x="539640" y="2708280"/>
            <a:ext cx="4032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рушение песчаных пересыпей в Причерноморье и Приазовье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менение многолетнемерзлых пород технических систем в самом верхнем слое земной коры, случаи заторных наводнений, в том числе на малых реках (Татта, Ситте), природных пожаров в Якутии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1" name="Picture 8" descr=""/>
          <p:cNvPicPr/>
          <p:nvPr/>
        </p:nvPicPr>
        <p:blipFill>
          <a:blip r:embed="rId1"/>
          <a:stretch/>
        </p:blipFill>
        <p:spPr>
          <a:xfrm>
            <a:off x="2627280" y="2612880"/>
            <a:ext cx="3816360" cy="3197520"/>
          </a:xfrm>
          <a:prstGeom prst="rect">
            <a:avLst/>
          </a:prstGeom>
          <a:ln w="0">
            <a:noFill/>
          </a:ln>
        </p:spPr>
      </p:pic>
      <p:sp>
        <p:nvSpPr>
          <p:cNvPr id="1292" name="Rectangle 9"/>
          <p:cNvSpPr/>
          <p:nvPr/>
        </p:nvSpPr>
        <p:spPr>
          <a:xfrm>
            <a:off x="539640" y="1700280"/>
            <a:ext cx="7993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тепление климата будет продолжаться несколько столетий и наиболее серьезная угроза ожидается в отдаленной перспективе, но эту проблему необходимо сейчас рассматривать как одну из главных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7a4af"/>
                </a:solidFill>
                <a:latin typeface="Garamond"/>
              </a:rPr>
              <a:t>Спасибо за внимание !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294" name="Picture 6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1028520" cy="1247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295596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Цель работы</a:t>
            </a: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79930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пределить и обосновать условия возникновения глобального потепления и парниковых газов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ыявить возможные последствия их влияния на атмосферу Земли и мирового океан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10"/>
          <p:cNvSpPr/>
          <p:nvPr/>
        </p:nvSpPr>
        <p:spPr>
          <a:xfrm>
            <a:off x="468360" y="3429000"/>
            <a:ext cx="806436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раскрыть основные причины возникновения глобального потепления и парниковых газов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писать возможные последствия для человечества при глобальном потеплении климата.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вести прогнозы научных институтов для преодоления обозначенных проблем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5" name="Rectangle 11"/>
          <p:cNvSpPr/>
          <p:nvPr/>
        </p:nvSpPr>
        <p:spPr>
          <a:xfrm>
            <a:off x="324000" y="2637000"/>
            <a:ext cx="2663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2050920" y="260280"/>
            <a:ext cx="4824720" cy="71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Объект исследования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лобальное потепление климата (повышение средней температуры на Земле) и парниковые газы 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8" name="Rectangle 14"/>
          <p:cNvSpPr/>
          <p:nvPr/>
        </p:nvSpPr>
        <p:spPr>
          <a:xfrm>
            <a:off x="2700360" y="1916280"/>
            <a:ext cx="36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Актуальность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9" name="Rectangle 15"/>
          <p:cNvSpPr/>
          <p:nvPr/>
        </p:nvSpPr>
        <p:spPr>
          <a:xfrm>
            <a:off x="324000" y="2421000"/>
            <a:ext cx="820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кое изменение климата произошло в последние                 десятилетия и протекает в наши дни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0" name="Rectangle 16"/>
          <p:cNvSpPr/>
          <p:nvPr/>
        </p:nvSpPr>
        <p:spPr>
          <a:xfrm>
            <a:off x="2987640" y="3284640"/>
            <a:ext cx="27367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Новизна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1" name="Rectangle 18"/>
          <p:cNvSpPr/>
          <p:nvPr/>
        </p:nvSpPr>
        <p:spPr>
          <a:xfrm>
            <a:off x="468360" y="4005360"/>
            <a:ext cx="81471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ализ приведенных данных по ряду стран, России, Республике Саха (Якутия), связанных с глобальным потеплением климата, изменением среднегодовых температур и влиянием данных процессов на криолитозону земной коры и состояние мирового океана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Глобальное потепл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– это процесс неуклонного увеличения среднегодовой температуры атмосферы земли и мирового океана.</a:t>
            </a: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362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менение климата на земле происходит как в результате естественных внутренних процессов, так и в ответ на внешние воздейств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менение орбиты земли, солнечной активност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улканические выброс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рниковый эффект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4" name="Picture 7" descr=""/>
          <p:cNvPicPr/>
          <p:nvPr/>
        </p:nvPicPr>
        <p:blipFill>
          <a:blip r:embed="rId1"/>
          <a:stretch/>
        </p:blipFill>
        <p:spPr>
          <a:xfrm>
            <a:off x="5219640" y="3933720"/>
            <a:ext cx="2592360" cy="1954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a4af"/>
                </a:solidFill>
                <a:latin typeface="Garamond"/>
              </a:rPr>
              <a:t>ФАКТЫ   и   ПРОГНОЗЫ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7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За последни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 лет среднегодовая температура в Северном полушарии увеличилась, в среднем,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на </a:t>
            </a: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0,6 º </a:t>
            </a: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С.</a:t>
            </a: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f2fb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гнозируемый рост температуры -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1,5 до  5,8 º С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4648320" y="3922200"/>
            <a:ext cx="403848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f2fb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иболее вероятный вариант развития -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т 2,5 до 3,0 º С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ecff"/>
                </a:solidFill>
                <a:latin typeface="Arial"/>
              </a:rPr>
              <a:t>Цифры и факты, подтверждающие процесс глобального потепления климата</a:t>
            </a:r>
            <a:br>
              <a:rPr sz="2800"/>
            </a:br>
            <a:r>
              <a:rPr b="0" i="1" lang="ru-RU" sz="2800" spc="-1" strike="noStrike">
                <a:solidFill>
                  <a:srgbClr val="ccecff"/>
                </a:solidFill>
                <a:latin typeface="Arial"/>
              </a:rPr>
              <a:t>на планете Земля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860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2002 г. из-за таяния только антарктического шельфа уровень мирового океана повысился на 1,5 м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1996 г. таяние льдов Гренландии удвоилос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доиндустриального периода концентрация углекислого газа и метана увеличилось на 31% и 49% соответствен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1" name="Picture 6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600360" cy="231480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8" descr=""/>
          <p:cNvPicPr/>
          <p:nvPr/>
        </p:nvPicPr>
        <p:blipFill>
          <a:blip r:embed="rId2"/>
          <a:stretch/>
        </p:blipFill>
        <p:spPr>
          <a:xfrm>
            <a:off x="5219640" y="4021200"/>
            <a:ext cx="3529080" cy="2658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нозируемые последствия глобального потепления (в целом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468360" y="1557360"/>
            <a:ext cx="4038480" cy="16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опление приморских равнин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4427280" y="1413000"/>
            <a:ext cx="4537080" cy="17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удшение водоснабжения приморских горо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395280" y="2349360"/>
            <a:ext cx="403848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иление абразив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4427640" y="2349000"/>
            <a:ext cx="4465440" cy="13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лонение прибрежных грунтовых 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Picture 9" descr=""/>
          <p:cNvPicPr/>
          <p:nvPr/>
        </p:nvPicPr>
        <p:blipFill>
          <a:blip r:embed="rId1"/>
          <a:stretch/>
        </p:blipFill>
        <p:spPr>
          <a:xfrm>
            <a:off x="1979640" y="3429000"/>
            <a:ext cx="5040360" cy="2973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мобильные выхлопы, заводские трубы и др. созданные человеком источники загрязнения вместе выбрасывают в атмосферу 2,2 млрд. тонн углекислого газа и других парниковых газов в го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0" name="Picture 7" descr=""/>
          <p:cNvPicPr/>
          <p:nvPr/>
        </p:nvPicPr>
        <p:blipFill>
          <a:blip r:embed="rId1"/>
          <a:stretch/>
        </p:blipFill>
        <p:spPr>
          <a:xfrm>
            <a:off x="4356000" y="2708280"/>
            <a:ext cx="4032360" cy="2525760"/>
          </a:xfrm>
          <a:prstGeom prst="rect">
            <a:avLst/>
          </a:prstGeom>
          <a:ln w="0">
            <a:noFill/>
          </a:ln>
        </p:spPr>
      </p:pic>
      <p:pic>
        <p:nvPicPr>
          <p:cNvPr id="1271" name="Picture 8" descr=""/>
          <p:cNvPicPr/>
          <p:nvPr/>
        </p:nvPicPr>
        <p:blipFill>
          <a:blip r:embed="rId2"/>
          <a:stretch/>
        </p:blipFill>
        <p:spPr>
          <a:xfrm>
            <a:off x="1332000" y="2708280"/>
            <a:ext cx="2004840" cy="2449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Углекислый газ - наиболее известный парниковый газ.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395280" y="1557000"/>
            <a:ext cx="76420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падая в атмосферу, он может оставаться в ней очень долг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тобы вывести углекислый газ естественным путем потребуется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611280" y="3443400"/>
            <a:ext cx="712944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812f"/>
                </a:solidFill>
                <a:latin typeface="Arial"/>
              </a:rPr>
              <a:t>На первые 30% 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30 лет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611280" y="4292280"/>
            <a:ext cx="813744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812f"/>
                </a:solidFill>
                <a:latin typeface="Arial"/>
              </a:rPr>
              <a:t>На другие 3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есколько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отен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539280" y="5084280"/>
            <a:ext cx="8280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812f"/>
                </a:solidFill>
                <a:latin typeface="Arial"/>
              </a:rPr>
              <a:t>На остальные 2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останутся на многие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000 лет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2:31:34Z</dcterms:created>
  <dc:creator>user</dc:creator>
  <dc:description/>
  <dc:language>en-US</dc:language>
  <cp:lastModifiedBy>19</cp:lastModifiedBy>
  <dcterms:modified xsi:type="dcterms:W3CDTF">2011-10-13T07:45:13Z</dcterms:modified>
  <cp:revision>22</cp:revision>
  <dc:subject/>
  <dc:title>Цель работы </dc:title>
</cp:coreProperties>
</file>