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53C-B88B-4FF9-97E9-8286F529C8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01B3-B6BD-4DF8-8C3C-804BCED5B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86A-E7D9-44D0-8F9B-143330001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F955-B1D3-4B9C-9AC8-0E6F4560D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DCE-6E92-4AAA-8747-069107C25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81F-3BB0-42E3-9039-4DA362F6B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й проект концепции предлагает в качестве государственных стандартов общего образования второго поколения рассматривать три компонента – «Требования к структуре основных общеобразовательных программ», «Требования к результатам освоения основных общеобразовательных программ» и «Требования к условиям реализации основных общеобразовательных программ » (см. рис.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структуре основных общеобразовате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рамочное описание базовых компонентов образовательных программ начального общего, основного общего и полного средн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ых общеобразовате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операциональное описание целевых установок общ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условиям получения общего образова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интегральное описание совокупности условий, необходимых и рекомендуемых для обеспечения реализации соответствующих образовательных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1FD6-25C0-4169-B888-935D2E2D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BF2B-22A7-43E8-9BC6-4FDBDC09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E6AA-3DA7-4E4D-9ED4-2E17B769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BD73-33FF-4E43-BFA6-D8AA9E9B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6A9-F1A3-4C43-B6FF-19EF9C16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B2C-AEBE-4FC9-8E81-5CB68B5C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7004-A576-4400-878A-1A7FE2B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6D1-20AB-4FD7-B24D-C85AE5B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BDF1-9C5A-4294-AFA6-A03014F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1F4D-694E-4F6A-8FB9-69DCF897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3A10-2953-422C-BE3B-8109950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8B48-423B-4606-A8E7-F8215F9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1C3E-7528-4452-9A14-9E7291C8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091-093A-401B-BE8E-A7D6AD3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EB1A-6186-41FF-ACD7-123DCEE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6E77-9AF8-4779-A490-D5A35AF8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F0C-237D-41B1-87B0-2F8F00A0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F958-9AB3-43A1-A6D2-A9037317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EF73-CC32-48DE-B589-FF9E5EB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C5E5-FEED-45D9-B9D7-A1432C70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481B-C47A-4028-9E31-CA3F351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93B5-1389-4CD4-B068-853AE6F6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C897-F0DE-43B3-B39E-BD84BF4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6029-F51C-4AD9-9F35-9E87CD5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1AB6-237B-4472-8AD2-E6DA4F4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745A-CF94-4F35-A481-D34C595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085C-934F-451A-ABFD-D3305AF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DDBC-13EA-4C27-A158-DE32B19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B258-D270-43D0-9F04-D292E1D9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DB12-4AAD-4D3B-91B7-77B1D2FB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E2E4-47A5-4727-8CB9-3201F05F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DDA9-6348-4AE3-8B6E-BC93DFC5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EED4-1E6E-47D2-8644-4ECA0BA1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A1FE-C1E1-47AA-BFFE-5F5E15A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DFBB-4E1F-4548-AA04-8A45B5A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B58F-55D0-4415-AE2A-790B701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E3A-FF3F-45E4-B9BC-A6EED9F6EE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7BE-5A18-4CE6-96C5-C97E32AC7C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607A-81D5-434C-9EBC-F0D1AA7A28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640" y="1773000"/>
            <a:ext cx="6019920" cy="23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льный государственный образовательный стандарт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14400" y="4286160"/>
            <a:ext cx="601956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5e"/>
                </a:solidFill>
                <a:latin typeface="PMingLiU"/>
                <a:ea typeface="PMingLiU"/>
              </a:rPr>
              <a:t>МАТЕ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720" y="274680"/>
            <a:ext cx="9180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03CB-12B0-4C34-86E6-6E31132FB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250920" y="1413000"/>
            <a:ext cx="720720" cy="5111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5111640"/>
              <a:gd name="textAreaBottom" fmla="*/ 5076720 h 5111640"/>
            </a:gdLst>
            <a:ahLst/>
            <a:rect l="textAreaLeft" t="textAreaTop" r="textAreaRight" b="textAreaBottom"/>
            <a:pathLst>
              <a:path w="21600" h="153130">
                <a:moveTo>
                  <a:pt x="3600" y="0"/>
                </a:moveTo>
                <a:arcTo wR="3600" hR="3600" stAng="16200000" swAng="-5400000"/>
                <a:lnTo>
                  <a:pt x="0" y="149530"/>
                </a:lnTo>
                <a:arcTo wR="3600" hR="3600" stAng="10800000" swAng="-5400000"/>
                <a:lnTo>
                  <a:pt x="18000" y="1531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1187280" y="3789360"/>
            <a:ext cx="505080" cy="216000"/>
          </a:xfrm>
          <a:custGeom>
            <a:avLst/>
            <a:gdLst>
              <a:gd name="textAreaLeft" fmla="*/ 78840 w 505080"/>
              <a:gd name="textAreaRight" fmla="*/ 442080 w 505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1692360" y="1268280"/>
            <a:ext cx="2158920" cy="129708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148360" y="1844640"/>
            <a:ext cx="718920" cy="28908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1763640" y="3213000"/>
            <a:ext cx="2160720" cy="12956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584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1692360" y="5156280"/>
            <a:ext cx="2232000" cy="14414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/>
          <p:cNvSpPr/>
          <p:nvPr/>
        </p:nvSpPr>
        <p:spPr>
          <a:xfrm>
            <a:off x="5940360" y="3068640"/>
            <a:ext cx="2879640" cy="154944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и 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6"/>
          <p:cNvSpPr/>
          <p:nvPr/>
        </p:nvSpPr>
        <p:spPr>
          <a:xfrm>
            <a:off x="5940360" y="1197000"/>
            <a:ext cx="2881440" cy="151128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жидаемые дост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5940360" y="5013360"/>
            <a:ext cx="2881440" cy="141120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Ресурсы: кад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материальная б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информ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2484360" y="2637000"/>
            <a:ext cx="216000" cy="504720"/>
          </a:xfrm>
          <a:prstGeom prst="upDownArrow">
            <a:avLst>
              <a:gd name="adj1" fmla="val 50000"/>
              <a:gd name="adj2" fmla="val 19991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2627280" y="4579920"/>
            <a:ext cx="216000" cy="504720"/>
          </a:xfrm>
          <a:prstGeom prst="upDownArrow">
            <a:avLst>
              <a:gd name="adj1" fmla="val 50000"/>
              <a:gd name="adj2" fmla="val 19991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7"/>
          <p:cNvSpPr/>
          <p:nvPr/>
        </p:nvSpPr>
        <p:spPr>
          <a:xfrm>
            <a:off x="5148360" y="3645000"/>
            <a:ext cx="718920" cy="28872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5148360" y="5516640"/>
            <a:ext cx="718920" cy="28872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4211640" y="981000"/>
            <a:ext cx="865080" cy="568800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5688000"/>
              <a:gd name="textAreaBottom" fmla="*/ 5645880 h 5688000"/>
            </a:gdLst>
            <a:ahLst/>
            <a:rect l="textAreaLeft" t="textAreaTop" r="textAreaRight" b="textAreaBottom"/>
            <a:pathLst>
              <a:path w="21600" h="141972">
                <a:moveTo>
                  <a:pt x="3600" y="0"/>
                </a:moveTo>
                <a:arcTo wR="3600" hR="3600" stAng="16200000" swAng="-5400000"/>
                <a:lnTo>
                  <a:pt x="0" y="138372"/>
                </a:lnTo>
                <a:arcTo wR="3600" hR="3600" stAng="10800000" swAng="-5400000"/>
                <a:lnTo>
                  <a:pt x="18000" y="141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68360" y="404640"/>
            <a:ext cx="84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Lucida Sans Unicode"/>
              </a:rPr>
              <a:t>Стандарт как совокупность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6"/>
          <p:cNvSpPr/>
          <p:nvPr/>
        </p:nvSpPr>
        <p:spPr>
          <a:xfrm flipH="1">
            <a:off x="0" y="907920"/>
            <a:ext cx="914400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готовность и способность к саморазвитию и личностному самоопределению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формированность мотивации к обучению и целенаправленной познавательной деятельност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истемы значимых социальных и межличностных отнош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ценностно-смысловых установок, социальные компетен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пособность ставить цели и стоить жизненные план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пособность к осознанию российской идентич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в поликультурном социум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5280" y="405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ребования к результатам освоения О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673520" y="260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"/>
          <p:cNvSpPr/>
          <p:nvPr/>
        </p:nvSpPr>
        <p:spPr>
          <a:xfrm>
            <a:off x="468360" y="3141720"/>
            <a:ext cx="3598920" cy="34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ные межпредм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онятия и универс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учебные действ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пособность их использования в учебной, познавательной и социальной практи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амостоятельность планирования и осуществления учебной деятельности и организации учебного сотрудни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остроение индивидуальной образовательной траек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1"/>
          <p:cNvSpPr/>
          <p:nvPr/>
        </p:nvSpPr>
        <p:spPr>
          <a:xfrm>
            <a:off x="4572000" y="3141720"/>
            <a:ext cx="4103640" cy="34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ные умения предметн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иды деятельности по получению нового знания, его преобразованию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именению в различных ситуац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формирование научного типа мышления, научных представлений о ключевых теориях, типах и видах отноше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ладение научной терминологией, ключевыми понятиями, методами и прием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Редакция Федерального закона от 01.12.07 г. № 309-Ф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Arial"/>
              </a:rPr>
              <a:t>Основная образовательная программа в имеющем государственную аккредитацию образовательном учреждении разрабатывается на основе примерных основных образовательных программ и должна обеспечивать достижение обучающимися результатов, установленных соответствующим федеральными государственными образовательными стандартами (п.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834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кон РФ «Об образовании»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 Ст.14, 29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Основная образовательная программ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утверждается  и реализуется образовательным учреждение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Основная образовательная программ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чреждения  разрабатывается на основе соответств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ая основная образовательная програм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азрабатывается на основе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федеральных государственных образовательных стандар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зработка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обеспечива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полномоченными федеральными государственными орга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рганы государственной власти субъекта Российской Федерации в сфере образования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огут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нимать участие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в разработке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(в части учета региональных, национальных и этнокультурных особенностей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8"/>
          <p:cNvSpPr/>
          <p:nvPr/>
        </p:nvSpPr>
        <p:spPr>
          <a:xfrm>
            <a:off x="7164360" y="2133720"/>
            <a:ext cx="485640" cy="503280"/>
          </a:xfrm>
          <a:prstGeom prst="downArrow">
            <a:avLst>
              <a:gd name="adj1" fmla="val 40519"/>
              <a:gd name="adj2" fmla="val 5954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987640" y="2133720"/>
            <a:ext cx="485640" cy="503280"/>
          </a:xfrm>
          <a:prstGeom prst="downArrow">
            <a:avLst>
              <a:gd name="adj1" fmla="val 40519"/>
              <a:gd name="adj2" fmla="val 5954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От ФГОС к основной образовательной программе 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195640" y="1413000"/>
            <a:ext cx="6551640" cy="792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ГОС 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195640" y="2637000"/>
            <a:ext cx="6624360" cy="1512720"/>
          </a:xfrm>
          <a:prstGeom prst="rect">
            <a:avLst/>
          </a:prstGeom>
          <a:gradFill rotWithShape="0">
            <a:gsLst>
              <a:gs pos="0">
                <a:srgbClr val="cac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ая образовательная програм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195640" y="4869000"/>
            <a:ext cx="6624360" cy="17287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новная образовательн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Arial"/>
              </a:rPr>
              <a:t>(разрабатывается  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 rot="16200000">
            <a:off x="-900720" y="2421360"/>
            <a:ext cx="3024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96ab9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971640" y="2997360"/>
            <a:ext cx="1079280" cy="12222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еги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79280" y="5300640"/>
            <a:ext cx="1764000" cy="9144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8"/>
          <p:cNvSpPr/>
          <p:nvPr/>
        </p:nvSpPr>
        <p:spPr>
          <a:xfrm>
            <a:off x="5148360" y="4292640"/>
            <a:ext cx="485640" cy="576360"/>
          </a:xfrm>
          <a:prstGeom prst="downArrow">
            <a:avLst>
              <a:gd name="adj1" fmla="val 40519"/>
              <a:gd name="adj2" fmla="val 59521"/>
            </a:avLst>
          </a:prstGeom>
          <a:solidFill>
            <a:srgbClr val="9999ff"/>
          </a:solidFill>
          <a:ln w="12600">
            <a:solidFill>
              <a:srgbClr val="3b2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ГОС    ООО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4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сновная образовательная программа основного общего образования должна содержать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три раздела: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елевой, содержательный и организацион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левой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аздел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яснительную запи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ланируем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воения обучающимися основной образовательной программы основ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истему оценки достиж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х результатов освоения основной образовательной программы основного общего образования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держательный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аздел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у развития универсальных учебны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ы отдельных учебных предметов, кур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у воспитания и социализации обучающих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программу коррекцио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ГОС    ООО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рганизацион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 включа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го обще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истему условий реализ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  образовательной  программы в соответствии с требованиями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5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сновная образовательная программа основного общего образования содержит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обязательную часть и часть, формируемую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язательная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часть основной образовательной программы основного общего образования составляет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70 %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а часть,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ируемая участниками образовательного процесс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, 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0 %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т общего объема основной образовательной программы основного общего образова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От основной образовательной программы ОУ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 рабочей программе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2627280" y="4869000"/>
            <a:ext cx="6048360" cy="115236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b0389"/>
                </a:solidFill>
                <a:latin typeface="Arial"/>
              </a:rPr>
              <a:t>Рабоч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0389"/>
                </a:solidFill>
                <a:latin typeface="Arial"/>
              </a:rPr>
              <a:t>учебного предмета,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разрабатывается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771640" y="3141720"/>
            <a:ext cx="5832720" cy="934920"/>
          </a:xfrm>
          <a:prstGeom prst="rect">
            <a:avLst/>
          </a:prstGeom>
          <a:gradFill rotWithShape="0">
            <a:gsLst>
              <a:gs pos="0">
                <a:srgbClr val="cac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граммы учеб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0389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2700360" y="1341360"/>
            <a:ext cx="5975280" cy="13669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ая образовательная програм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 rot="16200000">
            <a:off x="-1656360" y="3393000"/>
            <a:ext cx="453564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96ab9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ровень   образовательного  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900000" y="1413000"/>
            <a:ext cx="1366920" cy="792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чи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5219640" y="4221000"/>
            <a:ext cx="486000" cy="617760"/>
          </a:xfrm>
          <a:prstGeom prst="downArrow">
            <a:avLst>
              <a:gd name="adj1" fmla="val 40519"/>
              <a:gd name="adj2" fmla="val 5951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8"/>
          <p:cNvSpPr/>
          <p:nvPr/>
        </p:nvSpPr>
        <p:spPr>
          <a:xfrm>
            <a:off x="7093080" y="2708280"/>
            <a:ext cx="485640" cy="433440"/>
          </a:xfrm>
          <a:prstGeom prst="downArrow">
            <a:avLst>
              <a:gd name="adj1" fmla="val 40519"/>
              <a:gd name="adj2" fmla="val 5952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3492360" y="2708280"/>
            <a:ext cx="486000" cy="433440"/>
          </a:xfrm>
          <a:prstGeom prst="downArrow">
            <a:avLst>
              <a:gd name="adj1" fmla="val 40519"/>
              <a:gd name="adj2" fmla="val 5952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826920" y="5013360"/>
            <a:ext cx="1513080" cy="936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уч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3c77"/>
                </a:solidFill>
                <a:latin typeface="Arial"/>
              </a:rPr>
              <a:t>Виды </a:t>
            </a:r>
            <a:br>
              <a:rPr sz="4000"/>
            </a:br>
            <a:r>
              <a:rPr b="1" lang="ru-RU" sz="4000" spc="-1" strike="noStrike">
                <a:solidFill>
                  <a:srgbClr val="3c3c77"/>
                </a:solidFill>
                <a:latin typeface="Arial"/>
              </a:rPr>
              <a:t>учебных  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боч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F90-445E-4A39-BEB0-FC5598FADA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C:\Documents and Settings\Антонина Ивановна\Мои документы\Методическая работа\Математика\годичные семинары\2011-2012 уч.год\ФГОСТ\картинки\программа математика.jpeg"/>
          <p:cNvPicPr/>
          <p:nvPr/>
        </p:nvPicPr>
        <p:blipFill>
          <a:blip r:embed="rId1"/>
          <a:stretch/>
        </p:blipFill>
        <p:spPr>
          <a:xfrm>
            <a:off x="7215120" y="12859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Антонина Ивановна\Рабочий стол\1076925.jpg"/>
          <p:cNvPicPr/>
          <p:nvPr/>
        </p:nvPicPr>
        <p:blipFill>
          <a:blip r:embed="rId2"/>
          <a:stretch/>
        </p:blipFill>
        <p:spPr>
          <a:xfrm>
            <a:off x="5572080" y="4000680"/>
            <a:ext cx="1835280" cy="26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труктура примерной программы по математик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072120" y="1357200"/>
            <a:ext cx="2857680" cy="4143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714240" y="164304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одержание кур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примерное тематическое план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рекомендации по оснащению  учебного процесс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44440"/>
            <a:ext cx="7580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ы школьного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916360" y="4941720"/>
            <a:ext cx="3240000" cy="1511640"/>
          </a:xfrm>
          <a:prstGeom prst="roundRect">
            <a:avLst>
              <a:gd name="adj" fmla="val 16667"/>
            </a:avLst>
          </a:prstGeom>
          <a:solidFill>
            <a:srgbClr val="b2b2ff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едер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осудар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бразовательный станда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сновного 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5724360" y="1989000"/>
            <a:ext cx="3168720" cy="230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Научная о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250920" y="1989000"/>
            <a:ext cx="3095640" cy="230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Идеологическа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методолог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ос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468360" y="2708280"/>
            <a:ext cx="2879640" cy="172872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нцепция духо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нравственного развити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воспитания лич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ражданина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нцепция социокультур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модер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5867280" y="2637000"/>
            <a:ext cx="3025800" cy="16556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Фундамент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ядро содерж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и системно-деятельно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3"/>
          <p:cNvSpPr/>
          <p:nvPr/>
        </p:nvSpPr>
        <p:spPr>
          <a:xfrm rot="8523600">
            <a:off x="6102000" y="4638240"/>
            <a:ext cx="1206360" cy="241200"/>
          </a:xfrm>
          <a:custGeom>
            <a:avLst/>
            <a:gdLst>
              <a:gd name="textAreaLeft" fmla="*/ 188280 w 1206360"/>
              <a:gd name="textAreaRight" fmla="*/ 1055880 w 12063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3348000" y="981000"/>
            <a:ext cx="230364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Общественный догов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(запрос семьи, обществ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государ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7"/>
          <p:cNvSpPr/>
          <p:nvPr/>
        </p:nvSpPr>
        <p:spPr>
          <a:xfrm rot="5400000">
            <a:off x="3888000" y="2817000"/>
            <a:ext cx="1295640" cy="3603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 rot="1981200">
            <a:off x="1731600" y="4746240"/>
            <a:ext cx="1206360" cy="241200"/>
          </a:xfrm>
          <a:custGeom>
            <a:avLst/>
            <a:gdLst>
              <a:gd name="textAreaLeft" fmla="*/ 188280 w 1206360"/>
              <a:gd name="textAreaRight" fmla="*/ 1055880 w 12063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</a:t>
            </a:r>
            <a:br>
              <a:rPr sz="2400"/>
            </a:br>
            <a:r>
              <a:rPr b="0" i="1" lang="ru-RU" sz="2400" spc="-1" strike="noStrike">
                <a:solidFill>
                  <a:srgbClr val="9494ff"/>
                </a:solidFill>
                <a:latin typeface="Arial"/>
                <a:ea typeface="Arial"/>
              </a:rPr>
              <a:t>в направлении личностного развития</a:t>
            </a:r>
            <a:br>
              <a:rPr sz="3600"/>
            </a:br>
            <a:r>
              <a:rPr b="0" lang="ru-RU" sz="4000" spc="-1" strike="noStrike">
                <a:solidFill>
                  <a:srgbClr val="9494ff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34960" y="1447920"/>
          <a:ext cx="7499520" cy="5303880"/>
        </p:xfrm>
        <a:graphic>
          <a:graphicData uri="http://schemas.openxmlformats.org/drawingml/2006/table">
            <a:tbl>
              <a:tblPr/>
              <a:tblGrid>
                <a:gridCol w="3065760"/>
                <a:gridCol w="443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ллектуальное развитие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качеств личности, необходимых человеку для полноценной жизни в современном обществе: ясность и точность мысли, критичность мышления, интуиция, логическое мышление, элементы алгоритмической культуры, пространственных представлений, способность к преодолению труд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логического и критического мышления, культуры речи, способности к умственному эксперимен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у учащихся интеллектуальной честности и объективности, способности к преодолению мыслительных стереотипов, вытекающих из обыденного опы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спитание качеств личности, обеспечивающих социальную  мобильность,  способность принимать самостоятельны! реш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 качеств мышления,   необходимых  для адаптации в современном информационном обществ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интереса к математическому творчеству и ма­тематических способно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500" spc="-1" strike="noStrike">
                <a:solidFill>
                  <a:srgbClr val="9494ff"/>
                </a:solidFill>
                <a:latin typeface="Arial"/>
              </a:rPr>
              <a:t>в метапредметном направлении</a:t>
            </a:r>
            <a:br>
              <a:rPr sz="25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34960" y="1447920"/>
          <a:ext cx="7499520" cy="5546520"/>
        </p:xfrm>
        <a:graphic>
          <a:graphicData uri="http://schemas.openxmlformats.org/drawingml/2006/table">
            <a:tbl>
              <a:tblPr/>
              <a:tblGrid>
                <a:gridCol w="2994120"/>
                <a:gridCol w="450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 идеях и методах математики как универсального языка науки и техники, средства моделирования явлений и процес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ультуры личности, отношения к математике как к части общечеловеческой культуры, понимание значимости математики для научно-технического прогре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й о математике  как  части общечеловеческой культуры, о значимости математики 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итии цивилизации и современного обще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редставлений о математике как форме описания и методе познания действительности, создание условии для приобретения первоначального опыта математическою моделир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бщих способов интеллектуальной деятельности, характерных для математики и являющихся основой познавательной культуры, значимой для различных сфер челове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м направлени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34960" y="1447920"/>
          <a:ext cx="7499520" cy="44496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лад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истемой математических знаний и умений, необходимых для применения в практической деятельности, изучения смежных дисциплин, продолжения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ладение математическими знаниями и умениями, необходимыми для продолжения обучения в старшей школе или иных общеобразовательных учреждениях, изучения смежных дисциплин, применения в повседневной жизн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здание фундамента для  математического  развития, формирования механизмов мышления, характерных для математическ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Arial"/>
              </a:rPr>
              <a:t>Содержание математическ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6"/>
          <p:cNvGrpSpPr/>
          <p:nvPr/>
        </p:nvGrpSpPr>
        <p:grpSpPr>
          <a:xfrm>
            <a:off x="684360" y="1628640"/>
            <a:ext cx="7775280" cy="4264200"/>
            <a:chOff x="684360" y="1628640"/>
            <a:chExt cx="7775280" cy="4264200"/>
          </a:xfrm>
        </p:grpSpPr>
        <p:sp>
          <p:nvSpPr>
            <p:cNvPr id="267" name="Rectangle 4"/>
            <p:cNvSpPr/>
            <p:nvPr/>
          </p:nvSpPr>
          <p:spPr>
            <a:xfrm>
              <a:off x="684360" y="2564640"/>
              <a:ext cx="3239640" cy="3328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Устанавлив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бязательный минимум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(обобщенное содержание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сновных образовательных программ общего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684360" y="1628640"/>
              <a:ext cx="3240000" cy="7077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4284000" y="1628640"/>
              <a:ext cx="4175640" cy="70812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"/>
            <p:cNvSpPr/>
            <p:nvPr/>
          </p:nvSpPr>
          <p:spPr>
            <a:xfrm>
              <a:off x="4356000" y="2564640"/>
              <a:ext cx="4103640" cy="332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реде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вариантную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обязательную)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ь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ой образовательной программ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отношение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язательной её части и части, формируемой участниками образовательного процес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Arial"/>
              </a:rPr>
              <a:t>Структура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"/>
          <p:cNvGrpSpPr/>
          <p:nvPr/>
        </p:nvGrpSpPr>
        <p:grpSpPr>
          <a:xfrm>
            <a:off x="395280" y="1628640"/>
            <a:ext cx="8353440" cy="4321440"/>
            <a:chOff x="395280" y="1628640"/>
            <a:chExt cx="8353440" cy="4321440"/>
          </a:xfrm>
        </p:grpSpPr>
        <p:sp>
          <p:nvSpPr>
            <p:cNvPr id="274" name="Rectangle 4"/>
            <p:cNvSpPr/>
            <p:nvPr/>
          </p:nvSpPr>
          <p:spPr>
            <a:xfrm>
              <a:off x="395280" y="2575440"/>
              <a:ext cx="2301120" cy="3374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ржательные компонент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ифм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лгеб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лементы логики, комбинаторики, статисти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теории вероят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395280" y="1641600"/>
              <a:ext cx="2301840" cy="7185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2912400" y="1641600"/>
              <a:ext cx="2461680" cy="71784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"/>
            <p:cNvSpPr/>
            <p:nvPr/>
          </p:nvSpPr>
          <p:spPr>
            <a:xfrm>
              <a:off x="2912400" y="2575440"/>
              <a:ext cx="2439360" cy="3374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ржательные раздел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ифм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лгеб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роятность и стат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Rectangle 6"/>
            <p:cNvGrpSpPr/>
            <p:nvPr/>
          </p:nvGrpSpPr>
          <p:grpSpPr>
            <a:xfrm>
              <a:off x="5558760" y="1628640"/>
              <a:ext cx="3189960" cy="741240"/>
              <a:chOff x="5558760" y="1628640"/>
              <a:chExt cx="3189960" cy="741240"/>
            </a:xfrm>
          </p:grpSpPr>
          <p:pic>
            <p:nvPicPr>
              <p:cNvPr id="279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558760" y="1628640"/>
                <a:ext cx="318996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573160" y="1641600"/>
                <a:ext cx="3164400" cy="7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Georgia"/>
                    <a:ea typeface="Arial"/>
                  </a:rPr>
                  <a:t>Отличие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2"/>
            <p:cNvSpPr/>
            <p:nvPr/>
          </p:nvSpPr>
          <p:spPr>
            <a:xfrm>
              <a:off x="5573160" y="2575440"/>
              <a:ext cx="3164400" cy="3374640"/>
            </a:xfrm>
            <a:prstGeom prst="rect">
              <a:avLst/>
            </a:prstGeom>
            <a:solidFill>
              <a:srgbClr val="99ff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ополнительные методологические раздел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огика и множ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тема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историческом разви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9"/>
          <p:cNvGrpSpPr/>
          <p:nvPr/>
        </p:nvGrpSpPr>
        <p:grpSpPr>
          <a:xfrm>
            <a:off x="1116000" y="1125360"/>
            <a:ext cx="6840720" cy="4967640"/>
            <a:chOff x="1116000" y="1125360"/>
            <a:chExt cx="6840720" cy="4967640"/>
          </a:xfrm>
        </p:grpSpPr>
        <p:sp>
          <p:nvSpPr>
            <p:cNvPr id="285" name="Rectangle 7"/>
            <p:cNvSpPr/>
            <p:nvPr/>
          </p:nvSpPr>
          <p:spPr>
            <a:xfrm>
              <a:off x="1116000" y="1125360"/>
              <a:ext cx="6840720" cy="72000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"/>
            <p:cNvSpPr/>
            <p:nvPr/>
          </p:nvSpPr>
          <p:spPr>
            <a:xfrm>
              <a:off x="1116000" y="2061360"/>
              <a:ext cx="6778440" cy="40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ужит базой для дальнейшего изучения учащимися математики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развитию их логического мышлени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ю умения пользоваться алгоритмами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обретению практических навыков, необходимых в повседневной жизн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понятия о числе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язано с рациональными и иррациональными числами, формированием первичных представлений о действительном числе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Arial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Группа 19"/>
          <p:cNvGrpSpPr/>
          <p:nvPr/>
        </p:nvGrpSpPr>
        <p:grpSpPr>
          <a:xfrm>
            <a:off x="900000" y="1125360"/>
            <a:ext cx="7417080" cy="5328000"/>
            <a:chOff x="900000" y="1125360"/>
            <a:chExt cx="7417080" cy="5328000"/>
          </a:xfrm>
        </p:grpSpPr>
        <p:sp>
          <p:nvSpPr>
            <p:cNvPr id="290" name="Rectangle 7"/>
            <p:cNvSpPr/>
            <p:nvPr/>
          </p:nvSpPr>
          <p:spPr>
            <a:xfrm>
              <a:off x="900000" y="1125360"/>
              <a:ext cx="7417080" cy="67536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"/>
            <p:cNvSpPr/>
            <p:nvPr/>
          </p:nvSpPr>
          <p:spPr>
            <a:xfrm>
              <a:off x="900000" y="2025720"/>
              <a:ext cx="7349760" cy="442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формированию у учащихся математического аппарата для решения задач из разных разделов математики, смежных предметов, окружающей реальност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зык алгебры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черкивает значение математики как языка для построения математических моделей процессов и явлений реального мир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задачи изучения алгебры входят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алгоритмического мышления, необходимого, в частности, для освоения курса информатики, овладение навыками дедуктивных рассуждений.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образование символьных форм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осит специфический вклад в развитие воображения учащихся, их способностей к математическому творчеству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руппируется вокруг рациональных выражений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9"/>
          <p:cNvGrpSpPr/>
          <p:nvPr/>
        </p:nvGrpSpPr>
        <p:grpSpPr>
          <a:xfrm>
            <a:off x="900000" y="1125360"/>
            <a:ext cx="7417080" cy="4104000"/>
            <a:chOff x="900000" y="1125360"/>
            <a:chExt cx="7417080" cy="4104000"/>
          </a:xfrm>
        </p:grpSpPr>
        <p:sp>
          <p:nvSpPr>
            <p:cNvPr id="295" name="Rectangle 7"/>
            <p:cNvSpPr/>
            <p:nvPr/>
          </p:nvSpPr>
          <p:spPr>
            <a:xfrm>
              <a:off x="900000" y="1125360"/>
              <a:ext cx="7417080" cy="74088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"/>
            <p:cNvSpPr/>
            <p:nvPr/>
          </p:nvSpPr>
          <p:spPr>
            <a:xfrm>
              <a:off x="900000" y="2088360"/>
              <a:ext cx="7349760" cy="3141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елено на получение школьниками конкретных знаний о функции как важнейшей математической модели для описания и исследования разнообразных процессов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материала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развитию у учащихся умения использовать различные языки математики (словесный, символический, графический), вносит вклад в формирование представлений о роли математики в развитии цивилизации и культур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6"/>
          <p:cNvSpPr/>
          <p:nvPr/>
        </p:nvSpPr>
        <p:spPr>
          <a:xfrm>
            <a:off x="2286000" y="1444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Г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19"/>
          <p:cNvGrpSpPr/>
          <p:nvPr/>
        </p:nvGrpSpPr>
        <p:grpSpPr>
          <a:xfrm>
            <a:off x="1116000" y="981000"/>
            <a:ext cx="6840720" cy="5184720"/>
            <a:chOff x="1116000" y="981000"/>
            <a:chExt cx="6840720" cy="5184720"/>
          </a:xfrm>
        </p:grpSpPr>
        <p:sp>
          <p:nvSpPr>
            <p:cNvPr id="301" name="Rectangle 7"/>
            <p:cNvSpPr/>
            <p:nvPr/>
          </p:nvSpPr>
          <p:spPr>
            <a:xfrm>
              <a:off x="1116000" y="981000"/>
              <a:ext cx="6840720" cy="57528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>
              <a:off x="1116000" y="1701000"/>
              <a:ext cx="6778440" cy="446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пространственного воображения и логического мышлени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геометрической интуиции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об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тическое изучение свойств геометрических фигур на плоскости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свойств при решении задач вычислительного и конструктивного характер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глядности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гости.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56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Arial"/>
              </a:rPr>
              <a:t>Структура содержательного раздела «Геомет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12"/>
          <p:cNvGrpSpPr/>
          <p:nvPr/>
        </p:nvGrpSpPr>
        <p:grpSpPr>
          <a:xfrm>
            <a:off x="395280" y="1197000"/>
            <a:ext cx="8353440" cy="4968720"/>
            <a:chOff x="395280" y="1197000"/>
            <a:chExt cx="8353440" cy="4968720"/>
          </a:xfrm>
        </p:grpSpPr>
        <p:sp>
          <p:nvSpPr>
            <p:cNvPr id="306" name="Rectangle 4"/>
            <p:cNvSpPr/>
            <p:nvPr/>
          </p:nvSpPr>
          <p:spPr>
            <a:xfrm>
              <a:off x="395280" y="1929240"/>
              <a:ext cx="2301120" cy="4236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ьные понятия и теоремы геоме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етырех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ность и кр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рение геометрических велич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кт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Геометрические пре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395280" y="1211040"/>
              <a:ext cx="2301840" cy="5745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2912400" y="1211040"/>
              <a:ext cx="2461680" cy="57420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"/>
            <p:cNvSpPr/>
            <p:nvPr/>
          </p:nvSpPr>
          <p:spPr>
            <a:xfrm>
              <a:off x="2912400" y="1929240"/>
              <a:ext cx="2439360" cy="4236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глядная 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ческие фиг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рение геометрических фигу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ордин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кт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Rectangle 6"/>
            <p:cNvGrpSpPr/>
            <p:nvPr/>
          </p:nvGrpSpPr>
          <p:grpSpPr>
            <a:xfrm>
              <a:off x="5558760" y="1197000"/>
              <a:ext cx="3189960" cy="601560"/>
              <a:chOff x="5558760" y="1197000"/>
              <a:chExt cx="3189960" cy="601560"/>
            </a:xfrm>
          </p:grpSpPr>
          <p:pic>
            <p:nvPicPr>
              <p:cNvPr id="311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558760" y="1197000"/>
                <a:ext cx="3189960" cy="60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573160" y="1211040"/>
                <a:ext cx="31644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Georgia"/>
                    <a:ea typeface="Arial"/>
                  </a:rPr>
                  <a:t>Отличие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Rectangle 2"/>
            <p:cNvSpPr/>
            <p:nvPr/>
          </p:nvSpPr>
          <p:spPr>
            <a:xfrm>
              <a:off x="5573160" y="1929240"/>
              <a:ext cx="3164400" cy="4236480"/>
            </a:xfrm>
            <a:prstGeom prst="rect">
              <a:avLst/>
            </a:prstGeom>
            <a:solidFill>
              <a:srgbClr val="99ff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крупнение дидактических единиц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огика развертывания учебного материал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глядна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ьная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числительна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слеевклидов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жпредметный характер некоторых блок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Фундаментальное ядро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одержания общего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ксир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базовых 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ценностей, раскрываемых в содерж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основных понятий, относящихся к областям знаний, представленным в общем образ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ключевых задач, обеспечивающих формирование  универсальных видо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314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Требования к результатам обучения и усвоению содержания курс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23880" y="1397160"/>
          <a:ext cx="6977160" cy="5089320"/>
        </p:xfrm>
        <a:graphic>
          <a:graphicData uri="http://schemas.openxmlformats.org/drawingml/2006/table">
            <a:tbl>
              <a:tblPr/>
              <a:tblGrid>
                <a:gridCol w="326232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езультате изучения математики ученик долж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ть/поним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ть приобретенные знания и умения в практической деятельности и повседневной жизн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учение математики в основной школе дает возможность обучающимся достичь следующих результатов в направле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чностного развития:…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метапредметном направлении: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предметном направле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d5dae"/>
                </a:solidFill>
                <a:latin typeface="Arial"/>
                <a:ea typeface="Arial"/>
              </a:rPr>
              <a:t>Распределение учебного времени между предмет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14240" y="1928880"/>
          <a:ext cx="8220240" cy="3365280"/>
        </p:xfrm>
        <a:graphic>
          <a:graphicData uri="http://schemas.openxmlformats.org/drawingml/2006/table">
            <a:tbl>
              <a:tblPr/>
              <a:tblGrid>
                <a:gridCol w="2740320"/>
                <a:gridCol w="2739960"/>
                <a:gridCol w="2739960"/>
              </a:tblGrid>
              <a:tr h="16822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математического цикла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на ступени основного образования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0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-9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Примерное тематическое план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14240" y="2038320"/>
          <a:ext cx="8215560" cy="4819680"/>
        </p:xfrm>
        <a:graphic>
          <a:graphicData uri="http://schemas.openxmlformats.org/drawingml/2006/table">
            <a:tbl>
              <a:tblPr/>
              <a:tblGrid>
                <a:gridCol w="3122640"/>
                <a:gridCol w="5092920"/>
              </a:tblGrid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е содержание по тем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 основных видов деятельности ученика (на уровне учебных действ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58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Алгебраические дроб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гебраическая дробь. Основное свойство алгебраической дроби. Сокращение дробей. Сложение, вычитание, умножение, деление алгебраических дробей. Степень с целым показателем и ее свойства. Рациональные выражения и их преобразования. Доказательство тожде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ировать основное свойство алгебраической дроби и применять его для преобразования дробей. Выполнять действия с алгебраическими дробями. Представлять целое выражение в виде многочлена, дробное -в виде отношения многочленов; доказывать тождества. Формулировать определение степени с целым показателем. Формулировать, записывать в символической форме и иллюстрировать примерами свойства степени с це­лым показателем; применять свойства степени для преобразования выражений и вычислений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Авторская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учебная  програм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озданный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ГОС и примерной учебной программы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щий авторскую концепцию построения       содержания учебного курса, предмета, дисциплины  (модул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атывается одним автором или группой ав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167-565B-42A0-8583-FD5E9952F8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C:\Documents and Settings\Антонина Ивановна\Рабочий стол\1079543.jpg"/>
          <p:cNvPicPr/>
          <p:nvPr/>
        </p:nvPicPr>
        <p:blipFill>
          <a:blip r:embed="rId1"/>
          <a:stretch/>
        </p:blipFill>
        <p:spPr>
          <a:xfrm>
            <a:off x="7524720" y="4000680"/>
            <a:ext cx="161928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32, п.7 Закона РФ 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б образов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омпетенции образовательного учреждения относится «разработка и утверждение рабочих программ учебных курсов, предметов, дисциплин (модулей)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Сущность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учебной  рабочей программ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Основой образовательной деятельности в ОУ является </a:t>
            </a:r>
            <a:r>
              <a:rPr b="1" i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учебная программа</a:t>
            </a:r>
            <a:r>
              <a:rPr b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– </a:t>
            </a:r>
            <a:r>
              <a:rPr b="0" i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нормативный документ, в котором представлены основные знания, умения и навыки по учебным предметам и дисциплинам, подлежащие усвоению уча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594E-BD1B-4176-BAA0-66DAFD63EB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Рабочая 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«рабочая» определяет нормативность данного документа применительно к образовательному процессу в конкретном ОУ, к конкретной учебной дисципл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программы носят точный, конкретный 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9680" y="704880"/>
            <a:ext cx="8186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2"/>
                </a:solidFill>
                <a:latin typeface="Arial"/>
              </a:rPr>
              <a:t>Учебная рабочая программ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, её содержательная форма определяются органом самоуправления образовательным учреждением (научно-методическим советом, педагогическим советом) и отражаются в локальных нормативно-правовых ак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Примерная структура рабочей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9680" y="1981080"/>
            <a:ext cx="81867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– тематический пла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грамм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учащихс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учи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2B61-BD33-4DD4-983F-51B9422BD1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Arial"/>
              </a:rPr>
              <a:t>Титульный ли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бразовательного учре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изучаемого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разрабо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разработчика или составителя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грифы о рассмотрении программы на МО учителей математики и утверждении программы на школь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749-0172-48A8-9943-991E5158DB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500040" y="571680"/>
            <a:ext cx="8429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Фундаментального ядра осуществлялась с учетом таких рамочных ограничений,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раткость фиксации обобщенных контуров научного содержания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отказ от деталей, сугубо методической природы и конкретных методических решений. Фундаментальное ядро определяет объем знаний, которыми должен овладеть выпускник школы, но не распределение предлагаемого содержания по конкретным предметам и ступеня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писание в лаконичной форме областей знаний, представленных в современной школе, но не конкрет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 </a:t>
            </a:r>
            <a:br>
              <a:rPr sz="4400"/>
            </a:br>
            <a:r>
              <a:rPr b="0" i="1" lang="ru-RU" sz="2400" spc="-1" strike="noStrike">
                <a:solidFill>
                  <a:srgbClr val="00005e"/>
                </a:solidFill>
                <a:latin typeface="Arial"/>
              </a:rPr>
              <a:t>(см. технологическую кар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чень нормативных документов, лежащих в основе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фика предмета «Математика» и актуальность его изучения в современной системе обще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и задачи учебного предмета «Математика» в области формирования системы знаний, практических умений, обеспечения общего уровня образованности, развития и воспитания учащихся (в личностном, метапредаметном, предметном направлениях). Задачи раскрываются в соответствии с Государственным образовательным стандар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о предмета в системе общего образования и условия его освоения и особенности программного матер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обенности организации учебного процесса по предмету: специфику образовательного учреждения; психологические особенности обучающихся, их образовательные интересы (для профильных и непрофильных классов, для классов с детьми с отклонениями в развитии и для классов с детьми без отклонений); формы обучения (обычная, индивидуальная, домашняя, экстернат); предпочтительные формы организации учебного процесса (лекции, традиционные уроки, семинары, практические занятия, лабораторные работы, межпредметные практические занятия и др.); методы и технологии обучения предмету; формы контроля знаний и умений учащихся (текущего и итоговог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пояснительной записке к рабочей программе могут содержаться рекомендации по организации самостоятельной работы учащихся. Учащемуся могут быть рекомендованы такие виды заданий, как решение упражнений и задач, анализ проблемных практических ситуаций, подготовка к деловым играм и участие в них, работа на тренажерах, подготовка рефератов, докладов, постановка экспериментов, исследовательская учебная работа и др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935000"/>
          <a:ext cx="8229600" cy="1285920"/>
        </p:xfrm>
        <a:graphic>
          <a:graphicData uri="http://schemas.openxmlformats.org/drawingml/2006/table">
            <a:tbl>
              <a:tblPr/>
              <a:tblGrid>
                <a:gridCol w="1257480"/>
                <a:gridCol w="285732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935000"/>
          <a:ext cx="8186760" cy="1279800"/>
        </p:xfrm>
        <a:graphic>
          <a:graphicData uri="http://schemas.openxmlformats.org/drawingml/2006/table">
            <a:tbl>
              <a:tblPr/>
              <a:tblGrid>
                <a:gridCol w="2174760"/>
                <a:gridCol w="1100160"/>
                <a:gridCol w="1636920"/>
                <a:gridCol w="1638360"/>
                <a:gridCol w="16365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блоков, разделов и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57200" y="1935000"/>
          <a:ext cx="8229600" cy="1670040"/>
        </p:xfrm>
        <a:graphic>
          <a:graphicData uri="http://schemas.openxmlformats.org/drawingml/2006/table">
            <a:tbl>
              <a:tblPr/>
              <a:tblGrid>
                <a:gridCol w="1757520"/>
                <a:gridCol w="1000080"/>
                <a:gridCol w="1071360"/>
                <a:gridCol w="1071720"/>
                <a:gridCol w="1071360"/>
                <a:gridCol w="1081080"/>
                <a:gridCol w="11764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локов, разделов и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ны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42920" y="2071800"/>
          <a:ext cx="8501040" cy="171756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  <a:gridCol w="1214640"/>
                <a:gridCol w="1401480"/>
                <a:gridCol w="1455840"/>
                <a:gridCol w="785880"/>
              </a:tblGrid>
              <a:tr h="368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сновная 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одерж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ланируем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арактери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науча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получат возможность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54B-079F-4D66-9148-14A8F748E8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Arial"/>
              </a:rPr>
              <a:t>Содержание програм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изируются учебные элементы (дидактические единицы) по каждому блоку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изируются требования к знаниям и умениям, которыми должны овладеть учащиеся после изучения блок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400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494ff"/>
                </a:solidFill>
                <a:latin typeface="Arial"/>
              </a:rPr>
              <a:t>Список литератур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, используемый педагогом при составлении программы и организации учеб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обучающихся, который включает учебники, учебные пособия, справочники, энциклопедии и другие источники по предм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ила оформ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ки строятся по алфавитному ряду и в соответствии в соответствии с требованиями Госстандарта (ГОСТ 7.1 – 200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исок литературы могут быть включены [Электронный ресурс], [Видеозапись], [Звукозапись], [Карты]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E05-20C8-4A41-ACB8-4FED9EC8F5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357120" y="42876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цели школьного математического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освоение учащимися системы математических знаний, необходимых для изучения смежных школьных дисциплин и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формирование представлений о математике как форме описания и методе познания действ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приобретение навыков логического и алгоритм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ила оформ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Амонашвили, Ш. А. Личностно-гуманная основа педагогического процесса [Текст]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. А. Амонашвили. – Минск: Университет школе, 1990. – 559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Муравин, Г. К. Математика. 6 кл. [Текст] : учеб. для общеобразоват.  учреждений / Г. К. Муравина, О. В. Муравина. – М. : Дрофа, 2011. – 319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17B-EF53-4FD4-A630-13213C2DF5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вский, В. В. Повышение квалификации педагогических кадров [Текст] / В. В. Краевский // Педагогика. – 1992. –  №7– 8. С. 55–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EBE-60C9-4CC9-A393-FEBE059368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Контрольные матери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измерительные материалы (КИМ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 контр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Дополнительные 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карта программы (где представляются самые основные сведения о предмете, учителе, учебнике, классе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тематика рефер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часть (анализ педагогической деятельности по реализации программ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494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. методические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 по разработке рабочих програ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математик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йт КРИПК иПРО: </a:t>
            </a:r>
            <a:r>
              <a:rPr b="0" i="1" lang="en-US" sz="32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</a:rPr>
              <a:t>www.ipk–edu.ru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ные подразделения – кафедра естественнонаучных и математических дисципл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840" y="227160"/>
            <a:ext cx="741024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ланируемые результаты освоения учебных программ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84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 требований к уровню подготовки учащихс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требований на язык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апы сост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00000" y="1628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рограмму и соответствующую линию УМ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2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авнить цели изучения из Примерной и авторской программ с целями образовательной программы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3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ить требования к уровню подготовки выпускников в Примерной и авторской программах и выделить требования превышающие их в соответствии с  особенностями 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4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ь требования через операционально выраженные диагностичные цели – результат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5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елить и конкретизировать требования к уровню подготовки учащихся из авторской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апы сост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5280" y="15573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.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ить содержание Примерной, авторской программ. Выделить перечень тем, не включенных в авторскую программу и те, которые носят избыточный характер в рамках реализации программы 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7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ректировать содер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8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ировать содержание (определить последовательность тем и количество часов на их изуч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9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ь список учебно-методических и материально-технических средств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0.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контролирующие материа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Оформить материалы согласно струк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Рассмотрение и утверждение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рабоче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85688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38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ff"/>
                </a:solidFill>
                <a:latin typeface="Arial"/>
              </a:rPr>
              <a:t>1.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оки и порядок рассмотрения рабочих программ устанавливаются локальным актом О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38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Arial"/>
              </a:rPr>
              <a:t>2.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может быть, например, таковы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ссматривается на заседании методического объединения учителей (результаты заносятся в протокол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условии ее соответствия установленным требованиям, согласуется с заместителем директора по У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ается руководителем ОУ, после чего программа становится нормативным документом данного 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4176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Загнутый угол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4213080" cy="4859280"/>
          </a:xfrm>
          <a:prstGeom prst="rect">
            <a:avLst/>
          </a:prstGeom>
          <a:ln w="0">
            <a:noFill/>
          </a:ln>
        </p:spPr>
      </p:pic>
      <p:pic>
        <p:nvPicPr>
          <p:cNvPr id="382" name="Загнутый угол 4" descr=""/>
          <p:cNvPicPr/>
          <p:nvPr/>
        </p:nvPicPr>
        <p:blipFill>
          <a:blip r:embed="rId2"/>
          <a:stretch/>
        </p:blipFill>
        <p:spPr>
          <a:xfrm>
            <a:off x="4767120" y="1268280"/>
            <a:ext cx="4211640" cy="48578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06493.gif"/>
          <p:cNvPicPr/>
          <p:nvPr/>
        </p:nvPicPr>
        <p:blipFill>
          <a:blip r:embed="rId3"/>
          <a:stretch/>
        </p:blipFill>
        <p:spPr>
          <a:xfrm>
            <a:off x="6929280" y="0"/>
            <a:ext cx="160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F06E-46E4-46EF-85FD-F2925E452C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428760" y="571680"/>
            <a:ext cx="6429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и 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ая теория информации 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68B0-1E34-4109-9443-0CC693683C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42920" y="428760"/>
            <a:ext cx="8858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ая теория информации и модел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ретное (в том числе двоичное) представле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ы измерения количества информации. Сжат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ирование и декод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информации по формальным прави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. Способы записи алгоритмов; блок-схемы. Логические значения, операции, выражения. Алгоритмические конструкции (имена, ветвление, циклы). Разбиение задачи на подзадачи, вспомогательные алгоритмы. Типы обрабатываемых объектов. Примеры алгоритмов. Выигрышная стратегия в иг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мые функции, формализация понятия вычислимой функции, полнота формализации. Сложность вычисления и сложность информационного объекта. Несуществование алгоритмов, проблема пере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23"/>
          <p:cNvSpPr/>
          <p:nvPr/>
        </p:nvSpPr>
        <p:spPr>
          <a:xfrm>
            <a:off x="785880" y="1571760"/>
            <a:ext cx="7632720" cy="41050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0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2" name="Oval 18"/>
          <p:cNvSpPr/>
          <p:nvPr/>
        </p:nvSpPr>
        <p:spPr>
          <a:xfrm>
            <a:off x="1258920" y="3645000"/>
            <a:ext cx="345420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структуре 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2916360" y="2205000"/>
            <a:ext cx="3454200" cy="1655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результатам о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4643280" y="3716280"/>
            <a:ext cx="3454560" cy="1656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условиям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79280" y="11592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  <a:ea typeface="Aharoni"/>
              </a:rPr>
              <a:t>Тр + Тс + Ту – новая формула стандар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900000" y="54936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ые характеристики нового станд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900000" y="2205000"/>
            <a:ext cx="75596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ый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ат                                  рамочн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ое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одержание                           совокупнос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расширение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ункций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ое       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истем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методологическое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ятельно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нование                                        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8"/>
          <p:cNvCxnSpPr/>
          <p:nvPr/>
        </p:nvCxnSpPr>
        <p:spPr>
          <a:xfrm>
            <a:off x="4211640" y="2421000"/>
            <a:ext cx="792720" cy="21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199" name="Прямая со стрелкой 10"/>
          <p:cNvCxnSpPr/>
          <p:nvPr/>
        </p:nvCxnSpPr>
        <p:spPr>
          <a:xfrm>
            <a:off x="4211640" y="2924280"/>
            <a:ext cx="792720" cy="21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00" name="Прямая со стрелкой 11"/>
          <p:cNvCxnSpPr/>
          <p:nvPr/>
        </p:nvCxnSpPr>
        <p:spPr>
          <a:xfrm>
            <a:off x="4211640" y="4581000"/>
            <a:ext cx="792720" cy="252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0:15Z</dcterms:created>
  <dc:creator>comp</dc:creator>
  <dc:description/>
  <dc:language>en-US</dc:language>
  <cp:lastModifiedBy>Александр</cp:lastModifiedBy>
  <dcterms:modified xsi:type="dcterms:W3CDTF">2012-11-09T12:25:00Z</dcterms:modified>
  <cp:revision>107</cp:revision>
  <dc:subject/>
  <dc:title>Разработка основной образовательной программы образовательного  учреждения на основе Примерной основной образовательной программы</dc:title>
</cp:coreProperties>
</file>