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C62E-8BA4-4735-B925-CDEE0609AF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FC56-48E4-4583-9F3C-61115E367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4A02-4DAD-4D52-BA65-8C9FEF210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40C4-99D2-4510-951F-F8FCEA8B1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05E1-8700-4FF6-BDC6-8C34B1C2B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FCA-4945-40A8-9204-E44E96845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ий проект концепции предлагает в качестве государственных стандартов общего образования второго поколения рассматривать три компонента – «Требования к структуре основных общеобразовательных программ», «Требования к результатам освоения основных общеобразовательных программ» и «Требования к условиям реализации основных общеобразовательных программ » (см. рис.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ребования к структуре основных общеобразовате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ют собой рамочное описание базовых компонентов образовательных программ начального общего, основного общего и полного средне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основных общеобразовате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ют собой операциональное описание целевых установок обще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ребования к условиям получения общего образова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интегральное описание совокупности условий, необходимых и рекомендуемых для обеспечения реализации соответствующих образовательных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E2F2-0BE2-445A-96FB-24127953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0B43-8C38-4214-A307-49A4D437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2B18-AFAD-469F-B6D0-ACAB7AD3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8525-5265-4450-874B-E27E0352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CAFB-FFEA-4BE2-9E7D-88674D15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040C-64FD-4EE7-977B-0589E2D3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C346-F584-480E-923D-94D0C719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AD7D-CAE9-48BE-8F20-93694A5B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424F-A48D-4108-B877-184CA820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2B06-025E-4BDE-BA6F-19A2428A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022-9550-4459-9256-3D0073E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EA30-60F4-418E-B134-7CEEFE23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FDA3-F1D8-4433-BAEE-3D3644C5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711F-EAFA-491B-BCF2-6C0D0A7D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6654-3857-4D47-84EA-A247B16A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AF91-E763-4A15-A5C2-8B28E1CA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0237-7D69-4B6D-B494-F2BA54DF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3833C-611F-431C-A85A-E8FEF842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C576-5772-4D2D-A56E-A4B5A64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6298-921B-4527-A430-B65BDA30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39AE-B143-4515-ADFE-683648E0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1769-B33F-42B6-B7EA-1850CAF8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F9A7-30C9-4612-9CCE-84DF764D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5B09-C279-473B-AEAB-FE9361F5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2154-4A4E-4B21-A075-77844697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1444-5768-48D8-9875-3BA9AA6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4EC3-FE92-4890-9E14-1543AD33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6823-A684-4B75-AE5C-75C158DC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0BAB5-74D7-47B2-A6FB-3367D48E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BA45-AEF5-424F-B0B5-7C99C48F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0CBE-47BB-40FE-AD3D-13F29AC5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AC85-A21A-43A2-B5E3-8A1B5EB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41C7-75D8-4CE5-B395-28714E3C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C478-79F2-4D1E-A558-A67CB3E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848A-3BA1-4FFC-895E-587809B2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0DA7-4681-4A0C-914A-8EB14037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149E-EE6C-4BF5-A880-4348108644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F9C3-4F8D-4F6F-A55B-9F587F7D64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FBE3-84BC-4EA1-9785-A3D13F9D10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640" y="1773000"/>
            <a:ext cx="6019920" cy="23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льный государственный образовательный стандарт основного обще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714400" y="4286160"/>
            <a:ext cx="6019560" cy="6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5e"/>
                </a:solidFill>
                <a:latin typeface="PMingLiU"/>
                <a:ea typeface="PMingLiU"/>
              </a:rPr>
              <a:t>МАТЕМА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720" y="274680"/>
            <a:ext cx="91803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BE2B-E877-428C-9013-2EDB0E494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250920" y="1413000"/>
            <a:ext cx="720720" cy="51116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5111640"/>
              <a:gd name="textAreaBottom" fmla="*/ 5076720 h 5111640"/>
            </a:gdLst>
            <a:ahLst/>
            <a:rect l="textAreaLeft" t="textAreaTop" r="textAreaRight" b="textAreaBottom"/>
            <a:pathLst>
              <a:path w="21600" h="153130">
                <a:moveTo>
                  <a:pt x="3600" y="0"/>
                </a:moveTo>
                <a:arcTo wR="3600" hR="3600" stAng="16200000" swAng="-5400000"/>
                <a:lnTo>
                  <a:pt x="0" y="149530"/>
                </a:lnTo>
                <a:arcTo wR="3600" hR="3600" stAng="10800000" swAng="-5400000"/>
                <a:lnTo>
                  <a:pt x="18000" y="1531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1187280" y="3789360"/>
            <a:ext cx="505080" cy="216000"/>
          </a:xfrm>
          <a:custGeom>
            <a:avLst/>
            <a:gdLst>
              <a:gd name="textAreaLeft" fmla="*/ 78840 w 505080"/>
              <a:gd name="textAreaRight" fmla="*/ 442080 w 505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1692360" y="1268280"/>
            <a:ext cx="2158920" cy="129708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освоения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148360" y="1844640"/>
            <a:ext cx="718920" cy="289080"/>
          </a:xfrm>
          <a:custGeom>
            <a:avLst/>
            <a:gdLst>
              <a:gd name="textAreaLeft" fmla="*/ 112320 w 718920"/>
              <a:gd name="textAreaRight" fmla="*/ 629280 w 7189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6"/>
          <p:cNvSpPr/>
          <p:nvPr/>
        </p:nvSpPr>
        <p:spPr>
          <a:xfrm>
            <a:off x="1763640" y="3213000"/>
            <a:ext cx="2160720" cy="129564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584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Треб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к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6"/>
          <p:cNvSpPr/>
          <p:nvPr/>
        </p:nvSpPr>
        <p:spPr>
          <a:xfrm>
            <a:off x="1692360" y="5156280"/>
            <a:ext cx="2232000" cy="144144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ahoma"/>
              </a:rPr>
              <a:t>усло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6"/>
          <p:cNvSpPr/>
          <p:nvPr/>
        </p:nvSpPr>
        <p:spPr>
          <a:xfrm>
            <a:off x="5940360" y="3068640"/>
            <a:ext cx="2879640" cy="1549440"/>
          </a:xfrm>
          <a:prstGeom prst="roundRect">
            <a:avLst>
              <a:gd name="adj" fmla="val 16667"/>
            </a:avLst>
          </a:prstGeom>
          <a:solidFill>
            <a:srgbClr val="fee8f6"/>
          </a:solidFill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Орган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и 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6"/>
          <p:cNvSpPr/>
          <p:nvPr/>
        </p:nvSpPr>
        <p:spPr>
          <a:xfrm>
            <a:off x="5940360" y="1197000"/>
            <a:ext cx="2881440" cy="1511280"/>
          </a:xfrm>
          <a:prstGeom prst="roundRect">
            <a:avLst>
              <a:gd name="adj" fmla="val 16667"/>
            </a:avLst>
          </a:prstGeom>
          <a:solidFill>
            <a:srgbClr val="fee8f6"/>
          </a:solidFill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Ожидаемые дост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6"/>
          <p:cNvSpPr/>
          <p:nvPr/>
        </p:nvSpPr>
        <p:spPr>
          <a:xfrm>
            <a:off x="5940360" y="5013360"/>
            <a:ext cx="2881440" cy="1411200"/>
          </a:xfrm>
          <a:prstGeom prst="roundRect">
            <a:avLst>
              <a:gd name="adj" fmla="val 16667"/>
            </a:avLst>
          </a:prstGeom>
          <a:solidFill>
            <a:srgbClr val="fee8f6"/>
          </a:solidFill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Ресурсы: кад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материальная ба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информ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ahoma"/>
              </a:rPr>
              <a:t>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2484360" y="2637000"/>
            <a:ext cx="216000" cy="504720"/>
          </a:xfrm>
          <a:prstGeom prst="upDownArrow">
            <a:avLst>
              <a:gd name="adj1" fmla="val 50000"/>
              <a:gd name="adj2" fmla="val 19991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2627280" y="4579920"/>
            <a:ext cx="216000" cy="504720"/>
          </a:xfrm>
          <a:prstGeom prst="upDownArrow">
            <a:avLst>
              <a:gd name="adj1" fmla="val 50000"/>
              <a:gd name="adj2" fmla="val 19991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7"/>
          <p:cNvSpPr/>
          <p:nvPr/>
        </p:nvSpPr>
        <p:spPr>
          <a:xfrm>
            <a:off x="5148360" y="3645000"/>
            <a:ext cx="718920" cy="288720"/>
          </a:xfrm>
          <a:custGeom>
            <a:avLst/>
            <a:gdLst>
              <a:gd name="textAreaLeft" fmla="*/ 112320 w 718920"/>
              <a:gd name="textAreaRight" fmla="*/ 629280 w 7189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5148360" y="5516640"/>
            <a:ext cx="718920" cy="288720"/>
          </a:xfrm>
          <a:custGeom>
            <a:avLst/>
            <a:gdLst>
              <a:gd name="textAreaLeft" fmla="*/ 112320 w 718920"/>
              <a:gd name="textAreaRight" fmla="*/ 629280 w 7189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4211640" y="981000"/>
            <a:ext cx="865080" cy="568800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5688000"/>
              <a:gd name="textAreaBottom" fmla="*/ 5645880 h 5688000"/>
            </a:gdLst>
            <a:ahLst/>
            <a:rect l="textAreaLeft" t="textAreaTop" r="textAreaRight" b="textAreaBottom"/>
            <a:pathLst>
              <a:path w="21600" h="141972">
                <a:moveTo>
                  <a:pt x="3600" y="0"/>
                </a:moveTo>
                <a:arcTo wR="3600" hR="3600" stAng="16200000" swAng="-5400000"/>
                <a:lnTo>
                  <a:pt x="0" y="138372"/>
                </a:lnTo>
                <a:arcTo wR="3600" hR="3600" stAng="10800000" swAng="-5400000"/>
                <a:lnTo>
                  <a:pt x="18000" y="141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66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468360" y="404640"/>
            <a:ext cx="842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Lucida Sans Unicode"/>
              </a:rPr>
              <a:t>Стандарт как совокупность треб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6"/>
          <p:cNvSpPr/>
          <p:nvPr/>
        </p:nvSpPr>
        <p:spPr>
          <a:xfrm flipH="1">
            <a:off x="0" y="907920"/>
            <a:ext cx="914400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готовность и способность к саморазвитию и личностному самоопределению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сформированность мотивации к обучению и целенаправленной познавательной деятельност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системы значимых социальных и межличностных отноше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ценностно-смысловых установок, социальные компетен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способность ставить цели и стоить жизненные план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способность к осознанию российской идентич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</a:rPr>
              <a:t>в поликультурном социум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5280" y="405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Требования к результатам освоения О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673520" y="260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0"/>
          <p:cNvSpPr/>
          <p:nvPr/>
        </p:nvSpPr>
        <p:spPr>
          <a:xfrm>
            <a:off x="468360" y="3141720"/>
            <a:ext cx="3598920" cy="34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e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своенные межпредм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онятия и универс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учебные действ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пособность их использования в учебной, познавательной и социальной практик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самостоятельность планирования и осуществления учебной деятельности и организации учебного сотрудни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остроение индивидуальной образовательной траек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1"/>
          <p:cNvSpPr/>
          <p:nvPr/>
        </p:nvSpPr>
        <p:spPr>
          <a:xfrm>
            <a:off x="4572000" y="3141720"/>
            <a:ext cx="4103640" cy="34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e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освоенные умения предметн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иды деятельности по получению нового знания, его преобразованию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применению в различных ситуация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формирование научного типа мышления, научных представлений о ключевых теориях, типах и видах отноше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</a:rPr>
              <a:t>владение научной терминологией, ключевыми понятиями, методами и прием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Редакция Федерального закона от 01.12.07 г. № 309-Ф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38320" indent="-2383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2e"/>
                </a:solidFill>
                <a:latin typeface="Arial"/>
              </a:rPr>
              <a:t>Основная образовательная программа в имеющем государственную аккредитацию образовательном учреждении разрабатывается на основе примерных основных образовательных программ и должна обеспечивать достижение обучающимися результатов, установленных соответствующим федеральными государственными образовательными стандартами (п.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8343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кон РФ «Об образовании»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  Ст.14, 29 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Основная образовательная программ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утверждается  и реализуется образовательным учреждение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амостоя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Основная образовательная программ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образова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учреждения  разрабатывается на основе соответств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мерных основных образовательных програм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Примерная основная образовательная программ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разрабатывается на основе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федеральных государственных образовательных стандар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азработка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примерных основных образовательных программ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обеспечивается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полномоченными федеральными государственными орган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рганы государственной власти субъекта Российской Федерации в сфере образования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огут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принимать участие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в разработке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примерных основных образовательных программ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(в части учета региональных, национальных и этнокультурных особенностей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8"/>
          <p:cNvSpPr/>
          <p:nvPr/>
        </p:nvSpPr>
        <p:spPr>
          <a:xfrm>
            <a:off x="7164360" y="2133720"/>
            <a:ext cx="485640" cy="503280"/>
          </a:xfrm>
          <a:prstGeom prst="downArrow">
            <a:avLst>
              <a:gd name="adj1" fmla="val 40519"/>
              <a:gd name="adj2" fmla="val 59545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2987640" y="2133720"/>
            <a:ext cx="485640" cy="503280"/>
          </a:xfrm>
          <a:prstGeom prst="downArrow">
            <a:avLst>
              <a:gd name="adj1" fmla="val 40519"/>
              <a:gd name="adj2" fmla="val 59545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От ФГОС к основной образовательной программе 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2195640" y="1413000"/>
            <a:ext cx="6551640" cy="7920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ФГОС 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2195640" y="2637000"/>
            <a:ext cx="6624360" cy="1512720"/>
          </a:xfrm>
          <a:prstGeom prst="rect">
            <a:avLst/>
          </a:prstGeom>
          <a:gradFill rotWithShape="0">
            <a:gsLst>
              <a:gs pos="0">
                <a:srgbClr val="cac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ная образовательная программ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195640" y="4869000"/>
            <a:ext cx="6624360" cy="172872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сновная образовательная 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Arial"/>
              </a:rPr>
              <a:t>(разрабатывается   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 rot="16200000">
            <a:off x="-900720" y="2421360"/>
            <a:ext cx="3024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96ab9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971640" y="2997360"/>
            <a:ext cx="1079280" cy="12222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еги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179280" y="5300640"/>
            <a:ext cx="1764000" cy="9144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99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образова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8"/>
          <p:cNvSpPr/>
          <p:nvPr/>
        </p:nvSpPr>
        <p:spPr>
          <a:xfrm>
            <a:off x="5148360" y="4292640"/>
            <a:ext cx="485640" cy="576360"/>
          </a:xfrm>
          <a:prstGeom prst="downArrow">
            <a:avLst>
              <a:gd name="adj1" fmla="val 40519"/>
              <a:gd name="adj2" fmla="val 59521"/>
            </a:avLst>
          </a:prstGeom>
          <a:solidFill>
            <a:srgbClr val="9999ff"/>
          </a:solidFill>
          <a:ln w="12600">
            <a:solidFill>
              <a:srgbClr val="3b2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ФГОС    ООО</a:t>
            </a:r>
            <a:br>
              <a:rPr sz="2800"/>
            </a:br>
            <a:r>
              <a:rPr b="1" lang="ru-RU" sz="2800" spc="-1" strike="noStrike">
                <a:solidFill>
                  <a:srgbClr val="1818ff"/>
                </a:solidFill>
                <a:latin typeface="Times New Roman"/>
              </a:rPr>
              <a:t>Требования к структуре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4.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Основная образовательная программа основного общего образования должна содержать 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три раздела: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целевой, содержательный и организацион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елевой 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раздел вклю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яснительную запис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ланируемые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воения обучающимися основной образовательной программы основ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истему оценки достиж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х результатов освоения основной образовательной программы основного общего образования.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держательный 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раздел вклю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грамму развития универсальных учебных действ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граммы отдельных учебных предметов, кур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грамму воспитания и социализации обучающих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программу коррекцион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ФГОС    ООО</a:t>
            </a:r>
            <a:br>
              <a:rPr sz="2800"/>
            </a:br>
            <a:r>
              <a:rPr b="1" lang="ru-RU" sz="2800" spc="-1" strike="noStrike">
                <a:solidFill>
                  <a:srgbClr val="1818ff"/>
                </a:solidFill>
                <a:latin typeface="Times New Roman"/>
              </a:rPr>
              <a:t>Требования к структуре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рганизацион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 включа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чебный пла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го общего образо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истему условий реализ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  образовательной  программы в соответствии с требованиями Станд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5.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Основная образовательная программа основного общего образования содержит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обязательную часть и часть, формируемую участниками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бязательная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часть основной образовательной программы основного общего образования составляет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70 %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а часть,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ормируемая участниками образовательного процесса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, 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30 %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от общего объема основной образовательной программы основного общего образования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От основной образовательной программы ОУ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 рабочей программе учебного предмета,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2627280" y="4869000"/>
            <a:ext cx="6048360" cy="115236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b0389"/>
                </a:solidFill>
                <a:latin typeface="Arial"/>
              </a:rPr>
              <a:t>Рабочая 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b0389"/>
                </a:solidFill>
                <a:latin typeface="Arial"/>
              </a:rPr>
              <a:t>учебного предмета,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разрабатывается 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771640" y="3141720"/>
            <a:ext cx="5832720" cy="934920"/>
          </a:xfrm>
          <a:prstGeom prst="rect">
            <a:avLst/>
          </a:prstGeom>
          <a:gradFill rotWithShape="0">
            <a:gsLst>
              <a:gs pos="0">
                <a:srgbClr val="cac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ограммы учебных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0389"/>
                </a:solidFill>
                <a:latin typeface="Arial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2700360" y="1341360"/>
            <a:ext cx="5975280" cy="136692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новная образовательная программ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 rot="16200000">
            <a:off x="-1656360" y="3393000"/>
            <a:ext cx="453564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96ab9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Уровень   образовательного  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900000" y="1413000"/>
            <a:ext cx="1366920" cy="7920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учит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5219640" y="4221000"/>
            <a:ext cx="486000" cy="617760"/>
          </a:xfrm>
          <a:prstGeom prst="downArrow">
            <a:avLst>
              <a:gd name="adj1" fmla="val 40519"/>
              <a:gd name="adj2" fmla="val 5951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8"/>
          <p:cNvSpPr/>
          <p:nvPr/>
        </p:nvSpPr>
        <p:spPr>
          <a:xfrm>
            <a:off x="7093080" y="2708280"/>
            <a:ext cx="485640" cy="433440"/>
          </a:xfrm>
          <a:prstGeom prst="downArrow">
            <a:avLst>
              <a:gd name="adj1" fmla="val 40519"/>
              <a:gd name="adj2" fmla="val 5952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8"/>
          <p:cNvSpPr/>
          <p:nvPr/>
        </p:nvSpPr>
        <p:spPr>
          <a:xfrm>
            <a:off x="3492360" y="2708280"/>
            <a:ext cx="486000" cy="433440"/>
          </a:xfrm>
          <a:prstGeom prst="downArrow">
            <a:avLst>
              <a:gd name="adj1" fmla="val 40519"/>
              <a:gd name="adj2" fmla="val 5952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826920" y="5013360"/>
            <a:ext cx="1513080" cy="936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уч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3c77"/>
                </a:solidFill>
                <a:latin typeface="Arial"/>
              </a:rPr>
              <a:t>Виды </a:t>
            </a:r>
            <a:br>
              <a:rPr sz="4000"/>
            </a:br>
            <a:r>
              <a:rPr b="1" lang="ru-RU" sz="4000" spc="-1" strike="noStrike">
                <a:solidFill>
                  <a:srgbClr val="3c3c77"/>
                </a:solidFill>
                <a:latin typeface="Arial"/>
              </a:rPr>
              <a:t>учебных  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мер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ая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втор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боч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F1B6-C43B-46B2-A5D3-4B8C519B3C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C:\Documents and Settings\Антонина Ивановна\Мои документы\Методическая работа\Математика\годичные семинары\2011-2012 уч.год\ФГОСТ\картинки\программа математика.jpeg"/>
          <p:cNvPicPr/>
          <p:nvPr/>
        </p:nvPicPr>
        <p:blipFill>
          <a:blip r:embed="rId1"/>
          <a:stretch/>
        </p:blipFill>
        <p:spPr>
          <a:xfrm>
            <a:off x="7215120" y="12859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Documents and Settings\Антонина Ивановна\Рабочий стол\1076925.jpg"/>
          <p:cNvPicPr/>
          <p:nvPr/>
        </p:nvPicPr>
        <p:blipFill>
          <a:blip r:embed="rId2"/>
          <a:stretch/>
        </p:blipFill>
        <p:spPr>
          <a:xfrm>
            <a:off x="5572080" y="4000680"/>
            <a:ext cx="1835280" cy="260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Структура примерной программы по математике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072120" y="1357200"/>
            <a:ext cx="2857680" cy="41436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714240" y="1643040"/>
            <a:ext cx="507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содержание кур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примерное тематическое план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рекомендации по оснащению  учебного процесс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44440"/>
            <a:ext cx="75801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ы школьного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916360" y="4941720"/>
            <a:ext cx="3240000" cy="1511640"/>
          </a:xfrm>
          <a:prstGeom prst="roundRect">
            <a:avLst>
              <a:gd name="adj" fmla="val 16667"/>
            </a:avLst>
          </a:prstGeom>
          <a:solidFill>
            <a:srgbClr val="b2b2ff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Федер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осудар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образовательный станда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основного об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5724360" y="1989000"/>
            <a:ext cx="3168720" cy="230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Arial"/>
              </a:rPr>
              <a:t>Научная ос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250920" y="1989000"/>
            <a:ext cx="3095640" cy="230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</a:rPr>
              <a:t>Идеологическая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</a:rPr>
              <a:t>методолог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</a:rPr>
              <a:t>ос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468360" y="2708280"/>
            <a:ext cx="2879640" cy="172872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онцепция духов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нравственного развити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воспитания лич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гражданина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онцепция социокультур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модер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5867280" y="2637000"/>
            <a:ext cx="3025800" cy="1655640"/>
          </a:xfrm>
          <a:prstGeom prst="roundRect">
            <a:avLst>
              <a:gd name="adj" fmla="val 16667"/>
            </a:avLst>
          </a:prstGeom>
          <a:solidFill>
            <a:srgbClr val="d7d9f5"/>
          </a:soli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Фундамента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ядро содерж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и системно-деятельност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под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3"/>
          <p:cNvSpPr/>
          <p:nvPr/>
        </p:nvSpPr>
        <p:spPr>
          <a:xfrm rot="8523600">
            <a:off x="6102000" y="4638240"/>
            <a:ext cx="1206360" cy="241200"/>
          </a:xfrm>
          <a:custGeom>
            <a:avLst/>
            <a:gdLst>
              <a:gd name="textAreaLeft" fmla="*/ 188280 w 1206360"/>
              <a:gd name="textAreaRight" fmla="*/ 1055880 w 12063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3348000" y="981000"/>
            <a:ext cx="2303640" cy="122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Общественный догов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(запрос семьи, общества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ahoma"/>
              </a:rPr>
              <a:t>государ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7"/>
          <p:cNvSpPr/>
          <p:nvPr/>
        </p:nvSpPr>
        <p:spPr>
          <a:xfrm rot="5400000">
            <a:off x="3888000" y="2817000"/>
            <a:ext cx="1295640" cy="3603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/>
          <p:cNvSpPr/>
          <p:nvPr/>
        </p:nvSpPr>
        <p:spPr>
          <a:xfrm rot="1981200">
            <a:off x="1731600" y="4746240"/>
            <a:ext cx="1206360" cy="241200"/>
          </a:xfrm>
          <a:custGeom>
            <a:avLst/>
            <a:gdLst>
              <a:gd name="textAreaLeft" fmla="*/ 188280 w 1206360"/>
              <a:gd name="textAreaRight" fmla="*/ 1055880 w 120636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9494ff"/>
                </a:solidFill>
                <a:latin typeface="Arial"/>
                <a:ea typeface="Arial"/>
              </a:rPr>
              <a:t>Цели изучения математики</a:t>
            </a:r>
            <a:br>
              <a:rPr sz="2400"/>
            </a:br>
            <a:r>
              <a:rPr b="0" i="1" lang="ru-RU" sz="2400" spc="-1" strike="noStrike">
                <a:solidFill>
                  <a:srgbClr val="9494ff"/>
                </a:solidFill>
                <a:latin typeface="Arial"/>
                <a:ea typeface="Arial"/>
              </a:rPr>
              <a:t>в направлении личностного развития</a:t>
            </a:r>
            <a:br>
              <a:rPr sz="3600"/>
            </a:br>
            <a:r>
              <a:rPr b="0" lang="ru-RU" sz="4000" spc="-1" strike="noStrike">
                <a:solidFill>
                  <a:srgbClr val="9494ff"/>
                </a:solidFill>
                <a:latin typeface="Arial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34960" y="1447920"/>
          <a:ext cx="7499520" cy="5303880"/>
        </p:xfrm>
        <a:graphic>
          <a:graphicData uri="http://schemas.openxmlformats.org/drawingml/2006/table">
            <a:tbl>
              <a:tblPr/>
              <a:tblGrid>
                <a:gridCol w="3065760"/>
                <a:gridCol w="4433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ндарт 2004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ый ФГС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7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теллектуальное развитие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ние качеств личности, необходимых человеку для полноценной жизни в современном обществе: ясность и точность мысли, критичность мышления, интуиция, логическое мышление, элементы алгоритмической культуры, пространственных представлений, способность к преодолению труд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витие логического и критического мышления, культуры речи, способности к умственному эксперимент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ние у учащихся интеллектуальной честности и объективности, способности к преодолению мыслительных стереотипов, вытекающих из обыденного опы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спитание качеств личности, обеспечивающих социальную  мобильность,  способность принимать самостоятельны! реш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ние  качеств мышления,   необходимых  для адаптации в современном информационном обществ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витие интереса к математическому творчеству и ма­тематических способност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494ff"/>
                </a:solidFill>
                <a:latin typeface="Arial"/>
                <a:ea typeface="Arial"/>
              </a:rPr>
              <a:t>Цели изучения математи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500" spc="-1" strike="noStrike">
                <a:solidFill>
                  <a:srgbClr val="9494ff"/>
                </a:solidFill>
                <a:latin typeface="Arial"/>
              </a:rPr>
              <a:t>в метапредметном направлении</a:t>
            </a:r>
            <a:br>
              <a:rPr sz="25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34960" y="1447920"/>
          <a:ext cx="7499520" cy="5546520"/>
        </p:xfrm>
        <a:graphic>
          <a:graphicData uri="http://schemas.openxmlformats.org/drawingml/2006/table">
            <a:tbl>
              <a:tblPr/>
              <a:tblGrid>
                <a:gridCol w="2994120"/>
                <a:gridCol w="450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ндарт 2004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ый ФГС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редставлен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 идеях и методах математики как универсального языка науки и техники, средства моделирования явлений и процесс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ультуры личности, отношения к математике как к части общечеловеческой культуры, понимание значимости математики для научно-технического прогрес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представлений о математике  как  части общечеловеческой культуры, о значимости математики 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итии цивилизации и современного обще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представлений о математике как форме описания и методе познания действительности, создание условии для приобретения первоначального опыта математическою моделирова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общих способов интеллектуальной деятельности, характерных для математики и являющихся основой познавательной культуры, значимой для различных сфер челове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494ff"/>
                </a:solidFill>
                <a:latin typeface="Arial"/>
                <a:ea typeface="Arial"/>
              </a:rPr>
              <a:t>Цели изучения математи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м направлени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34960" y="1447920"/>
          <a:ext cx="7499520" cy="444960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ндарт 2004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ый ФГС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ладе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истемой математических знаний и умений, необходимых для применения в практической деятельности, изучения смежных дисциплин, продолжения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владение математическими знаниями и умениями, необходимыми для продолжения обучения в старшей школе или иных общеобразовательных учреждениях, изучения смежных дисциплин, применения в повседневной жизн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здание фундамента для  математического  развития, формирования механизмов мышления, характерных для математическ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e5"/>
                </a:solidFill>
                <a:latin typeface="Arial"/>
              </a:rPr>
              <a:t>Содержание математическ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Группа 16"/>
          <p:cNvGrpSpPr/>
          <p:nvPr/>
        </p:nvGrpSpPr>
        <p:grpSpPr>
          <a:xfrm>
            <a:off x="684360" y="1628640"/>
            <a:ext cx="7775280" cy="4264200"/>
            <a:chOff x="684360" y="1628640"/>
            <a:chExt cx="7775280" cy="4264200"/>
          </a:xfrm>
        </p:grpSpPr>
        <p:sp>
          <p:nvSpPr>
            <p:cNvPr id="267" name="Rectangle 4"/>
            <p:cNvSpPr/>
            <p:nvPr/>
          </p:nvSpPr>
          <p:spPr>
            <a:xfrm>
              <a:off x="684360" y="2564640"/>
              <a:ext cx="3239640" cy="3328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Устанавлив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бязательный минимум содерж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(обобщенное содержание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сновных образовательных программ общего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684360" y="1628640"/>
              <a:ext cx="3240000" cy="707760"/>
            </a:xfrm>
            <a:prstGeom prst="rect">
              <a:avLst/>
            </a:prstGeom>
            <a:gradFill rotWithShape="0">
              <a:gsLst>
                <a:gs pos="0">
                  <a:srgbClr val="6565a9"/>
                </a:gs>
                <a:gs pos="50000">
                  <a:srgbClr val="9999ff"/>
                </a:gs>
                <a:gs pos="100000">
                  <a:srgbClr val="6565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4284000" y="1628640"/>
              <a:ext cx="4175640" cy="70812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</a:rPr>
                <a:t>Ф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"/>
            <p:cNvSpPr/>
            <p:nvPr/>
          </p:nvSpPr>
          <p:spPr>
            <a:xfrm>
              <a:off x="4356000" y="2564640"/>
              <a:ext cx="4103640" cy="332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реде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вариантную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обязательную)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асть содерж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ой образовательной программ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отношение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язательной её части и части, формируемой участниками образовательного процес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e5"/>
                </a:solidFill>
                <a:latin typeface="Arial"/>
              </a:rPr>
              <a:t>Структура содерж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"/>
          <p:cNvGrpSpPr/>
          <p:nvPr/>
        </p:nvGrpSpPr>
        <p:grpSpPr>
          <a:xfrm>
            <a:off x="395280" y="1628640"/>
            <a:ext cx="8353440" cy="4321440"/>
            <a:chOff x="395280" y="1628640"/>
            <a:chExt cx="8353440" cy="4321440"/>
          </a:xfrm>
        </p:grpSpPr>
        <p:sp>
          <p:nvSpPr>
            <p:cNvPr id="274" name="Rectangle 4"/>
            <p:cNvSpPr/>
            <p:nvPr/>
          </p:nvSpPr>
          <p:spPr>
            <a:xfrm>
              <a:off x="395280" y="2575440"/>
              <a:ext cx="2301120" cy="3374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держательные компонент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ифме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лгеб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ео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элементы логики, комбинаторики, статисти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теории вероятн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395280" y="1641600"/>
              <a:ext cx="2301840" cy="718560"/>
            </a:xfrm>
            <a:prstGeom prst="rect">
              <a:avLst/>
            </a:prstGeom>
            <a:gradFill rotWithShape="0">
              <a:gsLst>
                <a:gs pos="0">
                  <a:srgbClr val="6565a9"/>
                </a:gs>
                <a:gs pos="50000">
                  <a:srgbClr val="9999ff"/>
                </a:gs>
                <a:gs pos="100000">
                  <a:srgbClr val="6565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2912400" y="1641600"/>
              <a:ext cx="2461680" cy="71784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</a:rPr>
                <a:t>Ф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"/>
            <p:cNvSpPr/>
            <p:nvPr/>
          </p:nvSpPr>
          <p:spPr>
            <a:xfrm>
              <a:off x="2912400" y="2575440"/>
              <a:ext cx="2439360" cy="3374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держательные раздел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ифме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лгеб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роятность и стат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ео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Rectangle 6"/>
            <p:cNvGrpSpPr/>
            <p:nvPr/>
          </p:nvGrpSpPr>
          <p:grpSpPr>
            <a:xfrm>
              <a:off x="5558760" y="1628640"/>
              <a:ext cx="3189960" cy="741240"/>
              <a:chOff x="5558760" y="1628640"/>
              <a:chExt cx="3189960" cy="741240"/>
            </a:xfrm>
          </p:grpSpPr>
          <p:pic>
            <p:nvPicPr>
              <p:cNvPr id="279" name="Rectangl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558760" y="1628640"/>
                <a:ext cx="318996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5573160" y="1641600"/>
                <a:ext cx="3164400" cy="7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Georgia"/>
                    <a:ea typeface="Arial"/>
                  </a:rPr>
                  <a:t>Отличие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Rectangle 2"/>
            <p:cNvSpPr/>
            <p:nvPr/>
          </p:nvSpPr>
          <p:spPr>
            <a:xfrm>
              <a:off x="5573160" y="2575440"/>
              <a:ext cx="3164400" cy="3374640"/>
            </a:xfrm>
            <a:prstGeom prst="rect">
              <a:avLst/>
            </a:prstGeom>
            <a:solidFill>
              <a:srgbClr val="99ff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ополнительные методологические разделы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огика и множ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темати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историческом развит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Арифм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9"/>
          <p:cNvGrpSpPr/>
          <p:nvPr/>
        </p:nvGrpSpPr>
        <p:grpSpPr>
          <a:xfrm>
            <a:off x="1116000" y="1125360"/>
            <a:ext cx="6840720" cy="4967640"/>
            <a:chOff x="1116000" y="1125360"/>
            <a:chExt cx="6840720" cy="4967640"/>
          </a:xfrm>
        </p:grpSpPr>
        <p:sp>
          <p:nvSpPr>
            <p:cNvPr id="285" name="Rectangle 7"/>
            <p:cNvSpPr/>
            <p:nvPr/>
          </p:nvSpPr>
          <p:spPr>
            <a:xfrm>
              <a:off x="1116000" y="1125360"/>
              <a:ext cx="6840720" cy="72000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Назначение разде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"/>
            <p:cNvSpPr/>
            <p:nvPr/>
          </p:nvSpPr>
          <p:spPr>
            <a:xfrm>
              <a:off x="1116000" y="2061360"/>
              <a:ext cx="6778440" cy="40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держа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ужит базой для дальнейшего изучения учащимися математики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ствует развитию их логического мышления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ю умения пользоваться алгоритмами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обретению практических навыков, необходимых в повседневной жизни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понятия о числе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язано с рациональными и иррациональными числами, формированием первичных представлений о действительном числе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56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e5"/>
                </a:solidFill>
                <a:latin typeface="Arial"/>
              </a:rPr>
              <a:t>Алгеб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Группа 19"/>
          <p:cNvGrpSpPr/>
          <p:nvPr/>
        </p:nvGrpSpPr>
        <p:grpSpPr>
          <a:xfrm>
            <a:off x="900000" y="1125360"/>
            <a:ext cx="7417080" cy="5328000"/>
            <a:chOff x="900000" y="1125360"/>
            <a:chExt cx="7417080" cy="5328000"/>
          </a:xfrm>
        </p:grpSpPr>
        <p:sp>
          <p:nvSpPr>
            <p:cNvPr id="290" name="Rectangle 7"/>
            <p:cNvSpPr/>
            <p:nvPr/>
          </p:nvSpPr>
          <p:spPr>
            <a:xfrm>
              <a:off x="900000" y="1125360"/>
              <a:ext cx="7417080" cy="67536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Назначение разде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3"/>
            <p:cNvSpPr/>
            <p:nvPr/>
          </p:nvSpPr>
          <p:spPr>
            <a:xfrm>
              <a:off x="900000" y="2025720"/>
              <a:ext cx="7349760" cy="442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держание 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ствует формированию у учащихся математического аппарата для решения задач из разных разделов математики, смежных предметов, окружающей реальности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зык алгебры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черкивает значение математики как языка для построения математических моделей процессов и явлений реального мира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задачи изучения алгебры входят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алгоритмического мышления, необходимого, в частности, для освоения курса информатики, овладение навыками дедуктивных рассуждений.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образование символьных форм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осит специфический вклад в развитие воображения учащихся, их способностей к математическому творчеству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группируется вокруг рациональных выражений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e5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19"/>
          <p:cNvGrpSpPr/>
          <p:nvPr/>
        </p:nvGrpSpPr>
        <p:grpSpPr>
          <a:xfrm>
            <a:off x="900000" y="1125360"/>
            <a:ext cx="7417080" cy="4104000"/>
            <a:chOff x="900000" y="1125360"/>
            <a:chExt cx="7417080" cy="4104000"/>
          </a:xfrm>
        </p:grpSpPr>
        <p:sp>
          <p:nvSpPr>
            <p:cNvPr id="295" name="Rectangle 7"/>
            <p:cNvSpPr/>
            <p:nvPr/>
          </p:nvSpPr>
          <p:spPr>
            <a:xfrm>
              <a:off x="900000" y="1125360"/>
              <a:ext cx="7417080" cy="74088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Назначение разде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"/>
            <p:cNvSpPr/>
            <p:nvPr/>
          </p:nvSpPr>
          <p:spPr>
            <a:xfrm>
              <a:off x="900000" y="2088360"/>
              <a:ext cx="7349760" cy="3141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держание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елено на получение школьниками конкретных знаний о функции как важнейшей математической модели для описания и исследования разнообразных процессов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материала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ствует развитию у учащихся умения использовать различные языки математики (словесный, символический, графический), вносит вклад в формирование представлений о роли математики в развитии цивилизации и культур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6"/>
          <p:cNvSpPr/>
          <p:nvPr/>
        </p:nvSpPr>
        <p:spPr>
          <a:xfrm>
            <a:off x="2286000" y="1444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56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Гео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Группа 19"/>
          <p:cNvGrpSpPr/>
          <p:nvPr/>
        </p:nvGrpSpPr>
        <p:grpSpPr>
          <a:xfrm>
            <a:off x="1116000" y="981000"/>
            <a:ext cx="6840720" cy="5184720"/>
            <a:chOff x="1116000" y="981000"/>
            <a:chExt cx="6840720" cy="5184720"/>
          </a:xfrm>
        </p:grpSpPr>
        <p:sp>
          <p:nvSpPr>
            <p:cNvPr id="301" name="Rectangle 7"/>
            <p:cNvSpPr/>
            <p:nvPr/>
          </p:nvSpPr>
          <p:spPr>
            <a:xfrm>
              <a:off x="1116000" y="981000"/>
              <a:ext cx="6840720" cy="57528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Georgia"/>
                </a:rPr>
                <a:t>Назначение разде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"/>
            <p:cNvSpPr/>
            <p:nvPr/>
          </p:nvSpPr>
          <p:spPr>
            <a:xfrm>
              <a:off x="1116000" y="1701000"/>
              <a:ext cx="6778440" cy="446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пространственного воображения и логического мышления;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геометрической интуиции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обы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тическое изучение свойств геометрических фигур на плоскости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свойств при решении задач вычислительного и конструктивного характер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ы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глядности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огости.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156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Arial"/>
              </a:rPr>
              <a:t>Структура содержательного раздела «Геометр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184428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Группа 12"/>
          <p:cNvGrpSpPr/>
          <p:nvPr/>
        </p:nvGrpSpPr>
        <p:grpSpPr>
          <a:xfrm>
            <a:off x="395280" y="1197000"/>
            <a:ext cx="8353440" cy="4968720"/>
            <a:chOff x="395280" y="1197000"/>
            <a:chExt cx="8353440" cy="4968720"/>
          </a:xfrm>
        </p:grpSpPr>
        <p:sp>
          <p:nvSpPr>
            <p:cNvPr id="306" name="Rectangle 4"/>
            <p:cNvSpPr/>
            <p:nvPr/>
          </p:nvSpPr>
          <p:spPr>
            <a:xfrm>
              <a:off x="395280" y="1929240"/>
              <a:ext cx="2301120" cy="42364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и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ьные понятия и теоремы геомет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еуго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етырехуго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ногоуго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ность и кр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мерение геометрических велич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кт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Геометрические пре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395280" y="1211040"/>
              <a:ext cx="2301840" cy="574560"/>
            </a:xfrm>
            <a:prstGeom prst="rect">
              <a:avLst/>
            </a:prstGeom>
            <a:gradFill rotWithShape="0">
              <a:gsLst>
                <a:gs pos="0">
                  <a:srgbClr val="6565a9"/>
                </a:gs>
                <a:gs pos="50000">
                  <a:srgbClr val="9999ff"/>
                </a:gs>
                <a:gs pos="100000">
                  <a:srgbClr val="6565a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"/>
            <p:cNvSpPr/>
            <p:nvPr/>
          </p:nvSpPr>
          <p:spPr>
            <a:xfrm>
              <a:off x="2912400" y="1211040"/>
              <a:ext cx="2461680" cy="574200"/>
            </a:xfrm>
            <a:prstGeom prst="rect">
              <a:avLst/>
            </a:prstGeom>
            <a:gradFill rotWithShape="0">
              <a:gsLst>
                <a:gs pos="0">
                  <a:srgbClr val="a9a965"/>
                </a:gs>
                <a:gs pos="50000">
                  <a:srgbClr val="ffff99"/>
                </a:gs>
                <a:gs pos="100000">
                  <a:srgbClr val="a9a9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Georgia"/>
                </a:rPr>
                <a:t>ФГО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"/>
            <p:cNvSpPr/>
            <p:nvPr/>
          </p:nvSpPr>
          <p:spPr>
            <a:xfrm>
              <a:off x="2912400" y="1929240"/>
              <a:ext cx="2439360" cy="4236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локи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глядная гео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еометрические фиг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мерение геометрических фигу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ордин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кт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Rectangle 6"/>
            <p:cNvGrpSpPr/>
            <p:nvPr/>
          </p:nvGrpSpPr>
          <p:grpSpPr>
            <a:xfrm>
              <a:off x="5558760" y="1197000"/>
              <a:ext cx="3189960" cy="601560"/>
              <a:chOff x="5558760" y="1197000"/>
              <a:chExt cx="3189960" cy="601560"/>
            </a:xfrm>
          </p:grpSpPr>
          <p:pic>
            <p:nvPicPr>
              <p:cNvPr id="311" name="Rectangl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558760" y="1197000"/>
                <a:ext cx="3189960" cy="60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5573160" y="1211040"/>
                <a:ext cx="316440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Georgia"/>
                    <a:ea typeface="Arial"/>
                  </a:rPr>
                  <a:t>Отличие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Rectangle 2"/>
            <p:cNvSpPr/>
            <p:nvPr/>
          </p:nvSpPr>
          <p:spPr>
            <a:xfrm>
              <a:off x="5573160" y="1929240"/>
              <a:ext cx="3164400" cy="4236480"/>
            </a:xfrm>
            <a:prstGeom prst="rect">
              <a:avLst/>
            </a:prstGeom>
            <a:solidFill>
              <a:srgbClr val="99ff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крупнение дидактических единиц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огика развертывания учебного материал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глядна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ьная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числительна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слеевклидова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жпредметный характер некоторых блок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Фундаментальное ядро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одержания общего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ксир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система базовых 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ценностей, раскрываемых в содерж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система основных понятий, относящихся к областям знаний, представленным в общем образ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система ключевых задач, обеспечивающих формирование  универсальных видов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929280" y="0"/>
            <a:ext cx="2214720" cy="3143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494ff"/>
                </a:solidFill>
                <a:latin typeface="Arial"/>
                <a:ea typeface="Arial"/>
              </a:rPr>
              <a:t>Требования к результатам обучения и усвоению содержания курс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523880" y="1397160"/>
          <a:ext cx="6977160" cy="5089320"/>
        </p:xfrm>
        <a:graphic>
          <a:graphicData uri="http://schemas.openxmlformats.org/drawingml/2006/table">
            <a:tbl>
              <a:tblPr/>
              <a:tblGrid>
                <a:gridCol w="3262320"/>
                <a:gridCol w="37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ндарт 2004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ый ФГС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результате изучения математики ученик долж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ть/поним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м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ьзовать приобретенные знания и умения в практической деятельности и повседневной жизн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учение математики в основной школе дает возможность обучающимся достичь следующих результатов в направлен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чностного развития:……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метапредметном направлении: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предметном направлени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d5dae"/>
                </a:solidFill>
                <a:latin typeface="Arial"/>
                <a:ea typeface="Arial"/>
              </a:rPr>
              <a:t>Распределение учебного времени между предмет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14240" y="1928880"/>
          <a:ext cx="8220240" cy="3365280"/>
        </p:xfrm>
        <a:graphic>
          <a:graphicData uri="http://schemas.openxmlformats.org/drawingml/2006/table">
            <a:tbl>
              <a:tblPr/>
              <a:tblGrid>
                <a:gridCol w="2740320"/>
                <a:gridCol w="2739960"/>
                <a:gridCol w="2739960"/>
              </a:tblGrid>
              <a:tr h="16822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ы математического цикла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на ступени основного образования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0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6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-9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ебр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Примерное тематическое плани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14240" y="2038320"/>
          <a:ext cx="8215560" cy="4819680"/>
        </p:xfrm>
        <a:graphic>
          <a:graphicData uri="http://schemas.openxmlformats.org/drawingml/2006/table">
            <a:tbl>
              <a:tblPr/>
              <a:tblGrid>
                <a:gridCol w="3122640"/>
                <a:gridCol w="5092920"/>
              </a:tblGrid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ное содержание по тем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 основных видов деятельности ученика (на уровне учебных действ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58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Алгебраические дроб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гебраическая дробь. Основное свойство алгебраической дроби. Сокращение дробей. Сложение, вычитание, умножение, деление алгебраических дробей. Степень с целым показателем и ее свойства. Рациональные выражения и их преобразования. Доказательство тожде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улировать основное свойство алгебраической дроби и применять его для преобразования дробей. Выполнять действия с алгебраическими дробями. Представлять целое выражение в виде многочлена, дробное -в виде отношения многочленов; доказывать тождества. Формулировать определение степени с целым показателем. Формулировать, записывать в символической форме и иллюстрировать примерами свойства степени с це­лым показателем; применять свойства степени для преобразования выражений и вычислений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  <a:ea typeface="Arial"/>
              </a:rPr>
              <a:t>Авторская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  <a:ea typeface="Arial"/>
              </a:rPr>
              <a:t>учебная  програм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озданный на осно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ГОС и примерной учебной программы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щий авторскую концепцию построения       содержания учебного курса, предмета, дисциплины  (модул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рабатывается одним автором или группой ав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D1B7-DFD1-4A3F-8FEF-35D79F4C5D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C:\Documents and Settings\Антонина Ивановна\Рабочий стол\1079543.jpg"/>
          <p:cNvPicPr/>
          <p:nvPr/>
        </p:nvPicPr>
        <p:blipFill>
          <a:blip r:embed="rId1"/>
          <a:stretch/>
        </p:blipFill>
        <p:spPr>
          <a:xfrm>
            <a:off x="7524720" y="4000680"/>
            <a:ext cx="161928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32, п.7 Закона РФ 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б образован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омпетенции образовательного учреждения относится «разработка и утверждение рабочих программ учебных курсов, предметов, дисциплин (модулей)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Сущность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учебной  рабочей программ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Основой образовательной деятельности в ОУ является </a:t>
            </a:r>
            <a:r>
              <a:rPr b="1" i="1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учебная программа</a:t>
            </a:r>
            <a:r>
              <a:rPr b="1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– </a:t>
            </a:r>
            <a:r>
              <a:rPr b="0" i="1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нормативный документ, в котором представлены основные знания, умения и навыки по учебным предметам и дисциплинам, подлежащие усвоению учащими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5e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BBF9-627D-4679-BC4B-A7FD7FD964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c3c77"/>
                </a:solidFill>
                <a:latin typeface="Times New Roman"/>
                <a:ea typeface="Times New Roman"/>
              </a:rPr>
              <a:t>Рабочая пр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«рабочая» определяет нормативность данного документа применительно к образовательному процессу в конкретном ОУ, к конкретной учебной дисципл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программы носят точный, конкретный харак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9680" y="704880"/>
            <a:ext cx="8186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2"/>
                </a:solidFill>
                <a:latin typeface="Arial"/>
              </a:rPr>
              <a:t>Учебная рабочая программ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6680" indent="-2566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бочей программы, её содержательная форма определяются органом самоуправления образовательным учреждением (научно-методическим советом, педагогическим советом) и отражаются в локальных нормативно-правовых ак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Примерная структура рабочей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99680" y="1981080"/>
            <a:ext cx="81867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– тематический план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грамм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 для учащихс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 для учите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387E-5B06-41B5-8FCF-CA5FBC67C9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494ff"/>
                </a:solidFill>
                <a:latin typeface="Arial"/>
              </a:rPr>
              <a:t>Титульный ли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бразовательного учреж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изучаемого предм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разработ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 разработчика или составителя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е грифы о рассмотрении программы на МО учителей математики и утверждении программы на школьн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5BC-FB86-4EBD-98D1-2F19334064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500040" y="571680"/>
            <a:ext cx="8429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Фундаментального ядра осуществлялась с учетом таких рамочных ограничений, к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краткость фиксации обобщенных контуров научного содержания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отказ от деталей, сугубо методической природы и конкретных методических решений. Фундаментальное ядро определяет объем знаний, которыми должен овладеть выпускник школы, но не распределение предлагаемого содержания по конкретным предметам и ступеня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писание в лаконичной форме областей знаний, представленных в современной школе, но не конкретны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Пояснительная записка </a:t>
            </a:r>
            <a:br>
              <a:rPr sz="4400"/>
            </a:br>
            <a:r>
              <a:rPr b="0" i="1" lang="ru-RU" sz="2400" spc="-1" strike="noStrike">
                <a:solidFill>
                  <a:srgbClr val="00005e"/>
                </a:solidFill>
                <a:latin typeface="Arial"/>
              </a:rPr>
              <a:t>(см. технологическую кар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чень нормативных документов, лежащих в основе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фика предмета «Математика» и актуальность его изучения в современной системе общего образ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 и задачи учебного предмета «Математика» в области формирования системы знаний, практических умений, обеспечения общего уровня образованности, развития и воспитания учащихся (в личностном, метапредаметном, предметном направлениях). Задачи раскрываются в соответствии с Государственным образовательным стандар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то предмета в системе общего образования и условия его освоения и особенности программного матери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обенности организации учебного процесса по предмету: специфику образовательного учреждения; психологические особенности обучающихся, их образовательные интересы (для профильных и непрофильных классов, для классов с детьми с отклонениями в развитии и для классов с детьми без отклонений); формы обучения (обычная, индивидуальная, домашняя, экстернат); предпочтительные формы организации учебного процесса (лекции, традиционные уроки, семинары, практические занятия, лабораторные работы, межпредметные практические занятия и др.); методы и технологии обучения предмету; формы контроля знаний и умений учащихся (текущего и итогового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пояснительной записке к рабочей программе могут содержаться рекомендации по организации самостоятельной работы учащихся. Учащемуся могут быть рекомендованы такие виды заданий, как решение упражнений и задач, анализ проблемных практических ситуаций, подготовка к деловым играм и участие в них, работа на тренажерах, подготовка рефератов, докладов, постановка экспериментов, исследовательская учебная работа и др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Учебно-тематический план по предм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1935000"/>
          <a:ext cx="8229600" cy="1285920"/>
        </p:xfrm>
        <a:graphic>
          <a:graphicData uri="http://schemas.openxmlformats.org/drawingml/2006/table">
            <a:tbl>
              <a:tblPr/>
              <a:tblGrid>
                <a:gridCol w="1257480"/>
                <a:gridCol w="285732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Учебно-тематический план по предм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935000"/>
          <a:ext cx="8186760" cy="1279800"/>
        </p:xfrm>
        <a:graphic>
          <a:graphicData uri="http://schemas.openxmlformats.org/drawingml/2006/table">
            <a:tbl>
              <a:tblPr/>
              <a:tblGrid>
                <a:gridCol w="2174760"/>
                <a:gridCol w="1100160"/>
                <a:gridCol w="1636920"/>
                <a:gridCol w="1638360"/>
                <a:gridCol w="16365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блоков, разделов и 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Учебно-тематический план по предм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57200" y="1935000"/>
          <a:ext cx="8229600" cy="1670040"/>
        </p:xfrm>
        <a:graphic>
          <a:graphicData uri="http://schemas.openxmlformats.org/drawingml/2006/table">
            <a:tbl>
              <a:tblPr/>
              <a:tblGrid>
                <a:gridCol w="1757520"/>
                <a:gridCol w="1000080"/>
                <a:gridCol w="1071360"/>
                <a:gridCol w="1071720"/>
                <a:gridCol w="1071360"/>
                <a:gridCol w="1081080"/>
                <a:gridCol w="11764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локов, разделов и 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ные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Учебно-тематический план по предм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42920" y="2071800"/>
          <a:ext cx="8501040" cy="1717560"/>
        </p:xfrm>
        <a:graphic>
          <a:graphicData uri="http://schemas.openxmlformats.org/drawingml/2006/table">
            <a:tbl>
              <a:tblPr/>
              <a:tblGrid>
                <a:gridCol w="1214280"/>
                <a:gridCol w="1214640"/>
                <a:gridCol w="1214280"/>
                <a:gridCol w="1214640"/>
                <a:gridCol w="1401480"/>
                <a:gridCol w="1455840"/>
                <a:gridCol w="785880"/>
              </a:tblGrid>
              <a:tr h="368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Основная 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одерж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ланируем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арактери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ка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8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еся науча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еся получат возможность науч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5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0533-6D2C-4F19-A067-0C07F9D3F6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494ff"/>
                </a:solidFill>
                <a:latin typeface="Arial"/>
              </a:rPr>
              <a:t>Содержание програм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ретизируются учебные элементы (дидактические единицы) по каждому блоку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ретизируются требования к знаниям и умениям, которыми должны овладеть учащиеся после изучения блок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400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94ff"/>
                </a:solidFill>
                <a:latin typeface="Arial"/>
              </a:rPr>
              <a:t>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9494ff"/>
                </a:solidFill>
                <a:latin typeface="Arial"/>
              </a:rPr>
              <a:t>Список литератур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, используемый педагогом при составлении программы и организации учебного проце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 для обучающихся, который включает учебники, учебные пособия, справочники, энциклопедии и другие источники по предм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вила оформления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ки строятся по алфавитному ряду и в соответствии в соответствии с требованиями Госстандарта (ГОСТ 7.1 – 2003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писок литературы могут быть включены [Электронный ресурс], [Видеозапись], [Звукозапись], [Карты]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10E2-5150-47C7-AFDE-8222763571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357120" y="42876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цели школьного математического 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освоение учащимися системы математических знаний, необходимых для изучения смежных школьных дисциплин и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формирование представлений о математике как форме описания и методе познания действи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· приобретение навыков логического и алгоритм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вила оформления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Амонашвили, Ш. А. Личностно-гуманная основа педагогического процесса [Текст]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. А. Амонашвили. – Минск: Университет школе, 1990. – 559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Муравин, Г. К. Математика. 6 кл. [Текст] : учеб. для общеобразоват.  учреждений / Г. К. Муравина, О. В. Муравина. – М. : Дрофа, 2011. – 319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0C1A-6D5A-4752-A750-FC02751E80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евский, В. В. Повышение квалификации педагогических кадров [Текст] / В. В. Краевский // Педагогика. – 1992. –  №7– 8. С. 55–5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9FE-F81C-404B-94E1-AFD5A0949D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Контрольные матери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измерительные материалы (КИМ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ий контро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конт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494ff"/>
                </a:solidFill>
                <a:latin typeface="Times New Roman"/>
                <a:ea typeface="Times New Roman"/>
              </a:rPr>
              <a:t>Дополнительные разде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карта программы (где представляются самые основные сведения о предмете, учителе, учебнике, классе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тематика рефера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ая часть (анализ педагогической деятельности по реализации программ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494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. методические рекоменд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мендации по разработке рабочих програм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математик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йт КРИПК иПРО: </a:t>
            </a:r>
            <a:r>
              <a:rPr b="0" i="1" lang="en-US" sz="32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</a:rPr>
              <a:t>www.ipk–edu.ru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уктурные подразделения – кафедра естественнонаучных и математических дисципл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840" y="227160"/>
            <a:ext cx="741024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ланируемые результаты освоения учебных программ по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1384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ация требований к уровню подготовки учащихся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требований на язык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тапы сост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00000" y="162864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1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рать программу и соответствующую линию УМ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2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авнить цели изучения из Примерной и авторской программ с целями образовательной программы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3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поставить требования к уровню подготовки выпускников в Примерной и авторской программах и выделить требования превышающие их в соответствии с  особенностями О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4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ить требования через операционально выраженные диагностичные цели – результаты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5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елить и конкретизировать требования к уровню подготовки учащихся из авторской про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тапы сост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55280" y="15573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ff"/>
                </a:solidFill>
                <a:latin typeface="Arial"/>
              </a:rPr>
              <a:t>6</a:t>
            </a: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.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поставить содержание Примерной, авторской программ. Выделить перечень тем, не включенных в авторскую программу и те, которые носят избыточный характер в рамках реализации программы О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7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ректировать содер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8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ктурировать содержание (определить последовательность тем и количество часов на их изучени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9.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ь список учебно-методических и материально-технических средств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10.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ть контролирующие материа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ff"/>
                </a:solidFill>
                <a:latin typeface="Arial"/>
              </a:rPr>
              <a:t>1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Оформить материалы согласно структу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Рассмотрение и утверждение 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рабоче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856880"/>
            <a:ext cx="822960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38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00ff"/>
                </a:solidFill>
                <a:latin typeface="Arial"/>
              </a:rPr>
              <a:t>1.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оки и порядок рассмотрения рабочих программ устанавливаются локальным актом О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38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ff"/>
                </a:solidFill>
                <a:latin typeface="Arial"/>
              </a:rPr>
              <a:t>2.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может быть, например, таковы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438120">
              <a:spcBef>
                <a:spcPts val="499"/>
              </a:spcBef>
              <a:buClr>
                <a:srgbClr val="6600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ссматривается на заседании методического объединения учителей (результаты заносятся в протокол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438120">
              <a:spcBef>
                <a:spcPts val="499"/>
              </a:spcBef>
              <a:buClr>
                <a:srgbClr val="6600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условии ее соответствия установленным требованиям, согласуется с заместителем директора по У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438120">
              <a:spcBef>
                <a:spcPts val="499"/>
              </a:spcBef>
              <a:buClr>
                <a:srgbClr val="6600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ается руководителем ОУ, после чего программа становится нормативным документом данного 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4176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Загнутый угол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4213080" cy="4859280"/>
          </a:xfrm>
          <a:prstGeom prst="rect">
            <a:avLst/>
          </a:prstGeom>
          <a:ln w="0">
            <a:noFill/>
          </a:ln>
        </p:spPr>
      </p:pic>
      <p:pic>
        <p:nvPicPr>
          <p:cNvPr id="382" name="Загнутый угол 4" descr=""/>
          <p:cNvPicPr/>
          <p:nvPr/>
        </p:nvPicPr>
        <p:blipFill>
          <a:blip r:embed="rId2"/>
          <a:stretch/>
        </p:blipFill>
        <p:spPr>
          <a:xfrm>
            <a:off x="4767120" y="1268280"/>
            <a:ext cx="4211640" cy="48578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5" descr="06493.gif"/>
          <p:cNvPicPr/>
          <p:nvPr/>
        </p:nvPicPr>
        <p:blipFill>
          <a:blip r:embed="rId3"/>
          <a:stretch/>
        </p:blipFill>
        <p:spPr>
          <a:xfrm>
            <a:off x="6929280" y="0"/>
            <a:ext cx="160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C4BE-E747-4459-BBE6-CE856B08B9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428760" y="571680"/>
            <a:ext cx="64292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фм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ь и 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ая теория информации и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326B-7D38-4FFD-945C-44F35F3677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142920" y="428760"/>
            <a:ext cx="8858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матическая теория информации и модели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кретное (в том числе двоичное) представле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цы измерения количества информации. Сжат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ирование и декод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ание информации по формальным прави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ы. Способы записи алгоритмов; блок-схемы. Логические значения, операции, выражения. Алгоритмические конструкции (имена, ветвление, циклы). Разбиение задачи на подзадачи, вспомогательные алгоритмы. Типы обрабатываемых объектов. Примеры алгоритмов. Выигрышная стратегия в иг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мые функции, формализация понятия вычислимой функции, полнота формализации. Сложность вычисления и сложность информационного объекта. Несуществование алгоритмов, проблема пере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val 23"/>
          <p:cNvSpPr/>
          <p:nvPr/>
        </p:nvSpPr>
        <p:spPr>
          <a:xfrm>
            <a:off x="785880" y="1571760"/>
            <a:ext cx="7632720" cy="41050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0" name="Rectangle 8"/>
          <p:cNvSpPr/>
          <p:nvPr/>
        </p:nvSpPr>
        <p:spPr>
          <a:xfrm>
            <a:off x="611280" y="1981080"/>
            <a:ext cx="8281800" cy="46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2" name="Oval 18"/>
          <p:cNvSpPr/>
          <p:nvPr/>
        </p:nvSpPr>
        <p:spPr>
          <a:xfrm>
            <a:off x="1258920" y="3645000"/>
            <a:ext cx="345420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структуре осно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2916360" y="2205000"/>
            <a:ext cx="3454200" cy="1655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результатам осв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4643280" y="3716280"/>
            <a:ext cx="3454560" cy="1656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 условиям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79280" y="11592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  <a:ea typeface="Aharoni"/>
              </a:rPr>
              <a:t>Тр + Тс + Ту – новая формула стандар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900000" y="54936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ные характеристики нового станда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900000" y="2205000"/>
            <a:ext cx="75596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овый</a:t>
            </a:r>
            <a:r>
              <a:rPr b="1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ормат                                  рамочны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овое</a:t>
            </a:r>
            <a:r>
              <a:rPr b="1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одержание                           совокупнос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расширение</a:t>
            </a:r>
            <a:r>
              <a:rPr b="1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функций</a:t>
            </a:r>
            <a:r>
              <a:rPr b="1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овое                             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истем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методологическое      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еятельно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снование                                         под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 стрелкой 8"/>
          <p:cNvCxnSpPr/>
          <p:nvPr/>
        </p:nvCxnSpPr>
        <p:spPr>
          <a:xfrm>
            <a:off x="4211640" y="2421000"/>
            <a:ext cx="792720" cy="21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199" name="Прямая со стрелкой 10"/>
          <p:cNvCxnSpPr/>
          <p:nvPr/>
        </p:nvCxnSpPr>
        <p:spPr>
          <a:xfrm>
            <a:off x="4211640" y="2924280"/>
            <a:ext cx="792720" cy="21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200" name="Прямая со стрелкой 11"/>
          <p:cNvCxnSpPr/>
          <p:nvPr/>
        </p:nvCxnSpPr>
        <p:spPr>
          <a:xfrm>
            <a:off x="4211640" y="4581000"/>
            <a:ext cx="792720" cy="252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1:10:15Z</dcterms:created>
  <dc:creator>comp</dc:creator>
  <dc:description/>
  <dc:language>en-US</dc:language>
  <cp:lastModifiedBy>Александр</cp:lastModifiedBy>
  <dcterms:modified xsi:type="dcterms:W3CDTF">2012-11-09T12:25:00Z</dcterms:modified>
  <cp:revision>107</cp:revision>
  <dc:subject/>
  <dc:title>Разработка основной образовательной программы образовательного  учреждения на основе Примерной основной образовательной программы</dc:title>
</cp:coreProperties>
</file>