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F0BC-D968-48DF-AA80-FD28661B54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231F-A007-4777-995B-0C68F047B18A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D56-5A64-4FB2-BA3F-02C5F1A0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EBA-0A4B-4F0E-BB72-8F3472B9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E9D-3F90-4D6B-AAE2-82AB362B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1D7-CE64-4818-80FC-E086AD21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301B-1D2B-4827-8F1D-FA8E5A71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019C-8B2E-41E9-9510-952F8262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9DDD-60DE-4313-9C13-E96656F9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54CA-C3C7-4CEA-8B20-C172CF5A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B32C-4B30-480A-9E97-F922E4AD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B3DD-457B-4E5B-9822-9ECCC450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1CED-DDDC-4770-A83E-61F6FBBA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2D3-2430-4A0A-8B76-34521AF8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EC02-D26C-4E39-A3EF-B4E6B0FE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E831-811B-45A9-94BF-0B4D897D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5984-3FF7-4B42-9C0D-EAC0ECB7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1436-2FEE-44E7-A8D2-793AD786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424A-B35E-4ACD-AC22-66B2269B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75C-744E-481B-A2FC-E191D782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4B7-062A-4EAE-A423-54193D91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616-5483-4CE6-9F4C-A23697B9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7B2-0C84-451F-85DC-B451C639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9EE-AC79-4233-B736-6AA47AD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03C-642C-44CD-80A8-2EDEA285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4B9-CB51-4606-90FC-5D3C0399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71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764c7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99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99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99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f3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f3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f3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8FF6-4574-4FED-A502-3B7F10F97A8C}" type="slidenum">
              <a:rPr b="0" lang="ru-RU" sz="1200" spc="-1" strike="noStrike">
                <a:solidFill>
                  <a:srgbClr val="f3f3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71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764c7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99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99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99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f3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f3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f3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5E8F-F81D-4919-8587-D7EC03A39861}" type="slidenum">
              <a:rPr b="0" lang="ru-RU" sz="1200" spc="-1" strike="noStrike">
                <a:solidFill>
                  <a:srgbClr val="f3f3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64560" cy="2559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00"/>
              </a:solidFill>
              <a:latin typeface="Constantia"/>
            </a:endParaRPr>
          </a:p>
        </p:txBody>
      </p:sp>
      <p:pic>
        <p:nvPicPr>
          <p:cNvPr id="104" name="Picture 2" descr="C:\Users\Ольга\Desktop\sport-home.jpg"/>
          <p:cNvPicPr/>
          <p:nvPr/>
        </p:nvPicPr>
        <p:blipFill>
          <a:blip r:embed="rId2"/>
          <a:stretch/>
        </p:blipFill>
        <p:spPr>
          <a:xfrm>
            <a:off x="1560600" y="3187800"/>
            <a:ext cx="5949720" cy="3560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450720" y="585720"/>
            <a:ext cx="8242560" cy="6186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019160" y="163080"/>
            <a:ext cx="71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ификация общеразвивающих упражнений  </a:t>
            </a:r>
            <a:endParaRPr b="0" lang="en-US" sz="2400" spc="-1" strike="noStrike">
              <a:solidFill>
                <a:srgbClr val="ffff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Кенеман А.В.,  Хухлаевой Д.В.</a:t>
            </a:r>
            <a:endParaRPr b="0" lang="en-US" sz="2400" spc="-1" strike="noStrike">
              <a:solidFill>
                <a:srgbClr val="ffff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1476360" y="1052640"/>
            <a:ext cx="6299280" cy="4432320"/>
            <a:chOff x="1476360" y="1052640"/>
            <a:chExt cx="6299280" cy="4432320"/>
          </a:xfrm>
        </p:grpSpPr>
        <p:sp>
          <p:nvSpPr>
            <p:cNvPr id="110" name="AutoShape 15"/>
            <p:cNvSpPr/>
            <p:nvPr/>
          </p:nvSpPr>
          <p:spPr>
            <a:xfrm>
              <a:off x="1476360" y="1052640"/>
              <a:ext cx="6299280" cy="44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>
              <a:off x="3838320" y="1052640"/>
              <a:ext cx="3824280" cy="766080"/>
            </a:xfrm>
            <a:prstGeom prst="horizontalScroll">
              <a:avLst>
                <a:gd name="adj" fmla="val 12500"/>
              </a:avLst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бщеразвивающие</a:t>
              </a:r>
              <a:endParaRPr b="0" lang="en-US" sz="1600" spc="-1" strike="noStrike">
                <a:solidFill>
                  <a:srgbClr val="ffff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пражнения</a:t>
              </a:r>
              <a:endParaRPr b="0" lang="en-US" sz="16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12" name="AutoShape 13"/>
            <p:cNvSpPr/>
            <p:nvPr/>
          </p:nvSpPr>
          <p:spPr>
            <a:xfrm>
              <a:off x="2826000" y="3735720"/>
              <a:ext cx="3823200" cy="766080"/>
            </a:xfrm>
            <a:prstGeom prst="horizontalScroll">
              <a:avLst>
                <a:gd name="adj" fmla="val 12500"/>
              </a:avLst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пражнения для туловища, развития и укрепления мышц спины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13" name="AutoShape 12"/>
            <p:cNvSpPr/>
            <p:nvPr/>
          </p:nvSpPr>
          <p:spPr>
            <a:xfrm>
              <a:off x="1814040" y="2872800"/>
              <a:ext cx="3824280" cy="767520"/>
            </a:xfrm>
            <a:prstGeom prst="horizontalScroll">
              <a:avLst>
                <a:gd name="adj" fmla="val 12500"/>
              </a:avLst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пражнения для развития и укрепления мышц плечевого пояса и рук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14" name="AutoShape 11"/>
            <p:cNvSpPr/>
            <p:nvPr/>
          </p:nvSpPr>
          <p:spPr>
            <a:xfrm>
              <a:off x="3838320" y="1915200"/>
              <a:ext cx="3824280" cy="765000"/>
            </a:xfrm>
            <a:prstGeom prst="horizontalScroll">
              <a:avLst>
                <a:gd name="adj" fmla="val 12500"/>
              </a:avLst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По анатомическому признаку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>
              <a:off x="5751000" y="1722960"/>
              <a:ext cx="0" cy="2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16" name="AutoShape 9"/>
            <p:cNvSpPr/>
            <p:nvPr/>
          </p:nvSpPr>
          <p:spPr>
            <a:xfrm>
              <a:off x="3838320" y="4501800"/>
              <a:ext cx="3823200" cy="766080"/>
            </a:xfrm>
            <a:prstGeom prst="horizontalScroll">
              <a:avLst>
                <a:gd name="adj" fmla="val 12500"/>
              </a:avLst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пражнения для развития и укрепления мышц ног и брюшного пресса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5036040" y="2559960"/>
              <a:ext cx="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>
              <a:off x="6087960" y="2585520"/>
              <a:ext cx="0" cy="12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>
              <a:off x="7101000" y="2585520"/>
              <a:ext cx="0" cy="20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2263680" y="3544200"/>
              <a:ext cx="720" cy="19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>
              <a:off x="3388680" y="4406040"/>
              <a:ext cx="72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22" name="Line 3"/>
            <p:cNvSpPr/>
            <p:nvPr/>
          </p:nvSpPr>
          <p:spPr>
            <a:xfrm>
              <a:off x="4626000" y="5172840"/>
              <a:ext cx="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</p:grpSp>
      <p:sp>
        <p:nvSpPr>
          <p:cNvPr id="123" name="Горизонтальный свиток 18"/>
          <p:cNvSpPr/>
          <p:nvPr/>
        </p:nvSpPr>
        <p:spPr>
          <a:xfrm>
            <a:off x="2411280" y="6021360"/>
            <a:ext cx="3384720" cy="64764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onstantia"/>
              </a:rPr>
              <a:t>Без предметов</a:t>
            </a:r>
            <a:endParaRPr b="0" lang="en-US" sz="14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24" name="Горизонтальный свиток 19"/>
          <p:cNvSpPr/>
          <p:nvPr/>
        </p:nvSpPr>
        <p:spPr>
          <a:xfrm>
            <a:off x="2050920" y="5445000"/>
            <a:ext cx="3457800" cy="64800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onstantia"/>
              </a:rPr>
              <a:t>С предметами</a:t>
            </a:r>
            <a:endParaRPr b="0" lang="en-US" sz="1400" spc="-1" strike="noStrike">
              <a:solidFill>
                <a:srgbClr val="ffff00"/>
              </a:solidFill>
              <a:latin typeface="Constantia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095840" y="364320"/>
            <a:ext cx="69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ификация общеразвивающих упражнений </a:t>
            </a:r>
            <a:endParaRPr b="0" lang="en-US" sz="2400" spc="-1" strike="noStrike">
              <a:solidFill>
                <a:srgbClr val="ffff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тепаненковой Э.Я.</a:t>
            </a:r>
            <a:endParaRPr b="0" lang="en-US" sz="24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2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grpSp>
        <p:nvGrpSpPr>
          <p:cNvPr id="128" name="Group 22"/>
          <p:cNvGrpSpPr/>
          <p:nvPr/>
        </p:nvGrpSpPr>
        <p:grpSpPr>
          <a:xfrm>
            <a:off x="539640" y="1268280"/>
            <a:ext cx="8820360" cy="5113440"/>
            <a:chOff x="539640" y="1268280"/>
            <a:chExt cx="8820360" cy="5113440"/>
          </a:xfrm>
        </p:grpSpPr>
        <p:sp>
          <p:nvSpPr>
            <p:cNvPr id="129" name="AutoShape 40"/>
            <p:cNvSpPr/>
            <p:nvPr/>
          </p:nvSpPr>
          <p:spPr>
            <a:xfrm>
              <a:off x="539640" y="1268280"/>
              <a:ext cx="8820360" cy="51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30" name="Rectangle 39"/>
            <p:cNvSpPr/>
            <p:nvPr/>
          </p:nvSpPr>
          <p:spPr>
            <a:xfrm>
              <a:off x="3217680" y="1418400"/>
              <a:ext cx="2675520" cy="526680"/>
            </a:xfrm>
            <a:prstGeom prst="rect">
              <a:avLst/>
            </a:prstGeom>
            <a:solidFill>
              <a:srgbClr val="002060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бщеразвивающие упражнения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31" name="AutoShape 38"/>
            <p:cNvSpPr/>
            <p:nvPr/>
          </p:nvSpPr>
          <p:spPr>
            <a:xfrm>
              <a:off x="5894280" y="1644120"/>
              <a:ext cx="472680" cy="977400"/>
            </a:xfrm>
            <a:custGeom>
              <a:avLst/>
              <a:gdLst>
                <a:gd name="textAreaLeft" fmla="*/ 63360 w 472680"/>
                <a:gd name="textAreaRight" fmla="*/ 409320 w 472680"/>
                <a:gd name="textAreaTop" fmla="*/ 171000 h 977400"/>
                <a:gd name="textAreaBottom" fmla="*/ 708840 h 97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32" name="Rectangle 37"/>
            <p:cNvSpPr/>
            <p:nvPr/>
          </p:nvSpPr>
          <p:spPr>
            <a:xfrm>
              <a:off x="3217680" y="2245680"/>
              <a:ext cx="2676600" cy="525960"/>
            </a:xfrm>
            <a:prstGeom prst="rect">
              <a:avLst/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По анатомическому признаку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33" name="Rectangle 36"/>
            <p:cNvSpPr/>
            <p:nvPr/>
          </p:nvSpPr>
          <p:spPr>
            <a:xfrm>
              <a:off x="3217680" y="3147840"/>
              <a:ext cx="2676600" cy="641160"/>
            </a:xfrm>
            <a:prstGeom prst="rect">
              <a:avLst/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пражнения для развития и укрепления мышц плечевого пояса и рук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34" name="AutoShape 35"/>
            <p:cNvSpPr/>
            <p:nvPr/>
          </p:nvSpPr>
          <p:spPr>
            <a:xfrm>
              <a:off x="2744640" y="2546280"/>
              <a:ext cx="475200" cy="902160"/>
            </a:xfrm>
            <a:custGeom>
              <a:avLst/>
              <a:gdLst>
                <a:gd name="textAreaLeft" fmla="*/ 63360 w 475200"/>
                <a:gd name="textAreaRight" fmla="*/ 411840 w 475200"/>
                <a:gd name="textAreaTop" fmla="*/ 157680 h 902160"/>
                <a:gd name="textAreaBottom" fmla="*/ 65412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3204000" y="4005000"/>
              <a:ext cx="2664360" cy="671400"/>
            </a:xfrm>
            <a:prstGeom prst="rect">
              <a:avLst/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пражнения для туловища, развития и укрепления мышц спины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36" name="Rectangle 33"/>
            <p:cNvSpPr/>
            <p:nvPr/>
          </p:nvSpPr>
          <p:spPr>
            <a:xfrm>
              <a:off x="3276000" y="5589360"/>
              <a:ext cx="2615400" cy="375480"/>
            </a:xfrm>
            <a:prstGeom prst="rect">
              <a:avLst/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С предметами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3217680" y="4797720"/>
              <a:ext cx="2721960" cy="681480"/>
            </a:xfrm>
            <a:prstGeom prst="rect">
              <a:avLst/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пражнения для развития и укрепления мышц ног и брюшного пресса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38" name="AutoShape 31"/>
            <p:cNvSpPr/>
            <p:nvPr/>
          </p:nvSpPr>
          <p:spPr>
            <a:xfrm>
              <a:off x="2699280" y="4501800"/>
              <a:ext cx="518040" cy="826560"/>
            </a:xfrm>
            <a:custGeom>
              <a:avLst/>
              <a:gdLst>
                <a:gd name="textAreaLeft" fmla="*/ 69120 w 518040"/>
                <a:gd name="textAreaRight" fmla="*/ 448920 w 518040"/>
                <a:gd name="textAreaTop" fmla="*/ 155520 h 826560"/>
                <a:gd name="textAreaBottom" fmla="*/ 603000 h 82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39" stAng="-5400000" swAng="-5400000"/>
                  <a:lnTo>
                    <a:pt x="0" y="11688"/>
                  </a:lnTo>
                  <a:arcTo wR="21600" hR="8139" stAng="10800000" swAng="-2809304"/>
                  <a:lnTo>
                    <a:pt x="14400" y="21135"/>
                  </a:lnTo>
                  <a:lnTo>
                    <a:pt x="21600" y="18052"/>
                  </a:lnTo>
                  <a:lnTo>
                    <a:pt x="14400" y="14038"/>
                  </a:lnTo>
                  <a:lnTo>
                    <a:pt x="14400" y="15812"/>
                  </a:lnTo>
                  <a:arcTo wR="21600" hR="8139" stAng="7990696" swAng="2520602"/>
                  <a:lnTo>
                    <a:pt x="520" y="9913"/>
                  </a:lnTo>
                  <a:arcTo wR="21600" hR="8139" stAng="-10511298" swAng="5111298"/>
                  <a:close/>
                </a:path>
                <a:path fill="darkenLess" w="21600" h="21600">
                  <a:moveTo>
                    <a:pt x="21600" y="0"/>
                  </a:moveTo>
                  <a:arcTo wR="21600" hR="8139" stAng="-5400000" swAng="-5400000"/>
                  <a:lnTo>
                    <a:pt x="0" y="8139"/>
                  </a:lnTo>
                  <a:arcTo wR="21600" hR="8139" stAng="10800000" swAng="-288702"/>
                  <a:lnTo>
                    <a:pt x="520" y="9913"/>
                  </a:lnTo>
                  <a:arcTo wR="21600" hR="8139" stAng="-10511298" swAng="5111298"/>
                  <a:close/>
                </a:path>
              </a:pathLst>
            </a:cu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39" name="AutoShape 30"/>
            <p:cNvSpPr/>
            <p:nvPr/>
          </p:nvSpPr>
          <p:spPr>
            <a:xfrm>
              <a:off x="5894280" y="5177880"/>
              <a:ext cx="472680" cy="902160"/>
            </a:xfrm>
            <a:custGeom>
              <a:avLst/>
              <a:gdLst>
                <a:gd name="textAreaLeft" fmla="*/ 63360 w 472680"/>
                <a:gd name="textAreaRight" fmla="*/ 409320 w 472680"/>
                <a:gd name="textAreaTop" fmla="*/ 157680 h 902160"/>
                <a:gd name="textAreaBottom" fmla="*/ 65412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40" name="AutoShape 29"/>
            <p:cNvSpPr/>
            <p:nvPr/>
          </p:nvSpPr>
          <p:spPr>
            <a:xfrm>
              <a:off x="2699280" y="3524040"/>
              <a:ext cx="518040" cy="827280"/>
            </a:xfrm>
            <a:custGeom>
              <a:avLst/>
              <a:gdLst>
                <a:gd name="textAreaLeft" fmla="*/ 69120 w 518040"/>
                <a:gd name="textAreaRight" fmla="*/ 448920 w 518040"/>
                <a:gd name="textAreaTop" fmla="*/ 155880 h 827280"/>
                <a:gd name="textAreaBottom" fmla="*/ 603720 h 8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39" stAng="-5400000" swAng="-5400000"/>
                  <a:lnTo>
                    <a:pt x="0" y="11688"/>
                  </a:lnTo>
                  <a:arcTo wR="21600" hR="8139" stAng="10800000" swAng="-2809304"/>
                  <a:lnTo>
                    <a:pt x="14400" y="21135"/>
                  </a:lnTo>
                  <a:lnTo>
                    <a:pt x="21600" y="18052"/>
                  </a:lnTo>
                  <a:lnTo>
                    <a:pt x="14400" y="14038"/>
                  </a:lnTo>
                  <a:lnTo>
                    <a:pt x="14400" y="15812"/>
                  </a:lnTo>
                  <a:arcTo wR="21600" hR="8139" stAng="7990696" swAng="2520602"/>
                  <a:lnTo>
                    <a:pt x="520" y="9913"/>
                  </a:lnTo>
                  <a:arcTo wR="21600" hR="8139" stAng="-10511298" swAng="5111298"/>
                  <a:close/>
                </a:path>
                <a:path fill="darkenLess" w="21600" h="21600">
                  <a:moveTo>
                    <a:pt x="21600" y="0"/>
                  </a:moveTo>
                  <a:arcTo wR="21600" hR="8139" stAng="-5400000" swAng="-5400000"/>
                  <a:lnTo>
                    <a:pt x="0" y="8139"/>
                  </a:lnTo>
                  <a:arcTo wR="21600" hR="8139" stAng="10800000" swAng="-288702"/>
                  <a:lnTo>
                    <a:pt x="520" y="9913"/>
                  </a:lnTo>
                  <a:arcTo wR="21600" hR="8139" stAng="-10511298" swAng="5111298"/>
                  <a:close/>
                </a:path>
              </a:pathLst>
            </a:cu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41" name="Rectangle 28"/>
            <p:cNvSpPr/>
            <p:nvPr/>
          </p:nvSpPr>
          <p:spPr>
            <a:xfrm>
              <a:off x="6516360" y="2852280"/>
              <a:ext cx="2159640" cy="52308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пражнения для мышц лица, глаз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42" name="AutoShape 27"/>
            <p:cNvSpPr/>
            <p:nvPr/>
          </p:nvSpPr>
          <p:spPr>
            <a:xfrm>
              <a:off x="5894280" y="3148200"/>
              <a:ext cx="630720" cy="150120"/>
            </a:xfrm>
            <a:prstGeom prst="rightArrow">
              <a:avLst>
                <a:gd name="adj1" fmla="val 50000"/>
                <a:gd name="adj2" fmla="val 105036"/>
              </a:avLst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43" name="Rectangle 26"/>
            <p:cNvSpPr/>
            <p:nvPr/>
          </p:nvSpPr>
          <p:spPr>
            <a:xfrm>
              <a:off x="6525000" y="3524040"/>
              <a:ext cx="2151000" cy="5526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пражнения для пальцев и кистей рук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>
              <a:off x="5894280" y="3524040"/>
              <a:ext cx="630720" cy="150120"/>
            </a:xfrm>
            <a:prstGeom prst="rightArrow">
              <a:avLst>
                <a:gd name="adj1" fmla="val 50000"/>
                <a:gd name="adj2" fmla="val 105036"/>
              </a:avLst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3852000" y="6021360"/>
              <a:ext cx="0" cy="150120"/>
            </a:xfrm>
            <a:prstGeom prst="line">
              <a:avLst/>
            </a:prstGeom>
            <a:ln w="936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46" name="Line 23"/>
            <p:cNvSpPr/>
            <p:nvPr/>
          </p:nvSpPr>
          <p:spPr>
            <a:xfrm>
              <a:off x="5291280" y="6021360"/>
              <a:ext cx="0" cy="150120"/>
            </a:xfrm>
            <a:prstGeom prst="line">
              <a:avLst/>
            </a:prstGeom>
            <a:ln w="936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</p:grpSp>
      <p:sp>
        <p:nvSpPr>
          <p:cNvPr id="147" name="Прямоугольник 36"/>
          <p:cNvSpPr/>
          <p:nvPr/>
        </p:nvSpPr>
        <p:spPr>
          <a:xfrm>
            <a:off x="2627280" y="6165720"/>
            <a:ext cx="1297080" cy="503280"/>
          </a:xfrm>
          <a:prstGeom prst="rect">
            <a:avLst/>
          </a:prstGeom>
          <a:solidFill>
            <a:srgbClr val="0070c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onstantia"/>
              </a:rPr>
              <a:t>Без предметов</a:t>
            </a:r>
            <a:endParaRPr b="0" lang="en-US" sz="14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48" name="Прямоугольник 37"/>
          <p:cNvSpPr/>
          <p:nvPr/>
        </p:nvSpPr>
        <p:spPr>
          <a:xfrm>
            <a:off x="4859280" y="6165720"/>
            <a:ext cx="1297080" cy="503280"/>
          </a:xfrm>
          <a:prstGeom prst="rect">
            <a:avLst/>
          </a:prstGeom>
          <a:solidFill>
            <a:srgbClr val="0070c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onstantia"/>
              </a:rPr>
              <a:t>У предметов</a:t>
            </a:r>
            <a:endParaRPr b="0" lang="en-US" sz="1400" spc="-1" strike="noStrike">
              <a:solidFill>
                <a:srgbClr val="ffff00"/>
              </a:solidFill>
              <a:latin typeface="Constanti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11"/>
          <p:cNvSpPr/>
          <p:nvPr/>
        </p:nvSpPr>
        <p:spPr>
          <a:xfrm>
            <a:off x="3635280" y="1413000"/>
            <a:ext cx="2057400" cy="1371600"/>
          </a:xfrm>
          <a:prstGeom prst="downArrowCallout">
            <a:avLst>
              <a:gd name="adj1" fmla="val 37503"/>
              <a:gd name="adj2" fmla="val 37500"/>
              <a:gd name="adj3" fmla="val 16667"/>
              <a:gd name="adj4" fmla="val 6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Общеразвивающие</a:t>
            </a:r>
            <a:r>
              <a:rPr b="1" i="1" lang="ru-RU" sz="1600" spc="-1" strike="noStrike">
                <a:solidFill>
                  <a:srgbClr val="ffff66"/>
                </a:solidFill>
                <a:latin typeface="Palace Script MT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упражнения</a:t>
            </a:r>
            <a:endParaRPr b="0" lang="en-US" sz="16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800" y="442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4481640" y="20484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900000" y="692280"/>
            <a:ext cx="77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ификация общеразвивающих упражнений по Шебеко В.Н., Ермак Н.Н.,  Шишкиной В.А.</a:t>
            </a:r>
            <a:endParaRPr b="0" lang="en-US" sz="2000" spc="-1" strike="noStrike">
              <a:solidFill>
                <a:srgbClr val="ffff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grpSp>
        <p:nvGrpSpPr>
          <p:cNvPr id="155" name="Organization Chart 20"/>
          <p:cNvGrpSpPr/>
          <p:nvPr/>
        </p:nvGrpSpPr>
        <p:grpSpPr>
          <a:xfrm>
            <a:off x="1619280" y="2781360"/>
            <a:ext cx="6075000" cy="2514600"/>
            <a:chOff x="1619280" y="2781360"/>
            <a:chExt cx="6075000" cy="2514600"/>
          </a:xfrm>
        </p:grpSpPr>
        <p:cxnSp>
          <p:nvCxnSpPr>
            <p:cNvPr id="156" name="_s1028"/>
            <p:cNvCxnSpPr>
              <a:stCxn id="157" idx="0"/>
              <a:endCxn id="158" idx="2"/>
            </p:cNvCxnSpPr>
            <p:nvPr/>
          </p:nvCxnSpPr>
          <p:spPr>
            <a:xfrm flipV="1" rot="16200000">
              <a:off x="5470920" y="2960640"/>
              <a:ext cx="497880" cy="2126880"/>
            </a:xfrm>
            <a:prstGeom prst="bentConnector3">
              <a:avLst>
                <a:gd name="adj1" fmla="val 227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29"/>
            <p:cNvCxnSpPr>
              <a:stCxn id="160" idx="0"/>
              <a:endCxn id="158" idx="2"/>
            </p:cNvCxnSpPr>
            <p:nvPr/>
          </p:nvCxnSpPr>
          <p:spPr>
            <a:xfrm flipV="1">
              <a:off x="4656960" y="3775320"/>
              <a:ext cx="1440" cy="497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0"/>
            <p:cNvCxnSpPr>
              <a:stCxn id="162" idx="0"/>
              <a:endCxn id="158" idx="2"/>
            </p:cNvCxnSpPr>
            <p:nvPr/>
          </p:nvCxnSpPr>
          <p:spPr>
            <a:xfrm flipH="1" flipV="1" rot="5400000">
              <a:off x="3344760" y="2961000"/>
              <a:ext cx="497880" cy="2126880"/>
            </a:xfrm>
            <a:prstGeom prst="bentConnector3">
              <a:avLst>
                <a:gd name="adj1" fmla="val 227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" name="_s1031"/>
            <p:cNvSpPr/>
            <p:nvPr/>
          </p:nvSpPr>
          <p:spPr>
            <a:xfrm>
              <a:off x="3745800" y="2781360"/>
              <a:ext cx="1822320" cy="99468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ff00"/>
                  </a:solidFill>
                  <a:latin typeface="Constantia"/>
                  <a:ea typeface="Arial"/>
                </a:rPr>
                <a:t>По </a:t>
              </a:r>
              <a:endParaRPr b="0" lang="en-US" sz="1500" spc="-1" strike="noStrike">
                <a:solidFill>
                  <a:srgbClr val="ffff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ff00"/>
                  </a:solidFill>
                  <a:latin typeface="Constantia"/>
                  <a:ea typeface="Arial"/>
                </a:rPr>
                <a:t>анатомическому признаку</a:t>
              </a:r>
              <a:endParaRPr b="0" lang="en-US" sz="15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62" name="_s1032"/>
            <p:cNvSpPr/>
            <p:nvPr/>
          </p:nvSpPr>
          <p:spPr>
            <a:xfrm>
              <a:off x="1619280" y="4273200"/>
              <a:ext cx="1822320" cy="99468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Constantia"/>
                  <a:ea typeface="Arial"/>
                </a:rPr>
                <a:t>Упражнения для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Constantia"/>
                  <a:ea typeface="Arial"/>
                </a:rPr>
                <a:t> </a:t>
              </a:r>
              <a:r>
                <a:rPr b="1" lang="ru-RU" sz="1400" spc="-1" strike="noStrike">
                  <a:solidFill>
                    <a:srgbClr val="ffff00"/>
                  </a:solidFill>
                  <a:latin typeface="Constantia"/>
                  <a:ea typeface="Arial"/>
                </a:rPr>
                <a:t>мышщ рук и плечевого пояса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60" name="_s1033"/>
            <p:cNvSpPr/>
            <p:nvPr/>
          </p:nvSpPr>
          <p:spPr>
            <a:xfrm>
              <a:off x="3745800" y="4273200"/>
              <a:ext cx="1822320" cy="99468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Constantia"/>
                  <a:ea typeface="Arial"/>
                </a:rPr>
                <a:t>Упражнения для мышц туловища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57" name="_s1034"/>
            <p:cNvSpPr/>
            <p:nvPr/>
          </p:nvSpPr>
          <p:spPr>
            <a:xfrm>
              <a:off x="5871960" y="4273200"/>
              <a:ext cx="1822320" cy="99468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Constantia"/>
                  <a:ea typeface="Arial"/>
                </a:rPr>
                <a:t>Упражнения для ног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 flipV="1">
              <a:off x="6327720" y="526896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</p:grpSp>
      <p:sp>
        <p:nvSpPr>
          <p:cNvPr id="164" name="Прямоугольник 9"/>
          <p:cNvSpPr/>
          <p:nvPr/>
        </p:nvSpPr>
        <p:spPr>
          <a:xfrm>
            <a:off x="2627280" y="5661000"/>
            <a:ext cx="1513080" cy="6476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onstantia"/>
              </a:rPr>
              <a:t>С предметами</a:t>
            </a:r>
            <a:endParaRPr b="0" lang="en-US" sz="14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5364000" y="5661000"/>
            <a:ext cx="1440000" cy="6476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onstantia"/>
              </a:rPr>
              <a:t>Без предметов</a:t>
            </a:r>
            <a:endParaRPr b="0" lang="en-US" sz="14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66" name="Прямая соединительная линия 14"/>
          <p:cNvSpPr/>
          <p:nvPr/>
        </p:nvSpPr>
        <p:spPr>
          <a:xfrm>
            <a:off x="2987640" y="5300640"/>
            <a:ext cx="0" cy="360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67" name="Прямая соединительная линия 15"/>
          <p:cNvSpPr/>
          <p:nvPr/>
        </p:nvSpPr>
        <p:spPr>
          <a:xfrm>
            <a:off x="3995640" y="5300640"/>
            <a:ext cx="0" cy="360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68" name="Прямая соединительная линия 16"/>
          <p:cNvSpPr/>
          <p:nvPr/>
        </p:nvSpPr>
        <p:spPr>
          <a:xfrm>
            <a:off x="5435640" y="5300640"/>
            <a:ext cx="0" cy="360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69" name="Прямая соединительная линия 17"/>
          <p:cNvSpPr/>
          <p:nvPr/>
        </p:nvSpPr>
        <p:spPr>
          <a:xfrm>
            <a:off x="6372360" y="5300640"/>
            <a:ext cx="0" cy="360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948600" y="457560"/>
            <a:ext cx="710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ификация общеразвивающих упражнений</a:t>
            </a:r>
            <a:endParaRPr b="0" lang="en-US" sz="2000" spc="-1" strike="noStrike">
              <a:solidFill>
                <a:srgbClr val="ffff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Филлиповой С.О., Каминскому О.А., Волосниковой Т.В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00"/>
              </a:solidFill>
              <a:latin typeface="Constantia"/>
            </a:endParaRPr>
          </a:p>
        </p:txBody>
      </p:sp>
      <p:pic>
        <p:nvPicPr>
          <p:cNvPr id="171" name="Схема 5" descr=""/>
          <p:cNvPicPr/>
          <p:nvPr/>
        </p:nvPicPr>
        <p:blipFill>
          <a:blip r:embed="rId1"/>
          <a:stretch/>
        </p:blipFill>
        <p:spPr>
          <a:xfrm>
            <a:off x="438120" y="1047600"/>
            <a:ext cx="8480520" cy="555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262160" y="315360"/>
            <a:ext cx="72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лассификация общеразвивающих упражнений </a:t>
            </a:r>
            <a:endParaRPr b="0" lang="en-US" sz="2400" spc="-1" strike="noStrike">
              <a:solidFill>
                <a:srgbClr val="ffff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Осокиной Т. И.</a:t>
            </a:r>
            <a:endParaRPr b="0" lang="en-US" sz="2400" spc="-1" strike="noStrike">
              <a:solidFill>
                <a:srgbClr val="ffff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nstanti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grpSp>
        <p:nvGrpSpPr>
          <p:cNvPr id="174" name="Group 2"/>
          <p:cNvGrpSpPr/>
          <p:nvPr/>
        </p:nvGrpSpPr>
        <p:grpSpPr>
          <a:xfrm>
            <a:off x="1835280" y="836640"/>
            <a:ext cx="6400800" cy="3886200"/>
            <a:chOff x="1835280" y="836640"/>
            <a:chExt cx="6400800" cy="3886200"/>
          </a:xfrm>
        </p:grpSpPr>
        <p:sp>
          <p:nvSpPr>
            <p:cNvPr id="175" name="AutoShape 14"/>
            <p:cNvSpPr/>
            <p:nvPr/>
          </p:nvSpPr>
          <p:spPr>
            <a:xfrm>
              <a:off x="1835280" y="836640"/>
              <a:ext cx="64008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76" name="AutoShape 13"/>
            <p:cNvSpPr/>
            <p:nvPr/>
          </p:nvSpPr>
          <p:spPr>
            <a:xfrm>
              <a:off x="2987280" y="1179360"/>
              <a:ext cx="3672360" cy="800640"/>
            </a:xfrm>
            <a:custGeom>
              <a:avLst/>
              <a:gdLst>
                <a:gd name="textAreaLeft" fmla="*/ 918000 w 3672360"/>
                <a:gd name="textAreaRight" fmla="*/ 2754360 w 3672360"/>
                <a:gd name="textAreaTop" fmla="*/ 0 h 800640"/>
                <a:gd name="textAreaBottom" fmla="*/ 700560 h 80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бщеразвивающие упражнения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6179040" y="3693960"/>
              <a:ext cx="1713960" cy="800280"/>
            </a:xfrm>
            <a:prstGeom prst="rect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пражнения для развития и укрепления мышц туловища</a:t>
              </a:r>
              <a:endParaRPr b="0" lang="en-US" sz="1200" spc="-1" strike="noStrike">
                <a:solidFill>
                  <a:srgbClr val="ffff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4007160" y="2322720"/>
              <a:ext cx="1715760" cy="79884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По анатомическому признаку</a:t>
              </a: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79" name="Rectangle 10"/>
            <p:cNvSpPr/>
            <p:nvPr/>
          </p:nvSpPr>
          <p:spPr>
            <a:xfrm>
              <a:off x="1949760" y="3693960"/>
              <a:ext cx="1712160" cy="1028880"/>
            </a:xfrm>
            <a:prstGeom prst="rect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пражнения для развития и укрепления мышц рук и плечевого пояса</a:t>
              </a:r>
              <a:endParaRPr b="0" lang="en-US" sz="12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4007160" y="3923280"/>
              <a:ext cx="1828440" cy="798840"/>
            </a:xfrm>
            <a:prstGeom prst="rect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пражнения для развития и укрепления мышц ног</a:t>
              </a:r>
              <a:endParaRPr b="0" lang="en-US" sz="1200" spc="-1" strike="noStrike">
                <a:solidFill>
                  <a:srgbClr val="ffff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4790160" y="193212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 flipH="1">
              <a:off x="3549600" y="2960640"/>
              <a:ext cx="45684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83" name="Line 6"/>
            <p:cNvSpPr/>
            <p:nvPr/>
          </p:nvSpPr>
          <p:spPr>
            <a:xfrm>
              <a:off x="5721120" y="2960640"/>
              <a:ext cx="57132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4807080" y="3074760"/>
              <a:ext cx="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>
              <a:off x="3663720" y="43326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86" name="Line 3"/>
            <p:cNvSpPr/>
            <p:nvPr/>
          </p:nvSpPr>
          <p:spPr>
            <a:xfrm flipV="1">
              <a:off x="5835600" y="4380120"/>
              <a:ext cx="343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</p:grpSp>
      <p:sp>
        <p:nvSpPr>
          <p:cNvPr id="18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00"/>
              </a:solidFill>
              <a:latin typeface="Constantia"/>
            </a:endParaRPr>
          </a:p>
        </p:txBody>
      </p:sp>
      <p:grpSp>
        <p:nvGrpSpPr>
          <p:cNvPr id="188" name="Group 21"/>
          <p:cNvGrpSpPr/>
          <p:nvPr/>
        </p:nvGrpSpPr>
        <p:grpSpPr>
          <a:xfrm>
            <a:off x="1547640" y="4941720"/>
            <a:ext cx="6400800" cy="1486080"/>
            <a:chOff x="1547640" y="4941720"/>
            <a:chExt cx="6400800" cy="1486080"/>
          </a:xfrm>
        </p:grpSpPr>
        <p:sp>
          <p:nvSpPr>
            <p:cNvPr id="189" name="AutoShape 25"/>
            <p:cNvSpPr/>
            <p:nvPr/>
          </p:nvSpPr>
          <p:spPr>
            <a:xfrm>
              <a:off x="1547640" y="4941720"/>
              <a:ext cx="64008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90" name="Rectangle 24"/>
            <p:cNvSpPr/>
            <p:nvPr/>
          </p:nvSpPr>
          <p:spPr>
            <a:xfrm>
              <a:off x="2051640" y="5229360"/>
              <a:ext cx="1600200" cy="68544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С предметами</a:t>
              </a:r>
              <a:endParaRPr b="0" lang="en-US" sz="12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4140000" y="5445360"/>
              <a:ext cx="1714680" cy="68652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Без предметов</a:t>
              </a:r>
              <a:endParaRPr b="0" lang="en-US" sz="1200" spc="-1" strike="noStrike">
                <a:solidFill>
                  <a:srgbClr val="ffff00"/>
                </a:solidFill>
                <a:latin typeface="Constantia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6300000" y="5301360"/>
              <a:ext cx="1485360" cy="80064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На специальных гимнастических пособиях</a:t>
              </a:r>
              <a:endParaRPr b="0" lang="en-US" sz="1200" spc="-1" strike="noStrike">
                <a:solidFill>
                  <a:srgbClr val="ffff00"/>
                </a:solidFill>
                <a:latin typeface="Constantia"/>
              </a:endParaRPr>
            </a:p>
          </p:txBody>
        </p:sp>
      </p:grpSp>
      <p:cxnSp>
        <p:nvCxnSpPr>
          <p:cNvPr id="193" name="Прямая со стрелкой 23"/>
          <p:cNvCxnSpPr/>
          <p:nvPr/>
        </p:nvCxnSpPr>
        <p:spPr>
          <a:xfrm flipH="1">
            <a:off x="3492000" y="4724280"/>
            <a:ext cx="6105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4" name="Прямая со стрелкой 25"/>
          <p:cNvCxnSpPr/>
          <p:nvPr/>
        </p:nvCxnSpPr>
        <p:spPr>
          <a:xfrm flipH="1">
            <a:off x="4787280" y="4724280"/>
            <a:ext cx="3564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Прямая со стрелкой 26"/>
          <p:cNvCxnSpPr/>
          <p:nvPr/>
        </p:nvCxnSpPr>
        <p:spPr>
          <a:xfrm>
            <a:off x="5651280" y="4724280"/>
            <a:ext cx="54180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1476360" y="66708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Классификация общеразвивающих упражнений </a:t>
            </a:r>
            <a:endParaRPr b="0" lang="en-US" sz="2000" spc="-1" strike="noStrike">
              <a:solidFill>
                <a:srgbClr val="ffff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 Буцинской П.П., Васюковой В.И., Лесковой Г.П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ffff00"/>
              </a:solidFill>
              <a:latin typeface="Constantia"/>
            </a:endParaRPr>
          </a:p>
        </p:txBody>
      </p:sp>
      <p:pic>
        <p:nvPicPr>
          <p:cNvPr id="197" name="Схема 3" descr=""/>
          <p:cNvPicPr/>
          <p:nvPr/>
        </p:nvPicPr>
        <p:blipFill>
          <a:blip r:embed="rId1"/>
          <a:stretch/>
        </p:blipFill>
        <p:spPr>
          <a:xfrm>
            <a:off x="811080" y="1620720"/>
            <a:ext cx="75218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Monotype Corsiva"/>
              </a:rPr>
              <a:t>Спасибо за внимание</a:t>
            </a:r>
            <a:endParaRPr b="0" lang="en-US" sz="80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Program Files\Microsoft Office\MEDIA\CAGCAT10\j0158007.wmf"/>
          <p:cNvPicPr/>
          <p:nvPr/>
        </p:nvPicPr>
        <p:blipFill>
          <a:blip r:embed="rId2"/>
          <a:stretch/>
        </p:blipFill>
        <p:spPr>
          <a:xfrm>
            <a:off x="755640" y="3160800"/>
            <a:ext cx="763272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6:53:47Z</dcterms:created>
  <dc:creator>Ольга</dc:creator>
  <dc:description/>
  <dc:language>en-US</dc:language>
  <cp:lastModifiedBy>Ольга</cp:lastModifiedBy>
  <dcterms:modified xsi:type="dcterms:W3CDTF">2012-11-04T16:32:30Z</dcterms:modified>
  <cp:revision>22</cp:revision>
  <dc:subject/>
  <dc:title>Классификация общеразвивающих упражнений</dc:title>
</cp:coreProperties>
</file>