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2FE-2224-48A2-921E-613DC5B3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DC8-587E-4626-8A92-B56FE3BF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6C9-F7B5-4278-908D-40591A6A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6D0-5AB8-448E-9517-82C91757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1BF0-0DC5-4E3C-BB49-C2AA40ED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60E4-B009-4CC4-8BDE-1108264A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6ECB-0586-4756-8D5D-F6F64CA1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236E-F76B-4042-87A8-DBB681D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58E6-A92F-4470-A6A5-97A043D7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8287-DE7D-49FB-B298-512DDDD6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7917-2154-4D1A-B8CF-3A019AED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217-D7FE-4A75-99B5-CFAA95BB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D6A0-8161-441E-8F31-7F40C87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F834-803E-4936-8C77-326A9D1D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56B8-13FA-4933-858B-A010E67D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858E-17FC-4B7D-94D9-C47AB8C9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BD86-8CB4-497B-9F3D-47280669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7C5-3714-41DF-9A36-9B6EDF0D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85B-5333-4DCB-BE6C-4C50C3F1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22C-DACF-4C87-8D87-364DCEE7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D49-7ABB-491B-A723-C6D7A693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52D-DC2A-4820-978A-ACD1881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879-CE2E-40B7-86DD-55C90C6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AEF-6577-4472-A3E7-2D85464A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11F4-6536-4605-98E8-DF14C91AA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2A3E-E4C2-4ABF-B8CC-C162EE1BF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2;&#1077;&#1083;&#1080;&#1082;&#1080;&#1081;_&#1053;&#1086;&#1074;&#1075;&#1086;&#1088;&#1086;&#1076;" TargetMode="External"/><Relationship Id="rId3" Type="http://schemas.openxmlformats.org/officeDocument/2006/relationships/hyperlink" Target="http://ru.wikipedia.org/wiki/1862" TargetMode="External"/><Relationship Id="rId4" Type="http://schemas.openxmlformats.org/officeDocument/2006/relationships/hyperlink" Target="http://ru.wikipedia.org/wiki/&#1051;&#1077;&#1075;&#1077;&#1085;&#1076;&#1072;" TargetMode="External"/><Relationship Id="rId5" Type="http://schemas.openxmlformats.org/officeDocument/2006/relationships/hyperlink" Target="http://ru.wikipedia.org/wiki/&#1055;&#1088;&#1080;&#1079;&#1074;&#1072;&#1085;&#1080;&#1077;_&#1074;&#1072;&#1088;&#1103;&#1075;&#1086;&#1074;" TargetMode="External"/><Relationship Id="rId6" Type="http://schemas.openxmlformats.org/officeDocument/2006/relationships/hyperlink" Target="http://ru.wikipedia.org/wiki/&#1052;&#1080;&#1082;&#1077;&#1096;&#1080;&#1085;,_&#1052;&#1080;&#1093;&#1072;&#1080;&#1083;_&#1054;&#1089;&#1080;&#1087;&#1086;&#1074;&#1080;&#1095;" TargetMode="External"/><Relationship Id="rId7" Type="http://schemas.openxmlformats.org/officeDocument/2006/relationships/hyperlink" Target="http://ru.wikipedia.org/wiki/&#1064;&#1088;&#1077;&#1076;&#1077;&#1088;,_&#1048;&#1074;&#1072;&#1085;_&#1053;&#1080;&#1082;&#1086;&#1083;&#1072;&#1077;&#1074;&#1080;&#1095;" TargetMode="External"/><Relationship Id="rId8" Type="http://schemas.openxmlformats.org/officeDocument/2006/relationships/hyperlink" Target="http://ru.wikipedia.org/wiki/&#1043;&#1072;&#1088;&#1090;&#1084;&#1072;&#1085;,_&#1042;&#1080;&#1082;&#1090;&#1086;&#1088;_&#1040;&#1083;&#1077;&#1082;&#1089;&#1072;&#1085;&#1076;&#1088;&#1086;&#1074;&#1080;&#1095;" TargetMode="External"/><Relationship Id="rId9" Type="http://schemas.openxmlformats.org/officeDocument/2006/relationships/hyperlink" Target="http://ru.wikipedia.org/wiki/&#1053;&#1086;&#1074;&#1075;&#1086;&#1088;&#1086;&#1076;&#1089;&#1082;&#1080;&#1081;_&#1076;&#1077;&#1090;&#1080;&#1085;&#1077;&#1094;" TargetMode="External"/><Relationship Id="rId10" Type="http://schemas.openxmlformats.org/officeDocument/2006/relationships/hyperlink" Target="http://ru.wikipedia.org/wiki/&#1053;&#1086;&#1074;&#1075;&#1086;&#1088;&#1086;&#1076;&#1089;&#1082;&#1080;&#1081;_&#1057;&#1086;&#1092;&#1080;&#1081;&#1089;&#1082;&#1080;&#1081;_&#1089;&#1086;&#1073;&#1086;&#1088;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7;&#1088;&#1078;&#1072;&#1074;&#1072;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2.jpeg"/><Relationship Id="rId4" Type="http://schemas.openxmlformats.org/officeDocument/2006/relationships/slide" Target="slide12.xml"/><Relationship Id="rId5" Type="http://schemas.openxmlformats.org/officeDocument/2006/relationships/image" Target="../media/image13.jpeg"/><Relationship Id="rId6" Type="http://schemas.openxmlformats.org/officeDocument/2006/relationships/slide" Target="slide13.xml"/><Relationship Id="rId7" Type="http://schemas.openxmlformats.org/officeDocument/2006/relationships/image" Target="../media/image14.jpeg"/><Relationship Id="rId8" Type="http://schemas.openxmlformats.org/officeDocument/2006/relationships/slide" Target="slide14.xml"/><Relationship Id="rId9" Type="http://schemas.openxmlformats.org/officeDocument/2006/relationships/image" Target="../media/image15.jpeg"/><Relationship Id="rId10" Type="http://schemas.openxmlformats.org/officeDocument/2006/relationships/slide" Target="slide15.xml"/><Relationship Id="rId11" Type="http://schemas.openxmlformats.org/officeDocument/2006/relationships/image" Target="../media/image16.jpeg"/><Relationship Id="rId12" Type="http://schemas.openxmlformats.org/officeDocument/2006/relationships/slide" Target="slide16.xml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8;&#1080;&#1079;_%28&#1072;&#1088;&#1093;&#1080;&#1090;&#1077;&#1082;&#1090;&#1091;&#1088;&#1072;%29" TargetMode="External"/><Relationship Id="rId3" Type="http://schemas.openxmlformats.org/officeDocument/2006/relationships/hyperlink" Target="http://ru.wikipedia.org/wiki/&#1043;&#1086;&#1088;&#1077;&#1083;&#1100;&#1077;&#1092;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4;&#1072;&#1087;&#1082;&#1072;_&#1052;&#1086;&#1085;&#1086;&#1084;&#1072;&#1093;&#1072;" TargetMode="External"/><Relationship Id="rId3" Type="http://schemas.openxmlformats.org/officeDocument/2006/relationships/hyperlink" Target="http://ru.wikipedia.org/wiki/1862_&#1075;&#1086;&#1076;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28_&#1084;&#1072;&#1103;" TargetMode="External"/><Relationship Id="rId3" Type="http://schemas.openxmlformats.org/officeDocument/2006/relationships/hyperlink" Target="http://ru.wikipedia.org/wiki/1861_&#1075;&#1086;&#1076;" TargetMode="External"/><Relationship Id="rId4" Type="http://schemas.openxmlformats.org/officeDocument/2006/relationships/hyperlink" Target="http://ru.wikipedia.org/wiki/&#1055;&#1072;&#1084;&#1103;&#1090;&#1085;&#1080;&#1082;_&#1053;&#1086;&#1074;&#1075;&#1086;&#1088;&#1086;&#1076;&#1089;&#1082;&#1086;&#1084;&#1091;_&#1086;&#1087;&#1086;&#1083;&#1095;&#1077;&#1085;&#1080;&#1102;_1812_&#1075;&#1086;&#1076;&#1072;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8_&#1089;&#1077;&#1085;&#1090;&#1103;&#1073;&#1088;&#1103;" TargetMode="External"/><Relationship Id="rId3" Type="http://schemas.openxmlformats.org/officeDocument/2006/relationships/hyperlink" Target="http://ru.wikipedia.org/wiki/1862_&#1075;&#1086;&#1076;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4;&#1082;&#1090;&#1103;&#1073;&#1088;&#1100;&#1089;&#1082;&#1072;&#1103;_&#1088;&#1077;&#1074;&#1086;&#1083;&#1102;&#1094;&#1080;&#1103;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5_&#1072;&#1074;&#1075;&#1091;&#1089;&#1090;&#1072;" TargetMode="External"/><Relationship Id="rId3" Type="http://schemas.openxmlformats.org/officeDocument/2006/relationships/hyperlink" Target="http://ru.wikipedia.org/wiki/1941_&#1075;&#1086;&#1076;" TargetMode="External"/><Relationship Id="rId4" Type="http://schemas.openxmlformats.org/officeDocument/2006/relationships/hyperlink" Target="http://ru.wikipedia.org/wiki/20_&#1103;&#1085;&#1074;&#1072;&#1088;&#1103;" TargetMode="External"/><Relationship Id="rId5" Type="http://schemas.openxmlformats.org/officeDocument/2006/relationships/hyperlink" Target="http://ru.wikipedia.org/wiki/1944_&#1075;&#1086;&#1076;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91;&#1090;&#1100;_&#1080;&#1079;_&#1074;&#1072;&#1088;&#1103;&#1075;_&#1074;_&#1075;&#1088;&#1077;&#1082;&#1080;" TargetMode="External"/><Relationship Id="rId3" Type="http://schemas.openxmlformats.org/officeDocument/2006/relationships/hyperlink" Target="http://ru.wikipedia.org/wiki/&#1055;&#1086;&#1083;&#1103;&#1085;&#1077;" TargetMode="External"/><Relationship Id="rId4" Type="http://schemas.openxmlformats.org/officeDocument/2006/relationships/hyperlink" Target="http://ru.wikipedia.org/wiki/&#1050;&#1080;&#1081;_%28&#1082;&#1085;&#1103;&#1079;&#1100;%29" TargetMode="External"/><Relationship Id="rId5" Type="http://schemas.openxmlformats.org/officeDocument/2006/relationships/hyperlink" Target="http://ru.wikipedia.org/wiki/&#1065;&#1077;&#1082;" TargetMode="External"/><Relationship Id="rId6" Type="http://schemas.openxmlformats.org/officeDocument/2006/relationships/hyperlink" Target="http://ru.wikipedia.org/wiki/&#1061;&#1086;&#1088;&#1080;&#1074;" TargetMode="External"/><Relationship Id="rId7" Type="http://schemas.openxmlformats.org/officeDocument/2006/relationships/hyperlink" Target="http://ru.wikipedia.org/wiki/IX_&#1074;&#1077;&#1082;" TargetMode="External"/><Relationship Id="rId8" Type="http://schemas.openxmlformats.org/officeDocument/2006/relationships/hyperlink" Target="http://ru.wikipedia.org/wiki/860_&#1075;&#1086;&#1076;" TargetMode="External"/><Relationship Id="rId9" Type="http://schemas.openxmlformats.org/officeDocument/2006/relationships/hyperlink" Target="http://ru.wikipedia.org/wiki/&#1055;&#1086;&#1093;&#1086;&#1076;_&#1088;&#1091;&#1089;&#1080;_&#1085;&#1072;_&#1062;&#1072;&#1088;&#1100;&#1075;&#1088;&#1072;&#1076;_%28860%29" TargetMode="External"/><Relationship Id="rId10" Type="http://schemas.openxmlformats.org/officeDocument/2006/relationships/hyperlink" Target="http://ru.wikipedia.org/wiki/&#1050;&#1088;&#1077;&#1097;&#1077;&#1085;&#1080;&#1077;_&#1056;&#1091;&#1089;&#1080;" TargetMode="External"/><Relationship Id="rId11" Type="http://schemas.openxmlformats.org/officeDocument/2006/relationships/hyperlink" Target="http://ru.wikipedia.org/wiki/&#1040;&#1089;&#1082;&#1086;&#1083;&#1100;&#1076;" TargetMode="External"/><Relationship Id="rId12" Type="http://schemas.openxmlformats.org/officeDocument/2006/relationships/hyperlink" Target="http://ru.wikipedia.org/wiki/&#1061;&#1088;&#1080;&#1089;&#1090;&#1080;&#1072;&#1085;&#1089;&#1090;&#1074;&#1086;" TargetMode="External"/><Relationship Id="rId13" Type="http://schemas.openxmlformats.org/officeDocument/2006/relationships/hyperlink" Target="http://ru.wikipedia.org/wiki/862" TargetMode="External"/><Relationship Id="rId14" Type="http://schemas.openxmlformats.org/officeDocument/2006/relationships/hyperlink" Target="http://ru.wikipedia.org/wiki/&#1055;&#1086;&#1074;&#1077;&#1089;&#1090;&#1100;_&#1042;&#1088;&#1077;&#1084;&#1077;&#1085;&#1085;&#1099;&#1093;_&#1083;&#1077;&#1090;" TargetMode="External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2_&#1085;&#1086;&#1103;&#1073;&#1088;&#1103;" TargetMode="External"/><Relationship Id="rId3" Type="http://schemas.openxmlformats.org/officeDocument/2006/relationships/hyperlink" Target="http://ru.wikipedia.org/wiki/1944_&#1075;&#1086;&#1076;" TargetMode="External"/><Relationship Id="rId4" Type="http://schemas.openxmlformats.org/officeDocument/2006/relationships/hyperlink" Target="http://ru.wikipedia.org/wiki/1954_&#1075;&#1086;&#1076;" TargetMode="External"/><Relationship Id="rId5" Type="http://schemas.openxmlformats.org/officeDocument/2006/relationships/hyperlink" Target="http://ru.wikipedia.org/wiki/1982_&#1075;&#1086;&#1076;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862" TargetMode="External"/><Relationship Id="rId3" Type="http://schemas.openxmlformats.org/officeDocument/2006/relationships/hyperlink" Target="http://ru.wikipedia.org/wiki/&#1040;&#1089;&#1082;&#1086;&#1083;&#1100;&#1076;" TargetMode="External"/><Relationship Id="rId4" Type="http://schemas.openxmlformats.org/officeDocument/2006/relationships/hyperlink" Target="http://ru.wikipedia.org/wiki/&#1044;&#1080;&#1088;" TargetMode="External"/><Relationship Id="rId5" Type="http://schemas.openxmlformats.org/officeDocument/2006/relationships/hyperlink" Target="http://ru.wikipedia.org/wiki/&#1050;&#1086;&#1085;&#1089;&#1090;&#1072;&#1085;&#1090;&#1080;&#1085;&#1086;&#1087;&#1086;&#1083;&#1100;" TargetMode="External"/><Relationship Id="rId6" Type="http://schemas.openxmlformats.org/officeDocument/2006/relationships/hyperlink" Target="http://ru.wikipedia.org/wiki/&#1055;&#1091;&#1090;&#1100;_&#1080;&#1079;_&#1074;&#1072;&#1088;&#1103;&#1075;_&#1074;_&#1075;&#1088;&#1077;&#1082;&#1080;" TargetMode="External"/><Relationship Id="rId7" Type="http://schemas.openxmlformats.org/officeDocument/2006/relationships/hyperlink" Target="http://ru.wikipedia.org/wiki/879" TargetMode="External"/><Relationship Id="rId8" Type="http://schemas.openxmlformats.org/officeDocument/2006/relationships/hyperlink" Target="http://ru.wikipedia.org/wiki/&#1056;&#1102;&#1088;&#1080;&#1082;" TargetMode="External"/><Relationship Id="rId9" Type="http://schemas.openxmlformats.org/officeDocument/2006/relationships/hyperlink" Target="http://ru.wikipedia.org/wiki/&#1050;&#1085;&#1103;&#1079;&#1100;_&#1054;&#1083;&#1077;&#1075;" TargetMode="External"/><Relationship Id="rId10" Type="http://schemas.openxmlformats.org/officeDocument/2006/relationships/hyperlink" Target="http://ru.wikipedia.org/wiki/&#1056;&#1077;&#1075;&#1077;&#1085;&#1090;" TargetMode="External"/><Relationship Id="rId11" Type="http://schemas.openxmlformats.org/officeDocument/2006/relationships/hyperlink" Target="http://ru.wikipedia.org/wiki/&#1048;&#1075;&#1086;&#1088;&#1100;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3;&#1086;&#1088;&#1084;&#1072;&#1085;&#1080;&#1079;&#1084;" TargetMode="External"/><Relationship Id="rId3" Type="http://schemas.openxmlformats.org/officeDocument/2006/relationships/hyperlink" Target="http://ru.wikipedia.org/wiki/&#1053;&#1086;&#1088;&#1084;&#1072;&#1085;&#1080;&#1079;&#1084;" TargetMode="External"/><Relationship Id="rId4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5" Type="http://schemas.openxmlformats.org/officeDocument/2006/relationships/hyperlink" Target="http://ru.wikipedia.org/wiki/XII_&#1074;&#1077;&#1082;" TargetMode="External"/><Relationship Id="rId6" Type="http://schemas.openxmlformats.org/officeDocument/2006/relationships/hyperlink" Target="http://ru.wikipedia.org/wiki/&#1042;&#1072;&#1088;&#1103;&#1075;&#1080;" TargetMode="External"/><Relationship Id="rId7" Type="http://schemas.openxmlformats.org/officeDocument/2006/relationships/hyperlink" Target="http://ru.wikipedia.org/wiki/&#1056;&#1102;&#1088;&#1080;&#1082;" TargetMode="External"/><Relationship Id="rId8" Type="http://schemas.openxmlformats.org/officeDocument/2006/relationships/hyperlink" Target="http://ru.wikipedia.org/wiki/&#1057;&#1080;&#1085;&#1077;&#1091;&#1089;_&#1080;_&#1058;&#1088;&#1091;&#1074;&#1086;&#1088;" TargetMode="External"/><Relationship Id="rId9" Type="http://schemas.openxmlformats.org/officeDocument/2006/relationships/hyperlink" Target="http://ru.wikipedia.org/wiki/&#1057;&#1080;&#1085;&#1077;&#1091;&#1089;_&#1080;_&#1058;&#1088;&#1091;&#1074;&#1086;&#1088;" TargetMode="External"/><Relationship Id="rId10" Type="http://schemas.openxmlformats.org/officeDocument/2006/relationships/hyperlink" Target="http://ru.wikipedia.org/wiki/862_&#1075;&#1086;&#1076;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Классный час, посвященный 1150-летию Российской государствен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ю подготовила учитель МОУ «Калашниковская СОШ» Степанова О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вятослав Во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нязь СВЯТОСЛАВ Воин правил официально с 957 до 972 года. Победил все соседние с Русью племена и государства, чтобы те не окрепли и не напали первыми. Воевал с Византией. После похода возвращался с дружиной в Киев. Погиб в бою с 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ченегам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днепровских порогах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338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ыдающиеся княз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ыдающиеся князья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ЛАДИМИР Красное Солнышко 980 – 1015 и ЯРОСЛАВ Мудрый 1019 – 105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ладимир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укрепились границы Руси богатырскими заставами, принято христианство в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88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году, расширилось государство, вырос международный авторитет Ру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Ярослав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здан первый свод законов «Русская правда», были разбиты печенеги, повысился уровень грамотности народа, вся Европа мечтала породниться с Ярославом. Это был расцвет Киевской Ру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81640" y="1989000"/>
            <a:ext cx="30780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здробленность на Рус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тем пошел закономерный процесс феодальной раздробленности. Каждый потомок получал от отца княжество. Детей и внуков становилось все больше. К началу XIII века на Руси было более 200 маленьких княжеств! Враги пользовались раздробленностью. Особый вред стали наносить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ловц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сменившие печенег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ервые самостоятельные княжест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ыми крупными субъектами на Руси в XIII с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вгородская земл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нязя выбирали и звали сами горожане, большую роль играли 300 золотых поясов (богачей) и веч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ладимиро – Суздальское княжест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было удобно расположено политически и экономически. Туда устремились новые жители. Столица была перенесена из Киева во Владими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алицко – Волынское княжест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сле борьбы с боярами победила сильная власть князя.  Тесные связи с Западной Европой развивали экономи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зведение памят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а́мятник «Тысячеле́тие Росси́и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монумент, воздвигнутый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Великом Новгород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62 го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честь тысячелетнего юбилея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легендарног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призвания варяг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Русь. Авторами проекта памятника являются скульпторы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Михаил Микеши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Иван Шреде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архитектор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Виктор Гартм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амятник находи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новгородском детинц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напроти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Софийского собо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бывшего здания Присутственных мес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539640" y="206064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писание памят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ник представляет собой гигантский шар-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держав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колоколообразном постаменте; общие очертания монумента колоколообразные (по некоторым предположениям, был призван «благовестить потомкам о героическом прошлом России»). Вокруг державы установлены шесть скульптурных групп. Общая высота памятника 15,7 м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го памятник содержит 128 фигу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300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3888000" cy="3826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11640" y="1125360"/>
            <a:ext cx="471636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ппа из двух фигур — ангела с крестом в руке (олицетворение православной церкви) и коленопреклоненной женщины (олицетворение России). Установлена эта группа вверху на державе (эмблема царской власти), венчая композицию. Держава украшена рельефным орнаментом из крестов (символ единения церкви и самодержавия) и опоясана надписью, выполненной славянской вязью: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«Свершившемуся тысячелетию царства Российского в благополучное царствование императора Александра IIго лета 1862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кульптурные изображе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еднюю часть памятника занимают 17 фигур , группирующиеся в шесть скульптурных групп вокруг шара-державы, символизирующих различные периоды истории Русского государства (согласно официальной историографии того времени). Каждая группа ориентирована на определённую часть света, что имеет символический смысл и показывает роль каждого государя в укреплении определённых рубежей государ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24600" y="198108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344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6676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620640"/>
            <a:ext cx="2266920" cy="2664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00000" y="765000"/>
            <a:ext cx="2041560" cy="252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84720" y="765000"/>
            <a:ext cx="2062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16000" y="3500280"/>
            <a:ext cx="184644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56360" y="3500280"/>
            <a:ext cx="2001960" cy="2665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03640" y="3500280"/>
            <a:ext cx="2606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кульптурные изобра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ижней части монумента расположен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риз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на котором помещены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орельеф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109 исторических деятелей, воплощая идею опоры самодержавной власти на общество в лице его славнейших представителей. Внутри каждого раздела персоны расположены согласно позиции на памятнике слева напра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Рождение российской государствен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2012 г. исполняется 1150 лет со времени события, которое в отечественной историографии XVIII - XIX вв. получило название «призвание варягов», «рождение российской государственност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862 году произошел акт добровольного соглашения славянских и угро-финских племен, договорившихся ради прекращения междоусобиц призвать в качестве правителя «человека со стороны». Таким приглашенным правителем стал князь Рюрик, положивший начало первой русской династии, правившей страной более семи ве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онно 862 год считается датой зарождения российской государственности, точкой отсчета отечественной исто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осветите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756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Государственные люд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8424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оенные и геро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8686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исатели и худож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8136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воначальный проек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оначальный проект Микешина представлял собой опрокинутую «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шапку Мономах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» и состоял из трех частей. Весь памятник решено было соорудить из бронзы. Открытие памятника намечено было на 26 августа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62 год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788000" y="1484280"/>
            <a:ext cx="381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кладка памятн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кладка памятника состоялась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28 мая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61 го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на кремлевской площади, между Софийским собором и зданием присутственных мест. До этого там находился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памятник Новгородскому ополчению 1812 го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который перенесли на площадь перед зданием Дворянского Собр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900000" y="2133720"/>
            <a:ext cx="3611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зведение памятн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фундамент был заложен гранитный камень, в выемку в котором был вставлен бронзовый ящик с надписью о времени закладки памятника и его назначении. В этот ящик были вложены медали времен Александра II, а также золотые и серебряные монеты 1861 года. На фундаменте был возведен гранитный пьедестал. Наружная облицовка — серый полированный грани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4248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крытие памят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мятник был торжественно открыт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8 сентября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62 го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в присутствии Александра II. В связи с возведением и торжественным открытием памятника Новгород был отремонтирован и заново замощён. Был устроен парад, торжества длились три д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900000" y="2133720"/>
            <a:ext cx="3816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амятник после революци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революци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монумент воспринимался как памятник самодержавию и был зашит фанерой и досками. Однако, позже он снова был открыт для обоз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амятник во время войн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( 1941-1945гг.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5 август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941 год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в Новгород вошли фашисты. Нацистский генерал фон Герцог приказал разобрать памятник «Тысячелетие России» и вывезти в Германию, решив сделать подарок своему другу на родине (эти элементы ныне утрачены). Зимой 1943-1944 года начались работы по демонтажу памятника. Железной дорогой успели увезти бронзовую решетку работы профессора Боссе, окружавшую памятник, а также бронзовые художественной работы фонари, стоявшие вокруг памятника. Но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20 январ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1944 год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город был освобождён советскими войс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5364000" y="2133720"/>
            <a:ext cx="3267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Возникновение Киевской Рус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евская Русь возникла на торговом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ути «из варяг в греки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землях восточнославянских племен 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телями Киева летописная легенда считает правителей племен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поля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братье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Ще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Хори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ые сведения о государстве русов относятся к первой трет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IX ве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С этого же времени становится известным и этноним «Русь». Термин «Киевская Русь» появляется впервые в исторических исследованиях XVIII—XIX ве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860 го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«Повесть временных лет» ошибочно относит его к 866 году) Русь совершает первый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поход на Константинопол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Греческие источники связывают его с так называемым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первым крещением Рус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сле которого на Руси, возможно, возникла епархия, и правящая верхушка (возможно, во главе с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Аскольд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приняла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христианст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86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огласно «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Повести Временных л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, славянские и финно-угорские племена призвали на княжение варяг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сле вой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 этому моменту монумент представлял собой совершенно голый пьедестал, на котором оставалась нижняя половина шара-державы, верхняя часть которого была полуразрушена. Окружавшие его ранее колоссальные фигуры были разбросаны по снегу площади. При этом многие фигуры оказались испорченными: трёхметровый крест, стоявший на шаре-державе, был срублен у основания и согнут в дугу; бронзовое крепление всюду было перерублено или вырвано из своих мест. Такие небольшие детали, как шпаги, мечи, посохи, щиты и т. п. бесследно исчез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1844640"/>
            <a:ext cx="43308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осстановление и реставрация памятник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митет по делам архитектуры  принял решение восстановить памятник в прежнем его виде, причём в числе первых объектов разорённого Новгорода. Потребовалось изготовить более 1 500 недостающих деталей. Памятник был восстановлен уже ко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2 ноября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944 го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после чего состоялось его второе торжественное открытие. В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1954 году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была произведена доделка прежних работ по восстановл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торая половина 1970-х годов — специалисты восстановили вокруг памятника фонари и решетку (вместо увезённых в Германию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прель-июнь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1982 го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 — тщательный осмотр и чист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1994 году детальный осмотр памятника выявил его угрожающее состояние . Отсутствовали некоторые элементы декора (не восстановленные в 1982 году). АО «Ампир»  в 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</a:rPr>
              <a:t>1995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оду провёл очередной цикл восстановитель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В год 6370 (862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 год 6370 (862). Изгнали варяг за море, и не дали им дани, и начали сами собой владеть, и не было среди них правды, и встал род на род, и была у них усобица, и стали воевать друг с другом. И сказали себе: „Поищем себе князя, который бы владел нами и судил по праву“. И пошли за море к варягам, к руси. Те варяги назывались русью… Сказали руси чудь, словене, кривичи и весь: „Земля наша велика и обильна, а порядка в ней нет. Приходите княжить и владеть нами“. И избрались трое братьев со своими родам, и взяли с собой всю русь, и пришли, и сел старший, Рюрик, в Новгороде, а другой, Синеус, — на Белоозере, а третий, Трувор, — в Изборске. И от тех варягов прозвалась Русская земля. Новгородцы же — те люди от варяжского рода, а прежде были словене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становление власти над Кие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86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аряги, дружинники Рюрика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сколь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Ди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лывшие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Константинопол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тремясь установить полный контроль над важнейшим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торговым путем «из варяг в греки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устанавливают свою власть над Киев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87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Новгороде умер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Рюр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Княжение было передано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Олег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регент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 малолетнем сыне Рюрика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Игор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4716360" y="2060640"/>
            <a:ext cx="38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сновные гипотезы образования Древнерусского государст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гласно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норманской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 теор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опирающейся на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Повесть временных л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XII ве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многочисленные западноевропейские и византийские источники, государственность на Русь была привнесена извне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варягам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— братьями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Рюрик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инеусом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 и Трувор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862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нтинорманская теория основывается на концепции невозможности привнесения государственности извне, на идее возникновения государства как этапа внутреннего развития общества. Основоположником этой теории в русской историографии считался Михаил Ломоносов. Кроме того, существуют различные точки зрения на происхождение самих варяг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859280" y="2060640"/>
            <a:ext cx="3745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иевская Рус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ahoma"/>
              </a:rPr>
              <a:t>«Киевская Русь»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название, считают историки, появилось с 882 года. Тогда князь Олег совершил поход из Новгорода в Киев. Он вызвал к себе из города правителей для встречи и убил их. Потом собрал в Киеве народ и сказал: «Теперь я ваш правитель». Просто и понятно жилось в древние вре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743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вые правители Рус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62 – 879 –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нязь РЮРИК (правил 17 лет). Первый правитель Северной Руси. Усмирил соседние племена. Расширил сферы влия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79 – 91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– князь ОЛЕГ Вещий (правил 33 года). Объединил Северную и Южную Русь. Совершил удачный поход на Царьград (теперь Стамбул). Укрепил власть княз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912 – 94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– князь ИГОРЬ Старый (правил тоже 33 года). Расширилась территория Руси. Укрепились связи с Византией. Наладилась система сбора дани с племен –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олюдь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авление Ольг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тем правила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нягиня Ольг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официально до 957 года)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на отомстила за убийство мужа. Упорядочила систему налогообложения. Установила размер дани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рок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ста сбора дани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гост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Приняла христианство. Укрепила авторитет Руси. Правила Русью, пока сын Святослав совершал боевые пох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316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9:00:23Z</dcterms:created>
  <dc:creator>Владелец</dc:creator>
  <dc:description/>
  <dc:language>en-US</dc:language>
  <cp:lastModifiedBy>Владелец</cp:lastModifiedBy>
  <dcterms:modified xsi:type="dcterms:W3CDTF">2012-11-09T13:28:42Z</dcterms:modified>
  <cp:revision>30</cp:revision>
  <dc:subject/>
  <dc:title>Классный час, посвященный 1150-летию Российской государств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