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A7A-DC33-4A6D-A974-86C08DF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7EC-5857-4C5C-8CC0-C43BC30D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D3C-E93C-403A-A7BD-262256D9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9F4-5A90-4B26-8E5F-1A17CEF4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6CC-3B0F-4411-AC6E-3FF08A4C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1CC-2532-4AEB-8D3B-40E95BD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A5A-5264-4BD3-9DA8-E1C23F7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04E-49E7-4EFF-9E9B-623D81B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8C2-EEA9-451F-A25E-76A28C7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2AA-C3E1-4CEF-B960-985D210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5E0-8D5D-4F73-9F9A-72779D8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8B5-289F-4D9F-8155-BF0EBF2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2975-EAAD-4D69-BDDD-AF975D4FC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11430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990720"/>
            <a:ext cx="6838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ДА СПЕШАТ КРАСНЫЕ МАШИНЫ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419076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800600" y="3124080"/>
            <a:ext cx="4114800" cy="27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5562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486400"/>
            <a:ext cx="4724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ученицы 1 класса «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БУ «Лицей № 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теровой Ол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-45360"/>
            <a:ext cx="83772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включайте телевизор без взрослых. Если пожар случился в твоей квартире - убегай пода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945000"/>
            <a:ext cx="90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удь закрыть за собой дверь. Твердо знайте, что из дома есть два спасательных выхода: если нельзя выйти в дверь, зовите на помощь с балкона или ок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178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в коем случае не прячьтесь во время пожара под кроватью или в шкафу - пожарным будет трудно вас на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91060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а вас загорелась одежда, остановитесь, падайте на землю и катайтесь. Если вы обожгли руку - подставьте ее под струю холодной воды и позовите на помощь взросл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298040"/>
            <a:ext cx="8234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 подъезде огонь или дым, не выходите из квартиры. Откройте окно или балкон и зовите на помощ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517000"/>
            <a:ext cx="696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пожара нельзя пользоваться лифтом: он может застрять между этажами. Тушить огонь - дело взрослых, но вызвать пожарных вы можете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3733920" cy="25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81760" y="685800"/>
            <a:ext cx="238104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447920" y="3581280"/>
            <a:ext cx="37335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62481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57816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лефон пожарной охраны запомнить очень легко - «01», с сотового телефона набирайте номер «011». Назовите свое имя и адрес. Если не дозвонились сами, попросите об этом старш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3733920" cy="250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63244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672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жары причиняют людям большие несчастья. Чтобы избежать этого, нужно строго соблюдать правила пожарной безопасности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мните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Эти правила требуют только одного: осторожного обращения с огн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806040"/>
            <a:ext cx="495288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первую очередь не играйте со спичками, следите, чтобы не шалили с огнем ваши товарищи и маленькие де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37069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35520"/>
            <a:ext cx="5410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страивайте игр с огнем в сараях, подвалах, на чердаках. По необходимости ходите туда только днем и только по делу, а в вечернее время для освещения используйте электрические фонар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3581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903960"/>
            <a:ext cx="41148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играйте с электронагревательными приборами, это опасно! От электроприборов, включенных в сеть и оставленных без присмотра, часто возникают пожа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2685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630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бята! Помните эти правила всегда, разъясняйте их своим друзьям и товарищам. Этим вы окажите помощь работникам противопожарной службы в деле предупреждения пожаров в школах, жилых домах, в лагеря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847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 может возникнуть в любом месте и в любое время. Поэтому к нему надо быть всегда подготовленным. Мы предлагаем вам запомнить простейшие правила, которые могут спастись от огня и дыма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ое, что нужно запомнить - спички и зажигалки служат для хозяйственных дел, но никак не для игр. Даже маленькая искра может привести к большой бед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724280" cy="351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18:55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