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2BC-10E5-43AE-AB97-64FC11B9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3FC-EDF3-4C20-8223-016A8FA3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7EE-7CD1-4571-BEE3-4CD4E0DA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FEB-CE95-4E5F-8B5D-CDD88E6F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E61-3362-4553-B6DC-02A7BEAE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6F2-DDE0-4AF6-A687-67FACC40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47E-2256-4ACD-B67E-7ABE27A1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A4C-1DEE-4099-B1FF-593F300E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995-3B6C-4BCA-AE99-48BE46EE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AA1-2536-49A8-BAEF-5DBB1214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6DF-B070-4047-9755-17F00E4D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687-2049-4A85-AC24-C3296066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D80A-75AE-4CA8-B823-7DB65714E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11430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990720"/>
            <a:ext cx="6838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ДА СПЕШАТ КРАСНЫЕ МАШИНЫ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04920" y="2286000"/>
            <a:ext cx="419076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800600" y="3124080"/>
            <a:ext cx="4114800" cy="277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55627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486400"/>
            <a:ext cx="4724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я ученицы 1 класса «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БУ «Лицей № 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стеровой Ол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-45360"/>
            <a:ext cx="83772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включайте телевизор без взрослых. Если пожар случился в твоей квартире - убегай подаль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945000"/>
            <a:ext cx="902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забудь закрыть за собой дверь. Твердо знайте, что из дома есть два спасательных выхода: если нельзя выйти в дверь, зовите на помощь с балкона или ок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178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 в коем случае не прячьтесь во время пожара под кроватью или в шкафу - пожарным будет трудно вас най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910600"/>
            <a:ext cx="7469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на вас загорелась одежда, остановитесь, падайте на землю и катайтесь. Если вы обожгли руку - подставьте ее под струю холодной воды и позовите на помощь взросл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4298040"/>
            <a:ext cx="8234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 подъезде огонь или дым, не выходите из квартиры. Откройте окно или балкон и зовите на помощ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517000"/>
            <a:ext cx="696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пожара нельзя пользоваться лифтом: он может застрять между этажами. Тушить огонь - дело взрослых, но вызвать пожарных вы можете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3733920" cy="2557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81760" y="685800"/>
            <a:ext cx="238104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447920" y="3581280"/>
            <a:ext cx="373356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62481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581280" cy="250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876920" y="35812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90720" y="578160"/>
            <a:ext cx="6629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елефон пожарной охраны запомнить очень легко - «01», с сотового телефона набирайте номер «011». Назовите свое имя и адрес. Если не дозвонились сами, попросите об этом старших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066680" y="3657600"/>
            <a:ext cx="3733920" cy="2502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3880" y="63244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19920" y="4267080"/>
            <a:ext cx="2971800" cy="230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306720"/>
            <a:ext cx="6324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жары причиняют людям большие несчастья. Чтобы избежать этого, нужно строго соблюдать правила пожарной безопасности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мните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Эти правила требуют только одного: осторожного обращения с огн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806040"/>
            <a:ext cx="495288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первую очередь не играйте со спичками, следите, чтобы не шалили с огнем ваши товарищи и маленькие де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4120" y="762120"/>
            <a:ext cx="3124080" cy="23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76920" y="3706920"/>
            <a:ext cx="3809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35520"/>
            <a:ext cx="5410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устраивайте игр с огнем в сараях, подвалах, на чердаках. По необходимости ходите туда только днем и только по делу, а в вечернее время для освещения используйте электрические фонар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4120" y="3809880"/>
            <a:ext cx="35812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903960"/>
            <a:ext cx="41148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играйте с электронагревательными приборами, это опасно! От электроприборов, включенных в сеть и оставленных без присмотра, часто возникают пожа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2685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6304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бята! Помните эти правила всегда, разъясняйте их своим друзьям и товарищам. Этим вы окажите помощь работникам противопожарной службы в деле предупреждения пожаров в школах, жилых домах, в лагерях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31240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847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 может возникнуть в любом месте и в любое время. Поэтому к нему надо быть всегда подготовленным. Мы предлагаем вам запомнить простейшие правила, которые могут спастись от огня и дыма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авное, что нужно запомнить - спички и зажигалки служат для хозяйственных дел, но никак не для игр. Даже маленькая искра может привести к большой бед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4724280" cy="351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648320" y="33526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30T18:55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