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4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39A-01E0-4F81-B8F0-87D6894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B76-DD95-4831-B794-0F07141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C93-5C79-448C-9A4D-AA5F9DA6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8EA-4C6D-4C74-AE48-B0AD7590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214C-155E-4C0E-A5A4-05A2966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5DE6-CEBE-43BA-AAEE-D4722BD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6884-3BEA-4919-87EF-69832F2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EE3B-B798-4FDB-88B0-2A5329D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3852-6151-456C-BB77-C0BBE8E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6924-8568-4FBA-BB6D-05021B6E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D32-FBE9-4C2D-AAC2-919A094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DAD-E897-402A-808D-3900112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87AD-F830-4F0A-9C26-A06FAC5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017C-EB64-45E0-9952-B4F197B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E37B-7994-4C8C-B494-5E6EE76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637-6906-4C05-85C1-CA24B17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8CE2-C941-4646-BA1D-72EE68B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D38-9119-4F66-AD75-E7FAF0B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809-5FBC-4AF3-A24B-18742E0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E76-9193-4724-8689-B5F5F689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898-4219-4F52-8CFA-18E2631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D8E-AC91-4334-8709-9D9613A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E5B-A830-4EA3-A1F9-C10B6E5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E32-684E-4241-8D5A-CB387DA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ED5-5B19-4FF7-AF45-9918A6136B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0B3-E625-4CD8-AB96-1EE19015D2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исование с натуры натюрморта из фруктов и овощ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Знакомства с произведениями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95640" y="476280"/>
            <a:ext cx="4392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тюрмор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есформенных предметов в природе нет, одно из свойств любого объемного тела — форма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Рисование с натуры моркови, репы, редиса, свеклы, грибов"/>
          <p:cNvPicPr/>
          <p:nvPr/>
        </p:nvPicPr>
        <p:blipFill>
          <a:blip r:embed="rId1"/>
          <a:stretch/>
        </p:blipFill>
        <p:spPr>
          <a:xfrm>
            <a:off x="539640" y="1989000"/>
            <a:ext cx="655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Локальная природная окраска овощей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ромнее по сравнению с фруктами, цветовой диапазон которых необы­чайно широк. Поэтому в изображениях отдельных овощей и натюрмортов из них можно использовать цветные карандаши.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Морковь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Слива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1334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3960720" cy="1662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0920" y="5084640"/>
            <a:ext cx="3936960" cy="1582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211640" y="1700280"/>
            <a:ext cx="345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Клубника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Вишн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308400" cy="3992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34909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Арбуз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Огурец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708360" cy="4497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3600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О творчестве П.П. Кончаловског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170028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етр Петрович Кончаловский(1876-1956 советский живописец. Более 5000 произведений- картин,  портретов, натюрмортов, акварелей создал он за 60 лет творчества. Среди его работ-портреты современников, букеты цветов, пейз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325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Натюрморт в творчестве </a:t>
            </a:r>
            <a:br>
              <a:rPr sz="3600"/>
            </a:b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П.П. Кончаловског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315" t="0" r="10470" b="5630"/>
          <a:stretch/>
        </p:blipFill>
        <p:spPr>
          <a:xfrm>
            <a:off x="395280" y="1700280"/>
            <a:ext cx="2735280" cy="212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9459" t="2646" r="13040" b="6151"/>
          <a:stretch/>
        </p:blipFill>
        <p:spPr>
          <a:xfrm>
            <a:off x="539640" y="4262400"/>
            <a:ext cx="2519640" cy="2149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99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170028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юбовь к натуре во всем многообразии ее форм и красок находит свой расцвет в натюрмортах. Кончаловский писал натюрморты, изображающие битую дичь с сочной огородной зеленью, много писал сирень,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3808" r="15449" b="21362"/>
          <a:stretch/>
        </p:blipFill>
        <p:spPr>
          <a:xfrm>
            <a:off x="324000" y="333360"/>
            <a:ext cx="2303280" cy="280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4097160" cy="2970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Кончаловский Пётр. Цветы. Дигиталис. Эксклюзивный заказ постера"/>
          <p:cNvPicPr/>
          <p:nvPr/>
        </p:nvPicPr>
        <p:blipFill>
          <a:blip r:embed="rId3"/>
          <a:stretch/>
        </p:blipFill>
        <p:spPr>
          <a:xfrm>
            <a:off x="324000" y="3357720"/>
            <a:ext cx="2349360" cy="324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16360" y="404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Живописные полотна, созданные художником рассказывают о красоте и щедрости  природы, прославляют  богатство  даров наше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Работы дете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оставить собственный натюрм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43280" y="1700280"/>
            <a:ext cx="2680920" cy="2160360"/>
            <a:chOff x="2843280" y="1700280"/>
            <a:chExt cx="2680920" cy="2160360"/>
          </a:xfrm>
        </p:grpSpPr>
        <p:sp>
          <p:nvSpPr>
            <p:cNvPr id="271" name=""/>
            <p:cNvSpPr txBox="1"/>
            <p:nvPr/>
          </p:nvSpPr>
          <p:spPr>
            <a:xfrm>
              <a:off x="2843280" y="1700280"/>
              <a:ext cx="2680920" cy="952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562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0000ff"/>
                    </a:outerShdw>
                  </a:effectLst>
                  <a:latin typeface="Comic Sans MS"/>
                </a:rPr>
                <a:t>Запомни!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ff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120120" y="2027160"/>
              <a:ext cx="2310480" cy="183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Расширить знания детей о натюрм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Формировать графические умения и навыки в передаче пространственного расположения группы предме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Определений пропорций, в передаче светотени средствами жив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знакомить с творчеством П.П. Кончал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спитывать любовь к прекрас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Натюрморт(от франц.- «мертвая натура»)-это изображение неодушевленных предметов, объединенных в одну компози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В своих картинах художники обычно  изображают цветы, фрукты, овощи, посуду, разнообразную снедь, предметы б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В натюрморте выражается отношение человека к окружающему миру, раскрывается его понимание прекра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http://www.foto-shik.ru/naturmort/"/>
          <p:cNvPicPr/>
          <p:nvPr/>
        </p:nvPicPr>
        <p:blipFill>
          <a:blip r:embed="rId4"/>
          <a:stretch/>
        </p:blipFill>
        <p:spPr>
          <a:xfrm>
            <a:off x="5651640" y="333360"/>
            <a:ext cx="1636560" cy="1292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http://www.foto-shik.ru/naturmort/"/>
          <p:cNvPicPr/>
          <p:nvPr/>
        </p:nvPicPr>
        <p:blipFill>
          <a:blip r:embed="rId5"/>
          <a:stretch/>
        </p:blipFill>
        <p:spPr>
          <a:xfrm>
            <a:off x="6156360" y="5300640"/>
            <a:ext cx="1031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Правила постановки натюрморта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Натюрморт должен быть помещен так, чтобы нижние части предметов (основания) и их расположение на столе были бы видны. Для этого группу надо поставить ниже уровня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2. Натюрморт должен помещаться на каком-либо фоне. Фон лучше всего гладкий, спокойный и не темный – стена, картон, ткань без складок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3. Подбирая предметы надо учитывать, насколько трудно будет их рисовать. Более трудными надо считать предметы, форма которых раздроблена мелкими деталями, украшениями и трудно воспринимается по констр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08360" y="981000"/>
            <a:ext cx="395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рапиров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573360"/>
            <a:ext cx="32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Метод виз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2078280" cy="3456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4998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511800" cy="4206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177"/>
                </a:solidFill>
                <a:latin typeface="Arial"/>
              </a:rPr>
              <a:t>Светотень на предмете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2060640"/>
            <a:ext cx="1655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4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2360" y="2923920"/>
            <a:ext cx="187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437000"/>
            <a:ext cx="10098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867280" y="2997360"/>
            <a:ext cx="14414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16360" y="3716280"/>
            <a:ext cx="576360" cy="14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68360" y="3499920"/>
            <a:ext cx="208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429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у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515772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бственна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3068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ф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88000" y="4653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адающа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386532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мещение на листе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00476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1341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. Сравните фрукты по ширине и высоте, определите форму предметов.</a:t>
            </a: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581360"/>
            <a:ext cx="388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полнить линейное построение натюрморта, нанести складки драпировки и светотени на предметах.</a:t>
            </a: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15920"/>
            <a:ext cx="7631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Этапы построения натюрморта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663640" cy="1962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2757600" cy="182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3038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Компоновка натюрморта на листе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07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15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4941720"/>
            <a:ext cx="4243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кой из четырех рисунков содержит правильное построение натюрмо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816200" cy="2670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1962000" cy="261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227640" y="1989000"/>
            <a:ext cx="1957680" cy="2597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050920" y="3789360"/>
            <a:ext cx="2024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ольшую и интересную работу представляет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исование с натуры фруктов и овощей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, которые наряду с цветами и листьями служат элементами орнаментальных композиций, украшающих торты и пирожные.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7:18:03Z</dcterms:created>
  <dc:creator>учитель</dc:creator>
  <dc:description/>
  <dc:language>en-US</dc:language>
  <cp:lastModifiedBy>user</cp:lastModifiedBy>
  <dcterms:modified xsi:type="dcterms:W3CDTF">2012-02-12T14:46:31Z</dcterms:modified>
  <cp:revision>12</cp:revision>
  <dc:subject/>
  <dc:title>Слайд 1</dc:title>
</cp:coreProperties>
</file>