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34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E98-FC57-4C48-AF98-01E9C7BF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E9A-7B53-469F-ABDE-404BDDB5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773-85C3-497F-8684-FF1E7358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4AF-F20E-4408-940D-206BD492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1DBB-9812-4CAA-B861-E7E6A1FF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FEDB-D899-4C89-A488-B86B5D6D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1874-B368-49D2-B89C-A3AE4E3D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D20D-5D55-4BDE-AA73-5A3A5EC0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4923-8CC8-4F62-BE59-501AAA4D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69FB-4B01-4840-90D1-FDA06705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C02E-C8D9-4248-9252-8B62145E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74E-0783-4A36-8584-DDFF40CB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567B-88DE-4468-A337-A7288B9D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AACC-3DB3-4090-B958-4F1A4E9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D98F-EBAC-42CE-A657-07906EE5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0962-4F86-43A0-8CA8-FD44944B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D4AC-6DAC-4357-B477-7AB71743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9DB-0F69-40B6-96FF-CAACF210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6FF-7856-4DCE-9413-09FEA7BD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506-A959-4990-BF01-E224D632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142-F884-48C5-866B-CCF0D268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3B5-E7C6-416C-8E61-FA1CCE66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463-0944-4B27-93F3-0FE29110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D35-4718-4687-8F89-CDD6ABFD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7336-B429-4B2D-B6A5-881E0F5C70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CC6-2686-42B5-A9C6-A79A5B5BD9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7199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Рисование с натуры натюрморта из фруктов и овощ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Знакомства с произведениями изобразитель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95640" y="476280"/>
            <a:ext cx="4392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тюрмор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Бесформенных предметов в природе нет, одно из свойств любого объемного тела — форма.</a:t>
            </a: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Рисование с натуры моркови, репы, редиса, свеклы, грибов"/>
          <p:cNvPicPr/>
          <p:nvPr/>
        </p:nvPicPr>
        <p:blipFill>
          <a:blip r:embed="rId1"/>
          <a:stretch/>
        </p:blipFill>
        <p:spPr>
          <a:xfrm>
            <a:off x="539640" y="1989000"/>
            <a:ext cx="6553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729"/>
                </a:solidFill>
                <a:latin typeface="Arial"/>
              </a:rPr>
              <a:t>Локальная природная окраска овощей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кромнее по сравнению с фруктами, цветовой диапазон которых необы­чайно широк. Поэтому в изображениях отдельных овощей и натюрмортов из них можно использовать цветные карандаши.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Морковь 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Слива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816360" cy="1334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3960720" cy="1662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50920" y="5084640"/>
            <a:ext cx="3936960" cy="1582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4211640" y="1700280"/>
            <a:ext cx="3457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Клубника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Вишня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308400" cy="3992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924360" y="1916280"/>
            <a:ext cx="34909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Арбуз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Огурец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708360" cy="4497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3600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О творчестве П.П. Кончаловского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1700280"/>
            <a:ext cx="41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Петр Петрович Кончаловский(1876-1956 советский живописец. Более 5000 произведений- картин,  портретов, натюрмортов, акварелей создал он за 60 лет творчества. Среди его работ-портреты современников, букеты цветов, пейз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23256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Натюрморт в творчестве </a:t>
            </a:r>
            <a:br>
              <a:rPr sz="3600"/>
            </a:br>
            <a:r>
              <a:rPr b="0" lang="ru-RU" sz="3600" spc="-1" strike="noStrike">
                <a:solidFill>
                  <a:srgbClr val="666729"/>
                </a:solidFill>
                <a:latin typeface="Arial"/>
              </a:rPr>
              <a:t>П.П. Кончаловского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8315" t="0" r="10470" b="5630"/>
          <a:stretch/>
        </p:blipFill>
        <p:spPr>
          <a:xfrm>
            <a:off x="395280" y="1700280"/>
            <a:ext cx="2735280" cy="2127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rcRect l="9459" t="2646" r="13040" b="6151"/>
          <a:stretch/>
        </p:blipFill>
        <p:spPr>
          <a:xfrm>
            <a:off x="539640" y="4262400"/>
            <a:ext cx="2519640" cy="2149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99564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35280" y="1700280"/>
            <a:ext cx="345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Любовь к натуре во всем многообразии ее форм и красок находит свой расцвет в натюрмортах. Кончаловский писал натюрморты, изображающие битую дичь с сочной огородной зеленью, много писал сирень,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3808" r="15449" b="21362"/>
          <a:stretch/>
        </p:blipFill>
        <p:spPr>
          <a:xfrm>
            <a:off x="324000" y="333360"/>
            <a:ext cx="2303280" cy="2808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03640" y="3500280"/>
            <a:ext cx="4097160" cy="2970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Кончаловский Пётр. Цветы. Дигиталис. Эксклюзивный заказ постера"/>
          <p:cNvPicPr/>
          <p:nvPr/>
        </p:nvPicPr>
        <p:blipFill>
          <a:blip r:embed="rId3"/>
          <a:stretch/>
        </p:blipFill>
        <p:spPr>
          <a:xfrm>
            <a:off x="324000" y="3357720"/>
            <a:ext cx="2349360" cy="3240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16360" y="4046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Живописные полотна, созданные художником рассказывают о красоте и щедрости  природы, прославляют  богатство  даров нашей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Работы детей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Составить собственный натюрм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843280" y="1700280"/>
            <a:ext cx="2680920" cy="2160360"/>
            <a:chOff x="2843280" y="1700280"/>
            <a:chExt cx="2680920" cy="2160360"/>
          </a:xfrm>
        </p:grpSpPr>
        <p:sp>
          <p:nvSpPr>
            <p:cNvPr id="271" name=""/>
            <p:cNvSpPr txBox="1"/>
            <p:nvPr/>
          </p:nvSpPr>
          <p:spPr>
            <a:xfrm>
              <a:off x="2843280" y="1700280"/>
              <a:ext cx="2680920" cy="952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562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0000ff"/>
                    </a:outerShdw>
                  </a:effectLst>
                  <a:latin typeface="Comic Sans MS"/>
                </a:rPr>
                <a:t>Запомни!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ff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3120120" y="2027160"/>
              <a:ext cx="2310480" cy="183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Расширить знания детей о натюрмо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Формировать графические умения и навыки в передаче пространственного расположения группы предме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Определений пропорций, в передаче светотени средствами жив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ознакомить с творчеством П.П. Кончалов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оспитывать любовь к прекрас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Натюрморт(от франц.- «мертвая натура»)-это изображение неодушевленных предметов, объединенных в одну компози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В своих картинах художники обычно  изображают цветы, фрукты, овощи, посуду, разнообразную снедь, предметы б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В натюрморте выражается отношение человека к окружающему миру, раскрывается его понимание прекрас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http://www.foto-shik.ru/naturmort/"/>
          <p:cNvPicPr/>
          <p:nvPr/>
        </p:nvPicPr>
        <p:blipFill>
          <a:blip r:embed="rId4"/>
          <a:stretch/>
        </p:blipFill>
        <p:spPr>
          <a:xfrm>
            <a:off x="5651640" y="333360"/>
            <a:ext cx="1636560" cy="1292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http://www.foto-shik.ru/naturmort/"/>
          <p:cNvPicPr/>
          <p:nvPr/>
        </p:nvPicPr>
        <p:blipFill>
          <a:blip r:embed="rId5"/>
          <a:stretch/>
        </p:blipFill>
        <p:spPr>
          <a:xfrm>
            <a:off x="6156360" y="5300640"/>
            <a:ext cx="103176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Правила постановки натюрморта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Натюрморт должен быть помещен так, чтобы нижние части предметов (основания) и их расположение на столе были бы видны. Для этого группу надо поставить ниже уровня гл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2. Натюрморт должен помещаться на каком-либо фоне. Фон лучше всего гладкий, спокойный и не темный – стена, картон, ткань без складок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3. Подбирая предметы надо учитывать, насколько трудно будет их рисовать. Более трудными надо считать предметы, форма которых раздроблена мелкими деталями, украшениями и трудно воспринимается по констру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708360" y="981000"/>
            <a:ext cx="39592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Драпиров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3573360"/>
            <a:ext cx="324000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Метод виз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2078280" cy="3456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49989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3511800" cy="4206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9c177"/>
                </a:solidFill>
                <a:latin typeface="Arial"/>
              </a:rPr>
              <a:t>Светотень на предмете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92360" y="2060640"/>
            <a:ext cx="1655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84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92360" y="2923920"/>
            <a:ext cx="187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866920" y="4437000"/>
            <a:ext cx="10098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867280" y="2997360"/>
            <a:ext cx="144144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716360" y="3716280"/>
            <a:ext cx="576360" cy="14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68360" y="3499920"/>
            <a:ext cx="20876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306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429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у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24360" y="515772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бственная 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306864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фл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88000" y="46530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адающая 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386532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72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мещение на листе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004760"/>
            <a:ext cx="24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1341360"/>
            <a:ext cx="395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72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. Сравните фрукты по ширине и высоте, определите форму предметов.</a:t>
            </a:r>
            <a:r>
              <a:rPr b="0" lang="en-US" sz="1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4581360"/>
            <a:ext cx="388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72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ыполнить линейное построение натюрморта, нанести складки драпировки и светотени на предметах.</a:t>
            </a:r>
            <a:r>
              <a:rPr b="0" lang="en-US" sz="1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15920"/>
            <a:ext cx="7631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177"/>
                </a:solidFill>
                <a:latin typeface="Arial"/>
              </a:rPr>
              <a:t>Этапы построения натюрморта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2663640" cy="1962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2757600" cy="1825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30384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Компоновка натюрморта на листе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079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112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155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7640" y="4941720"/>
            <a:ext cx="42433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акой из четырех рисунков содержит правильное построение натюрмор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816200" cy="2670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067280" y="1125360"/>
            <a:ext cx="1962000" cy="2610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227640" y="1989000"/>
            <a:ext cx="1957680" cy="2597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050920" y="3789360"/>
            <a:ext cx="2024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Большую и интересную работу представляет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рисование с натуры фруктов и овощей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, которые наряду с цветами и листьями служат элементами орнаментальных композиций, украшающих торты и пирожные.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7:18:03Z</dcterms:created>
  <dc:creator>учитель</dc:creator>
  <dc:description/>
  <dc:language>en-US</dc:language>
  <cp:lastModifiedBy>user</cp:lastModifiedBy>
  <dcterms:modified xsi:type="dcterms:W3CDTF">2012-02-12T14:46:31Z</dcterms:modified>
  <cp:revision>12</cp:revision>
  <dc:subject/>
  <dc:title>Слайд 1</dc:title>
</cp:coreProperties>
</file>