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E3E-3B5D-4DC6-B918-BB10E710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AEA-024E-4CCA-BF4A-72651C53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DFE-EEA2-47C5-B471-C54DDC68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B3B-5A5E-4ADE-B0CB-D1B5F0A3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D97-4957-43B2-91C4-AC3C989D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E7A-DF83-46BF-821B-1AC9E75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C43-CE42-4CEF-9BAE-E95A848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857-88C9-4ADC-900B-57DFDDA5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305-2E42-4D17-948F-52EC1717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A9A-E125-4D4E-8D26-02422203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5C9-AB81-41D8-9596-D3D3BF45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627-D455-4696-BF46-D2198A30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A468-21F3-4A5B-B8BB-BFB44B174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АРООБРАЗОВАНИЕ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арообразованием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зывается процесс перехода жидкости в газ (пар). 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цесс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братны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арообразованию называет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онденсацией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ообразование может происходить как испарени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оверхности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дкости или в виде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кип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35280" y="0"/>
            <a:ext cx="550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гонка льда возможна практически при 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любой отрицательн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емпературе в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ух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дух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практически бывает при сильном морозе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есно, что иней на деревьях и снег в тучах образуются в результате процесса, обратного возгонке, — так называем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ублимации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го перехода водяного пара в твёрдую фазу. Центрами кристаллизации здесь служат микроскопические пылинки и кристаллики соли, взвешенные в 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1725480"/>
            <a:ext cx="3313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24000" y="0"/>
            <a:ext cx="521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НТЕРЕСНОЕ О СУХОМ ИСПА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м поет чайная лож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риж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ложку  к кусочк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сухого льд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можно услышать  громкий завывающий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зву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орый  длится недолго. Прикладывая к  ложке  различ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силие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менять  высоту тона и громкость зву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вление можно объяснить тем, что тепло металла быстро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евращает в га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т участок льда, которого коснулась ложка. Обильно выделяясь, углекислый газ с силой вырывается из-под ложки, она колеблется и, подобно мембране телефона, колеблет воздух, – мы слышим звук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357280"/>
            <a:ext cx="39956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СТАВИМ ОПЫТ 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аполнить пластмассовую бутылку на 4/5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горячим кипятком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рыть пробкой и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стряхну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о пробка может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ылететь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азывается при встряхивании увеличивается поверхнос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спарения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риводит к увеличению давления п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 В ЗАСУШЛИВЫХ РАЙОНАХ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меньшения испарения с поверхности жидкости используются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адсорбционные пленки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могут тонким слоем покрывать все поверхность вод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таких пленок используется для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меньшения испа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ы с поверхности водоемов в засушливых районах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создания таких пленок применяется, например, твердое вещество -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ексадекано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встралии с его помощью ежегодн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охраняе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10 миллионов лит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ды с каждого гектара водной поверх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74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 организм борется с нагреванием  с помощью   выделения пота.  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спарение п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глощает значительное количество тепла из  прилегающего к телу  слоя воздуха,  и те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онижае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температуру. Это возможно, если  тело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е соприкаса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непосредственно с источником тепла и  воздух  сухо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теряет из организма воду испарением с поверх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кож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испарением из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ыхательных путе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занятиях спортом человек теряет с потом около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-2 ли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жидкости в час. А при длительной физической нагрузке, особенно в жару, выделение воды с потом может достига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3-6 ли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начале ХХ в. на карнавалах показыва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нтересный трю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жидкий свине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трюкач погружал кисть руки. Как же человеческое тело выдерживало столь высокую температуру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соприкосновении мокрых пальцев с горячим жидким металлом, вода вследствие интенсивного испарения  «одевала» их в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паровую перчатку»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непродолжительное время могла служить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защитой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лучения и проводимости было недостаточно для того, чтобы ощутимо поднять температуру кожи и вызвать ожог.  Но влаги на потной руке было  недостаточно и требовалось  дополнительное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мач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варите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кастрюльке куриное яйцо. Достаньте его ложкой из кипятка и быстро, пока оно еще влажное,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возьмит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его в руки. Хотя яйцо и горячее, все же его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можно удержат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в руках. Испаряющаяся с поверхности яйца жидк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защити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ваши руки. Через несколько секунд яйц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высохне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и удерживать его вы уже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не сможет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слишком горяч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1640" y="274320"/>
            <a:ext cx="6121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бы удостовериться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нагрелся ли утю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ы прижимаете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моченны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юной палец к поверхности утюга.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Защита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льца от ожога осуществляется за счет влаги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ло, поступающее от утюга к телу, идет на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испарение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ы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 жидкость не улетучилась, вам комфортн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24620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очему трещит лучина?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Лучи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трещи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мечет искры – к ненастью»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овышенной влажности деревянные предметы отсыревают. При горении из них интенсивно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спаряетс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га. Увеличиваясь в объеме,  пар с треско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разрывает волок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490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348000" y="0"/>
            <a:ext cx="5338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Как огурец от жары спасается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казывается, темпера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огур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в любую жару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несколько градусов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ниж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пературы воздуха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м это можно объясни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7080" y="765000"/>
            <a:ext cx="3214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сих пор речь шла о процессе парообразования, когда исходным агрегатным состоянием вещества была жидкость. Но, существует ещё оди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нтересный вид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парообразования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твердое тело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инуя жидк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, превращается в газ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й вид парообразования называетс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озгонкой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особенность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ют, например, кристаллы йода, нафталина, обычного и "сухого" льда.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ратный проце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ращения газ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посредственно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вердое вещество называетс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ублимацие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очему летом дождевые капли крупные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а осенью мелкие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дающие летом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мелк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ждевые капли обычно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не достигаю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рхности земли, так как они либо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испаряют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либо поднимаются восходящими токами воздуха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рупны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 капли, образовавшихся во многих случаях от слияния меньших, достигают земли,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не успе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 пути испар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4276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ИСПА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11280" y="16002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это парообразован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верхности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дкости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 этом жидкость  покидают боле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быстры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екулы, обладающие большей скоростью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0113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634920" y="333360"/>
            <a:ext cx="50626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люб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пературе в жидкости находятся такие молекулы, которые обладают достаточной кинетической энергией, чтобы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еодоле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илы сцепления между молекулами и совершить работу выхода из жид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8520" y="765000"/>
            <a:ext cx="3541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рость испарения жидкости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ависит  от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от рода вещества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от площади поверхности испарени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от температуры жидкости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от скорости удаления паров с поверхности жидкости, т.е. от наличия ветр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арение происходит пр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любой температуре.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повышением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пературы скорость испарения жидкос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озрастае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так как возрастает средняя кинетическая энергия ее молекул, а следовательно, возрастает и число таких молекул, у которых кинетическая энергия достаточна для испарения.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рость испар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озраста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ет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ый удаляет с поверхности жидкости ее пар и тем самым препятству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озвращени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лекул в жид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840040"/>
            <a:ext cx="86756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 испарении температура жидкости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онижаетс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.к. внутренняя энергия жидкости уменьшаетс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-за потери быстрых молеку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, если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одводи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 жидкости тепло, то ее температура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ожет не изменяться.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ИСПАРЕНИЕ СУХОЕ - ВОЗГОН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выстиранное сырое бельё вывесить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мороз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 оно замерзает и становится жеским, как фанера. Однако через некоторое время оно становится вновь мягким и, что удивительно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абсолютно сухим!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ёд переходит из твердого состояния непосредственно в пар, минуя плавление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и есть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„сухое“ испар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озго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38:58Z</dcterms:created>
  <dc:creator>*</dc:creator>
  <dc:description/>
  <dc:language>en-US</dc:language>
  <cp:lastModifiedBy>*</cp:lastModifiedBy>
  <dcterms:modified xsi:type="dcterms:W3CDTF">2010-10-28T15:22:33Z</dcterms:modified>
  <cp:revision>7</cp:revision>
  <dc:subject/>
  <dc:title>ПАРООБРАЗОВАНИЕ Парообразованием  называется процесс перехода жидкости в газ (пар).  Процесс обратный парообразованию называется конденсацией. Парообразование может происходить как испарение с поверхности жидкости или в виде кипения.</dc:title>
</cp:coreProperties>
</file>