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7.jpeg" ContentType="image/jpeg"/>
  <Override PartName="/ppt/media/image3.png" ContentType="image/png"/>
  <Override PartName="/ppt/media/image4.jpeg" ContentType="image/jpeg"/>
  <Override PartName="/ppt/media/image8.gif" ContentType="image/gif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12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558E-7244-4D3C-901E-3A33DB07B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2CB0-F6CE-4C4F-A495-09F3D1E46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D9D0-0517-42A1-B743-582E67806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E9C7-A976-47DA-80D3-B9DE07E4D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B179-BAB3-451C-A130-D527ADCED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98A2-9D61-4AC4-961E-FC8E83531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842C-5929-4E84-B49B-5891AFB68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2824-8DE1-4DC2-90BD-FFC18B23C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B356-389C-459F-969B-44D32C141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4606-F3AF-4AA4-B3F2-EC582E9A9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2C17-199A-4BCF-AD4D-A99138E55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EF24-D3C2-4670-A089-E26F7504D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869E1-5AE8-4316-BE8D-027EB6F07C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707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ПАРООБРАЗОВАНИЕ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Парообразованием</a:t>
            </a: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называется процесс перехода жидкости в газ (пар). </a:t>
            </a:r>
            <a:br>
              <a:rPr sz="36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роцесс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обратный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арообразованию называется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9900"/>
                </a:solidFill>
                <a:latin typeface="Arial"/>
              </a:rPr>
              <a:t>конденсацией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арообразование может происходить как испарение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поверхности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жидкости или в виде 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кипени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635280" y="0"/>
            <a:ext cx="55087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озгонка льда возможна практически при 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любой отрицательно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температуре в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сухом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оздухе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что практически бывает при сильном морозе.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нтересно, что иней на деревьях и снег в тучах образуются в результате процесса, обратного возгонке, — так называемо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сублимации,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ямого перехода водяного пара в твёрдую фазу. Центрами кристаллизации здесь служат микроскопические пылинки и кристаллики соли, взвешенные в воздух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50920" y="1725480"/>
            <a:ext cx="3313080" cy="23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3924000" y="0"/>
            <a:ext cx="52196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ИНТЕРЕСНОЕ О СУХОМ ИСПАРЕ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 чем поет чайная ложк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сл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прижать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 ложку  к кусочк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сухого льда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о можно услышать  громкий завывающий 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звук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торый  длится недолго. Прикладывая к  ложке  различно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усилие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ожно менять  высоту тона и громкость звука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Явление можно объяснить тем, что тепло металла быстро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превращает в газ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от участок льда, которого коснулась ложка. Обильно выделяясь, углекислый газ с силой вырывается из-под ложки, она колеблется и, подобно мембране телефона, колеблет воздух, – мы слышим звук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0" y="2357280"/>
            <a:ext cx="3995640" cy="25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СТАВИМ ОПЫТ !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Если наполнить пластмассовую бутылку на 4/5 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горячим кипятком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закрыть пробкой и 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встряхнут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то пробка может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вылететь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казывается при встряхивании увеличивается поверхност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испарения,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то приводит к увеличению давления па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067280" y="0"/>
            <a:ext cx="5076720" cy="15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А В ЗАСУШЛИВЫХ РАЙОНАХ 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я уменьшения испарения с поверхности жидкости используются </a:t>
            </a:r>
            <a:r>
              <a:rPr b="1" lang="ru-RU" sz="3200" spc="-1" strike="noStrike">
                <a:solidFill>
                  <a:srgbClr val="ff9900"/>
                </a:solidFill>
                <a:latin typeface="Arial"/>
              </a:rPr>
              <a:t>адсорбционные пленки,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торые могут тонким слоем покрывать все поверхность воды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войства таких пленок используется для 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уменьшения испарения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ды с поверхности водоемов в засушливых районах.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я создания таких пленок применяется, например, твердое вещество - </a:t>
            </a: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гексадеканол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Австралии с его помощью ежегодно </a:t>
            </a: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сохраняется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коло </a:t>
            </a: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10 миллионов литро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воды с каждого гектара водной поверхност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395280" y="1557360"/>
            <a:ext cx="874872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ш организм борется с нагреванием  с помощью   выделения пота.  </a:t>
            </a:r>
            <a:br>
              <a:rPr sz="2400"/>
            </a:b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Испарение пот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поглощает значительное количество тепла из  прилегающего к телу  слоя воздуха,  и тем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понижаетс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го температуру. Это возможно, если  тело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не соприкасаетс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 непосредственно с источником тепла и  воздух  сухой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еловек теряет из организма воду испарением с поверхности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кож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 испарением из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дыхательных путей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 занятиях спортом человек теряет с потом около 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1-2 литро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жидкости в час. А при длительной физической нагрузке, особенно в жару, выделение воды с потом может достигат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3-6 литр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4328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-360" y="0"/>
            <a:ext cx="88930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начале ХХ в. на карнавалах показывал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интересный трюк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жидкий свинец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 трюкач погружал кисть руки. Как же человеческое тело выдерживало столь высокую температуру?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 соприкосновении мокрых пальцев с горячим жидким металлом, вода вследствие интенсивного испарения  «одевала» их в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«паровую перчатку»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которая непродолжительное время могла служить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защитой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злучения и проводимости было недостаточно для того, чтобы ощутимо поднять температуру кожи и вызвать ожог.  Но влаги на потной руке было  недостаточно и требовалось  дополнительное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смачива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250560" y="0"/>
            <a:ext cx="88930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Сварите</a:t>
            </a:r>
            <a:r>
              <a:rPr b="0" lang="en-US" sz="36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в кастрюльке куриное яйцо. Достаньте его ложкой из кипятка и быстро, пока оно еще влажное,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возьмите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его в руки. Хотя яйцо и горячее, все же его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можно удержать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в руках. Испаряющаяся с поверхности яйца жидкость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защитит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ваши руки. Через несколько секунд яйцо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высохнет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и удерживать его вы уже 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не сможете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– слишком горяч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771640" y="274320"/>
            <a:ext cx="612144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Чтобы удостовериться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нагрелся ли утюг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вы прижимаете 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смоченный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люной палец к поверхности утюга. </a:t>
            </a:r>
            <a:br>
              <a:rPr sz="3200"/>
            </a:b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Защита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альца от ожога осуществляется за счет влаги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епло, поступающее от утюга к телу, идет на 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испарение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оды.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ка жидкость не улетучилась, вам комфортно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0" y="260280"/>
            <a:ext cx="2462040" cy="62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276720" y="0"/>
            <a:ext cx="54100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Почему трещит лучина?</a:t>
            </a:r>
            <a:br>
              <a:rPr sz="3600"/>
            </a:br>
            <a:br>
              <a:rPr sz="36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«Лучин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трещит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 мечет искры – к ненастью».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 повышенной влажности деревянные предметы отсыревают. При горении из них интенсивно 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испаряется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лага. Увеличиваясь в объеме,  пар с треском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разрывает волокн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ревеси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0" y="907920"/>
            <a:ext cx="349092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3348000" y="0"/>
            <a:ext cx="53388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Как огурец от жары спасается ..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Оказывается, температура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огурца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в любую жару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на несколько градусов </a:t>
            </a: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ниже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температуры воздуха.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Чем это можно объяснить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27080" y="765000"/>
            <a:ext cx="321444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-360" y="0"/>
            <a:ext cx="88930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о сих пор речь шла о процессе парообразования, когда исходным агрегатным состоянием вещества была жидкость. Но, существует ещё один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интересный вид 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парообразования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гда твердое тело,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минуя жидкое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остояние, превращается в газ.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акой вид парообразования называетс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возгонкой.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ако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особенностью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ладают, например, кристаллы йода, нафталина, обычного и "сухого" льда. 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Обратный процес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евращения газа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непосредственно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твердое вещество называетс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сублимацией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276720" y="0"/>
            <a:ext cx="58672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Почему летом дождевые капли крупные,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а осенью мелкие?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адающие летом 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мелкие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ождевые капли обычно 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не достигают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верхности земли, так как они либо 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испаряются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либо поднимаются восходящими токами воздуха.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Крупные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же капли, образовавшихся во многих случаях от слияния меньших, достигают земли, 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не успе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по пути испарить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0" y="1125360"/>
            <a:ext cx="4427640" cy="48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ИСПАР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11280" y="1600200"/>
            <a:ext cx="627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 это парообразование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с </a:t>
            </a: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поверхности</a:t>
            </a:r>
            <a:r>
              <a:rPr b="0" lang="en-US" sz="3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жидкости.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ри этом жидкость  покидают более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быстрые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молекулы, обладающие большей скоростью.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50920" y="0"/>
            <a:ext cx="201132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634920" y="333360"/>
            <a:ext cx="506268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любой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емпературе в жидкости находятся такие молекулы, которые обладают достаточной кинетической энергией, чтобы 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преодолет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силы сцепления между молекулами и совершить работу выхода из жидк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28520" y="765000"/>
            <a:ext cx="354168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3628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корость испарения жидкости 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зависит  от: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) от рода вещества;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) от площади поверхности испарения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 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) от температуры жидкости;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) от скорости удаления паров с поверхности жидкости, т.е. от наличия ветра.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2400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Испарение происходит при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любой температуре.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повышением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температуры скорость испарения жидкости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возрастает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, так как возрастает средняя кинетическая энергия ее молекул, а следовательно, возрастает и число таких молекул, у которых кинетическая энергия достаточна для испарения. 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корость испарения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возрастает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пр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ветр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который удаляет с поверхности жидкости ее пар и тем самым препятствует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возвращению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молекул в жидко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250920" y="2840040"/>
            <a:ext cx="8675640" cy="40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842472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ри испарении температура жидкости 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понижается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т.к. внутренняя энергия жидкости уменьшается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из-за потери быстрых молекул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Но, если </a:t>
            </a: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подводить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к жидкости тепло, то ее температура </a:t>
            </a:r>
            <a:r>
              <a:rPr b="1" lang="en-US" sz="4000" spc="-1" strike="noStrike">
                <a:solidFill>
                  <a:srgbClr val="ff9900"/>
                </a:solidFill>
                <a:latin typeface="Arial"/>
              </a:rPr>
              <a:t>может не изменяться.</a:t>
            </a:r>
            <a:r>
              <a:rPr b="0" lang="en-US" sz="4000" spc="-1" strike="noStrike">
                <a:solidFill>
                  <a:srgbClr val="ff9900"/>
                </a:solidFill>
                <a:latin typeface="Arial"/>
              </a:rPr>
              <a:t> 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Arial"/>
              </a:rPr>
              <a:t>ИСПАРЕНИЕ СУХОЕ - ВОЗГОНКА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Если выстиранное сырое бельё вывесить </a:t>
            </a: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на морозе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то оно замерзает и становится жеским, как фанера. Однако через некоторое время оно становится вновь мягким и, что удивительно,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8000"/>
                </a:solidFill>
                <a:latin typeface="Arial"/>
              </a:rPr>
              <a:t>абсолютно сухим!</a:t>
            </a:r>
            <a:r>
              <a:rPr b="0" lang="ru-RU" sz="3600" spc="-1" strike="noStrike">
                <a:solidFill>
                  <a:srgbClr val="008000"/>
                </a:solidFill>
                <a:latin typeface="Arial"/>
              </a:rPr>
              <a:t>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Лёд переходит из твердого состояния непосредственно в пар, минуя плавление.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Это и есть </a:t>
            </a:r>
            <a:r>
              <a:rPr b="1" lang="ru-RU" sz="3600" spc="-1" strike="noStrike">
                <a:solidFill>
                  <a:srgbClr val="008000"/>
                </a:solidFill>
                <a:latin typeface="Arial"/>
              </a:rPr>
              <a:t>„сухое“ испарение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или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0066"/>
                </a:solidFill>
                <a:latin typeface="Arial"/>
              </a:rPr>
              <a:t>возгон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8T14:38:58Z</dcterms:created>
  <dc:creator>*</dc:creator>
  <dc:description/>
  <dc:language>en-US</dc:language>
  <cp:lastModifiedBy>*</cp:lastModifiedBy>
  <dcterms:modified xsi:type="dcterms:W3CDTF">2010-10-28T15:22:33Z</dcterms:modified>
  <cp:revision>7</cp:revision>
  <dc:subject/>
  <dc:title>ПАРООБРАЗОВАНИЕ Парообразованием  называется процесс перехода жидкости в газ (пар).  Процесс обратный парообразованию называется конденсацией. Парообразование может происходить как испарение с поверхности жидкости или в виде кипения.</dc:title>
</cp:coreProperties>
</file>