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CDA-6DF0-424C-ABAD-0F77525B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39E-5D16-4E87-A41E-6E47A1C5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1BD-E170-45FF-A4F9-B3E09EFC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C82-6B3F-46B7-A184-AC234279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0FF-0EF8-41A8-8326-CF40BF8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67D-2C6F-4AD5-929F-C5A157BF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007-3B6C-4B87-8E0E-A2335E1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52-DC94-45F5-9A18-652C4E1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2E6-99DF-4108-BEE2-A9518FA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5C8-1F83-4690-9759-BFC012D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7C1-B40E-4695-AFE6-4B4E97C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ECE-840F-4BCE-A560-21636D8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7BB0-2FFD-43F8-BC8B-EB8D9BF98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907920"/>
            <a:ext cx="59770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ртины прир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музык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File147"/>
          <p:cNvPicPr/>
          <p:nvPr/>
        </p:nvPicPr>
        <p:blipFill>
          <a:blip r:embed="rId1"/>
          <a:stretch/>
        </p:blipFill>
        <p:spPr>
          <a:xfrm>
            <a:off x="2771640" y="3645000"/>
            <a:ext cx="3905280" cy="292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i"/>
          <p:cNvPicPr/>
          <p:nvPr/>
        </p:nvPicPr>
        <p:blipFill>
          <a:blip r:embed="rId2"/>
          <a:stretch/>
        </p:blipFill>
        <p:spPr>
          <a:xfrm>
            <a:off x="1042920" y="234936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j0431607"/>
          <p:cNvPicPr/>
          <p:nvPr/>
        </p:nvPicPr>
        <p:blipFill>
          <a:blip r:embed="rId3"/>
          <a:stretch/>
        </p:blipFill>
        <p:spPr>
          <a:xfrm>
            <a:off x="6948360" y="4653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5076720" y="692280"/>
            <a:ext cx="3780000" cy="4392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5003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Если видишь, что с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трит кто - нибудь н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принц в плаще стари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в робе верхо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тчик или бал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Колька твой сос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язательно 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899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то «пейзаж настроения», в котором выразительность интонаций сливается с изобразительными подробностями музыкального я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79280" y="765000"/>
            <a:ext cx="51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ый пейзаж -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5435640" y="260280"/>
            <a:ext cx="3166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с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вич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соргски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611280" y="5877000"/>
            <a:ext cx="71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ера "Хаванщи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musorgsky_13"/>
          <p:cNvPicPr/>
          <p:nvPr/>
        </p:nvPicPr>
        <p:blipFill>
          <a:blip r:embed="rId1"/>
          <a:stretch/>
        </p:blipFill>
        <p:spPr>
          <a:xfrm>
            <a:off x="395280" y="40464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File061"/>
          <p:cNvPicPr/>
          <p:nvPr/>
        </p:nvPicPr>
        <p:blipFill>
          <a:blip r:embed="rId2"/>
          <a:stretch/>
        </p:blipFill>
        <p:spPr>
          <a:xfrm>
            <a:off x="3924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vide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c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уриков - Утро стрелецкой казни pain_Strel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539640" y="6286680"/>
            <a:ext cx="842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тро стрелецкой казни" - В.И. Сур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5580000" y="1197000"/>
            <a:ext cx="3313080" cy="2476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755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сня о картин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Если видишь на кар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исована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ель и белый и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сад и обл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снежная равн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поле и шал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язательно картина называет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"/>
          <p:cNvPicPr/>
          <p:nvPr/>
        </p:nvPicPr>
        <p:blipFill>
          <a:blip r:embed="rId1"/>
          <a:stretch/>
        </p:blipFill>
        <p:spPr>
          <a:xfrm>
            <a:off x="6012000" y="333360"/>
            <a:ext cx="2916000" cy="292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"/>
          <p:cNvPicPr/>
          <p:nvPr/>
        </p:nvPicPr>
        <p:blipFill>
          <a:blip r:embed="rId2"/>
          <a:stretch/>
        </p:blipFill>
        <p:spPr>
          <a:xfrm>
            <a:off x="6156360" y="3716280"/>
            <a:ext cx="2700360" cy="292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6300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Если видишь на кар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шку кофе на ст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морс в большом граф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розу в хруст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бронзовую в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грушу, или тор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все предметы с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й, что это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тюрмор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0:19:50Z</dcterms:created>
  <dc:creator>Алла</dc:creator>
  <dc:description/>
  <dc:language>en-US</dc:language>
  <cp:lastModifiedBy>Дом</cp:lastModifiedBy>
  <dcterms:modified xsi:type="dcterms:W3CDTF">2012-11-09T15:01:06Z</dcterms:modified>
  <cp:revision>9</cp:revision>
  <dc:subject/>
  <dc:title>Слайд 1</dc:title>
</cp:coreProperties>
</file>