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C4E-72FE-46A3-9752-3851D394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DFE-0E23-43CA-99B0-2102EEA4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3B3-D7BB-40F7-B150-E4A9F526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470-94C2-4465-96A7-65FB9B39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F64-BBD9-4087-B84F-852F439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F6C-B864-412D-A5E9-765B49AC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23B-FD3C-405F-A04D-09069FF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E19-8970-4CB6-A00B-A7FD170C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CBF-5451-4602-8975-C853727C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BA0-2627-4387-BE99-8211772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5C2-EFBD-42AD-9663-CFEC5F8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9EB-69C3-49FF-A365-6C10F77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351-7BB0-475B-9A47-EB63981A0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907920"/>
            <a:ext cx="597708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ртины прир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музык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5" descr="File147"/>
          <p:cNvPicPr/>
          <p:nvPr/>
        </p:nvPicPr>
        <p:blipFill>
          <a:blip r:embed="rId1"/>
          <a:stretch/>
        </p:blipFill>
        <p:spPr>
          <a:xfrm>
            <a:off x="2771640" y="3645000"/>
            <a:ext cx="3905280" cy="292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i"/>
          <p:cNvPicPr/>
          <p:nvPr/>
        </p:nvPicPr>
        <p:blipFill>
          <a:blip r:embed="rId2"/>
          <a:stretch/>
        </p:blipFill>
        <p:spPr>
          <a:xfrm>
            <a:off x="1042920" y="234936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j0431607"/>
          <p:cNvPicPr/>
          <p:nvPr/>
        </p:nvPicPr>
        <p:blipFill>
          <a:blip r:embed="rId3"/>
          <a:stretch/>
        </p:blipFill>
        <p:spPr>
          <a:xfrm>
            <a:off x="6948360" y="4653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7"/>
          <p:cNvPicPr/>
          <p:nvPr/>
        </p:nvPicPr>
        <p:blipFill>
          <a:blip r:embed="rId1"/>
          <a:stretch/>
        </p:blipFill>
        <p:spPr>
          <a:xfrm>
            <a:off x="5076720" y="692280"/>
            <a:ext cx="3780000" cy="4392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5003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Если видишь, что с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отрит кто - нибудь н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принц в плаще стари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в робе верхо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тчик или бал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Колька твой сос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язательно 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899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то «пейзаж настроения», в котором выразительность интонаций сливается с изобразительными подробностями музыкального я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79280" y="765000"/>
            <a:ext cx="518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ый пейзаж -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5435640" y="260280"/>
            <a:ext cx="3166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ст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ович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соргски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611280" y="5877000"/>
            <a:ext cx="712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ера "Хаванщи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musorgsky_13"/>
          <p:cNvPicPr/>
          <p:nvPr/>
        </p:nvPicPr>
        <p:blipFill>
          <a:blip r:embed="rId1"/>
          <a:stretch/>
        </p:blipFill>
        <p:spPr>
          <a:xfrm>
            <a:off x="395280" y="40464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File061"/>
          <p:cNvPicPr/>
          <p:nvPr/>
        </p:nvPicPr>
        <p:blipFill>
          <a:blip r:embed="rId2"/>
          <a:stretch/>
        </p:blipFill>
        <p:spPr>
          <a:xfrm>
            <a:off x="3924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vide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ic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уриков - Утро стрелецкой казни pain_Strel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539640" y="6286680"/>
            <a:ext cx="842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тро стрелецкой казни" - В.И. Сури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5580000" y="1197000"/>
            <a:ext cx="3313080" cy="2476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755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сня о картин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Если видишь на кар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исована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ель и белый и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сад и обл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снежная равн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поле и шал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язательно картина называет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йз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3"/>
          <p:cNvPicPr/>
          <p:nvPr/>
        </p:nvPicPr>
        <p:blipFill>
          <a:blip r:embed="rId1"/>
          <a:stretch/>
        </p:blipFill>
        <p:spPr>
          <a:xfrm>
            <a:off x="6012000" y="333360"/>
            <a:ext cx="2916000" cy="292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"/>
          <p:cNvPicPr/>
          <p:nvPr/>
        </p:nvPicPr>
        <p:blipFill>
          <a:blip r:embed="rId2"/>
          <a:stretch/>
        </p:blipFill>
        <p:spPr>
          <a:xfrm>
            <a:off x="6156360" y="3716280"/>
            <a:ext cx="2700360" cy="292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6300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Если видишь на кар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шку кофе на ст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морс в большом граф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розу в хруст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бронзовую в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грушу, или тор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все предметы с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й, что это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натюрмор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0:19:50Z</dcterms:created>
  <dc:creator>Алла</dc:creator>
  <dc:description/>
  <dc:language>en-US</dc:language>
  <cp:lastModifiedBy>Дом</cp:lastModifiedBy>
  <dcterms:modified xsi:type="dcterms:W3CDTF">2012-11-09T15:01:06Z</dcterms:modified>
  <cp:revision>9</cp:revision>
  <dc:subject/>
  <dc:title>Слайд 1</dc:title>
</cp:coreProperties>
</file>