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230-4BD0-4F75-87DD-291328EC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2AC-B3A2-44E0-BA24-4E5CB30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BCD-0918-4EF4-8C77-A6169B9F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6BD-2F19-439E-8D33-5BD2DB77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0702-EC97-4A9B-9212-823CAD9A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F53-22B9-4F39-9EB5-AF01355A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9181-675C-4FEF-9FFD-8797EA4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1E7A-2BC8-422B-95D3-822C9396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2D19-603B-415C-BB04-7B8E44C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498-05FB-4E9B-8EE1-E6F6655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5202-2A6B-425B-B327-9A7B8BF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41A-6D18-48A1-A321-D112064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816E-938F-4DA9-909E-977D867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9096-E106-42E7-A5C1-6DF2064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A485-B7CA-4E45-9212-0F6A9B5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CB8-11AB-42DB-8B63-3A55D2BF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A28C-7C81-495A-8E42-A790C56C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DE32-4121-40DB-91F6-52321205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66D1-35BA-466C-B5B2-55F81C0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F8FA-BC2A-4F5A-9B89-35782C7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7DF8-56D0-4BEA-8AA7-97F6F35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FF6C-4A9F-49D6-AD37-223FE5D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F71-D264-4842-9A9A-24D0E60E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221F-B8EB-4141-BCE3-B9B2CEE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86A7-CA04-416D-B6FF-5E34B8D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B3E7-433A-4B57-8575-AF91435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F3A3-1B45-4C65-937C-12AA3E7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FC62-7D0C-4B4C-98D8-BFDD13D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6D13-12BE-4468-9CA2-04C22248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64D7-C39C-4E2B-B683-228A850C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717F-058A-4A95-94A4-14D61AE4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3BF7-3954-4ECB-832D-3272A109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DA5D-E1A3-4DEF-9D22-ACAF0275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6F2-0B55-443B-92DF-F43F21C2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F495-EDCC-424D-86BB-0DD378A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F23F-FA7C-4DAD-85E9-0E0243B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88B6-1720-4875-A423-50B05E7D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6BE3-70D1-405F-B46F-F02F4E9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6420-AC5B-435B-94F8-BC85E94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2623-F00B-45C0-8D43-2973B32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E7EC-6CFF-4981-8FB6-327EF6F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B60E-A8A8-4C57-9934-E4745565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828D-8657-4B1D-AA75-A81FFE80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257-96B2-4D6F-805E-CC153246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06B-A8AC-4675-B5CB-4DCD357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508-81F2-40FB-A380-755A67F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5DD-DE54-4642-92E4-A71A2ED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DA3-D5B2-489B-9671-2715DC71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B1A-4611-4AF3-9580-D680863D20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B34-2A33-4B55-9557-9BEDDBEC46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14E-3452-4FB0-B4BB-F99F71AB79A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CD00-9E8D-4AD4-AF5C-2B42E80B570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0066"/>
                </a:solidFill>
                <a:latin typeface="Times New Roman"/>
              </a:rPr>
              <a:t>Окружающий мир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щенская Ирина Петро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, МБОУ СОШ № 1,г. Межгорье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5000" y="2209320"/>
            <a:ext cx="3200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Л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68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402080" cy="6248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3657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ельзя пить грязную воду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464000" cy="36576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80360" y="1413000"/>
            <a:ext cx="1025280" cy="1712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530064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не расходовать воду напрасно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1268280"/>
            <a:ext cx="684072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84360" y="1268280"/>
            <a:ext cx="7200720" cy="41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орошо закрывай кран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264360" cy="486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380360" y="1413000"/>
            <a:ext cx="1025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е открывай кран сильно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624720" cy="5222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524720" y="1484280"/>
            <a:ext cx="1025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0" y="3429000"/>
            <a:ext cx="9144000" cy="29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ровой оке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рмит и поит земл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Вода в природе находится в трех состояниях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газообразном, жидком, твер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жидком и твер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спаряется ли вода в холодную погоду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Когда быстрее испаряется вода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тихую пог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ветреную по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Царица – вод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99"/>
                </a:solidFill>
                <a:latin typeface="Times New Roman"/>
              </a:rPr>
              <a:t>«Где нет воды,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99"/>
                </a:solidFill>
                <a:latin typeface="Times New Roman"/>
              </a:rPr>
              <a:t>там нет жизни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4197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да! Ты сама жизн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уан де Сент-Экзюп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Вода при замерзании…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жим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ачала сжимается, затем расшир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ширя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Минеральные воды – это тоже родники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Какой слой земли не пропускает воду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со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9480" y="990720"/>
            <a:ext cx="853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арица – водица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«Где нет воды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там нет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7288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09480" y="1143000"/>
            <a:ext cx="79250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е была дана волшебная власть -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ть соком жизни на Земл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9880" y="4572000"/>
            <a:ext cx="4810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онардо да Вин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одумай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ода тушит ого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ода не гор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чем воду пь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ет ли вода взорвать д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 Черном море вода черн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сните поговорку: «Вода камень точи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писок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закова О.В. В помощь школьному учителю – М.; Вако,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урнал «Начальная школа» - 2006.- №11; 2009. - №1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99"/>
                </a:solidFill>
                <a:latin typeface="Times New Roman"/>
              </a:rPr>
              <a:t>Три состояния 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Газообразно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Жидко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Тверд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яц Коська и роднич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43000" y="109224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Как родничок путешествовал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россвор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905120"/>
          <a:ext cx="8077320" cy="4572000"/>
        </p:xfrm>
        <a:graphic>
          <a:graphicData uri="http://schemas.openxmlformats.org/drawingml/2006/table">
            <a:tbl>
              <a:tblPr/>
              <a:tblGrid>
                <a:gridCol w="806400"/>
                <a:gridCol w="809640"/>
                <a:gridCol w="806400"/>
                <a:gridCol w="809640"/>
                <a:gridCol w="806400"/>
                <a:gridCol w="806400"/>
                <a:gridCol w="809640"/>
                <a:gridCol w="806760"/>
                <a:gridCol w="809640"/>
                <a:gridCol w="8064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 txBox="1"/>
          <p:nvPr/>
        </p:nvSpPr>
        <p:spPr>
          <a:xfrm>
            <a:off x="68580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479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09680" y="20574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81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620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004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62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4832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4864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0040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620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410080" y="3809880"/>
            <a:ext cx="381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24480" y="3809880"/>
            <a:ext cx="381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6292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006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4864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4852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0866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0010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4008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0866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562360" y="18288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Не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8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Волг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1155600"/>
            <a:ext cx="73915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24T19:34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