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jpeg" ContentType="image/jpeg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4984-0E78-4460-B656-9B2BB4FF0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6EF0-4AB8-4271-B31E-8FF596353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0AEE-E3DA-4701-97A8-5476FE47C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C8C0-FF09-42DB-BA31-85B5B12C5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A69EB-2984-4AE4-AFD5-7860AAFEF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7FE60-01F9-4DF1-A4B0-32D60A9A8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0D13A-189D-44AC-9FAB-9C3C44830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F6A63-0358-4BF8-BD79-7C5392FB1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56A41-5D10-4528-98B6-81B73AC3C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DE05D-2F87-4B27-9125-D6C36B704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54112-CB51-426A-B176-67C9D6D17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3FE6-7239-45F3-A7C5-2AEB32F89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6D022-CC6C-42CD-9C29-D56991A62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6273E-A960-4A53-A12A-E4A33D91C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348E7-A322-455D-9BCD-04D6DDC67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71284-93CF-4DE9-9D5E-C98A75DE1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B4771-20A2-43A4-B990-FAC56243C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31E81-5AFE-4B61-B1ED-D3A312027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64B72-B06F-466F-A54C-8CB143046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B28A1-765C-418F-A9F9-06B87634B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D3D66-C6DC-4DF0-B7FC-17C489BF2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FE01B-F8AB-42C3-89A1-EEF47BF4C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F0E6-728C-4827-800F-2630A3728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CB302-CBF4-4D2F-A0A7-3A651DC88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A3D43-41DC-4F0F-8482-5AE8EAC85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84405-E5B8-439D-89AB-6B6349F45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C52B5-DCEE-49E3-92C7-B97F2127E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10E48-96DC-41A1-B932-9D0488C1A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DD528-B7B0-42B7-9B55-54B2E7D0E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D478B-8648-44CC-9366-F2A47AB0B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8626B-A456-4E3E-9C00-84F42F482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FD7CB-C176-4E1A-9875-245E2774C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E9FC6-806E-4167-A43D-A2D7906E7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8181-8DCC-4CCA-9771-88A16D1DA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1BEE0-05F3-4363-ACBB-1B0CD3FBE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754F9-4C4E-4054-B8F6-64592C9B7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087E2-055E-4F5B-A154-09C8229D6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02624-5A73-4378-885C-9E5E9D419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23470-8CC5-434B-A1CA-BF5074CD0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460F10-BA2B-4E9F-855E-D37D89509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9F71E-0A28-4326-8A5C-8FA97042E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07A6A-EE22-4F17-B230-9A088EF6A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B18A8-344C-4FD7-85AE-C0E5AAAF1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1E39-FF13-409E-8BDE-FF9AD6558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F680-0230-4357-8529-0740BFFB4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7826-707E-4D76-B422-A6BA3D7CA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C007-C9E0-412E-9351-FF866FCF2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E69E-9AD6-423A-BDB9-06A12F99C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982A2-0926-40C8-8EF4-E4D44CBF8A5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31718-BF93-4965-BD47-3DA69576950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86925-FEF4-4E54-86D5-76E9D3F098F9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dt" idx="10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ftr" idx="11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sldNum" idx="12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680F7-6CC2-4CA7-9BAB-635EBACACF23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0066"/>
                </a:solidFill>
                <a:latin typeface="Times New Roman"/>
              </a:rPr>
              <a:t>Окружающий мир</a:t>
            </a:r>
            <a:endParaRPr b="1" lang="en-US" sz="8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ущенская Ирина Петровн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ель начальных классов, МБОУ СОШ № 1,г. Межгорье, 2010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15000" y="2209320"/>
            <a:ext cx="32004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 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Река Лен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56880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4402080" cy="624852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5257800" y="2362320"/>
            <a:ext cx="365760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Нельзя пить грязную воду!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1692360" y="1484280"/>
            <a:ext cx="4464000" cy="365760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7380360" y="1413000"/>
            <a:ext cx="1025280" cy="171288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52280" y="5300640"/>
            <a:ext cx="8763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Как не расходовать воду напрасно?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900000" y="1268280"/>
            <a:ext cx="6840720" cy="38163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684360" y="1268280"/>
            <a:ext cx="7200720" cy="4176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Хорошо закрывай кран!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6264360" cy="486108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7380360" y="1413000"/>
            <a:ext cx="102528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Не открывай кран сильно!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6624720" cy="522288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7524720" y="1484280"/>
            <a:ext cx="102564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 txBox="1"/>
          <p:nvPr/>
        </p:nvSpPr>
        <p:spPr>
          <a:xfrm>
            <a:off x="0" y="3429000"/>
            <a:ext cx="9144000" cy="292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ировой океа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ормит и поит землю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Вода в природе находится в трех состояниях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3200400"/>
            <a:ext cx="8229600" cy="29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119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В газообразном, жидком, твердо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119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В жидком и твердо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6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Испаряется ли вода в холодную погоду?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3200400"/>
            <a:ext cx="8229600" cy="29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119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119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Не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62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Когда быстрее испаряется вода?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3200400"/>
            <a:ext cx="8229600" cy="29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119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В тихую погод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119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В ветреную погоду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68" dur="5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33cc"/>
                </a:solidFill>
                <a:latin typeface="Times New Roman"/>
              </a:rPr>
              <a:t>Царица – водиц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500" spc="-1" strike="noStrike">
                <a:solidFill>
                  <a:srgbClr val="000099"/>
                </a:solidFill>
                <a:latin typeface="Times New Roman"/>
              </a:rPr>
              <a:t>«Где нет воды, 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500" spc="-1" strike="noStrike">
                <a:solidFill>
                  <a:srgbClr val="000099"/>
                </a:solidFill>
                <a:latin typeface="Times New Roman"/>
              </a:rPr>
              <a:t>там нет жизни»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" y="44197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Вода! Ты сама жизнь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нтуан де Сент-Экзюпе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Вода при замерзании…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3200400"/>
            <a:ext cx="8229600" cy="29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00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жимает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00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начала сжимается, затем расширяет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00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сширяетс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74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Минеральные воды – это тоже родники?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3200400"/>
            <a:ext cx="8229600" cy="29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119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119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Нет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80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Какой слой земли не пропускает воду?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3200400"/>
            <a:ext cx="8229600" cy="29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119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Гли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119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Песок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86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609480" y="990720"/>
            <a:ext cx="85345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Царица – водица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Arial"/>
              </a:rPr>
              <a:t>«Где нет воды,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Arial"/>
              </a:rPr>
              <a:t>там нет жизни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728820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609480" y="1143000"/>
            <a:ext cx="792504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оде была дана волшебная власть -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тать соком жизни на Земле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809880" y="4572000"/>
            <a:ext cx="48103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Леонардо да Винч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Подумай!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очему вода тушит огонь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очему вода не горит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ачем воду пьют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ожет ли вода взорвать дом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 в Черном море вода черна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бъясните поговорку: «Вода камень точит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7391520" cy="554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Список 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литературы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азакова О.В. В помощь школьному учителю – М.; Вако, 2005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Журнал «Начальная школа» - 2006.- №11; 2009. - №12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57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600" spc="-1" strike="noStrike">
                <a:solidFill>
                  <a:srgbClr val="000099"/>
                </a:solidFill>
                <a:latin typeface="Times New Roman"/>
              </a:rPr>
              <a:t>Три состояния вод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99"/>
                </a:solidFill>
                <a:latin typeface="Times New Roman"/>
              </a:rPr>
              <a:t>Газообразное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99"/>
                </a:solidFill>
                <a:latin typeface="Times New Roman"/>
              </a:rPr>
              <a:t>Жидкое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99"/>
                </a:solidFill>
                <a:latin typeface="Times New Roman"/>
              </a:rPr>
              <a:t>Твердо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Заяц Коська и родничок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1143000" y="1092240"/>
            <a:ext cx="640080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99"/>
                </a:solidFill>
                <a:latin typeface="Times New Roman"/>
              </a:rPr>
              <a:t>Как родничок путешествовал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Кроссворд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457200" y="1905120"/>
          <a:ext cx="8077320" cy="4572000"/>
        </p:xfrm>
        <a:graphic>
          <a:graphicData uri="http://schemas.openxmlformats.org/drawingml/2006/table">
            <a:tbl>
              <a:tblPr/>
              <a:tblGrid>
                <a:gridCol w="806400"/>
                <a:gridCol w="809640"/>
                <a:gridCol w="806400"/>
                <a:gridCol w="809640"/>
                <a:gridCol w="806400"/>
                <a:gridCol w="806400"/>
                <a:gridCol w="809640"/>
                <a:gridCol w="806760"/>
                <a:gridCol w="809640"/>
                <a:gridCol w="80640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4400">
                <a:tc gridSpan="3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44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1" name=""/>
          <p:cNvSpPr txBox="1"/>
          <p:nvPr/>
        </p:nvSpPr>
        <p:spPr>
          <a:xfrm>
            <a:off x="685800" y="2057400"/>
            <a:ext cx="380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1447920" y="2057400"/>
            <a:ext cx="380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2209680" y="2057400"/>
            <a:ext cx="3812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048120" y="2057400"/>
            <a:ext cx="380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886200" y="2057400"/>
            <a:ext cx="380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648320" y="2057400"/>
            <a:ext cx="380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200400" y="2971800"/>
            <a:ext cx="380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886200" y="2971800"/>
            <a:ext cx="380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648320" y="2971800"/>
            <a:ext cx="380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5486400" y="2971800"/>
            <a:ext cx="380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200400" y="3809880"/>
            <a:ext cx="3808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86200" y="3809880"/>
            <a:ext cx="3808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648320" y="3809880"/>
            <a:ext cx="3808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5410080" y="3809880"/>
            <a:ext cx="38124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324480" y="3809880"/>
            <a:ext cx="38124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7162920" y="3809880"/>
            <a:ext cx="3808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800600" y="4800600"/>
            <a:ext cx="380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5486400" y="4800600"/>
            <a:ext cx="380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6248520" y="4800600"/>
            <a:ext cx="380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7086600" y="4800600"/>
            <a:ext cx="380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001000" y="4800600"/>
            <a:ext cx="380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6400800" y="5715000"/>
            <a:ext cx="380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7086600" y="5715000"/>
            <a:ext cx="380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8001000" y="5715000"/>
            <a:ext cx="380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562360" y="1828800"/>
            <a:ext cx="2971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Река Нев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4803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Река Волг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380880" y="1155600"/>
            <a:ext cx="7391520" cy="55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11-24T19:34:19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