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E707-8F10-4977-914D-A15FFFB0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1E3A-2680-47AE-B494-D8860941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22B3D-0B0A-4300-9F99-C5131E59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0A2C-EBE2-4674-8DC1-2A54D8AE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32B8-DA7C-4F73-AF41-C2AF8207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D74C-DA3D-45D2-8F36-EE2F2086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4C47-CD1F-42DC-A501-000D1B38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064B-A0B9-4308-B2B8-F4AF377A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20C0-599D-4385-9814-98B753A2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290E-DC18-4A4D-A622-03519FA4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F1EB-CB2A-412F-94BB-E8EDAA0F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78871-2B15-48F9-AEF2-D3ACD023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BCD1-C78E-4164-A26A-A63F15D3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EB58-4EC6-485B-A309-4D835D3D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4C5C-94DA-4C4D-8357-C23E5918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7056-56F5-410A-BED5-42E11951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1343-1C1F-42A1-87C2-4ADC967B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CCA8-92B4-474B-A67F-7503F9ED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CF645-F6CE-47C8-A39D-528CD58A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6FDEC-3B78-494D-A937-B99EABEE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E184-5F39-4096-ABD1-6E784696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6209-1FAF-4DB4-93BD-877AC347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D9DA-3F41-41D9-9651-CF58DFCC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59B63-ECB5-44C4-B26A-A27DF54A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DF74-69F2-4707-9DDF-C2E7BEC475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1FD4-72DB-4F58-ADD4-18CFA2E1A6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pushkin.ellink.ru/reserve/res3.asp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5e5ff"/>
                </a:solidFill>
                <a:latin typeface="Arial"/>
              </a:rPr>
              <a:t>Пушкинские </a:t>
            </a:r>
            <a:br>
              <a:rPr sz="6000"/>
            </a:br>
            <a:r>
              <a:rPr b="1" i="1" lang="ru-RU" sz="6000" spc="-1" strike="noStrike">
                <a:solidFill>
                  <a:srgbClr val="e5e5ff"/>
                </a:solidFill>
                <a:latin typeface="Arial"/>
              </a:rPr>
              <a:t>мест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олнила Боченкова М., ученица 9 класса МОУ «Озеркинская СОШ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етровско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4" descr="Петровское"/>
          <p:cNvPicPr/>
          <p:nvPr/>
        </p:nvPicPr>
        <p:blipFill>
          <a:blip r:embed="rId1"/>
          <a:stretch/>
        </p:blipFill>
        <p:spPr>
          <a:xfrm>
            <a:off x="2279520" y="1428840"/>
            <a:ext cx="4584960" cy="2989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31640" y="4315320"/>
            <a:ext cx="82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Родовое имение А.П. Ганнибала сельцо Петровское расположено вблизи с. Михайловского, на противоположной стороне озера. Пушкин бывал в гостях у своих родственников, слышал "про стародавних бар рассказы" от старых слуг Ганнибала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http://www.pravda-nn.ru/upl/news/src/19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ушкин в Болдино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реди многих памятных мест России, связанных с жизнью и творчеством А.С. Пушкина, особенно примечательно Болдино. Это родовое имение Пушкиных в Нижегородской губернии поэт посетил три раза: в 1830, 1833 и 1834 годах. В общей сложности Пушкин провел в Болдино не более пяти месяцев. Но именно здесь им были созданы наиболее значительные произведения. Эта удивительная плодотворная работа поэта граничит с чудом, и этот период в творчестве Пушкина получил определение "болдинской осени"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рвый раз Пушкин приехал в Болдино в сентябре 1830 г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24000" y="399708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сенью 1833 г. Александр Сергеевич написал "Медного всадника", «Анджело», "Сказку о мертвой царевне", "Сказку о рыбаке и рыбке", "Пиковую даму", несколько стихотворений, закончил "Историю Пугачева"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следний раз поэт приезжал в Болдино осенью 1834 г. по запутанным делам имения и прожил там месяц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Пушкин в Москве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Москва. Арбат, 35. Мемориальный отдел Государственного музея Пушкина - Квартира А.С. Пушкина на Арбате."/>
          <p:cNvPicPr/>
          <p:nvPr/>
        </p:nvPicPr>
        <p:blipFill>
          <a:blip r:embed="rId1"/>
          <a:stretch/>
        </p:blipFill>
        <p:spPr>
          <a:xfrm>
            <a:off x="0" y="0"/>
            <a:ext cx="2776680" cy="18828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3056040" y="162864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вартира Пушкина на Арбате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146556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Москва - это город, где Пушкин родился и провел свое детство, где навсегда подружился с книгами и стал писать свои первые стихи. Дом Пушкиных на бывшей Немецкой ныне Бауманской улице не сохранился. На этом месте сейчас расположено здание школы. С ним связан первый московский период жизни поэта-с 1799 по 1811 г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Второй раз Александр Сергеевич приезжает в Москву в 1826 г. после возвращения из Михайловской ссылки и бывает здесь довольно часто вплоть до 1831 г. В этот второй московский период, временами по долгу живя в Москве, Пушкин вращается в литературной среде. П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рвой квартирой Н.. Гончаровой и А .Пушкина  стал дом на Арбате, где молодые прожили около трех месяцев. Третий московский период - с 1831 по 1836 г.г. В эти годы Пушкин бывал в Москве восемь раз.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Храм Вознес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4" descr="Храм Вознесения на Пушкинской площади, где венчался А.С. Пушкин с Н.Н. Гончаровой."/>
          <p:cNvPicPr/>
          <p:nvPr/>
        </p:nvPicPr>
        <p:blipFill>
          <a:blip r:embed="rId1"/>
          <a:stretch/>
        </p:blipFill>
        <p:spPr>
          <a:xfrm>
            <a:off x="395280" y="1484280"/>
            <a:ext cx="2543040" cy="3457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3024360" y="2349360"/>
            <a:ext cx="53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 февраля (по старому стилю) 1831 года в церкви Вознесения Христова Пушкин венчается с Натальей Николаевной Гончаровой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11280" y="5013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рам Вознесения</a:t>
            </a:r>
            <a:br>
              <a:rPr sz="2000"/>
            </a:b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2340000" y="4581360"/>
            <a:ext cx="3952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лоховский собор, в котором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рестили Пушкина .Моск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4" descr="Москва. Елоховский собор, в котором крестили А.С. Пушкина. Фото из альбома Найденова."/>
          <p:cNvPicPr/>
          <p:nvPr/>
        </p:nvPicPr>
        <p:blipFill>
          <a:blip r:embed="rId1"/>
          <a:stretch/>
        </p:blipFill>
        <p:spPr>
          <a:xfrm>
            <a:off x="2987640" y="692280"/>
            <a:ext cx="28083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.С. Пушкин в Санкт -Петербург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3573000"/>
            <a:ext cx="7139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Санкт-Петербург. Памятник Пушкину на площади искусств."/>
          <p:cNvPicPr/>
          <p:nvPr/>
        </p:nvPicPr>
        <p:blipFill>
          <a:blip r:embed="rId1"/>
          <a:stretch/>
        </p:blipFill>
        <p:spPr>
          <a:xfrm>
            <a:off x="2771640" y="1268280"/>
            <a:ext cx="3772080" cy="231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1116000" y="3068640"/>
          <a:ext cx="7343640" cy="3789360"/>
        </p:xfrm>
        <a:graphic>
          <a:graphicData uri="http://schemas.openxmlformats.org/drawingml/2006/table">
            <a:tbl>
              <a:tblPr/>
              <a:tblGrid>
                <a:gridCol w="7343640"/>
              </a:tblGrid>
              <a:tr h="378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блю тебя, Петра творенье,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блю твой строгий, стройный вид,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вы державное теченье,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реговой ее гранит,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оих оград узор чугунный,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оих задумчивых ночей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чальный сумрак, свет безлунный...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А.С. Пушкин "Медный всадник")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оды в Петербург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вое свое дальнее путешествие Пушкин совершил в годовалом возрасте, когда его родители в 1800-1801 г.г. провели в столице несколько месяцев. А настоящее знакомство с городом состоялось в 1811 г. В этот период Александр Пушкин работает над поэмой "Руслан и Людмила»,тогда же  появились: ода "Вольность", стихи "Деревня", «К Чаадаеву» и другие. В мае 1820 г. Александр Сергеевич был выслан на юг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бережная мой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Picture 4" descr="Последняя квартира А.С. Пушкина на Набережной Мойки, 12, в Петербурге."/>
          <p:cNvPicPr/>
          <p:nvPr/>
        </p:nvPicPr>
        <p:blipFill>
          <a:blip r:embed="rId1"/>
          <a:stretch/>
        </p:blipFill>
        <p:spPr>
          <a:xfrm>
            <a:off x="250920" y="1557360"/>
            <a:ext cx="3787560" cy="23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4140360" y="2924280"/>
          <a:ext cx="3095640" cy="91440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вартира Пушкина на Набережной Мойки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17"/>
          <p:cNvSpPr/>
          <p:nvPr/>
        </p:nvSpPr>
        <p:spPr>
          <a:xfrm>
            <a:off x="179280" y="414684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сной 1831 г., после женитьбы на Наталье Николаевне Гончаровой, Пушкин приехал в Петербург из Москвы с намерением обосноваться надолго и, действительно, прожил там до дня своей гибели. 27 января 1837 г. произошла роковая дуэль с Дантесом. Через двое суток Пушкин скончался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.С.Пушкин в Ростов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2" name="Picture 4" descr="mesta_9"/>
          <p:cNvPicPr/>
          <p:nvPr/>
        </p:nvPicPr>
        <p:blipFill>
          <a:blip r:embed="rId1"/>
          <a:stretch/>
        </p:blipFill>
        <p:spPr>
          <a:xfrm>
            <a:off x="250920" y="476280"/>
            <a:ext cx="2539800" cy="33019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-464040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916360" y="1447560"/>
            <a:ext cx="62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Утром 31 мая (11 июня по н. ст.) Пушкин выехал из Таганрога с Раевскими и их прислугой. Генерал писал о новом этапе поездки в отпуск: "...Поутру рано отправился в Ростов, что прежде был предместьем крепости Святого Дмитрия"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-33840" y="3788280"/>
            <a:ext cx="30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амятник А.С Пушкину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736560" y="4035960"/>
            <a:ext cx="840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 время путешествия с Раевскими Пушкин впервые увидел удаленную от центра провинциальную Россию. Ее облик, быт и нравы обитателей приграничных губерний видоизменяли представления о мире столичного жителя..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.С.Пушкин в Каза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Picture 4" descr="Е.А. Баратынский"/>
          <p:cNvPicPr/>
          <p:nvPr/>
        </p:nvPicPr>
        <p:blipFill>
          <a:blip r:embed="rId1"/>
          <a:stretch/>
        </p:blipFill>
        <p:spPr>
          <a:xfrm>
            <a:off x="6804000" y="333360"/>
            <a:ext cx="1533600" cy="19717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6708600" y="234864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.А. Баратынский 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95280" y="1058400"/>
            <a:ext cx="64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сещение А.С.Пушкиным Казани в сентябре 1833 года связано с его работой над историческим романом о событиях крестьянской войны 1773-1774 гг. под руководством Емельяна Пугачева "История Пугачева"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2 августа А.С. Пушкин получил просимое им свидетельство об отпуске и отправился в путешествие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24000" y="393084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тром 6 сентября Александр Сергеевич отправился в дом генерал-майора Л.И.Энгельгардта, тестя Евгения Абрамовича Баратынского - поэта и давнишнего приятеля Пушкина. Здесь он неожиданно встретился с самим Баратынским, направлявшимся в имение тестя - село Каймары (ныне Высокогорский район).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-377676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Пушкин"/>
          <p:cNvPicPr/>
          <p:nvPr/>
        </p:nvPicPr>
        <p:blipFill>
          <a:blip r:embed="rId1"/>
          <a:stretch/>
        </p:blipFill>
        <p:spPr>
          <a:xfrm>
            <a:off x="4572000" y="1357200"/>
            <a:ext cx="3327480" cy="47530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60000" y="421488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Arial"/>
              </a:rPr>
              <a:t>А.С. Пушкин. </a:t>
            </a:r>
            <a:br>
              <a:rPr sz="2400"/>
            </a:br>
            <a:r>
              <a:rPr b="1" lang="ru-RU" sz="2400" spc="-1" strike="noStrike">
                <a:solidFill>
                  <a:srgbClr val="000514"/>
                </a:solidFill>
                <a:latin typeface="Arial"/>
              </a:rPr>
              <a:t>карандаш, 1826-1827 гг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514"/>
                </a:solidFill>
                <a:latin typeface="Arial"/>
              </a:rPr>
              <a:t>Ж. Вивьен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еликий русский поэт 19 век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рл Фук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Picture 4" descr="Карл Федорович Фукс"/>
          <p:cNvPicPr/>
          <p:nvPr/>
        </p:nvPicPr>
        <p:blipFill>
          <a:blip r:embed="rId1"/>
          <a:stretch/>
        </p:blipFill>
        <p:spPr>
          <a:xfrm>
            <a:off x="6732720" y="1628640"/>
            <a:ext cx="1466640" cy="18003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6591240" y="357264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рл Федорович Фукс 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95280" y="1696680"/>
            <a:ext cx="619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К.Ф. Фукса Пушкин узнал, в частности, о бывшем расположении лагеря Пугачева в Казани и для того, чтобы воочию увидеть места событий, один отправился по Сибирскому тракту к деревне Троицкая Нокса (в 9-10 верстах о т центра Казани), где перед взятием Казани находилась ставка Пугачева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 места, которые посетил   Пушкин  овеяны народной любовью и вызывают интерес не только у русских любителей поэзии, но и во всем мир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http://im2-tub-ru.yandex.net/i?id=169703239-21-72&amp;n=21"/>
          <p:cNvPicPr/>
          <p:nvPr/>
        </p:nvPicPr>
        <p:blipFill>
          <a:blip r:embed="rId1"/>
          <a:stretch/>
        </p:blipFill>
        <p:spPr>
          <a:xfrm>
            <a:off x="0" y="3243240"/>
            <a:ext cx="2428920" cy="311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&amp;Scy;&amp;iecy;&amp;rcy;&amp;gcy;&amp;iecy;&amp;jcy; &amp;Lcy;&amp;softcy;&amp;vcy;&amp;ocy;&amp;vcy;&amp;icy;&amp;chcy; &amp;Pcy;&amp;ucy;&amp;shcy;&amp;kcy;&amp;icy;&amp;ncy;"/>
          <p:cNvPicPr/>
          <p:nvPr/>
        </p:nvPicPr>
        <p:blipFill>
          <a:blip r:embed="rId2"/>
          <a:stretch/>
        </p:blipFill>
        <p:spPr>
          <a:xfrm>
            <a:off x="6237360" y="0"/>
            <a:ext cx="2906640" cy="364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&amp;Acy;.&amp;Scy;. &amp;Pcy;&amp;ucy;&amp;shcy;&amp;kcy;&amp;icy;&amp;ncy;"/>
          <p:cNvPicPr/>
          <p:nvPr/>
        </p:nvPicPr>
        <p:blipFill>
          <a:blip r:embed="rId3"/>
          <a:stretch/>
        </p:blipFill>
        <p:spPr>
          <a:xfrm>
            <a:off x="0" y="0"/>
            <a:ext cx="176040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142720" y="285480"/>
            <a:ext cx="40006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.С. Пушкин родился 26 мая 1799 года в семье отставного майора Сергея Львовича и Надежды Осиповны Пушкиных. Александр рос не избалованным материнской лаской,  недостаток который восполнялся сердечной привязанностью и искренней любовью няньки, крестьянки Арины Родионовны Матвеев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12" descr="&amp;Ncy;.&amp;Ocy;. &amp;Pcy;&amp;ucy;&amp;shcy;&amp;kcy;&amp;icy;&amp;ncy;&amp;acy;"/>
          <p:cNvPicPr/>
          <p:nvPr/>
        </p:nvPicPr>
        <p:blipFill>
          <a:blip r:embed="rId4"/>
          <a:stretch/>
        </p:blipFill>
        <p:spPr>
          <a:xfrm>
            <a:off x="6357960" y="3643200"/>
            <a:ext cx="242892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03280" y="228564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рта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путешествий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.С. Пушки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Picture 4" descr="karta"/>
          <p:cNvPicPr/>
          <p:nvPr/>
        </p:nvPicPr>
        <p:blipFill>
          <a:blip r:embed="rId1"/>
          <a:stretch/>
        </p:blipFill>
        <p:spPr>
          <a:xfrm>
            <a:off x="324000" y="333360"/>
            <a:ext cx="45100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арскосельский лиц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4" descr="Царскосельский Лицей"/>
          <p:cNvPicPr/>
          <p:nvPr/>
        </p:nvPicPr>
        <p:blipFill>
          <a:blip r:embed="rId1"/>
          <a:stretch/>
        </p:blipFill>
        <p:spPr>
          <a:xfrm>
            <a:off x="2771640" y="1413000"/>
            <a:ext cx="3260880" cy="2149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2843280" y="3346920"/>
            <a:ext cx="312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арскосельский Лицей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816360" y="5121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250920" y="414720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ядя поэта Василий Львович Пушкин привез Александра в Петербург для поступления в Царскосельский Лицей. После окончания Лицея в 1817 г. А.С. Пушкин поселился с родителями, которые тогда основались в Петербурге, и прожил там три года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57400" y="49968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ихайловско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30" descr="Михайловское"/>
          <p:cNvPicPr/>
          <p:nvPr/>
        </p:nvPicPr>
        <p:blipFill>
          <a:blip r:embed="rId1"/>
          <a:stretch/>
        </p:blipFill>
        <p:spPr>
          <a:xfrm>
            <a:off x="250920" y="333360"/>
            <a:ext cx="4892760" cy="3192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3642840"/>
            <a:ext cx="896472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имением своей матери сельцом Михайловским в Псковской губернии Александр Сергеевич Пушкин был связан на протяжении всей своей зрелой жизни - с 1817 по 1836 г.г. В Михайловском создано около ста произведений поэта: трагедия "Борис Годунов", с конца 3-й и по начало 7-й главы романа "Евгений Онегин".Поэма "Граф Нулин", окончена поэма "Цыганы", задуманы "маленькие трагедии", написаны такие стихотворения, как "Деревня", "Пророк", "Я помню чудное мгновенье", "Вновь я посетил" и многие други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41316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мое продолжительное время пребывания Пушкина в Михайловском – годы ссылки с августа 1824 по сентябрь 1826 г.По распоряжению властей , будучи замечен в интересе к атеизму, не угодный одесскому начальству , он был исключен со службы у Воронцова и сослан в имение своей матер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ледний раз поэт приехал сюда в апреле 1836 г. На несколько дней по печальным обстоятельствам:: хоронил в Святогорском монастыре умершую в Петербурге мать Надежду Осиповну Пушкин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72080" y="856800"/>
            <a:ext cx="357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ригорское</a:t>
            </a:r>
            <a:br>
              <a:rPr sz="4400"/>
            </a:br>
            <a:r>
              <a:rPr b="1" lang="ru-RU" sz="1400" spc="-1" strike="noStrike">
                <a:solidFill>
                  <a:srgbClr val="e5e5ff"/>
                </a:solidFill>
                <a:latin typeface="Garamond"/>
              </a:rPr>
              <a:t>Находится в Псковской области на берегу реки Сороть  в 3 км от Михайловского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4" descr="Тригорское"/>
          <p:cNvPicPr/>
          <p:nvPr/>
        </p:nvPicPr>
        <p:blipFill>
          <a:blip r:embed="rId1"/>
          <a:stretch/>
        </p:blipFill>
        <p:spPr>
          <a:xfrm>
            <a:off x="250920" y="404640"/>
            <a:ext cx="536868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539640" y="404100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Почти все свободное от поэтических трудов время он проводил в Тригорском, где "находил и строгий ум, и расцветающую молодость, и резвость детского возраста"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1106640" y="5643720"/>
            <a:ext cx="69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pushkin.ellink.ru/reserve/res3.asp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вятогорский монастыр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5564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Святогорский монастырь и могила Пушкина"/>
          <p:cNvPicPr/>
          <p:nvPr/>
        </p:nvPicPr>
        <p:blipFill>
          <a:blip r:embed="rId1"/>
          <a:stretch/>
        </p:blipFill>
        <p:spPr>
          <a:xfrm>
            <a:off x="395280" y="2565360"/>
            <a:ext cx="2232000" cy="21891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0" y="486900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тогорский монастырь и могила Пушкина.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79280" y="4221000"/>
            <a:ext cx="504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771640" y="1546200"/>
            <a:ext cx="637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"Особенно ценно было для Пушкина постоянное соприкосновение с Святогорским монастырем как хранителем заветов старого русского благочестия, духовно питавшим множество людей, черпавших от него не только живую воду веры, но и духовную культуру вообще. Наблюдая воочию эту тесную нравственную связь народа с монастырем и углубляясь в изучение истории Карамзина и летописей, где развертывались перед ним картины древней аскетической Святой Руси, Пушкин со свойственной ему добросовестностью не мог не оценить неизмеримого нравственного влияния, какое оказывала на наш народ и государство наша Церковь, бывшая их вековой воспитательницей и строительницей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10:48:06Z</dcterms:created>
  <dc:creator>учащийся</dc:creator>
  <dc:description/>
  <dc:language>en-US</dc:language>
  <cp:lastModifiedBy>Ленуся</cp:lastModifiedBy>
  <dcterms:modified xsi:type="dcterms:W3CDTF">2012-11-09T15:41:54Z</dcterms:modified>
  <cp:revision>17</cp:revision>
  <dc:subject/>
  <dc:title>Слайд 1</dc:title>
</cp:coreProperties>
</file>