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B9DD3-CE1F-42D9-86C0-2781B7D5C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881DA-8313-4AD3-A342-A1144860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8C5CF-1587-45F8-9E89-1229ADA0C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DC1D5-A10F-4F14-8C0F-FC7AF2A1C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CBC0-2CE5-4646-877F-429221D9B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FACA-1B9D-4953-90F4-EF0096CA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786E-1666-4E9A-8A93-68F19B06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7D58-9DCB-47E9-9749-452200F0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EA4A-29C9-487A-B0F1-F4CF1A37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C9A3-A84F-4BA6-A986-24884F6B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67F3-6044-4391-B349-40E9DBD7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2A3D5-F011-43C6-9EC5-56A2403C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E46B-DA6D-4101-8608-D19CC9F1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D162-FE89-4C5B-A8A1-D89888C6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C5C0-0F7A-4EEE-BF11-24062492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2A6B-BC86-48B2-B22A-3FC839C4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153A-C692-404B-AA5B-CAE43EC22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02AAB-7894-42B6-9878-17511916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30E57-868D-4578-A629-1C102D8D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AE533-FC6A-447C-81DC-F1CF4ED2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B1291-0E5C-47D3-BB8C-C658930C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9AFE5-BB82-4093-B05A-5BE16DD8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CE4A3-846F-41A5-9812-3DC9040B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58C49-AEE7-4077-8F05-D4F50028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4F0D-B175-4503-B0B4-58C6ADC53CB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F1D9-B9C1-46F1-AA1F-9DB9171ACCF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pushkin.ellink.ru/reserve/res3.asp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e5e5ff"/>
                </a:solidFill>
                <a:latin typeface="Arial"/>
              </a:rPr>
              <a:t>Пушкинские </a:t>
            </a:r>
            <a:br>
              <a:rPr sz="6000"/>
            </a:br>
            <a:r>
              <a:rPr b="1" i="1" lang="ru-RU" sz="6000" spc="-1" strike="noStrike">
                <a:solidFill>
                  <a:srgbClr val="e5e5ff"/>
                </a:solidFill>
                <a:latin typeface="Arial"/>
              </a:rPr>
              <a:t>места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ыполнила Боченкова М., ученица 9 класса МОУ «Озеркинская СОШ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етровско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5" name="Picture 4" descr="Петровское"/>
          <p:cNvPicPr/>
          <p:nvPr/>
        </p:nvPicPr>
        <p:blipFill>
          <a:blip r:embed="rId1"/>
          <a:stretch/>
        </p:blipFill>
        <p:spPr>
          <a:xfrm>
            <a:off x="2279520" y="1428840"/>
            <a:ext cx="4584960" cy="2989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431640" y="4315320"/>
            <a:ext cx="82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Родовое имение А.П. Ганнибала сельцо Петровское расположено вблизи с. Михайловского, на противоположной стороне озера. Пушкин бывал в гостях у своих родственников, слышал "про стародавних бар рассказы" от старых слуг Ганнибала. 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http://www.pravda-nn.ru/upl/news/src/19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ушкин в Болдино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55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реди многих памятных мест России, связанных с жизнью и творчеством А.С. Пушкина, особенно примечательно Болдино. Это родовое имение Пушкиных в Нижегородской губернии поэт посетил три раза: в 1830, 1833 и 1834 годах. В общей сложности Пушкин провел в Болдино не более пяти месяцев. Но именно здесь им были созданы наиболее значительные произведения. Эта удивительная плодотворная работа поэта граничит с чудом, и этот период в творчестве Пушкина получил определение "болдинской осени"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ервый раз Пушкин приехал в Болдино в сентябре 1830 г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24000" y="399708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сенью 1833 г. Александр Сергеевич написал "Медного всадника", «Анджело», "Сказку о мертвой царевне", "Сказку о рыбаке и рыбке", "Пиковую даму", несколько стихотворений, закончил "Историю Пугачева". 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следний раз поэт приезжал в Болдино осенью 1834 г. по запутанным делам имения и прожил там месяц. 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92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Пушкин в Москве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2" name="Picture 4" descr="Москва. Арбат, 35. Мемориальный отдел Государственного музея Пушкина - Квартира А.С. Пушкина на Арбате."/>
          <p:cNvPicPr/>
          <p:nvPr/>
        </p:nvPicPr>
        <p:blipFill>
          <a:blip r:embed="rId1"/>
          <a:stretch/>
        </p:blipFill>
        <p:spPr>
          <a:xfrm>
            <a:off x="0" y="0"/>
            <a:ext cx="2776680" cy="18828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3056040" y="1628640"/>
            <a:ext cx="37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вартира Пушкина на Арбате.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0" y="146556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Москва - это город, где Пушкин родился и провел свое детство, где навсегда подружился с книгами и стал писать свои первые стихи. Дом Пушкиных на бывшей Немецкой ныне Бауманской улице не сохранился. На этом месте сейчас расположено здание школы. С ним связан первый московский период жизни поэта-с 1799 по 1811 г. 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Второй раз Александр Сергеевич приезжает в Москву в 1826 г. после возвращения из Михайловской ссылки и бывает здесь довольно часто вплоть до 1831 г. В этот второй московский период, временами по долгу живя в Москве, Пушкин вращается в литературной среде. П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ервой квартирой Н.. Гончаровой и А .Пушкина  стал дом на Арбате, где молодые прожили около трех месяцев. Третий московский период - с 1831 по 1836 г.г. В эти годы Пушкин бывал в Москве восемь раз.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Храм Вознес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6" name="Picture 4" descr="Храм Вознесения на Пушкинской площади, где венчался А.С. Пушкин с Н.Н. Гончаровой."/>
          <p:cNvPicPr/>
          <p:nvPr/>
        </p:nvPicPr>
        <p:blipFill>
          <a:blip r:embed="rId1"/>
          <a:stretch/>
        </p:blipFill>
        <p:spPr>
          <a:xfrm>
            <a:off x="395280" y="1484280"/>
            <a:ext cx="2543040" cy="34574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3024360" y="2349360"/>
            <a:ext cx="53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8 февраля (по старому стилю) 1831 года в церкви Вознесения Христова Пушкин венчается с Натальей Николаевной Гончаровой.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611280" y="5013360"/>
            <a:ext cx="21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рам Вознесения</a:t>
            </a:r>
            <a:br>
              <a:rPr sz="2000"/>
            </a:b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2340000" y="4581360"/>
            <a:ext cx="395280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Елоховский собор, в котором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рестили Пушкина .Москв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4" descr="Москва. Елоховский собор, в котором крестили А.С. Пушкина. Фото из альбома Найденова."/>
          <p:cNvPicPr/>
          <p:nvPr/>
        </p:nvPicPr>
        <p:blipFill>
          <a:blip r:embed="rId1"/>
          <a:stretch/>
        </p:blipFill>
        <p:spPr>
          <a:xfrm>
            <a:off x="2987640" y="692280"/>
            <a:ext cx="2808360" cy="36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А.С. Пушкин в Санкт -Петербург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560" y="3573000"/>
            <a:ext cx="71391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Picture 4" descr="Санкт-Петербург. Памятник Пушкину на площади искусств."/>
          <p:cNvPicPr/>
          <p:nvPr/>
        </p:nvPicPr>
        <p:blipFill>
          <a:blip r:embed="rId1"/>
          <a:stretch/>
        </p:blipFill>
        <p:spPr>
          <a:xfrm>
            <a:off x="2771640" y="1268280"/>
            <a:ext cx="3772080" cy="2311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"/>
          <p:cNvGraphicFramePr/>
          <p:nvPr/>
        </p:nvGraphicFramePr>
        <p:xfrm>
          <a:off x="1116000" y="3068640"/>
          <a:ext cx="7343640" cy="3789360"/>
        </p:xfrm>
        <a:graphic>
          <a:graphicData uri="http://schemas.openxmlformats.org/drawingml/2006/table">
            <a:tbl>
              <a:tblPr/>
              <a:tblGrid>
                <a:gridCol w="7343640"/>
              </a:tblGrid>
              <a:tr h="378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юблю тебя, Петра творенье,</a:t>
                      </a:r>
                      <a:endParaRPr b="1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юблю твой строгий, стройный вид,</a:t>
                      </a:r>
                      <a:endParaRPr b="1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вы державное теченье,</a:t>
                      </a:r>
                      <a:endParaRPr b="1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реговой ее гранит,</a:t>
                      </a:r>
                      <a:endParaRPr b="1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воих оград узор чугунный,</a:t>
                      </a:r>
                      <a:endParaRPr b="1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воих задумчивых ночей</a:t>
                      </a:r>
                      <a:endParaRPr b="1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чальный сумрак, свет безлунный...</a:t>
                      </a:r>
                      <a:endParaRPr b="1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А.С. Пушкин "Медный всадник")</a:t>
                      </a:r>
                      <a:endParaRPr b="1" i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Годы в Петербурге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ервое свое дальнее путешествие Пушкин совершил в годовалом возрасте, когда его родители в 1800-1801 г.г. провели в столице несколько месяцев. А настоящее знакомство с городом состоялось в 1811 г. В этот период Александр Пушкин работает над поэмой "Руслан и Людмила»,тогда же  появились: ода "Вольность", стихи "Деревня", «К Чаадаеву» и другие. В мае 1820 г. Александр Сергеевич был выслан на юг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абережная мой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8" name="Picture 4" descr="Последняя квартира А.С. Пушкина на Набережной Мойки, 12, в Петербурге."/>
          <p:cNvPicPr/>
          <p:nvPr/>
        </p:nvPicPr>
        <p:blipFill>
          <a:blip r:embed="rId1"/>
          <a:stretch/>
        </p:blipFill>
        <p:spPr>
          <a:xfrm>
            <a:off x="250920" y="1557360"/>
            <a:ext cx="3787560" cy="236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4140360" y="2924280"/>
          <a:ext cx="3095640" cy="914400"/>
        </p:xfrm>
        <a:graphic>
          <a:graphicData uri="http://schemas.openxmlformats.org/drawingml/2006/table">
            <a:tbl>
              <a:tblPr/>
              <a:tblGrid>
                <a:gridCol w="309564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вартира Пушкина на Набережной Мойки</a:t>
                      </a:r>
                      <a:endParaRPr b="1" i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Rectangle 17"/>
          <p:cNvSpPr/>
          <p:nvPr/>
        </p:nvSpPr>
        <p:spPr>
          <a:xfrm>
            <a:off x="179280" y="414684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сной 1831 г., после женитьбы на Наталье Николаевне Гончаровой, Пушкин приехал в Петербург из Москвы с намерением обосноваться надолго и, действительно, прожил там до дня своей гибели. 27 января 1837 г. произошла роковая дуэль с Дантесом. Через двое суток Пушкин скончался.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47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А.С.Пушкин в Ростов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2" name="Picture 4" descr="mesta_9"/>
          <p:cNvPicPr/>
          <p:nvPr/>
        </p:nvPicPr>
        <p:blipFill>
          <a:blip r:embed="rId1"/>
          <a:stretch/>
        </p:blipFill>
        <p:spPr>
          <a:xfrm>
            <a:off x="250920" y="476280"/>
            <a:ext cx="2539800" cy="33019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-4640400" y="167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2916360" y="1447560"/>
            <a:ext cx="6227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Утром 31 мая (11 июня по н. ст.) Пушкин выехал из Таганрога с Раевскими и их прислугой. Генерал писал о новом этапе поездки в отпуск: "...Поутру рано отправился в Ростов, что прежде был предместьем крепости Святого Дмитрия". 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-33840" y="3788280"/>
            <a:ext cx="30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Памятник А.С Пушкину.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736560" y="4035960"/>
            <a:ext cx="840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о время путешествия с Раевскими Пушкин впервые увидел удаленную от центра провинциальную Россию. Ее облик, быт и нравы обитателей приграничных губерний видоизменяли представления о мире столичного жителя..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967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А.С.Пушкин в Казан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8" name="Picture 4" descr="Е.А. Баратынский"/>
          <p:cNvPicPr/>
          <p:nvPr/>
        </p:nvPicPr>
        <p:blipFill>
          <a:blip r:embed="rId1"/>
          <a:stretch/>
        </p:blipFill>
        <p:spPr>
          <a:xfrm>
            <a:off x="6804000" y="333360"/>
            <a:ext cx="1533600" cy="197172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5"/>
          <p:cNvSpPr/>
          <p:nvPr/>
        </p:nvSpPr>
        <p:spPr>
          <a:xfrm>
            <a:off x="6708600" y="234864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Е.А. Баратынский 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395280" y="1058400"/>
            <a:ext cx="64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сещение А.С.Пушкиным Казани в сентябре 1833 года связано с его работой над историческим романом о событиях крестьянской войны 1773-1774 гг. под руководством Емельяна Пугачева "История Пугачева".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2 августа А.С. Пушкин получил просимое им свидетельство об отпуске и отправился в путешествие. 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24000" y="393084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тром 6 сентября Александр Сергеевич отправился в дом генерал-майора Л.И.Энгельгардта, тестя Евгения Абрамовича Баратынского - поэта и давнишнего приятеля Пушкина. Здесь он неожиданно встретился с самим Баратынским, направлявшимся в имение тестя - село Каймары (ныне Высокогорский район).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-3776760" y="167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Пушкин"/>
          <p:cNvPicPr/>
          <p:nvPr/>
        </p:nvPicPr>
        <p:blipFill>
          <a:blip r:embed="rId1"/>
          <a:stretch/>
        </p:blipFill>
        <p:spPr>
          <a:xfrm>
            <a:off x="4572000" y="1357200"/>
            <a:ext cx="3327480" cy="47530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360000" y="4214880"/>
            <a:ext cx="37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514"/>
                </a:solidFill>
                <a:latin typeface="Arial"/>
              </a:rPr>
              <a:t>А.С. Пушкин. </a:t>
            </a:r>
            <a:br>
              <a:rPr sz="2400"/>
            </a:br>
            <a:r>
              <a:rPr b="1" lang="ru-RU" sz="2400" spc="-1" strike="noStrike">
                <a:solidFill>
                  <a:srgbClr val="000514"/>
                </a:solidFill>
                <a:latin typeface="Arial"/>
              </a:rPr>
              <a:t>карандаш, 1826-1827 гг.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514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514"/>
                </a:solidFill>
                <a:latin typeface="Arial"/>
              </a:rPr>
              <a:t>Ж. Вивьен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еликий русский поэт 19 века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арл Фукс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4" name="Picture 4" descr="Карл Федорович Фукс"/>
          <p:cNvPicPr/>
          <p:nvPr/>
        </p:nvPicPr>
        <p:blipFill>
          <a:blip r:embed="rId1"/>
          <a:stretch/>
        </p:blipFill>
        <p:spPr>
          <a:xfrm>
            <a:off x="6732720" y="1628640"/>
            <a:ext cx="1466640" cy="180036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5"/>
          <p:cNvSpPr/>
          <p:nvPr/>
        </p:nvSpPr>
        <p:spPr>
          <a:xfrm>
            <a:off x="6591240" y="357264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арл Федорович Фукс 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395280" y="1696680"/>
            <a:ext cx="619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 К.Ф. Фукса Пушкин узнал, в частности, о бывшем расположении лагеря Пугачева в Казани и для того, чтобы воочию увидеть места событий, один отправился по Сибирскому тракту к деревне Троицкая Нокса (в 9-10 верстах о т центра Казани), где перед взятием Казани находилась ставка Пугачева.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се места, которые посетил   Пушкин  овеяны народной любовью и вызывают интерес не только у русских любителей поэзии, но и во всем мире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4" descr="http://im2-tub-ru.yandex.net/i?id=169703239-21-72&amp;n=21"/>
          <p:cNvPicPr/>
          <p:nvPr/>
        </p:nvPicPr>
        <p:blipFill>
          <a:blip r:embed="rId1"/>
          <a:stretch/>
        </p:blipFill>
        <p:spPr>
          <a:xfrm>
            <a:off x="0" y="3243240"/>
            <a:ext cx="2428920" cy="3114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&amp;Scy;&amp;iecy;&amp;rcy;&amp;gcy;&amp;iecy;&amp;jcy; &amp;Lcy;&amp;softcy;&amp;vcy;&amp;ocy;&amp;vcy;&amp;icy;&amp;chcy; &amp;Pcy;&amp;ucy;&amp;shcy;&amp;kcy;&amp;icy;&amp;ncy;"/>
          <p:cNvPicPr/>
          <p:nvPr/>
        </p:nvPicPr>
        <p:blipFill>
          <a:blip r:embed="rId2"/>
          <a:stretch/>
        </p:blipFill>
        <p:spPr>
          <a:xfrm>
            <a:off x="6237360" y="0"/>
            <a:ext cx="2906640" cy="3643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&amp;Acy;.&amp;Scy;. &amp;Pcy;&amp;ucy;&amp;shcy;&amp;kcy;&amp;icy;&amp;ncy;"/>
          <p:cNvPicPr/>
          <p:nvPr/>
        </p:nvPicPr>
        <p:blipFill>
          <a:blip r:embed="rId3"/>
          <a:stretch/>
        </p:blipFill>
        <p:spPr>
          <a:xfrm>
            <a:off x="0" y="0"/>
            <a:ext cx="1760400" cy="2286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142720" y="285480"/>
            <a:ext cx="400068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.С. Пушкин родился 26 мая 1799 года в семье отставного майора Сергея Львовича и Надежды Осиповны Пушкиных. Александр рос не избалованным материнской лаской,  недостаток который восполнялся сердечной привязанностью и искренней любовью няньки, крестьянки Арины Родионовны Матвеево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Picture 12" descr="&amp;Ncy;.&amp;Ocy;. &amp;Pcy;&amp;ucy;&amp;shcy;&amp;kcy;&amp;icy;&amp;ncy;&amp;acy;"/>
          <p:cNvPicPr/>
          <p:nvPr/>
        </p:nvPicPr>
        <p:blipFill>
          <a:blip r:embed="rId4"/>
          <a:stretch/>
        </p:blipFill>
        <p:spPr>
          <a:xfrm>
            <a:off x="6357960" y="3643200"/>
            <a:ext cx="2428920" cy="27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03280" y="228564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Карта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путешествий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А.С. Пушкин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2" name="Picture 4" descr="karta"/>
          <p:cNvPicPr/>
          <p:nvPr/>
        </p:nvPicPr>
        <p:blipFill>
          <a:blip r:embed="rId1"/>
          <a:stretch/>
        </p:blipFill>
        <p:spPr>
          <a:xfrm>
            <a:off x="324000" y="333360"/>
            <a:ext cx="451008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Царскосельский лице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Picture 4" descr="Царскосельский Лицей"/>
          <p:cNvPicPr/>
          <p:nvPr/>
        </p:nvPicPr>
        <p:blipFill>
          <a:blip r:embed="rId1"/>
          <a:stretch/>
        </p:blipFill>
        <p:spPr>
          <a:xfrm>
            <a:off x="2771640" y="1413000"/>
            <a:ext cx="3260880" cy="21492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2843280" y="3346920"/>
            <a:ext cx="312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Царскосельский Лицей.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3816360" y="51217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250920" y="4147200"/>
            <a:ext cx="88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ядя поэта Василий Львович Пушкин привез Александра в Петербург для поступления в Царскосельский Лицей. После окончания Лицея в 1817 г. А.С. Пушкин поселился с родителями, которые тогда основались в Петербурге, и прожил там три года.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57400" y="49968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ихайловско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Picture 30" descr="Михайловское"/>
          <p:cNvPicPr/>
          <p:nvPr/>
        </p:nvPicPr>
        <p:blipFill>
          <a:blip r:embed="rId1"/>
          <a:stretch/>
        </p:blipFill>
        <p:spPr>
          <a:xfrm>
            <a:off x="250920" y="333360"/>
            <a:ext cx="4892760" cy="31924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3642840"/>
            <a:ext cx="896472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 имением своей матери сельцом Михайловским в Псковской губернии Александр Сергеевич Пушкин был связан на протяжении всей своей зрелой жизни - с 1817 по 1836 г.г. В Михайловском создано около ста произведений поэта: трагедия "Борис Годунов", с конца 3-й и по начало 7-й главы романа "Евгений Онегин".Поэма "Граф Нулин", окончена поэма "Цыганы", задуманы "маленькие трагедии", написаны такие стихотворения, как "Деревня", "Пророк", "Я помню чудное мгновенье", "Вновь я посетил" и многие другие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41316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амое продолжительное время пребывания Пушкина в Михайловском – годы ссылки с августа 1824 по сентябрь 1826 г.По распоряжению властей , будучи замечен в интересе к атеизму, не угодный одесскому начальству , он был исключен со службы у Воронцова и сослан в имение своей матер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следний раз поэт приехал сюда в апреле 1836 г. На несколько дней по печальным обстоятельствам:: хоронил в Святогорском монастыре умершую в Петербурге мать Надежду Осиповну Пушкин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572080" y="856800"/>
            <a:ext cx="3571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ригорское</a:t>
            </a:r>
            <a:br>
              <a:rPr sz="4400"/>
            </a:br>
            <a:r>
              <a:rPr b="1" lang="ru-RU" sz="1400" spc="-1" strike="noStrike">
                <a:solidFill>
                  <a:srgbClr val="e5e5ff"/>
                </a:solidFill>
                <a:latin typeface="Garamond"/>
              </a:rPr>
              <a:t>Находится в Псковской области на берегу реки Сороть  в 3 км от Михайловского</a:t>
            </a:r>
            <a:endParaRPr b="1" lang="en-US" sz="1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Picture 4" descr="Тригорское"/>
          <p:cNvPicPr/>
          <p:nvPr/>
        </p:nvPicPr>
        <p:blipFill>
          <a:blip r:embed="rId1"/>
          <a:stretch/>
        </p:blipFill>
        <p:spPr>
          <a:xfrm>
            <a:off x="250920" y="404640"/>
            <a:ext cx="5368680" cy="35020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539640" y="4041000"/>
            <a:ext cx="81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Почти все свободное от поэтических трудов время он проводил в Тригорском, где "находил и строгий ум, и расцветающую молодость, и резвость детского возраста". 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7"/>
          <p:cNvSpPr/>
          <p:nvPr/>
        </p:nvSpPr>
        <p:spPr>
          <a:xfrm>
            <a:off x="1106640" y="5643720"/>
            <a:ext cx="69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ttp://pushkin.ellink.ru/reserve/res3.asp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вятогорский монастыр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755640" y="422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6" descr="Святогорский монастырь и могила Пушкина"/>
          <p:cNvPicPr/>
          <p:nvPr/>
        </p:nvPicPr>
        <p:blipFill>
          <a:blip r:embed="rId1"/>
          <a:stretch/>
        </p:blipFill>
        <p:spPr>
          <a:xfrm>
            <a:off x="395280" y="2565360"/>
            <a:ext cx="2232000" cy="21891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7"/>
          <p:cNvSpPr/>
          <p:nvPr/>
        </p:nvSpPr>
        <p:spPr>
          <a:xfrm>
            <a:off x="0" y="486900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ятогорский монастырь и могила Пушкина.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79280" y="4221000"/>
            <a:ext cx="50403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2771640" y="1546200"/>
            <a:ext cx="6372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"Особенно ценно было для Пушкина постоянное соприкосновение с Святогорским монастырем как хранителем заветов старого русского благочестия, духовно питавшим множество людей, черпавших от него не только живую воду веры, но и духовную культуру вообще. Наблюдая воочию эту тесную нравственную связь народа с монастырем и углубляясь в изучение истории Карамзина и летописей, где развертывались перед ним картины древней аскетической Святой Руси, Пушкин со свойственной ему добросовестностью не мог не оценить неизмеримого нравственного влияния, какое оказывала на наш народ и государство наша Церковь, бывшая их вековой воспитательницей и строительницей.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7T10:48:06Z</dcterms:created>
  <dc:creator>учащийся</dc:creator>
  <dc:description/>
  <dc:language>en-US</dc:language>
  <cp:lastModifiedBy>Ленуся</cp:lastModifiedBy>
  <dcterms:modified xsi:type="dcterms:W3CDTF">2012-11-09T15:41:54Z</dcterms:modified>
  <cp:revision>17</cp:revision>
  <dc:subject/>
  <dc:title>Слайд 1</dc:title>
</cp:coreProperties>
</file>