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060-EDE6-4F0F-A4A6-DA096551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6F7-0F93-4DD8-9886-AD8BF8C0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FAD-EA4C-4BF1-ACA2-7859BA73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554-3A3A-468A-9B97-EE3D883B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516B-7644-434A-AFA2-761C36BB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8BA6-B3C2-4A6E-9F10-0AAABB29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B355-5E38-40EA-992E-5DDFFCEB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1BD4-0619-4608-8215-3AD4C175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DDDC-FE2C-4E0B-960C-D43336BD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6CAF-6BCA-4AAF-BC8B-54E6D46E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F3EE-A0BF-48E6-AAD3-7C0C14F4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D91-C5BB-491D-A184-AAABA19F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8F42-BC59-48E5-8B6F-1B3D83F0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AED0-D338-4562-B87C-44985608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0ADF-0A24-4BAC-9938-673A956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D9FE-57CF-4FF5-927E-50342ADD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2FF0-72F5-428F-A4E5-C97A5190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073-F963-46F5-9364-BA341647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8B0-5121-4C7E-868B-3C175723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2E3-CB1F-48C4-B8A2-BE1D33D0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F98-1CC5-40C6-BC42-21CD102B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E21-78EF-43AE-A500-1CE9140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55A-3ACD-47F1-8A78-67717F0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C66-CA72-411C-9B52-2F8220B0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a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E52980-CCC1-4C87-B6CE-8C36A32EDC7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8DF582-5F5F-49CF-ADAE-19E97093877E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устын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24000" y="3789000"/>
            <a:ext cx="640080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агаринская Еле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а 4 и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СОШ №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. Рассказ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мбовской об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Полякова Т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89564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ушканч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ызун с очень длинн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ними ногами, с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инным хвостом.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мощью сильных н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шканчики  высо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ыгают (до 3 метр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вост помогает держа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овес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шастый ё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личается от обыкновенного ежа большим размером ушной раковины: длина его ушей до 5 см. Иглами покрыта только сп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3860640"/>
            <a:ext cx="496872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енькая лисичка корс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сак похож на обыкновенную лисицу, но заметно мельче (длина тела 50—60 см, хвоста — 25—35 см), с более крупными ушами и высокими ногам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547380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йга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йгак –  своеобраз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отно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облику похоже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овцу на тонк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ких  ног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с длинны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ботообразный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гут бегать с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рость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80 км/ч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6048360" cy="40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устыни и челове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с давних пор осваивают полупустыни и пусты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роив каналы, во многие районы подвели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рошаемых землях появились поля, сады, виноград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кологические пробл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-за неумеренного орошения в почве накапливается много соли. Страдают культурные раст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е становится подвижных песков, которые засыпают дороги, поля, построй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 животных погибает от рук браконье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храна природы пусты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сохранения природы пустынь и полупустынь  в 1990 году создан     заповед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Чёрные Зем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2708280"/>
            <a:ext cx="3286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устыни и полу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оссии пустыни занимают небольшую площадь – по берегам Каспийского моря, к западу и к востоку от низовьев Вол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раздо обширне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пустыни, котор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дятся межд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ью и настоящ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ы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00760" y="3500280"/>
            <a:ext cx="414324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счаные и глинистые пусты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988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рханы –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лы из пес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ыр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рескавший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инистый участок.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4143240" cy="233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14360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лимат 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то очень жар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ерхность земли нагревается до 70,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пература воздуха в тени выше 4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ждей не бывает по нескольку месяц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стения 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блюжья колючк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кустарник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ыми пурпурны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ками, усаженны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ямо на колючках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той до 1 ме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глубоко уходящ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емлю кор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29080" y="2133720"/>
            <a:ext cx="3814920" cy="41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осня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т крайне неприхотлив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зый злак стремитель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остраняется благодар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инным корневищ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летающим подвиж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юнный песок. Высота 20 с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ни колосня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о закрепляют пес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дают им двигать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действием ве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4143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жузг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о ветвистый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старник, с ажур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ной. Пл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чень лёгкие с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ыми вырост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даря это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тер переноси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х на больш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оя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41436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ивотные 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блю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ое животное 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ых ногах 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ой ше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пине у не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ин или два горб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тор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ладывается жи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тается колючка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ухой травой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жет больше меся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ходиться без во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517032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ященный скара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менитый жук, которому поклонялись древние египтяне. Питается этот жук навозом. Он умело мастерит и катает навозные шарики (запас корма для личинок жука). Длина тела священного скарабея 25 - 37 м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3789360"/>
            <a:ext cx="5183280" cy="264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7:57:13Z</dcterms:created>
  <dc:creator>XP GAME 2007</dc:creator>
  <dc:description/>
  <dc:language>en-US</dc:language>
  <cp:lastModifiedBy>XP GAME 2007</cp:lastModifiedBy>
  <dcterms:modified xsi:type="dcterms:W3CDTF">2012-11-09T12:26:19Z</dcterms:modified>
  <cp:revision>8</cp:revision>
  <dc:subject/>
  <dc:title>Слайд 1</dc:title>
</cp:coreProperties>
</file>