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2B81-CCEE-4F6E-9CFC-A86541FF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84BD-99E7-45C7-BB4D-0020096F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D15C-C501-4304-BD04-607577B37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381E-3770-4FA2-AD55-99BDCC3A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95F4-4DFE-4E2C-880B-C83A3F3E7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2D55-9A64-4597-8B12-9C6DCDB6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232F-F7E9-489F-BA3D-6B51183C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B1A6-242A-47AA-93A3-6959A5E9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B42E-BEEA-4197-B6BE-9190478E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07AD-9635-4514-8425-30AD3F56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0C04-BBE4-4A43-ADAB-E3BFF54A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D065-041F-42FE-83EF-AE94EBCC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2C30-4771-48BA-848A-1A0A389F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26B9-1440-4978-9606-7F22D3B9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F4A5-329E-4FA7-BB38-7480BB18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7599-65D1-474F-ADF4-F7230F13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79BC-2666-468B-A7C9-DDA742394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A130-15DC-4825-A867-22E3DDAA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4D00-3F5E-4FBC-B149-B1C5AC26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F583-0DE6-415B-A812-F977681F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1E2A-C922-460E-B080-D69B4F59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1DA1-433F-4DB2-8526-9E028C08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5650-3DA8-405E-B59F-D6B1A0BB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64FF-55A0-4768-9046-95E210A2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0680" cy="1979640"/>
            <a:chOff x="0" y="0"/>
            <a:chExt cx="7240680" cy="197964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1520" cy="105408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a0000"/>
                </a:gs>
                <a:gs pos="100000">
                  <a:srgbClr val="72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0680" cy="190188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039501-D2FF-4C6C-B508-15B4782603F9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6760" cy="5942160"/>
            <a:chOff x="0" y="0"/>
            <a:chExt cx="8456760" cy="594216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2080" cy="365616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00000"/>
                </a:gs>
                <a:gs pos="100000">
                  <a:srgbClr val="72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6760" cy="585468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4ABE2F8-B44B-4D13-92EB-7AEE80CB5CDC}" type="slidenum">
              <a: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688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                        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Пустыни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124000" y="3789000"/>
            <a:ext cx="6400800" cy="27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тор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Гагаринская Еле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ница 4 и кла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БОУ СОШ №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. Рассказо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мбовской об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уководител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: Полякова Т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4895640" cy="36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ушканч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ызун с очень длинны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дними ногами, с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инным хвостом. С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мощью сильных но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ушканчики  высок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ыгают (до 3 метров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вост помогает держать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вновес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4103640" cy="41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шастый ё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личается от обыкновенного ежа большим размером ушной раковины: длина его ушей до 5 см. Иглами покрыта только спи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340000" y="3860640"/>
            <a:ext cx="4968720" cy="27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ленькая лисичка корса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рсак похож на обыкновенную лисицу, но заметно мельче (длина тела 50—60 см, хвоста — 25—35 см), с более крупными ушами и высокими ногами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55640" y="3500280"/>
            <a:ext cx="5473800" cy="364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йгак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айгак –  своеобразно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ивотное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облику похоже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овцу на тонки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соких  нога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с длинный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оботообразный.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гут бегать с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орость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 80 км/ч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916360" y="2565360"/>
            <a:ext cx="6048360" cy="40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устыни и челове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юди с давних пор осваивают полупустыни и пусты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троив каналы, во многие районы подвели вод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орошаемых землях появились поля, сады, виноградни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Экологические проблем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-за неумеренного орошения в почве накапливается много соли. Страдают культурные раст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льше становится подвижных песков, которые засыпают дороги, поля, постройк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ного животных погибает от рук браконьер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храна природы пустын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сохранения природы пустынь и полупустынь  в 1990 году создан     заповед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Чёрные Земли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859280" y="2708280"/>
            <a:ext cx="328608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устыни и полупустын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России пустыни занимают небольшую площадь – по берегам Каспийского моря, к западу и к востоку от низовьев Волг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раздо обширне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упустыни, котор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ходятся межд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епью и настоящ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устын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000760" y="3500280"/>
            <a:ext cx="414324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есчаные и глинистые пустын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1988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marL="3376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marL="3376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marL="3376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marL="337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арханы –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7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алы из пес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7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7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7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7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7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7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7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7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7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7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7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акыр –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7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трескавшийс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7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линистый участок.      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7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0920" y="3860640"/>
            <a:ext cx="4143240" cy="2333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16360" y="1413000"/>
            <a:ext cx="4143600" cy="31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лимат пустын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то очень жарко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ерхность земли нагревается до 70, 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мпература воздуха в тени выше 4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ждей не бывает по нескольку месяце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астения пустын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рблюжья колючка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укустарник 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асными пурпурным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ветками, усаженным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ямо на колючках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сотой до 1 мет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еет глубоко уходящи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землю корен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29080" y="2133720"/>
            <a:ext cx="3814920" cy="41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89800" indent="-289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лосня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980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т крайне неприхотливы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980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зый злак стремитель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980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пространяется благодар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980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инным корневища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980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летающим подвижны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980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юнный песок. Высота 20 с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980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рни колосня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980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орошо закрепляют песк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980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дают им двигать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980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 действием вет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16360" y="2708280"/>
            <a:ext cx="414360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жузгу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льно ветвистый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старник, с ажур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оной. Пл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чень лёгкие с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обыми выростам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лагодаря этом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тер переноси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х на больш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стоя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9640" y="2349360"/>
            <a:ext cx="414360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Животные пустын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рблю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упное животное н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инных ногах с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инной ше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спине у не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дин или два горб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которы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кладывается жир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итается колючкам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сухой травой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жет больше месяц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ходиться без вод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564000" y="2205000"/>
            <a:ext cx="5170320" cy="34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вященный скараб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наменитый жук, которому поклонялись древние египтяне. Питается этот жук навозом. Он умело мастерит и катает навозные шарики (запас корма для личинок жука). Длина тела священного скарабея 25 - 37 м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484360" y="3789360"/>
            <a:ext cx="5183280" cy="264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7:57:13Z</dcterms:created>
  <dc:creator>XP GAME 2007</dc:creator>
  <dc:description/>
  <dc:language>en-US</dc:language>
  <cp:lastModifiedBy>XP GAME 2007</cp:lastModifiedBy>
  <dcterms:modified xsi:type="dcterms:W3CDTF">2012-11-09T12:26:19Z</dcterms:modified>
  <cp:revision>8</cp:revision>
  <dc:subject/>
  <dc:title>Слайд 1</dc:title>
</cp:coreProperties>
</file>