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AD39-643F-44DE-8042-F20CD3196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F5A8-9945-43D5-AF1E-E5F94B2C7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40DB-9841-4B6D-893F-8B96E4E86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E86B-3256-4D31-A7EA-827B697E25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644C-FE87-4FC3-B349-64E6213349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A449-6463-45B5-A798-1C3BD5635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72E5-7DD6-4FAD-895A-63B294BE2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07B4-5F4C-4E7F-AC2A-61F57812C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02ED-165C-43F0-918E-C0434B72A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E1EA-22E4-4886-AA1F-AA03AD512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8966-E28B-49E0-BA42-6ECFAAC28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BC42-8094-412B-9FC1-45C4AC883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5A4E95-75CE-4A7B-8526-122A0A355F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928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 u="sng">
                <a:solidFill>
                  <a:srgbClr val="99cc00"/>
                </a:solidFill>
                <a:uFillTx/>
                <a:latin typeface="Arial"/>
              </a:rPr>
              <a:t>Предлоги</a:t>
            </a:r>
            <a:br>
              <a:rPr sz="6600"/>
            </a:b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на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под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за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к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из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по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об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от, в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у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с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о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над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около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при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пере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Состав 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3096000" y="1162440"/>
            <a:ext cx="865080" cy="5543640"/>
          </a:xfrm>
          <a:custGeom>
            <a:avLst/>
            <a:gdLst>
              <a:gd name="textAreaLeft" fmla="*/ 0 w 865080"/>
              <a:gd name="textAreaRight" fmla="*/ 606960 w 865080"/>
              <a:gd name="textAreaTop" fmla="*/ 0 h 5543640"/>
              <a:gd name="textAreaBottom" fmla="*/ 554364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2492280"/>
            <a:ext cx="1943280" cy="18716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8460000">
            <a:off x="2470680" y="2089080"/>
            <a:ext cx="1819080" cy="15112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492280"/>
            <a:ext cx="136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492280"/>
            <a:ext cx="180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788000" y="1914120"/>
            <a:ext cx="647640" cy="93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1916280"/>
            <a:ext cx="720720" cy="93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380360" y="2852640"/>
            <a:ext cx="5047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59280" y="465300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987640" y="263700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71640" y="263700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76720" y="263700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6024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ПРИСТАВ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050840"/>
            <a:ext cx="850104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800"/>
              </a:spcBef>
              <a:buClr>
                <a:srgbClr val="006c31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6c31"/>
                </a:solidFill>
                <a:latin typeface="Arial"/>
              </a:rPr>
              <a:t>Слитно со словам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buClr>
                <a:srgbClr val="006c31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6c31"/>
                </a:solidFill>
                <a:latin typeface="Arial"/>
              </a:rPr>
              <a:t>Глагол и другие части реч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42960" y="142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ПРЕДЛ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7120" y="1357200"/>
            <a:ext cx="85010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349"/>
              </a:spcBef>
              <a:buClr>
                <a:srgbClr val="006c31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6c31"/>
                </a:solidFill>
                <a:latin typeface="Arial"/>
              </a:rPr>
              <a:t>Раздельно со слов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buClr>
                <a:srgbClr val="006c31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6c31"/>
                </a:solidFill>
                <a:latin typeface="Arial"/>
              </a:rPr>
              <a:t>Не бывает перед глагол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buClr>
                <a:srgbClr val="006c31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6c31"/>
                </a:solidFill>
                <a:latin typeface="Arial"/>
              </a:rPr>
              <a:t>Можно вставить слово или вопр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75240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 u="sng">
                <a:solidFill>
                  <a:srgbClr val="009999"/>
                </a:solidFill>
                <a:uFillTx/>
                <a:latin typeface="Arial"/>
              </a:rPr>
              <a:t>Союз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068640"/>
            <a:ext cx="822960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spcBef>
                <a:spcPts val="24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333399"/>
                </a:solidFill>
                <a:latin typeface="Arial"/>
              </a:rPr>
              <a:t>и, а, но, 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0800" y="1001880"/>
            <a:ext cx="727164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0" spc="-1" strike="noStrike" u="sng">
                <a:solidFill>
                  <a:srgbClr val="ff0000"/>
                </a:solidFill>
                <a:uFillTx/>
                <a:latin typeface="Arial"/>
              </a:rPr>
              <a:t>Часть реч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00"/>
              </a:buClr>
              <a:buSzPct val="4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009900"/>
                </a:solidFill>
                <a:latin typeface="Arial"/>
              </a:rPr>
              <a:t>что называе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00"/>
              </a:buClr>
              <a:buSzPct val="4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09900"/>
                </a:solidFill>
                <a:latin typeface="Arial"/>
              </a:rPr>
              <a:t>на какой вопрос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en-GB" sz="6600" spc="-1" strike="noStrike">
                <a:solidFill>
                  <a:srgbClr val="009900"/>
                </a:solidFill>
                <a:latin typeface="Arial"/>
              </a:rPr>
              <a:t>отвечае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85520" y="725760"/>
            <a:ext cx="7642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Им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9900"/>
                </a:solidFill>
                <a:latin typeface="Arial"/>
              </a:rPr>
              <a:t>►</a:t>
            </a: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называет предм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►</a:t>
            </a: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отвечает н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вопросы кто?, чт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520"/>
            <a:ext cx="9225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Им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прилага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►</a:t>
            </a: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называет призна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предме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►</a:t>
            </a:r>
            <a:r>
              <a:rPr b="0" lang="en-GB" sz="5400" spc="-1" strike="noStrike">
                <a:solidFill>
                  <a:srgbClr val="009900"/>
                </a:solidFill>
                <a:latin typeface="Arial"/>
              </a:rPr>
              <a:t>отвечает на вопрос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009900"/>
                </a:solidFill>
                <a:latin typeface="Arial"/>
              </a:rPr>
              <a:t>какой?, какая?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9900"/>
                </a:solidFill>
                <a:latin typeface="Arial"/>
              </a:rPr>
              <a:t>какое?, как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47560"/>
            <a:ext cx="9225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Глаг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►</a:t>
            </a: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называет действ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предме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►</a:t>
            </a: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отвечает на вопрос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что делать?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что сделать? и д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8096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800000"/>
                </a:solidFill>
                <a:latin typeface="Arial"/>
              </a:rPr>
              <a:t>Безударные гласные в корне слова проверяются ударени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97280"/>
            <a:ext cx="9144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Чтобы проверить слово с безударным гласным в корне, нужно изменить форму слова или подобрать однокоренное слов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40"/>
            <a:ext cx="914400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Arial"/>
              </a:rPr>
              <a:t>Чтобы проверить обозначение на письме парного согласного </a:t>
            </a:r>
            <a:r>
              <a:rPr b="0" lang="en-GB" sz="4400" spc="-1" strike="noStrike" u="sng">
                <a:solidFill>
                  <a:srgbClr val="800000"/>
                </a:solidFill>
                <a:uFillTx/>
                <a:latin typeface="Arial"/>
              </a:rPr>
              <a:t>в конце слова</a:t>
            </a:r>
            <a:r>
              <a:rPr b="0" lang="en-GB" sz="4400" spc="-1" strike="noStrike">
                <a:solidFill>
                  <a:srgbClr val="800000"/>
                </a:solidFill>
                <a:latin typeface="Arial"/>
              </a:rPr>
              <a:t>, надо изменить форму слова или подобрать однокоренное слово, чтобы после проверяемого согласного звука слышался гласны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562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са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 – са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ы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, са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вник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7960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Чтобы проверить обозначение на письме парного согласного </a:t>
            </a:r>
            <a:r>
              <a:rPr b="0" lang="en-GB" sz="4000" spc="-1" strike="noStrike" u="sng">
                <a:solidFill>
                  <a:srgbClr val="800000"/>
                </a:solidFill>
                <a:uFillTx/>
                <a:latin typeface="Arial"/>
              </a:rPr>
              <a:t>в середине слова</a:t>
            </a: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, надо подобрать такое однокоренное слово, чтобы после проверяемого согласного звука слышался гласный или звонкий согласный звук </a:t>
            </a:r>
            <a:r>
              <a:rPr b="0" lang="en-GB" sz="4000" spc="-1" strike="noStrike">
                <a:solidFill>
                  <a:srgbClr val="800000"/>
                </a:solidFill>
                <a:latin typeface="Arial"/>
                <a:ea typeface="Arial"/>
              </a:rPr>
              <a:t>[</a:t>
            </a: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0" lang="en-GB" sz="4000" spc="-1" strike="noStrike">
                <a:solidFill>
                  <a:srgbClr val="800000"/>
                </a:solidFill>
                <a:latin typeface="Arial"/>
                <a:ea typeface="Arial"/>
              </a:rPr>
              <a:t>]</a:t>
            </a: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19840"/>
            <a:ext cx="91440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ры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ка – ры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к, ры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ый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1</cp:lastModifiedBy>
  <cp:revision>0</cp:revision>
  <dc:subject/>
  <dc:title>Слайд 1</dc:title>
</cp:coreProperties>
</file>