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BED6-41ED-42F3-B871-B3E15660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8EC1-C0C9-4FD4-A0EB-1C626E4F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540C-0D4D-49D7-BC3B-35DC8C866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9F6E-8C00-40DC-8B35-456047FBB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EE51-4D3E-494C-91DE-E221FC1C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976A-F73F-43AE-890C-908D2EAC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4749-D2F0-40FF-A9FB-ED97C37C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3BF8-E621-4FCC-B138-6FEA7B3A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6479-0D76-45FA-A717-D3DE1561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DB82-FED5-4749-BF6E-C4334343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83B4-52E0-4FDC-B200-59C5D8ED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A56A-2864-4021-8105-F0A4E210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F4E5-228D-4E11-8F54-5AABF9BCAA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екоторые типы поведения родителей в процессе взаимодействия со школо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ль современного классного руководителя в свете введения новых образовательных стандартов - э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Умение договариваться с каждым родителем, уметь убеждать его, не стремиться к агрессии, не стремиться и не подталкивать к всяческим жалобам… А для этого родителя надо изучить и с ним научиться дружить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575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дители – отец и мать ребёнка. Родители воспитывают ребёнка с самого рождения; заботятся о его материальном и духовном благополучии до достижения им совершеннолет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529812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ипы родителей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ТРЕБОВАТЕЛЬНЫЙ РОДИТЕЛ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КРИТИКУЮЩИЙ  РОДИТЕЛ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СВЕРХОПЕКАЮЩИЙ РОДИТЕЛ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ОТСТРАНЕННЫЙ РОДИТЕЛ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ОТВЕТСТВЕННЫЙ РОДИТЕЛЬ»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сихологические образы матер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"Царевна Несмеяна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"Снежная королева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"Спящая красавица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"Унтер-Пришибеев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"Суматошная мать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"Наседк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"Вечный ребенок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Выноска со стрелкой влево 4"/>
          <p:cNvSpPr/>
          <p:nvPr/>
        </p:nvSpPr>
        <p:spPr>
          <a:xfrm>
            <a:off x="4356000" y="1773360"/>
            <a:ext cx="3362400" cy="1439640"/>
          </a:xfrm>
          <a:prstGeom prst="leftArrowCallout">
            <a:avLst>
              <a:gd name="adj1" fmla="val 25002"/>
              <a:gd name="adj2" fmla="val 25000"/>
              <a:gd name="adj3" fmla="val 24999"/>
              <a:gd name="adj4" fmla="val 6498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тражают невротическую линию в формировании личности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Выноска со стрелкой вправо 5"/>
          <p:cNvSpPr/>
          <p:nvPr/>
        </p:nvSpPr>
        <p:spPr>
          <a:xfrm>
            <a:off x="1619280" y="4149720"/>
            <a:ext cx="46080" cy="44280"/>
          </a:xfrm>
          <a:prstGeom prst="rightArrowCallout">
            <a:avLst>
              <a:gd name="adj1" fmla="val 25002"/>
              <a:gd name="adj2" fmla="val 25000"/>
              <a:gd name="adj3" fmla="val 25120"/>
              <a:gd name="adj4" fmla="val 64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Выноска со стрелкой вправо 6"/>
          <p:cNvSpPr/>
          <p:nvPr/>
        </p:nvSpPr>
        <p:spPr>
          <a:xfrm>
            <a:off x="611280" y="3284640"/>
            <a:ext cx="4032000" cy="2881080"/>
          </a:xfrm>
          <a:prstGeom prst="right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Эти черты представляют более или менее устойчивые черты характера, проявляющиеся в зависимости от конкретных жизненных обстоятель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ипы неадекватного поведения родителей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перпротекция потворствующ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попротекция потворствующ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ышенная моральная ответствен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моциональное отвер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естокое обращение с деть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питание в культе болез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тиворечивый, неустойчивый ти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сихологические типы родителе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сихосоматическ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евротически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вторитар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79280" y="765000"/>
          <a:ext cx="8569440" cy="5829480"/>
        </p:xfrm>
        <a:graphic>
          <a:graphicData uri="http://schemas.openxmlformats.org/drawingml/2006/table">
            <a:tbl>
              <a:tblPr/>
              <a:tblGrid>
                <a:gridCol w="365400"/>
                <a:gridCol w="5948280"/>
                <a:gridCol w="2255760"/>
              </a:tblGrid>
              <a:tr h="243000">
                <a:tc gridSpan="3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.  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Всю свою жизнь я строго следую принципам, основанным на чувстве долг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0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Мне часто кажется, что у меня комок в горл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264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0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Я всегда полон (полна) энерг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0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5640">
                <a:tc gridSpan="3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4. 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Я придерживаюсь принципов нравственности и морали более строго, чем большинство других люд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5640">
                <a:tc gridSpan="3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5.  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Жизнь с ребенком, имеющим нарушения в развитии, всегда связана для меня с напряжение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264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Я верю в перспективу развития моего ребен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5640"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7. 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У меня часто возникают боли в сердце, когда я расстраиваюсь из-ребен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з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проблем мо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0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000">
                <a:tc gridSpan="3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8.  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 Когда я думаю о ребенке, меня никогда не покидают тревожные мысл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5640">
                <a:tc gridSpan="3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9.  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 Родитель не виноват, если ребенок своим поведением вы­нудил наказать его физичес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264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Когда я волнуюсь, у меня дрожат руки или тошни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0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1"/>
          <p:cNvSpPr/>
          <p:nvPr/>
        </p:nvSpPr>
        <p:spPr>
          <a:xfrm>
            <a:off x="2615040" y="-16200"/>
            <a:ext cx="3913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Анкета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Психологический тип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родителя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(В. В.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 Ткачева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79280" y="333360"/>
          <a:ext cx="8713800" cy="6321600"/>
        </p:xfrm>
        <a:graphic>
          <a:graphicData uri="http://schemas.openxmlformats.org/drawingml/2006/table">
            <a:tbl>
              <a:tblPr/>
              <a:tblGrid>
                <a:gridCol w="265320"/>
                <a:gridCol w="6230880"/>
                <a:gridCol w="2217600"/>
              </a:tblGrid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Я всегда стремлюсь ограждать моего ребенка от трудностей 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оби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Ребёнок всегда зависит от родителя и должен его слуша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3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Я заработал (заработала)   язву из-за постоянных проблем с ребёнк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Ребёнок с недостатками в здоровье - обуза для р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Все дети должны воспитываться в строг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0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Считаю, что ребенок с проблемами в развитии постоянно нуждается в    особом уходе и внимании         со стороны родител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Моя жизнь изменилась в худшую сторону из-за проблем в развитии моего ребен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3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Если у ребенка слишком много проблем со здоровьем, его можно поместить в учреждение социальной защиты (интернат с постоянным проживанием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Родители всегда ответственны за будущее своих дет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Мой ребенок всегда берет верх надо мной в спорных ситуация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Я не остановлюсь ни перед чем в достижении поставленных цел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84360" y="765000"/>
          <a:ext cx="7777080" cy="4543560"/>
        </p:xfrm>
        <a:graphic>
          <a:graphicData uri="http://schemas.openxmlformats.org/drawingml/2006/table">
            <a:tbl>
              <a:tblPr/>
              <a:tblGrid>
                <a:gridCol w="2957400"/>
                <a:gridCol w="2247840"/>
                <a:gridCol w="2571840"/>
              </a:tblGrid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сихосоматиче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вротич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торитар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2-04-17T12:42:21Z</dcterms:modified>
  <cp:revision>49</cp:revision>
  <dc:subject/>
  <dc:title>Слайд 1</dc:title>
</cp:coreProperties>
</file>