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F25-DDBF-45F0-9E15-14DBFA6F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C9B-AC40-4063-A0D7-96F19C0A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B3A-9ECA-42D9-9EF1-35D3EC7F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DC4-0BE5-40CD-A976-2D8E6F18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B7E-84F3-4EFB-9F5F-9E545C84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C7E-3323-4DA9-9159-8ACF7B32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1BC-9FE2-4F3D-B347-9C6F7E23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9D9-5165-48EC-9E3C-B7CA956E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7F5-470C-4F9E-A945-DD3027EC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8D9-8974-4A60-BC27-A8CAFFB1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C4B-0F51-436D-BA0F-713D2FE1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48D-E628-429B-87F3-449D5489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04F3-2E45-4692-9C4B-457FDFB72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которые типы поведения родителей в процессе взаимодействия со школ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 современного классного руководителя в свете введения новых образовательных стандартов - э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мение договариваться с каждым родителем, уметь убеждать его, не стремиться к агрессии, не стремиться и не подталкивать к всяческим жалобам… А для этого родителя надо изучить и с ним научиться дружи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и – отец и мать ребёнка. Родители воспитывают ребёнка с самого рождения; заботятся о его материальном и духовном благополучии до достижения им совершеннолет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298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ы родител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ТРЕБОВАТЕЛЬНЫЙ РОДИТЕ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КРИТИКУЮЩИЙ  РОДИТЕ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СВЕРХОПЕКАЮЩИЙ РОДИТЕ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ОТСТРАНЕННЫЙ РОДИТЕ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ОТВЕТСТВЕННЫЙ РОДИТЕЛЬ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сихологические образы матер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Царевна Несмеяна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Снежная королева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Спящая красавица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Унтер-Пришибеев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Суматошная мать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Насед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Вечный ребенок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Выноска со стрелкой влево 4"/>
          <p:cNvSpPr/>
          <p:nvPr/>
        </p:nvSpPr>
        <p:spPr>
          <a:xfrm>
            <a:off x="4356000" y="1773360"/>
            <a:ext cx="3362400" cy="1439640"/>
          </a:xfrm>
          <a:prstGeom prst="leftArrowCallout">
            <a:avLst>
              <a:gd name="adj1" fmla="val 25002"/>
              <a:gd name="adj2" fmla="val 25000"/>
              <a:gd name="adj3" fmla="val 24999"/>
              <a:gd name="adj4" fmla="val 64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ражают невротическую линию в формировании личност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Выноска со стрелкой вправо 5"/>
          <p:cNvSpPr/>
          <p:nvPr/>
        </p:nvSpPr>
        <p:spPr>
          <a:xfrm>
            <a:off x="1619280" y="4149720"/>
            <a:ext cx="46080" cy="44280"/>
          </a:xfrm>
          <a:prstGeom prst="rightArrowCallout">
            <a:avLst>
              <a:gd name="adj1" fmla="val 25002"/>
              <a:gd name="adj2" fmla="val 25000"/>
              <a:gd name="adj3" fmla="val 2512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ыноска со стрелкой вправо 6"/>
          <p:cNvSpPr/>
          <p:nvPr/>
        </p:nvSpPr>
        <p:spPr>
          <a:xfrm>
            <a:off x="611280" y="3284640"/>
            <a:ext cx="4032000" cy="2881080"/>
          </a:xfrm>
          <a:prstGeom prst="right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и черты представляют более или менее устойчивые черты характера, проявляющиеся в зависимости от конкретных жизненных обстоя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неадекватного поведения родител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протекция потворствующ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опротекция потворствующ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ная моральная ответств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моциональное отвер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стокое обращение с деть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ние в культе боле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вый, неустойчивый ти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сихологические типы родителе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сихосоматиче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вротическ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итар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9280" y="765000"/>
          <a:ext cx="8569440" cy="5829480"/>
        </p:xfrm>
        <a:graphic>
          <a:graphicData uri="http://schemas.openxmlformats.org/drawingml/2006/table">
            <a:tbl>
              <a:tblPr/>
              <a:tblGrid>
                <a:gridCol w="365400"/>
                <a:gridCol w="5948280"/>
                <a:gridCol w="2255760"/>
              </a:tblGrid>
              <a:tr h="243000">
                <a:tc gridSpan="3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.  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ю свою жизнь я строго следую принципам, основанным на чувстве дол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не часто кажется, что у меня комок в гор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всегда полон (полна) энерг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 gridSpan="3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. 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придерживаюсь принципов нравственности и морали более строго, чем большинство других люд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 gridSpan="3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.  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Жизнь с ребенком, имеющим нарушения в развитии, всегда связана для меня с напряж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верю в перспективу развития моего реб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. 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 меня часто возникают боли в сердце, когда я расстраиваюсь из-реб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з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облем мо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 gridSpan="3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. 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Когда я думаю о ребенке, меня никогда не покидают тревожные мыс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 gridSpan="3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. 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Родитель не виноват, если ребенок своим поведением вы­нудил наказать его физичес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гда я волнуюсь, у меня дрожат руки или тошн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2615040" y="-16200"/>
            <a:ext cx="391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Анкета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логический тип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родителя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(В. В.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качева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9280" y="333360"/>
          <a:ext cx="8713800" cy="6321600"/>
        </p:xfrm>
        <a:graphic>
          <a:graphicData uri="http://schemas.openxmlformats.org/drawingml/2006/table">
            <a:tbl>
              <a:tblPr/>
              <a:tblGrid>
                <a:gridCol w="265320"/>
                <a:gridCol w="6230880"/>
                <a:gridCol w="221760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всегда стремлюсь ограждать моего ребенка от трудностей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и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бёнок всегда зависит от родителя и должен его слуш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заработал (заработала)   язву из-за постоянных проблем с ребён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бёнок с недостатками в здоровье - обуза для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 дети должны воспитываться в строг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читаю, что ребенок с проблемами в развитии постоянно нуждается в    особом уходе и внимании         со стороны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оя жизнь изменилась в худшую сторону из-за проблем в развитии моего реб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Если у ребенка слишком много проблем со здоровьем, его можно поместить в учреждение социальной защиты (интернат с постоянным проживанием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одители всегда ответственны за будущее своих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ой ребенок всегда берет верх надо мной в спорных ситуац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не остановлюсь ни перед чем в достижении поставленных ц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4360" y="765000"/>
          <a:ext cx="7777080" cy="4543560"/>
        </p:xfrm>
        <a:graphic>
          <a:graphicData uri="http://schemas.openxmlformats.org/drawingml/2006/table">
            <a:tbl>
              <a:tblPr/>
              <a:tblGrid>
                <a:gridCol w="2957400"/>
                <a:gridCol w="2247840"/>
                <a:gridCol w="2571840"/>
              </a:tblGrid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сома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вроти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рит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2-04-17T12:42:21Z</dcterms:modified>
  <cp:revision>49</cp:revision>
  <dc:subject/>
  <dc:title>Слайд 1</dc:title>
</cp:coreProperties>
</file>