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12.wmf" ContentType="image/x-wmf"/>
  <Override PartName="/ppt/media/image6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17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media/image21.png" ContentType="image/png"/>
  <Override PartName="/ppt/media/image19.png" ContentType="image/png"/>
  <Override PartName="/ppt/media/image16.gif" ContentType="image/gif"/>
  <Override PartName="/ppt/media/image9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C69C-A462-4A68-8C3F-EF2CB3917B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7E8-B24C-4484-848D-5C7DA29DCF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D35-6A6E-46CA-82BD-78AE0A43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539-6E34-423B-8498-5823238B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326-E561-4D74-8A50-2413BF25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CE6-057A-492A-9747-9EEC6EE4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A3CF-607A-47EA-B7EC-1F70CFA0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C839-5A99-44B6-8822-D866A711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0E2E-0753-457F-BAB2-9BF6A5CF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DAC-3A81-4BC4-A493-8B5E1A4B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65BB-6258-4689-84CE-7DE9FBA7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0606-F7D9-46FC-8B57-421CBC66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2DC-5F87-4EA7-85D0-BC3EB3B1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10D-C999-45B4-BC82-17C0DA71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B559-2F5F-4627-AF53-E48DAA8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C451-718B-46FB-B7A4-6FAE4BE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524B-5FD9-4320-B03B-B09F444B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F609-2912-413B-9069-5DA11968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C8F-0EF9-485D-98DC-53DECBA6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C57-D43C-4308-800D-104991B4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7A6-96F4-4943-80CB-78A161B7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7F0-042D-4BE7-8D3C-DAAE839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32E-B892-4524-B363-56E448E4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16B-8F82-4357-8BCE-41B4A1F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7C3-5BDB-48CB-8293-C7E34C1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74D-ACDF-4551-83FD-B01B671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9393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4F59-68C4-4DE1-A843-18959251F248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61ED-C499-4594-884F-AA7D5AF15B80}" type="slidenum">
              <a:rPr b="0" lang="ru-RU" sz="14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3939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9393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89D6-ECC5-439A-96C5-5F0CCB026669}" type="datetime">
              <a:rPr b="0" lang="ru-RU" sz="1400" spc="-1" strike="noStrike">
                <a:solidFill>
                  <a:srgbClr val="578963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384-52B0-46A3-A8A6-785AAE07D69C}" type="slidenum">
              <a:rPr b="0" lang="ru-RU" sz="1400" spc="-1" strike="noStrike">
                <a:solidFill>
                  <a:srgbClr val="5789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802944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здание развивающей среды как средство формирования УУД на уроках химии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технолог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14400" y="4500720"/>
            <a:ext cx="7696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1d1d"/>
                </a:solidFill>
                <a:latin typeface="Times New Roman"/>
              </a:rPr>
              <a:t>Куцапкина Людмила Васильевна- учитель химии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1d1d"/>
                </a:solidFill>
                <a:latin typeface="Times New Roman"/>
              </a:rPr>
              <a:t>ГБОУ гимназиия 343 Невского района  Санкт-Петербург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07920" y="5257800"/>
            <a:ext cx="2286000" cy="58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Формула обучен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28800" y="3786120"/>
            <a:ext cx="2286000" cy="10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ий тип деятельности осваиваемый учеником: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07920" y="3321000"/>
            <a:ext cx="2286000" cy="33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ий принцип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07920" y="1523880"/>
            <a:ext cx="228600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183" name="Text Box 7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Инновационная </a:t>
              </a:r>
              <a:r>
                <a:rPr b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86" name="Group 10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187" name="Line 11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9" name="Line 13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0" name="Line 14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2" name="Line 16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3" name="Line 17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4" name="Rectangle 18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74760" y="1440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3193920" y="1515960"/>
            <a:ext cx="2590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люстративно-объяснитель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5861160" y="1440000"/>
            <a:ext cx="28954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блемные: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астично-поисковый, эвристическ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блемного изложе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сследовательск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37476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50720" y="33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3270240" y="3276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родавливан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5861160" y="32688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выращиван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37476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374760" y="3726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3193920" y="39146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продуктивный, воспроизводящ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5861160" y="38228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дуктивный,  Творческий,       Проблемны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37476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50720" y="494496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3193920" y="50212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ния – репродуктивная деятель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5861160" y="5021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блемная деятельность  -  рефлексия  -  зна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07920" y="4343400"/>
            <a:ext cx="228600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иция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07920" y="2406600"/>
            <a:ext cx="2286000" cy="337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07920" y="1568520"/>
            <a:ext cx="2286000" cy="337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ы усвоен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374760" y="914400"/>
            <a:ext cx="8381880" cy="4952880"/>
            <a:chOff x="374760" y="914400"/>
            <a:chExt cx="8381880" cy="4952880"/>
          </a:xfrm>
        </p:grpSpPr>
        <p:sp>
          <p:nvSpPr>
            <p:cNvPr id="217" name="Text Box 6"/>
            <p:cNvSpPr/>
            <p:nvPr/>
          </p:nvSpPr>
          <p:spPr>
            <a:xfrm>
              <a:off x="450720" y="99036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8" name="Text Box 7"/>
            <p:cNvSpPr/>
            <p:nvPr/>
          </p:nvSpPr>
          <p:spPr>
            <a:xfrm>
              <a:off x="3193920" y="914400"/>
              <a:ext cx="266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9" name="Text Box 8"/>
            <p:cNvSpPr/>
            <p:nvPr/>
          </p:nvSpPr>
          <p:spPr>
            <a:xfrm>
              <a:off x="5860800" y="914400"/>
              <a:ext cx="289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Инновационная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20" name="Group 9"/>
            <p:cNvGrpSpPr/>
            <p:nvPr/>
          </p:nvGrpSpPr>
          <p:grpSpPr>
            <a:xfrm>
              <a:off x="374760" y="914400"/>
              <a:ext cx="8381880" cy="4952880"/>
              <a:chOff x="374760" y="914400"/>
              <a:chExt cx="8381880" cy="4952880"/>
            </a:xfrm>
          </p:grpSpPr>
          <p:sp>
            <p:nvSpPr>
              <p:cNvPr id="221" name="Line 10"/>
              <p:cNvSpPr/>
              <p:nvPr/>
            </p:nvSpPr>
            <p:spPr>
              <a:xfrm>
                <a:off x="374760" y="91440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2" name="Line 11"/>
              <p:cNvSpPr/>
              <p:nvPr/>
            </p:nvSpPr>
            <p:spPr>
              <a:xfrm>
                <a:off x="37476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3" name="Line 12"/>
              <p:cNvSpPr/>
              <p:nvPr/>
            </p:nvSpPr>
            <p:spPr>
              <a:xfrm>
                <a:off x="875664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907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319392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5860800" y="91440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374760" y="1447560"/>
                <a:ext cx="8381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28" name="Rectangle 17"/>
          <p:cNvSpPr/>
          <p:nvPr/>
        </p:nvSpPr>
        <p:spPr>
          <a:xfrm>
            <a:off x="1108800" y="22860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74760" y="1568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93920" y="15526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учивание, деятельность по алгоритму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5861160" y="155268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исковая мыслительная деятельность, рефлекс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374760" y="5867280"/>
            <a:ext cx="8381880" cy="0"/>
          </a:xfrm>
          <a:prstGeom prst="line">
            <a:avLst/>
          </a:prstGeom>
          <a:ln w="12708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357120" y="2357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450720" y="2354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3193920" y="236232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ситель информации, хранитель норм и традиций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5861160" y="243036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тор сотрудничества, Консультант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3193920" y="327672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агандист предметно – дисциплинарных знан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5861160" y="34210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яющий поисковой работой учащихся, консультант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374760" y="4267080"/>
            <a:ext cx="876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450720" y="433548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3193920" y="52578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ие мотива к личностному росту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5861160" y="52578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 интереса к деятельност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658320" y="42670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сивность,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6433920" y="42670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сть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306240" y="4724280"/>
            <a:ext cx="23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ие интереса,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5943600" y="46483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 мотива к самосовершенствованию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Text Box 38"/>
          <p:cNvSpPr/>
          <p:nvPr/>
        </p:nvSpPr>
        <p:spPr>
          <a:xfrm>
            <a:off x="875664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42EB-DB2E-4866-9CF0-0C66493AF919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WordArt 2"/>
          <p:cNvSpPr txBox="1"/>
          <p:nvPr/>
        </p:nvSpPr>
        <p:spPr>
          <a:xfrm>
            <a:off x="450720" y="95400"/>
            <a:ext cx="793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Любое ли образовательное пространство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cc00"/>
                  </a:outerShdw>
                </a:effectLst>
                <a:latin typeface="Times New Roman"/>
              </a:rPr>
              <a:t>можно назвать развивающим?</a:t>
            </a:r>
            <a:endParaRPr b="0" lang="en-US" sz="2400" spc="1" strike="noStrike">
              <a:ln w="9360">
                <a:solidFill>
                  <a:srgbClr val="339933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cc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544680" y="1249200"/>
            <a:ext cx="8042040" cy="196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, чтобы ответить на этот вопрос, обратимся к его истор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 60 лет назад Л.С. Выготский в работе "Педагогическая психология" проанализировал и выделил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и научные школ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торые по-разному решали вопрос о соотношении обучения и развит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037200" y="3825720"/>
            <a:ext cx="2948040" cy="253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Аргументом данной точки зрения явля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идактический принцип доступности, позволяющий учить учащихся лишь тому, что они могут понять и для чего созрели их психические функции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69840" y="2751120"/>
            <a:ext cx="2209680" cy="22294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229480"/>
              <a:gd name="textAreaBottom" fmla="*/ 2121840 h 222948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я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й точки зрения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.С.Выготскому. являются -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.Фрейд, Ж.Пиаж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2556000" y="3228840"/>
            <a:ext cx="322884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предполагали, что </a:t>
            </a: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Arial"/>
              </a:rPr>
              <a:t>обучение и развитие независимые процессы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ылатой фразой представителей этой научной школы является то, что "обучение плетется в хвосте у развития"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54" name="Group 7"/>
          <p:cNvGrpSpPr/>
          <p:nvPr/>
        </p:nvGrpSpPr>
        <p:grpSpPr>
          <a:xfrm>
            <a:off x="380880" y="2801880"/>
            <a:ext cx="8153640" cy="4056120"/>
            <a:chOff x="380880" y="2801880"/>
            <a:chExt cx="8153640" cy="4056120"/>
          </a:xfrm>
        </p:grpSpPr>
        <p:pic>
          <p:nvPicPr>
            <p:cNvPr id="255" name="Picture 8" descr="C:\Program Files\Microsoft Office\Clipart\standard\stddir1\bd07223_.wmf"/>
            <p:cNvPicPr/>
            <p:nvPr/>
          </p:nvPicPr>
          <p:blipFill>
            <a:blip r:embed="rId1"/>
            <a:stretch/>
          </p:blipFill>
          <p:spPr>
            <a:xfrm>
              <a:off x="7238880" y="2801880"/>
              <a:ext cx="1295640" cy="122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3428640" y="5516640"/>
              <a:ext cx="2725560" cy="1341360"/>
              <a:chOff x="3428640" y="5516640"/>
              <a:chExt cx="2725560" cy="1341360"/>
            </a:xfrm>
          </p:grpSpPr>
          <p:sp>
            <p:nvSpPr>
              <p:cNvPr id="257" name="Freeform 10"/>
              <p:cNvSpPr/>
              <p:nvPr/>
            </p:nvSpPr>
            <p:spPr>
              <a:xfrm flipH="1">
                <a:off x="3624840" y="6554520"/>
                <a:ext cx="128520" cy="4464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8" name="Freeform 11"/>
              <p:cNvSpPr/>
              <p:nvPr/>
            </p:nvSpPr>
            <p:spPr>
              <a:xfrm flipH="1">
                <a:off x="4820400" y="6664320"/>
                <a:ext cx="144360" cy="18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 flipH="1">
                <a:off x="4709160" y="6662520"/>
                <a:ext cx="195480" cy="19368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0" name="Freeform 13"/>
              <p:cNvSpPr/>
              <p:nvPr/>
            </p:nvSpPr>
            <p:spPr>
              <a:xfrm flipH="1">
                <a:off x="4711320" y="6659640"/>
                <a:ext cx="149040" cy="176040"/>
              </a:xfrm>
              <a:prstGeom prst="pie">
                <a:avLst/>
              </a:pr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1" name="Freeform 14"/>
              <p:cNvSpPr/>
              <p:nvPr/>
            </p:nvSpPr>
            <p:spPr>
              <a:xfrm flipH="1">
                <a:off x="3623760" y="6365880"/>
                <a:ext cx="520560" cy="193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2" name="Freeform 15"/>
              <p:cNvSpPr/>
              <p:nvPr/>
            </p:nvSpPr>
            <p:spPr>
              <a:xfrm flipH="1">
                <a:off x="4104720" y="6456240"/>
                <a:ext cx="501840" cy="73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3" name="Freeform 16"/>
              <p:cNvSpPr/>
              <p:nvPr/>
            </p:nvSpPr>
            <p:spPr>
              <a:xfrm flipH="1">
                <a:off x="4517640" y="6307200"/>
                <a:ext cx="1636560" cy="458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4" name="Freeform 17"/>
              <p:cNvSpPr/>
              <p:nvPr/>
            </p:nvSpPr>
            <p:spPr>
              <a:xfrm flipH="1">
                <a:off x="5525640" y="6511680"/>
                <a:ext cx="257040" cy="23184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5" name="Freeform 18"/>
              <p:cNvSpPr/>
              <p:nvPr/>
            </p:nvSpPr>
            <p:spPr>
              <a:xfrm flipH="1">
                <a:off x="5523480" y="6526080"/>
                <a:ext cx="257400" cy="228600"/>
              </a:xfrm>
              <a:prstGeom prst="pie">
                <a:avLst/>
              </a:prstGeom>
              <a:solidFill>
                <a:srgbClr val="824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6" name="Freeform 19"/>
              <p:cNvSpPr/>
              <p:nvPr/>
            </p:nvSpPr>
            <p:spPr>
              <a:xfrm flipH="1">
                <a:off x="4439520" y="6342120"/>
                <a:ext cx="1105200" cy="357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7" name="Freeform 20"/>
              <p:cNvSpPr/>
              <p:nvPr/>
            </p:nvSpPr>
            <p:spPr>
              <a:xfrm flipH="1">
                <a:off x="4747320" y="6318000"/>
                <a:ext cx="741240" cy="22716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8" name="Freeform 21"/>
              <p:cNvSpPr/>
              <p:nvPr/>
            </p:nvSpPr>
            <p:spPr>
              <a:xfrm flipH="1">
                <a:off x="4566600" y="5859360"/>
                <a:ext cx="527040" cy="595440"/>
              </a:xfrm>
              <a:prstGeom prst="pie">
                <a:avLst/>
              </a:prstGeom>
              <a:solidFill>
                <a:srgbClr val="b0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9" name="Freeform 22"/>
              <p:cNvSpPr/>
              <p:nvPr/>
            </p:nvSpPr>
            <p:spPr>
              <a:xfrm flipH="1">
                <a:off x="4703040" y="5870520"/>
                <a:ext cx="379080" cy="55872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0" name="Freeform 23"/>
              <p:cNvSpPr/>
              <p:nvPr/>
            </p:nvSpPr>
            <p:spPr>
              <a:xfrm flipH="1">
                <a:off x="4709160" y="5940360"/>
                <a:ext cx="322200" cy="2970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1" name="Freeform 24"/>
              <p:cNvSpPr/>
              <p:nvPr/>
            </p:nvSpPr>
            <p:spPr>
              <a:xfrm flipH="1">
                <a:off x="4496400" y="6208560"/>
                <a:ext cx="104760" cy="1969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 flipH="1">
                <a:off x="4996440" y="6178320"/>
                <a:ext cx="515880" cy="3160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3" name="Freeform 26"/>
              <p:cNvSpPr/>
              <p:nvPr/>
            </p:nvSpPr>
            <p:spPr>
              <a:xfrm flipH="1">
                <a:off x="4601520" y="5521320"/>
                <a:ext cx="671760" cy="50796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4" name="Freeform 27"/>
              <p:cNvSpPr/>
              <p:nvPr/>
            </p:nvSpPr>
            <p:spPr>
              <a:xfrm flipH="1">
                <a:off x="4582080" y="5962680"/>
                <a:ext cx="141480" cy="447480"/>
              </a:xfrm>
              <a:prstGeom prst="pie">
                <a:avLst/>
              </a:pr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5" name="Freeform 28"/>
              <p:cNvSpPr/>
              <p:nvPr/>
            </p:nvSpPr>
            <p:spPr>
              <a:xfrm flipH="1">
                <a:off x="4664880" y="5743440"/>
                <a:ext cx="74520" cy="10656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6" name="Freeform 29"/>
              <p:cNvSpPr/>
              <p:nvPr/>
            </p:nvSpPr>
            <p:spPr>
              <a:xfrm flipH="1">
                <a:off x="5015520" y="5645160"/>
                <a:ext cx="34920" cy="2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7" name="Freeform 30"/>
              <p:cNvSpPr/>
              <p:nvPr/>
            </p:nvSpPr>
            <p:spPr>
              <a:xfrm flipH="1">
                <a:off x="5068080" y="5886360"/>
                <a:ext cx="73080" cy="11592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8" name="Freeform 31"/>
              <p:cNvSpPr/>
              <p:nvPr/>
            </p:nvSpPr>
            <p:spPr>
              <a:xfrm flipH="1">
                <a:off x="4824000" y="5519520"/>
                <a:ext cx="95040" cy="954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9" name="Freeform 32"/>
              <p:cNvSpPr/>
              <p:nvPr/>
            </p:nvSpPr>
            <p:spPr>
              <a:xfrm flipH="1">
                <a:off x="4874760" y="5667120"/>
                <a:ext cx="139680" cy="13680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0" name="Freeform 33"/>
              <p:cNvSpPr/>
              <p:nvPr/>
            </p:nvSpPr>
            <p:spPr>
              <a:xfrm flipH="1">
                <a:off x="5076360" y="5560920"/>
                <a:ext cx="102960" cy="13032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1" name="Freeform 34"/>
              <p:cNvSpPr/>
              <p:nvPr/>
            </p:nvSpPr>
            <p:spPr>
              <a:xfrm flipH="1">
                <a:off x="5119200" y="6094440"/>
                <a:ext cx="93600" cy="16164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2" name="Freeform 35"/>
              <p:cNvSpPr/>
              <p:nvPr/>
            </p:nvSpPr>
            <p:spPr>
              <a:xfrm flipH="1">
                <a:off x="5084280" y="5603760"/>
                <a:ext cx="102960" cy="9828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3" name="Freeform 36"/>
              <p:cNvSpPr/>
              <p:nvPr/>
            </p:nvSpPr>
            <p:spPr>
              <a:xfrm flipH="1">
                <a:off x="5200200" y="6043680"/>
                <a:ext cx="162000" cy="21096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4" name="Freeform 37"/>
              <p:cNvSpPr/>
              <p:nvPr/>
            </p:nvSpPr>
            <p:spPr>
              <a:xfrm flipH="1">
                <a:off x="4947480" y="5607000"/>
                <a:ext cx="37800" cy="3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5" name="Freeform 38"/>
              <p:cNvSpPr/>
              <p:nvPr/>
            </p:nvSpPr>
            <p:spPr>
              <a:xfrm flipH="1">
                <a:off x="5117040" y="5978520"/>
                <a:ext cx="225720" cy="1634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6" name="Freeform 39"/>
              <p:cNvSpPr/>
              <p:nvPr/>
            </p:nvSpPr>
            <p:spPr>
              <a:xfrm flipH="1">
                <a:off x="5598360" y="6445080"/>
                <a:ext cx="37800" cy="30240"/>
              </a:xfrm>
              <a:prstGeom prst="pie">
                <a:avLst/>
              </a:pr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7" name="Freeform 40"/>
              <p:cNvSpPr/>
              <p:nvPr/>
            </p:nvSpPr>
            <p:spPr>
              <a:xfrm flipH="1">
                <a:off x="5074560" y="6065640"/>
                <a:ext cx="557280" cy="45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 flipH="1">
                <a:off x="5356800" y="6056280"/>
                <a:ext cx="196920" cy="2077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9" name="Freeform 42"/>
              <p:cNvSpPr/>
              <p:nvPr/>
            </p:nvSpPr>
            <p:spPr>
              <a:xfrm flipH="1">
                <a:off x="5412960" y="5780160"/>
                <a:ext cx="139680" cy="330120"/>
              </a:xfrm>
              <a:prstGeom prst="pie">
                <a:avLst/>
              </a:pr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0" name="Freeform 43"/>
              <p:cNvSpPr/>
              <p:nvPr/>
            </p:nvSpPr>
            <p:spPr>
              <a:xfrm flipH="1">
                <a:off x="5307840" y="5686200"/>
                <a:ext cx="58680" cy="50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1" name="Freeform 44"/>
              <p:cNvSpPr/>
              <p:nvPr/>
            </p:nvSpPr>
            <p:spPr>
              <a:xfrm flipH="1">
                <a:off x="5576400" y="6060960"/>
                <a:ext cx="79200" cy="204840"/>
              </a:xfrm>
              <a:prstGeom prst="pie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2" name="Freeform 45"/>
              <p:cNvSpPr/>
              <p:nvPr/>
            </p:nvSpPr>
            <p:spPr>
              <a:xfrm flipH="1">
                <a:off x="5616000" y="6189480"/>
                <a:ext cx="108000" cy="1065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3" name="Freeform 46"/>
              <p:cNvSpPr/>
              <p:nvPr/>
            </p:nvSpPr>
            <p:spPr>
              <a:xfrm flipH="1">
                <a:off x="5585400" y="6053040"/>
                <a:ext cx="163800" cy="139680"/>
              </a:xfrm>
              <a:prstGeom prst="pie">
                <a:avLst/>
              </a:prstGeom>
              <a:solidFill>
                <a:srgbClr val="ff0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4" name="Freeform 47"/>
              <p:cNvSpPr/>
              <p:nvPr/>
            </p:nvSpPr>
            <p:spPr>
              <a:xfrm flipH="1">
                <a:off x="5681160" y="5930640"/>
                <a:ext cx="71280" cy="1620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5" name="Freeform 48"/>
              <p:cNvSpPr/>
              <p:nvPr/>
            </p:nvSpPr>
            <p:spPr>
              <a:xfrm flipH="1">
                <a:off x="5735160" y="5943600"/>
                <a:ext cx="102960" cy="141120"/>
              </a:xfrm>
              <a:prstGeom prst="pie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6" name="Freeform 49"/>
              <p:cNvSpPr/>
              <p:nvPr/>
            </p:nvSpPr>
            <p:spPr>
              <a:xfrm flipH="1">
                <a:off x="5679360" y="5898960"/>
                <a:ext cx="122400" cy="7776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7" name="Freeform 50"/>
              <p:cNvSpPr/>
              <p:nvPr/>
            </p:nvSpPr>
            <p:spPr>
              <a:xfrm flipH="1">
                <a:off x="3434400" y="6234120"/>
                <a:ext cx="96840" cy="619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8" name="Freeform 51"/>
              <p:cNvSpPr/>
              <p:nvPr/>
            </p:nvSpPr>
            <p:spPr>
              <a:xfrm flipH="1">
                <a:off x="3891600" y="6170400"/>
                <a:ext cx="65160" cy="5076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9" name="Freeform 52"/>
              <p:cNvSpPr/>
              <p:nvPr/>
            </p:nvSpPr>
            <p:spPr>
              <a:xfrm flipH="1">
                <a:off x="3456720" y="6065640"/>
                <a:ext cx="476280" cy="48276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0" name="Freeform 53"/>
              <p:cNvSpPr/>
              <p:nvPr/>
            </p:nvSpPr>
            <p:spPr>
              <a:xfrm flipH="1">
                <a:off x="3584160" y="5835600"/>
                <a:ext cx="247680" cy="39204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1" name="Freeform 54"/>
              <p:cNvSpPr/>
              <p:nvPr/>
            </p:nvSpPr>
            <p:spPr>
              <a:xfrm flipH="1">
                <a:off x="3617280" y="5833800"/>
                <a:ext cx="209520" cy="393840"/>
              </a:xfrm>
              <a:prstGeom prst="pie">
                <a:avLst/>
              </a:pr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2" name="Freeform 55"/>
              <p:cNvSpPr/>
              <p:nvPr/>
            </p:nvSpPr>
            <p:spPr>
              <a:xfrm flipH="1">
                <a:off x="5316120" y="5683320"/>
                <a:ext cx="63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3" name="Freeform 56"/>
              <p:cNvSpPr/>
              <p:nvPr/>
            </p:nvSpPr>
            <p:spPr>
              <a:xfrm flipH="1">
                <a:off x="3682080" y="5788080"/>
                <a:ext cx="227160" cy="249120"/>
              </a:xfrm>
              <a:prstGeom prst="pie">
                <a:avLst/>
              </a:prstGeom>
              <a:solidFill>
                <a:srgbClr val="f0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4" name="Freeform 57"/>
              <p:cNvSpPr/>
              <p:nvPr/>
            </p:nvSpPr>
            <p:spPr>
              <a:xfrm flipH="1">
                <a:off x="5323680" y="5603760"/>
                <a:ext cx="3636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5" name="Freeform 58"/>
              <p:cNvSpPr/>
              <p:nvPr/>
            </p:nvSpPr>
            <p:spPr>
              <a:xfrm flipH="1">
                <a:off x="5244120" y="5627520"/>
                <a:ext cx="5724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6" name="Freeform 59"/>
              <p:cNvSpPr/>
              <p:nvPr/>
            </p:nvSpPr>
            <p:spPr>
              <a:xfrm flipH="1">
                <a:off x="5368320" y="562428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7" name="Freeform 60"/>
              <p:cNvSpPr/>
              <p:nvPr/>
            </p:nvSpPr>
            <p:spPr>
              <a:xfrm flipH="1">
                <a:off x="3511080" y="6535800"/>
                <a:ext cx="110880" cy="37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8" name="Freeform 61"/>
              <p:cNvSpPr/>
              <p:nvPr/>
            </p:nvSpPr>
            <p:spPr>
              <a:xfrm flipH="1">
                <a:off x="3537720" y="6146640"/>
                <a:ext cx="376200" cy="399960"/>
              </a:xfrm>
              <a:prstGeom prst="pie">
                <a:avLst/>
              </a:pr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9" name="Freeform 62"/>
              <p:cNvSpPr/>
              <p:nvPr/>
            </p:nvSpPr>
            <p:spPr>
              <a:xfrm flipH="1">
                <a:off x="3665160" y="5906880"/>
                <a:ext cx="7920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0" name="Freeform 63"/>
              <p:cNvSpPr/>
              <p:nvPr/>
            </p:nvSpPr>
            <p:spPr>
              <a:xfrm flipH="1">
                <a:off x="5390640" y="5689440"/>
                <a:ext cx="712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1" name="Freeform 64"/>
              <p:cNvSpPr/>
              <p:nvPr/>
            </p:nvSpPr>
            <p:spPr>
              <a:xfrm flipH="1">
                <a:off x="5223600" y="5680080"/>
                <a:ext cx="65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2" name="Freeform 65"/>
              <p:cNvSpPr/>
              <p:nvPr/>
            </p:nvSpPr>
            <p:spPr>
              <a:xfrm flipH="1">
                <a:off x="5244120" y="5726160"/>
                <a:ext cx="428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3" name="Freeform 66"/>
              <p:cNvSpPr/>
              <p:nvPr/>
            </p:nvSpPr>
            <p:spPr>
              <a:xfrm flipH="1">
                <a:off x="3702960" y="5792760"/>
                <a:ext cx="208080" cy="2426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4" name="Freeform 67"/>
              <p:cNvSpPr/>
              <p:nvPr/>
            </p:nvSpPr>
            <p:spPr>
              <a:xfrm flipH="1">
                <a:off x="5292360" y="5754600"/>
                <a:ext cx="31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5" name="Freeform 68"/>
              <p:cNvSpPr/>
              <p:nvPr/>
            </p:nvSpPr>
            <p:spPr>
              <a:xfrm flipH="1">
                <a:off x="5355360" y="5763960"/>
                <a:ext cx="349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6" name="Freeform 69"/>
              <p:cNvSpPr/>
              <p:nvPr/>
            </p:nvSpPr>
            <p:spPr>
              <a:xfrm flipH="1">
                <a:off x="5376240" y="5742000"/>
                <a:ext cx="200160" cy="52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7" name="Freeform 70"/>
              <p:cNvSpPr/>
              <p:nvPr/>
            </p:nvSpPr>
            <p:spPr>
              <a:xfrm flipH="1">
                <a:off x="5460480" y="6116400"/>
                <a:ext cx="3960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8" name="Freeform 71"/>
              <p:cNvSpPr/>
              <p:nvPr/>
            </p:nvSpPr>
            <p:spPr>
              <a:xfrm flipH="1">
                <a:off x="5460120" y="6267240"/>
                <a:ext cx="17604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9" name="Freeform 72"/>
              <p:cNvSpPr/>
              <p:nvPr/>
            </p:nvSpPr>
            <p:spPr>
              <a:xfrm flipH="1">
                <a:off x="5598360" y="6449760"/>
                <a:ext cx="378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0" name="Freeform 73"/>
              <p:cNvSpPr/>
              <p:nvPr/>
            </p:nvSpPr>
            <p:spPr>
              <a:xfrm flipH="1">
                <a:off x="5227200" y="6060960"/>
                <a:ext cx="109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1" name="Freeform 74"/>
              <p:cNvSpPr/>
              <p:nvPr/>
            </p:nvSpPr>
            <p:spPr>
              <a:xfrm flipH="1">
                <a:off x="5255280" y="6397560"/>
                <a:ext cx="21132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2" name="Freeform 75"/>
              <p:cNvSpPr/>
              <p:nvPr/>
            </p:nvSpPr>
            <p:spPr>
              <a:xfrm flipH="1">
                <a:off x="5322240" y="6234120"/>
                <a:ext cx="13968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3" name="Freeform 76"/>
              <p:cNvSpPr/>
              <p:nvPr/>
            </p:nvSpPr>
            <p:spPr>
              <a:xfrm flipH="1">
                <a:off x="5316120" y="6267240"/>
                <a:ext cx="11088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4" name="Freeform 77"/>
              <p:cNvSpPr/>
              <p:nvPr/>
            </p:nvSpPr>
            <p:spPr>
              <a:xfrm flipH="1">
                <a:off x="5152320" y="6286320"/>
                <a:ext cx="17784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5" name="Freeform 78"/>
              <p:cNvSpPr/>
              <p:nvPr/>
            </p:nvSpPr>
            <p:spPr>
              <a:xfrm flipH="1">
                <a:off x="4965120" y="5583240"/>
                <a:ext cx="13968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6" name="Freeform 79"/>
              <p:cNvSpPr/>
              <p:nvPr/>
            </p:nvSpPr>
            <p:spPr>
              <a:xfrm flipH="1">
                <a:off x="5093280" y="5586480"/>
                <a:ext cx="8748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7" name="Freeform 80"/>
              <p:cNvSpPr/>
              <p:nvPr/>
            </p:nvSpPr>
            <p:spPr>
              <a:xfrm flipH="1">
                <a:off x="5072760" y="5551560"/>
                <a:ext cx="9540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8" name="Freeform 81"/>
              <p:cNvSpPr/>
              <p:nvPr/>
            </p:nvSpPr>
            <p:spPr>
              <a:xfrm flipH="1">
                <a:off x="4843080" y="5516640"/>
                <a:ext cx="11880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9" name="Freeform 82"/>
              <p:cNvSpPr/>
              <p:nvPr/>
            </p:nvSpPr>
            <p:spPr>
              <a:xfrm flipH="1">
                <a:off x="4887000" y="5545080"/>
                <a:ext cx="363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0" name="Freeform 83"/>
              <p:cNvSpPr/>
              <p:nvPr/>
            </p:nvSpPr>
            <p:spPr>
              <a:xfrm flipH="1">
                <a:off x="5676120" y="5897520"/>
                <a:ext cx="12852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1" name="Freeform 84"/>
              <p:cNvSpPr/>
              <p:nvPr/>
            </p:nvSpPr>
            <p:spPr>
              <a:xfrm flipH="1">
                <a:off x="5749560" y="5943600"/>
                <a:ext cx="9360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2" name="Freeform 85"/>
              <p:cNvSpPr/>
              <p:nvPr/>
            </p:nvSpPr>
            <p:spPr>
              <a:xfrm flipH="1">
                <a:off x="5569560" y="5924520"/>
                <a:ext cx="117720" cy="35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3" name="Freeform 86"/>
              <p:cNvSpPr/>
              <p:nvPr/>
            </p:nvSpPr>
            <p:spPr>
              <a:xfrm flipH="1">
                <a:off x="5579280" y="6049800"/>
                <a:ext cx="176040" cy="15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4" name="Freeform 87"/>
              <p:cNvSpPr/>
              <p:nvPr/>
            </p:nvSpPr>
            <p:spPr>
              <a:xfrm flipH="1">
                <a:off x="5612760" y="6184800"/>
                <a:ext cx="11448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5" name="Freeform 88"/>
              <p:cNvSpPr/>
              <p:nvPr/>
            </p:nvSpPr>
            <p:spPr>
              <a:xfrm flipH="1">
                <a:off x="5109480" y="5970600"/>
                <a:ext cx="239760" cy="18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6" name="Freeform 89"/>
              <p:cNvSpPr/>
              <p:nvPr/>
            </p:nvSpPr>
            <p:spPr>
              <a:xfrm flipH="1">
                <a:off x="5115960" y="6097320"/>
                <a:ext cx="17784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7" name="Freeform 90"/>
              <p:cNvSpPr/>
              <p:nvPr/>
            </p:nvSpPr>
            <p:spPr>
              <a:xfrm flipH="1">
                <a:off x="5014440" y="5641920"/>
                <a:ext cx="316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8" name="Freeform 91"/>
              <p:cNvSpPr/>
              <p:nvPr/>
            </p:nvSpPr>
            <p:spPr>
              <a:xfrm flipH="1">
                <a:off x="4947480" y="5603760"/>
                <a:ext cx="2844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9" name="Freeform 92"/>
              <p:cNvSpPr/>
              <p:nvPr/>
            </p:nvSpPr>
            <p:spPr>
              <a:xfrm flipH="1">
                <a:off x="4861800" y="5611680"/>
                <a:ext cx="18432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0" name="Freeform 93"/>
              <p:cNvSpPr/>
              <p:nvPr/>
            </p:nvSpPr>
            <p:spPr>
              <a:xfrm flipH="1">
                <a:off x="4933080" y="5691240"/>
                <a:ext cx="363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1" name="Freeform 94"/>
              <p:cNvSpPr/>
              <p:nvPr/>
            </p:nvSpPr>
            <p:spPr>
              <a:xfrm flipH="1">
                <a:off x="4902840" y="5718240"/>
                <a:ext cx="954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2" name="Freeform 95"/>
              <p:cNvSpPr/>
              <p:nvPr/>
            </p:nvSpPr>
            <p:spPr>
              <a:xfrm flipH="1">
                <a:off x="5079240" y="5748120"/>
                <a:ext cx="199800" cy="14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3" name="Freeform 96"/>
              <p:cNvSpPr/>
              <p:nvPr/>
            </p:nvSpPr>
            <p:spPr>
              <a:xfrm flipH="1">
                <a:off x="5214240" y="5854680"/>
                <a:ext cx="288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4" name="Freeform 97"/>
              <p:cNvSpPr/>
              <p:nvPr/>
            </p:nvSpPr>
            <p:spPr>
              <a:xfrm flipH="1">
                <a:off x="5174640" y="5864040"/>
                <a:ext cx="3960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5" name="Freeform 98"/>
              <p:cNvSpPr/>
              <p:nvPr/>
            </p:nvSpPr>
            <p:spPr>
              <a:xfrm flipH="1">
                <a:off x="5144040" y="5859360"/>
                <a:ext cx="3492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6" name="Freeform 99"/>
              <p:cNvSpPr/>
              <p:nvPr/>
            </p:nvSpPr>
            <p:spPr>
              <a:xfrm flipH="1">
                <a:off x="5095440" y="5825880"/>
                <a:ext cx="5544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7" name="Freeform 100"/>
              <p:cNvSpPr/>
              <p:nvPr/>
            </p:nvSpPr>
            <p:spPr>
              <a:xfrm flipH="1">
                <a:off x="5154120" y="58467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8" name="Freeform 101"/>
              <p:cNvSpPr/>
              <p:nvPr/>
            </p:nvSpPr>
            <p:spPr>
              <a:xfrm flipH="1">
                <a:off x="5044680" y="5798880"/>
                <a:ext cx="554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9" name="Freeform 102"/>
              <p:cNvSpPr/>
              <p:nvPr/>
            </p:nvSpPr>
            <p:spPr>
              <a:xfrm flipH="1">
                <a:off x="5046120" y="5867280"/>
                <a:ext cx="11448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0" name="Freeform 103"/>
              <p:cNvSpPr/>
              <p:nvPr/>
            </p:nvSpPr>
            <p:spPr>
              <a:xfrm flipH="1">
                <a:off x="4720320" y="5600520"/>
                <a:ext cx="1364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1" name="Freeform 104"/>
              <p:cNvSpPr/>
              <p:nvPr/>
            </p:nvSpPr>
            <p:spPr>
              <a:xfrm flipH="1">
                <a:off x="4703040" y="5627520"/>
                <a:ext cx="4572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2" name="Freeform 105"/>
              <p:cNvSpPr/>
              <p:nvPr/>
            </p:nvSpPr>
            <p:spPr>
              <a:xfrm flipH="1">
                <a:off x="4703040" y="5651280"/>
                <a:ext cx="349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3" name="Freeform 106"/>
              <p:cNvSpPr/>
              <p:nvPr/>
            </p:nvSpPr>
            <p:spPr>
              <a:xfrm flipH="1">
                <a:off x="4735080" y="5678280"/>
                <a:ext cx="6192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4" name="Freeform 107"/>
              <p:cNvSpPr/>
              <p:nvPr/>
            </p:nvSpPr>
            <p:spPr>
              <a:xfrm flipH="1">
                <a:off x="4671360" y="5672160"/>
                <a:ext cx="446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5" name="Freeform 108"/>
              <p:cNvSpPr/>
              <p:nvPr/>
            </p:nvSpPr>
            <p:spPr>
              <a:xfrm flipH="1">
                <a:off x="4635000" y="5686200"/>
                <a:ext cx="5400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6" name="Freeform 109"/>
              <p:cNvSpPr/>
              <p:nvPr/>
            </p:nvSpPr>
            <p:spPr>
              <a:xfrm flipH="1">
                <a:off x="4620600" y="5702040"/>
                <a:ext cx="3168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7" name="Freeform 110"/>
              <p:cNvSpPr/>
              <p:nvPr/>
            </p:nvSpPr>
            <p:spPr>
              <a:xfrm flipH="1">
                <a:off x="4600080" y="5722920"/>
                <a:ext cx="460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8" name="Freeform 111"/>
              <p:cNvSpPr/>
              <p:nvPr/>
            </p:nvSpPr>
            <p:spPr>
              <a:xfrm flipH="1">
                <a:off x="4717440" y="5732280"/>
                <a:ext cx="3960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9" name="Freeform 112"/>
              <p:cNvSpPr/>
              <p:nvPr/>
            </p:nvSpPr>
            <p:spPr>
              <a:xfrm flipH="1">
                <a:off x="4745880" y="5753160"/>
                <a:ext cx="2988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0" name="Freeform 113"/>
              <p:cNvSpPr/>
              <p:nvPr/>
            </p:nvSpPr>
            <p:spPr>
              <a:xfrm flipH="1">
                <a:off x="4650840" y="5761080"/>
                <a:ext cx="13824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1" name="Freeform 114"/>
              <p:cNvSpPr/>
              <p:nvPr/>
            </p:nvSpPr>
            <p:spPr>
              <a:xfrm flipH="1">
                <a:off x="4553640" y="5854680"/>
                <a:ext cx="501480" cy="55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2" name="Freeform 115"/>
              <p:cNvSpPr/>
              <p:nvPr/>
            </p:nvSpPr>
            <p:spPr>
              <a:xfrm flipH="1">
                <a:off x="4692240" y="5919840"/>
                <a:ext cx="349200" cy="29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3" name="Freeform 116"/>
              <p:cNvSpPr/>
              <p:nvPr/>
            </p:nvSpPr>
            <p:spPr>
              <a:xfrm flipH="1">
                <a:off x="4712400" y="6219720"/>
                <a:ext cx="26676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4" name="Freeform 117"/>
              <p:cNvSpPr/>
              <p:nvPr/>
            </p:nvSpPr>
            <p:spPr>
              <a:xfrm flipH="1">
                <a:off x="4677840" y="5941800"/>
                <a:ext cx="54000" cy="28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5" name="Freeform 118"/>
              <p:cNvSpPr/>
              <p:nvPr/>
            </p:nvSpPr>
            <p:spPr>
              <a:xfrm flipH="1">
                <a:off x="4026960" y="6288120"/>
                <a:ext cx="41112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flipH="1">
                <a:off x="4439160" y="6211800"/>
                <a:ext cx="1073160" cy="34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7" name="Freeform 120"/>
              <p:cNvSpPr/>
              <p:nvPr/>
            </p:nvSpPr>
            <p:spPr>
              <a:xfrm flipH="1">
                <a:off x="4737960" y="6014880"/>
                <a:ext cx="339480" cy="43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8" name="Freeform 121"/>
              <p:cNvSpPr/>
              <p:nvPr/>
            </p:nvSpPr>
            <p:spPr>
              <a:xfrm flipH="1">
                <a:off x="4779000" y="6323040"/>
                <a:ext cx="16524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69" name="Freeform 122"/>
              <p:cNvSpPr/>
              <p:nvPr/>
            </p:nvSpPr>
            <p:spPr>
              <a:xfrm flipH="1">
                <a:off x="4887360" y="6286320"/>
                <a:ext cx="3168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0" name="Freeform 123"/>
              <p:cNvSpPr/>
              <p:nvPr/>
            </p:nvSpPr>
            <p:spPr>
              <a:xfrm flipH="1">
                <a:off x="4446000" y="6387840"/>
                <a:ext cx="1092240" cy="33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1" name="Freeform 124"/>
              <p:cNvSpPr/>
              <p:nvPr/>
            </p:nvSpPr>
            <p:spPr>
              <a:xfrm flipH="1">
                <a:off x="5112720" y="6357960"/>
                <a:ext cx="163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2" name="Freeform 125"/>
              <p:cNvSpPr/>
              <p:nvPr/>
            </p:nvSpPr>
            <p:spPr>
              <a:xfrm flipH="1">
                <a:off x="5064840" y="6186240"/>
                <a:ext cx="66600" cy="19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3" name="Freeform 126"/>
              <p:cNvSpPr/>
              <p:nvPr/>
            </p:nvSpPr>
            <p:spPr>
              <a:xfrm flipH="1">
                <a:off x="3678840" y="5784840"/>
                <a:ext cx="235080" cy="25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4" name="Freeform 127"/>
              <p:cNvSpPr/>
              <p:nvPr/>
            </p:nvSpPr>
            <p:spPr>
              <a:xfrm flipH="1">
                <a:off x="3679200" y="6014880"/>
                <a:ext cx="14472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5" name="Freeform 128"/>
              <p:cNvSpPr/>
              <p:nvPr/>
            </p:nvSpPr>
            <p:spPr>
              <a:xfrm flipH="1">
                <a:off x="3659760" y="5900760"/>
                <a:ext cx="810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6" name="Freeform 129"/>
              <p:cNvSpPr/>
              <p:nvPr/>
            </p:nvSpPr>
            <p:spPr>
              <a:xfrm flipH="1">
                <a:off x="3685320" y="59119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7" name="Freeform 130"/>
              <p:cNvSpPr/>
              <p:nvPr/>
            </p:nvSpPr>
            <p:spPr>
              <a:xfrm flipH="1">
                <a:off x="3572640" y="5844960"/>
                <a:ext cx="10620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8" name="Freeform 131"/>
              <p:cNvSpPr/>
              <p:nvPr/>
            </p:nvSpPr>
            <p:spPr>
              <a:xfrm flipH="1">
                <a:off x="3656880" y="6072120"/>
                <a:ext cx="7452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9" name="Freeform 132"/>
              <p:cNvSpPr/>
              <p:nvPr/>
            </p:nvSpPr>
            <p:spPr>
              <a:xfrm flipH="1">
                <a:off x="3758760" y="6070680"/>
                <a:ext cx="18576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0" name="Freeform 133"/>
              <p:cNvSpPr/>
              <p:nvPr/>
            </p:nvSpPr>
            <p:spPr>
              <a:xfrm flipH="1">
                <a:off x="3753360" y="6175440"/>
                <a:ext cx="1321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1" name="Freeform 134"/>
              <p:cNvSpPr/>
              <p:nvPr/>
            </p:nvSpPr>
            <p:spPr>
              <a:xfrm flipH="1">
                <a:off x="3898440" y="6178320"/>
                <a:ext cx="6984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2" name="Freeform 135"/>
              <p:cNvSpPr/>
              <p:nvPr/>
            </p:nvSpPr>
            <p:spPr>
              <a:xfrm flipH="1">
                <a:off x="3739320" y="6199200"/>
                <a:ext cx="3636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3" name="Freeform 136"/>
              <p:cNvSpPr/>
              <p:nvPr/>
            </p:nvSpPr>
            <p:spPr>
              <a:xfrm flipH="1">
                <a:off x="3601080" y="6265800"/>
                <a:ext cx="19044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4" name="Freeform 137"/>
              <p:cNvSpPr/>
              <p:nvPr/>
            </p:nvSpPr>
            <p:spPr>
              <a:xfrm flipH="1">
                <a:off x="3562920" y="6354720"/>
                <a:ext cx="10332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5" name="Freeform 138"/>
              <p:cNvSpPr/>
              <p:nvPr/>
            </p:nvSpPr>
            <p:spPr>
              <a:xfrm flipH="1">
                <a:off x="3488400" y="6302160"/>
                <a:ext cx="127080" cy="19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6" name="Freeform 139"/>
              <p:cNvSpPr/>
              <p:nvPr/>
            </p:nvSpPr>
            <p:spPr>
              <a:xfrm flipH="1">
                <a:off x="3543840" y="6473880"/>
                <a:ext cx="478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7" name="Freeform 140"/>
              <p:cNvSpPr/>
              <p:nvPr/>
            </p:nvSpPr>
            <p:spPr>
              <a:xfrm flipH="1">
                <a:off x="3438000" y="6073560"/>
                <a:ext cx="14760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8" name="Freeform 141"/>
              <p:cNvSpPr/>
              <p:nvPr/>
            </p:nvSpPr>
            <p:spPr>
              <a:xfrm flipH="1">
                <a:off x="3428280" y="6246720"/>
                <a:ext cx="9828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9" name="Freeform 142"/>
              <p:cNvSpPr/>
              <p:nvPr/>
            </p:nvSpPr>
            <p:spPr>
              <a:xfrm flipH="1">
                <a:off x="3911040" y="6216480"/>
                <a:ext cx="11736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0" name="Freeform 143"/>
              <p:cNvSpPr/>
              <p:nvPr/>
            </p:nvSpPr>
            <p:spPr>
              <a:xfrm flipH="1">
                <a:off x="5348880" y="6053040"/>
                <a:ext cx="9540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1" name="Freeform 144"/>
              <p:cNvSpPr/>
              <p:nvPr/>
            </p:nvSpPr>
            <p:spPr>
              <a:xfrm flipH="1">
                <a:off x="5049360" y="6591240"/>
                <a:ext cx="146160" cy="15552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2" name="Freeform 145"/>
              <p:cNvSpPr/>
              <p:nvPr/>
            </p:nvSpPr>
            <p:spPr>
              <a:xfrm flipH="1">
                <a:off x="5044680" y="6586560"/>
                <a:ext cx="172800" cy="17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3" name="Freeform 146"/>
              <p:cNvSpPr/>
              <p:nvPr/>
            </p:nvSpPr>
            <p:spPr>
              <a:xfrm flipH="1">
                <a:off x="5079600" y="6626160"/>
                <a:ext cx="568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4" name="Freeform 147"/>
              <p:cNvSpPr/>
              <p:nvPr/>
            </p:nvSpPr>
            <p:spPr>
              <a:xfrm flipH="1">
                <a:off x="4501440" y="6476760"/>
                <a:ext cx="130320" cy="13824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5" name="Freeform 148"/>
              <p:cNvSpPr/>
              <p:nvPr/>
            </p:nvSpPr>
            <p:spPr>
              <a:xfrm flipH="1">
                <a:off x="4496760" y="6473880"/>
                <a:ext cx="155520" cy="15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6" name="Freeform 149"/>
              <p:cNvSpPr/>
              <p:nvPr/>
            </p:nvSpPr>
            <p:spPr>
              <a:xfrm flipH="1">
                <a:off x="4528440" y="6508800"/>
                <a:ext cx="525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7" name="Freeform 150"/>
              <p:cNvSpPr/>
              <p:nvPr/>
            </p:nvSpPr>
            <p:spPr>
              <a:xfrm flipH="1">
                <a:off x="3613680" y="6289560"/>
                <a:ext cx="101880" cy="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8" name="Freeform 151"/>
              <p:cNvSpPr/>
              <p:nvPr/>
            </p:nvSpPr>
            <p:spPr>
              <a:xfrm flipH="1">
                <a:off x="5518800" y="6508800"/>
                <a:ext cx="27468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99" name="Freeform 152"/>
              <p:cNvSpPr/>
              <p:nvPr/>
            </p:nvSpPr>
            <p:spPr>
              <a:xfrm flipH="1">
                <a:off x="5612400" y="6541920"/>
                <a:ext cx="73080" cy="41400"/>
              </a:xfrm>
              <a:prstGeom prst="pie">
                <a:avLst/>
              </a:prstGeom>
              <a:solidFill>
                <a:srgbClr val="cc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0" name="Freeform 153"/>
              <p:cNvSpPr/>
              <p:nvPr/>
            </p:nvSpPr>
            <p:spPr>
              <a:xfrm flipH="1">
                <a:off x="4804920" y="6000480"/>
                <a:ext cx="193680" cy="2192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1" name="Freeform 154"/>
              <p:cNvSpPr/>
              <p:nvPr/>
            </p:nvSpPr>
            <p:spPr>
              <a:xfrm flipH="1">
                <a:off x="4754160" y="6699240"/>
                <a:ext cx="156960" cy="14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2" name="Freeform 155"/>
              <p:cNvSpPr/>
              <p:nvPr/>
            </p:nvSpPr>
            <p:spPr>
              <a:xfrm flipH="1">
                <a:off x="4705920" y="6694560"/>
                <a:ext cx="189000" cy="16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3" name="Freeform 156"/>
              <p:cNvSpPr/>
              <p:nvPr/>
            </p:nvSpPr>
            <p:spPr>
              <a:xfrm flipH="1">
                <a:off x="4712760" y="6656400"/>
                <a:ext cx="1396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4" name="Freeform 157"/>
              <p:cNvSpPr/>
              <p:nvPr/>
            </p:nvSpPr>
            <p:spPr>
              <a:xfrm flipH="1">
                <a:off x="4723920" y="6389640"/>
                <a:ext cx="226800" cy="27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5" name="Freeform 158"/>
              <p:cNvSpPr/>
              <p:nvPr/>
            </p:nvSpPr>
            <p:spPr>
              <a:xfrm flipH="1">
                <a:off x="3596400" y="6549840"/>
                <a:ext cx="18252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06" name="Freeform 159"/>
              <p:cNvSpPr/>
              <p:nvPr/>
            </p:nvSpPr>
            <p:spPr>
              <a:xfrm flipH="1">
                <a:off x="3498480" y="6526080"/>
                <a:ext cx="1490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pic>
          <p:nvPicPr>
            <p:cNvPr id="407" name="Picture 160" descr="C:\Program Files\Microsoft Office\Clipart\standard\stddir4\pe02647_.wmf"/>
            <p:cNvPicPr/>
            <p:nvPr/>
          </p:nvPicPr>
          <p:blipFill>
            <a:blip r:embed="rId2"/>
            <a:stretch/>
          </p:blipFill>
          <p:spPr>
            <a:xfrm>
              <a:off x="380880" y="4984920"/>
              <a:ext cx="1828800" cy="16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Text Box 163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Дата 1"/>
          <p:cNvSpPr/>
          <p:nvPr/>
        </p:nvSpPr>
        <p:spPr>
          <a:xfrm flipV="1">
            <a:off x="357120" y="6858000"/>
            <a:ext cx="1905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AutoShape 1026"/>
          <p:cNvSpPr/>
          <p:nvPr/>
        </p:nvSpPr>
        <p:spPr>
          <a:xfrm>
            <a:off x="304920" y="615960"/>
            <a:ext cx="2171520" cy="11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ставителем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торой научной шко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.Джемс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AutoShape 1027"/>
          <p:cNvSpPr/>
          <p:nvPr/>
        </p:nvSpPr>
        <p:spPr>
          <a:xfrm>
            <a:off x="2514600" y="1219320"/>
            <a:ext cx="2333520" cy="22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c3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ая позиция данной школы сводится к положению, при котором </a:t>
            </a: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любое обучение развивает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12" name="Picture 1028" descr="C:\Program Files\Microsoft Office\Clipart\smbusbas\bd07030_.wmf"/>
          <p:cNvPicPr/>
          <p:nvPr/>
        </p:nvPicPr>
        <p:blipFill>
          <a:blip r:embed="rId1"/>
          <a:stretch/>
        </p:blipFill>
        <p:spPr>
          <a:xfrm>
            <a:off x="2438280" y="4648320"/>
            <a:ext cx="2667240" cy="198576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029"/>
          <p:cNvGrpSpPr/>
          <p:nvPr/>
        </p:nvGrpSpPr>
        <p:grpSpPr>
          <a:xfrm>
            <a:off x="4952880" y="609480"/>
            <a:ext cx="3940200" cy="6248520"/>
            <a:chOff x="4952880" y="609480"/>
            <a:chExt cx="3940200" cy="6248520"/>
          </a:xfrm>
        </p:grpSpPr>
        <p:sp>
          <p:nvSpPr>
            <p:cNvPr id="414" name="AutoShape 1030"/>
            <p:cNvSpPr/>
            <p:nvPr/>
          </p:nvSpPr>
          <p:spPr>
            <a:xfrm>
              <a:off x="4952880" y="1919160"/>
              <a:ext cx="3940200" cy="286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нованием для ее выдвижения является практический опыт учителей, утверждающих, что позиция: "не знал - узнал,  не умел-научился", означает - развился. 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Любые количественные изменения в состоянии учащегося, по позиции это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школы, означают развитие.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pic>
          <p:nvPicPr>
            <p:cNvPr id="415" name="Picture 1031" descr="C:\Program Files\Microsoft Office\Clipart\standard\stddir2\en00685_.wmf"/>
            <p:cNvPicPr/>
            <p:nvPr/>
          </p:nvPicPr>
          <p:blipFill>
            <a:blip r:embed="rId2"/>
            <a:stretch/>
          </p:blipFill>
          <p:spPr>
            <a:xfrm>
              <a:off x="6029280" y="4889520"/>
              <a:ext cx="266688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032" descr="C:\Program Files\Microsoft Office\Clipart\Pub60Cor\pe00014_.wmf"/>
            <p:cNvPicPr/>
            <p:nvPr/>
          </p:nvPicPr>
          <p:blipFill>
            <a:blip r:embed="rId3"/>
            <a:stretch/>
          </p:blipFill>
          <p:spPr>
            <a:xfrm>
              <a:off x="5800680" y="609480"/>
              <a:ext cx="2133360" cy="145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Picture 1033" descr="C:\Program Files\Microsoft Office\Clipart\homeanim\ag00020_.gif"/>
          <p:cNvPicPr/>
          <p:nvPr/>
        </p:nvPicPr>
        <p:blipFill>
          <a:blip r:embed="rId4"/>
          <a:stretch/>
        </p:blipFill>
        <p:spPr>
          <a:xfrm>
            <a:off x="0" y="2438280"/>
            <a:ext cx="3200400" cy="221004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1034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AutoShape 1035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0" name="Text Box 1036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A9C8-1A2C-483B-B3E5-72A64D3DAA2B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22" name="Picture 2" descr="C:\Program Files\Microsoft Office\Clipart\homeanim\ag00052_.gif"/>
          <p:cNvPicPr/>
          <p:nvPr/>
        </p:nvPicPr>
        <p:blipFill>
          <a:blip r:embed="rId1"/>
          <a:stretch/>
        </p:blipFill>
        <p:spPr>
          <a:xfrm>
            <a:off x="6318360" y="0"/>
            <a:ext cx="1371600" cy="85716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3"/>
          <p:cNvGrpSpPr/>
          <p:nvPr/>
        </p:nvGrpSpPr>
        <p:grpSpPr>
          <a:xfrm>
            <a:off x="428760" y="0"/>
            <a:ext cx="5889600" cy="4554360"/>
            <a:chOff x="428760" y="0"/>
            <a:chExt cx="5889600" cy="4554360"/>
          </a:xfrm>
        </p:grpSpPr>
        <p:pic>
          <p:nvPicPr>
            <p:cNvPr id="424" name="Picture 4" descr="C:\Program Files\Microsoft Office\Clipart\standard\stddir2\bs01628_.wmf"/>
            <p:cNvPicPr/>
            <p:nvPr/>
          </p:nvPicPr>
          <p:blipFill>
            <a:blip r:embed="rId2"/>
            <a:stretch/>
          </p:blipFill>
          <p:spPr>
            <a:xfrm>
              <a:off x="1365480" y="0"/>
              <a:ext cx="49528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AutoShape 5"/>
            <p:cNvSpPr/>
            <p:nvPr/>
          </p:nvSpPr>
          <p:spPr>
            <a:xfrm>
              <a:off x="428760" y="214200"/>
              <a:ext cx="2347920" cy="2517480"/>
            </a:xfrm>
            <a:custGeom>
              <a:avLst/>
              <a:gdLst>
                <a:gd name="textAreaLeft" fmla="*/ 114480 w 2347920"/>
                <a:gd name="textAreaRight" fmla="*/ 2233440 w 2347920"/>
                <a:gd name="textAreaTop" fmla="*/ 114480 h 2517480"/>
                <a:gd name="textAreaBottom" fmla="*/ 2403000 h 2517480"/>
              </a:gdLst>
              <a:ahLst/>
              <a:rect l="textAreaLeft" t="textAreaTop" r="textAreaRight" b="textAreaBottom"/>
              <a:pathLst>
                <a:path w="21600" h="23160">
                  <a:moveTo>
                    <a:pt x="3600" y="0"/>
                  </a:moveTo>
                  <a:arcTo wR="3600" hR="3600" stAng="16200000" swAng="-5400000"/>
                  <a:lnTo>
                    <a:pt x="0" y="19560"/>
                  </a:lnTo>
                  <a:arcTo wR="3600" hR="3600" stAng="10800000" swAng="-5400000"/>
                  <a:lnTo>
                    <a:pt x="18000" y="2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ffff"/>
                </a:gs>
                <a:gs pos="100000">
                  <a:srgbClr val="ffcc66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едставители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третьей научной школы -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Л.С.Выготский, Н.А.Менчинская, К.Коффка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предполагали, что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26" name="AutoShape 6"/>
          <p:cNvSpPr/>
          <p:nvPr/>
        </p:nvSpPr>
        <p:spPr>
          <a:xfrm>
            <a:off x="298440" y="2604960"/>
            <a:ext cx="3809880" cy="39654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3965400"/>
              <a:gd name="textAreaBottom" fmla="*/ 3779640 h 396540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обучение и развитие два независимых, но сопряженных процесс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но данному теоретическому положению,   обучение продвигает вперед развитие, а развитие подготавливает и делает возможным обучение. Крылатой фразой представителей данной школы является: "обучение забегает вперед развития"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4489560" y="0"/>
            <a:ext cx="4647600" cy="6215760"/>
            <a:chOff x="4489560" y="0"/>
            <a:chExt cx="4647600" cy="6215760"/>
          </a:xfrm>
        </p:grpSpPr>
        <p:pic>
          <p:nvPicPr>
            <p:cNvPr id="428" name="Picture 8" descr="C:\Program Files\Microsoft Office\Clipart\standard\stddir1\bd07213_.wmf"/>
            <p:cNvPicPr/>
            <p:nvPr/>
          </p:nvPicPr>
          <p:blipFill>
            <a:blip r:embed="rId3"/>
            <a:stretch/>
          </p:blipFill>
          <p:spPr>
            <a:xfrm>
              <a:off x="7945200" y="0"/>
              <a:ext cx="119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AutoShape 9"/>
            <p:cNvSpPr/>
            <p:nvPr/>
          </p:nvSpPr>
          <p:spPr>
            <a:xfrm>
              <a:off x="4489560" y="1179360"/>
              <a:ext cx="4174920" cy="5036400"/>
            </a:xfrm>
            <a:custGeom>
              <a:avLst/>
              <a:gdLst>
                <a:gd name="textAreaLeft" fmla="*/ 203760 w 4174920"/>
                <a:gd name="textAreaRight" fmla="*/ 3971160 w 4174920"/>
                <a:gd name="textAreaTop" fmla="*/ 203760 h 5036400"/>
                <a:gd name="textAreaBottom" fmla="*/ 4832640 h 5036400"/>
              </a:gdLst>
              <a:ahLst/>
              <a:rect l="textAreaLeft" t="textAreaTop" r="textAreaRight" b="textAreaBottom"/>
              <a:pathLst>
                <a:path w="21600" h="26057">
                  <a:moveTo>
                    <a:pt x="3600" y="0"/>
                  </a:moveTo>
                  <a:arcTo wR="3600" hR="3600" stAng="16200000" swAng="-5400000"/>
                  <a:lnTo>
                    <a:pt x="0" y="22457"/>
                  </a:lnTo>
                  <a:arcTo wR="3600" hR="3600" stAng="10800000" swAng="-5400000"/>
                  <a:lnTo>
                    <a:pt x="18000" y="260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3300"/>
                  </a:solidFill>
                  <a:latin typeface="Arial"/>
                </a:rPr>
                <a:t>Ключевой позицией данной школы является понимание смысла и сущности развития</a:t>
              </a:r>
              <a:r>
                <a:rPr b="1" lang="ru-RU" sz="1800" spc="-1" strike="noStrike">
                  <a:solidFill>
                    <a:srgbClr val="808080"/>
                  </a:solidFill>
                  <a:latin typeface="Arial"/>
                </a:rPr>
                <a:t>.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 отличие от взглядов   других школ, под развитием понимается появление в учащемся не количественных изменений (мало-много знаний, мало-много умений), а появление в личности обучаемого качественных изменений, или, выражаясь языком психологов,    психических новообразований в психике обучаемого, или способностей. </a:t>
              </a: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В рамках данной школы сформулированы условия, при которых обучение становится развивающим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30" name="Text Box 12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32" name="Group 2"/>
          <p:cNvGrpSpPr/>
          <p:nvPr/>
        </p:nvGrpSpPr>
        <p:grpSpPr>
          <a:xfrm>
            <a:off x="1295280" y="533520"/>
            <a:ext cx="6933960" cy="5867280"/>
            <a:chOff x="1295280" y="533520"/>
            <a:chExt cx="6933960" cy="5867280"/>
          </a:xfrm>
        </p:grpSpPr>
        <p:sp>
          <p:nvSpPr>
            <p:cNvPr id="433" name="Freeform 3"/>
            <p:cNvSpPr/>
            <p:nvPr/>
          </p:nvSpPr>
          <p:spPr>
            <a:xfrm>
              <a:off x="1295280" y="533520"/>
              <a:ext cx="6933960" cy="58672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4" name="Text Box 4"/>
            <p:cNvSpPr/>
            <p:nvPr/>
          </p:nvSpPr>
          <p:spPr>
            <a:xfrm>
              <a:off x="3200040" y="2361960"/>
              <a:ext cx="28958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cc"/>
                  </a:solidFill>
                  <a:latin typeface="Arial"/>
                </a:rPr>
                <a:t>Образовательное пространство становится развивающим, если…</a:t>
              </a:r>
              <a:endParaRPr b="0" lang="en-US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35" name="AutoShape 5"/>
          <p:cNvSpPr/>
          <p:nvPr/>
        </p:nvSpPr>
        <p:spPr>
          <a:xfrm>
            <a:off x="228600" y="228600"/>
            <a:ext cx="3581280" cy="1554120"/>
          </a:xfrm>
          <a:prstGeom prst="wedgeRectCallout">
            <a:avLst>
              <a:gd name="adj1" fmla="val 63203"/>
              <a:gd name="adj2" fmla="val 84759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5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мотивировать ученика,    вызывать личностный   интерес для освоения учебной деятельности, для участия е воспитательных событиях школы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4870440" y="228600"/>
            <a:ext cx="4114800" cy="1585080"/>
          </a:xfrm>
          <a:prstGeom prst="wedgeRectCallout">
            <a:avLst>
              <a:gd name="adj1" fmla="val -49504"/>
              <a:gd name="adj2" fmla="val 79652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оздавать психологический комфорт ученика, создавать условия для возникновения реальной «ситуации успеха» учащегося в образовательном пространстве учебного заве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228600" y="1905120"/>
            <a:ext cx="3056040" cy="1797480"/>
          </a:xfrm>
          <a:prstGeom prst="wedgeRectCallout">
            <a:avLst>
              <a:gd name="adj1" fmla="val 64592"/>
              <a:gd name="adj2" fmla="val 36763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оздавать среду для развития мыслительных способностей учеников через овладение определенными мыслительными операциями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5784840" y="1981080"/>
            <a:ext cx="3200400" cy="1554120"/>
          </a:xfrm>
          <a:prstGeom prst="wedgeRectCallout">
            <a:avLst>
              <a:gd name="adj1" fmla="val -60009"/>
              <a:gd name="adj2" fmla="val 29638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троить на применении в образовательном пространстве школы группы проблемных методов, эвристических, рефлексивных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222120" y="3851280"/>
            <a:ext cx="3733920" cy="1797480"/>
          </a:xfrm>
          <a:prstGeom prst="wedgeRectCallout">
            <a:avLst>
              <a:gd name="adj1" fmla="val 69421"/>
              <a:gd name="adj2" fmla="val -48078"/>
            </a:avLst>
          </a:prstGeom>
          <a:gradFill rotWithShape="0">
            <a:gsLst>
              <a:gs pos="0">
                <a:srgbClr val="c3efff"/>
              </a:gs>
              <a:gs pos="50000">
                <a:srgbClr val="ffffff"/>
              </a:gs>
              <a:gs pos="100000">
                <a:srgbClr val="c3e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58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остроено на фундаменте применения в учебно-воспитательном процессе субъект -субъектного характера взаимоотношений, использовании групповых форм организации учебного прогресса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428760" y="5643720"/>
            <a:ext cx="8429400" cy="951120"/>
          </a:xfrm>
          <a:prstGeom prst="wedgeRectCallout">
            <a:avLst>
              <a:gd name="adj1" fmla="val 736"/>
              <a:gd name="adj2" fmla="val -211101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проектируется  с опорой на зону ближайшего развития ученика и осуществляется  перевод в зону ближайшего развития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ругими словами, обучение должно создавать зону затруднений для учащихся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6502320" y="3733920"/>
            <a:ext cx="2482920" cy="1797480"/>
          </a:xfrm>
          <a:prstGeom prst="wedgeRectCallout">
            <a:avLst>
              <a:gd name="adj1" fmla="val -93212"/>
              <a:gd name="adj2" fmla="val -67236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f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обеспечивается организация  поисковой продуктивной деятельности учащихся на занятиях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2"/>
          <p:cNvSpPr/>
          <p:nvPr/>
        </p:nvSpPr>
        <p:spPr>
          <a:xfrm>
            <a:off x="603360" y="898560"/>
            <a:ext cx="220968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ят акценты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звитии потребностно -мотивационной сферы учащегос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AutoShape 3"/>
          <p:cNvSpPr/>
          <p:nvPr/>
        </p:nvSpPr>
        <p:spPr>
          <a:xfrm>
            <a:off x="681120" y="3014640"/>
            <a:ext cx="5406840" cy="16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моционально-волевой сфере выделяют  значимость осознания личностного смысла и цели учения, выбора ситуации и пространства   «успеха» в деле, деятельност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2643120" y="609120"/>
            <a:ext cx="3643200" cy="2514600"/>
            <a:chOff x="2643120" y="609120"/>
            <a:chExt cx="3643200" cy="2514600"/>
          </a:xfrm>
        </p:grpSpPr>
        <p:sp>
          <p:nvSpPr>
            <p:cNvPr id="446" name="AutoShape 5"/>
            <p:cNvSpPr/>
            <p:nvPr/>
          </p:nvSpPr>
          <p:spPr>
            <a:xfrm flipV="1">
              <a:off x="2643120" y="608400"/>
              <a:ext cx="3643200" cy="25146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b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3331080" y="912960"/>
              <a:ext cx="226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овые образовательные цели</a:t>
              </a: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48" name="WordArt 7"/>
          <p:cNvSpPr txBox="1"/>
          <p:nvPr/>
        </p:nvSpPr>
        <p:spPr>
          <a:xfrm>
            <a:off x="3500280" y="380880"/>
            <a:ext cx="2055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1828800" y="4648320"/>
            <a:ext cx="6775560" cy="192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акценты ставятся на   овладение учениками методологическими знания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, знаниями о знаниях, которые позволяют  самостоятельно открывать неизвестные для себя свойства, особенности, закономерности и пр., находить способы поведения и деятельности в проблемной ситуац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AutoShape 12"/>
          <p:cNvSpPr/>
          <p:nvPr/>
        </p:nvSpPr>
        <p:spPr>
          <a:xfrm>
            <a:off x="7232760" y="3352680"/>
            <a:ext cx="380880" cy="1295640"/>
          </a:xfrm>
          <a:prstGeom prst="downArrow">
            <a:avLst>
              <a:gd name="adj1" fmla="val 50000"/>
              <a:gd name="adj2" fmla="val 85043"/>
            </a:avLst>
          </a:prstGeom>
          <a:gradFill rotWithShape="0">
            <a:gsLst>
              <a:gs pos="0">
                <a:srgbClr val="ffffff"/>
              </a:gs>
              <a:gs pos="100000">
                <a:srgbClr val="3dff3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AutoShape 13"/>
          <p:cNvSpPr/>
          <p:nvPr/>
        </p:nvSpPr>
        <p:spPr>
          <a:xfrm>
            <a:off x="6292800" y="888840"/>
            <a:ext cx="2463840" cy="2529000"/>
          </a:xfrm>
          <a:custGeom>
            <a:avLst/>
            <a:gdLst>
              <a:gd name="textAreaLeft" fmla="*/ 120240 w 2463840"/>
              <a:gd name="textAreaRight" fmla="*/ 2343600 w 2463840"/>
              <a:gd name="textAreaTop" fmla="*/ 120240 h 2529000"/>
              <a:gd name="textAreaBottom" fmla="*/ 2408760 h 252900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b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бласти креативного мышления определяют роль приобретения средств мысл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3" name="Picture 14" descr="C:\Program Files\Microsoft Office\Clipart\standard\stddir1\bd06652_.wmf"/>
          <p:cNvPicPr/>
          <p:nvPr/>
        </p:nvPicPr>
        <p:blipFill>
          <a:blip r:embed="rId4"/>
          <a:stretch/>
        </p:blipFill>
        <p:spPr>
          <a:xfrm>
            <a:off x="679320" y="4648320"/>
            <a:ext cx="16034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4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AutoShape 2"/>
          <p:cNvSpPr/>
          <p:nvPr/>
        </p:nvSpPr>
        <p:spPr>
          <a:xfrm>
            <a:off x="5099040" y="309600"/>
            <a:ext cx="3808440" cy="4602960"/>
          </a:xfrm>
          <a:custGeom>
            <a:avLst/>
            <a:gdLst>
              <a:gd name="textAreaLeft" fmla="*/ 185760 w 3808440"/>
              <a:gd name="textAreaRight" fmla="*/ 3622680 w 3808440"/>
              <a:gd name="textAreaTop" fmla="*/ 185760 h 4602960"/>
              <a:gd name="textAreaBottom" fmla="*/ 4417200 h 4602960"/>
            </a:gdLst>
            <a:ahLst/>
            <a:rect l="textAreaLeft" t="textAreaTop" r="textAreaRight" b="textAreaBottom"/>
            <a:pathLst>
              <a:path w="21600" h="26106">
                <a:moveTo>
                  <a:pt x="3600" y="0"/>
                </a:moveTo>
                <a:arcTo wR="3600" hR="3600" stAng="16200000" swAng="-5400000"/>
                <a:lnTo>
                  <a:pt x="0" y="22506"/>
                </a:lnTo>
                <a:arcTo wR="3600" hR="3600" stAng="10800000" swAng="-5400000"/>
                <a:lnTo>
                  <a:pt x="18000" y="26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здав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ля каждого ученика своеобразный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"банк ситуаций успеха"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.е. таких учебных действий, в которых обучаемый чувствует себя победителем, покорителем трудной вершины, первопроходцем 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, чтобы каждый ученик прожил ситуацию заслуженного успеха, пусть маленькой, но его личной победы, за счет которой он может самоутвердиться в своих глазах и в глазах сверстников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1898640" y="4699080"/>
            <a:ext cx="6858000" cy="226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    реализовать принцип относительной успешност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оценивании учебных действий в пространстве урока или внеурочных мероприятий оценивать не конечный результат, а процесс его получения. Ученики сравниваются не друг с другом в плане правильности и четкости выполнения каких-то действий, а сравниваются вчерашние достижения одного ученика с его сегодняшними результатами деятельности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8568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 важно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4565520" y="2133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4260960" y="4267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61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462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3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4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5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8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9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0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1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2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3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4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6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8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9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0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1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2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3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4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5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6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7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8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9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0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1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2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3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4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5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6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7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8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9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0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1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2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3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4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5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6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7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8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9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0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1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2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0AE6-9E5D-4894-B209-4FECA25A4C23}" type="datetime">
              <a:rPr b="0" lang="ru-RU" sz="1400" spc="-1" strike="noStrike">
                <a:solidFill>
                  <a:srgbClr val="393939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4" name="AutoShape 2"/>
          <p:cNvSpPr/>
          <p:nvPr/>
        </p:nvSpPr>
        <p:spPr>
          <a:xfrm>
            <a:off x="5556240" y="208080"/>
            <a:ext cx="3322800" cy="4311720"/>
          </a:xfrm>
          <a:custGeom>
            <a:avLst/>
            <a:gdLst>
              <a:gd name="textAreaLeft" fmla="*/ 162000 w 3322800"/>
              <a:gd name="textAreaRight" fmla="*/ 3160800 w 3322800"/>
              <a:gd name="textAreaTop" fmla="*/ 162000 h 4311720"/>
              <a:gd name="textAreaBottom" fmla="*/ 4149720 h 4311720"/>
            </a:gdLst>
            <a:ahLst/>
            <a:rect l="textAreaLeft" t="textAreaTop" r="textAreaRight" b="textAreaBottom"/>
            <a:pathLst>
              <a:path w="21600" h="28028">
                <a:moveTo>
                  <a:pt x="3600" y="0"/>
                </a:moveTo>
                <a:arcTo wR="3600" hR="3600" stAng="16200000" swAng="-5400000"/>
                <a:lnTo>
                  <a:pt x="0" y="24428"/>
                </a:lnTo>
                <a:arcTo wR="3600" hR="3600" stAng="10800000" swAng="-5400000"/>
                <a:lnTo>
                  <a:pt x="18000" y="280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троить при выполн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ажного, с точки зрения педагогических психологов, условия  развития личности обучаемых, а именно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нципа интериор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т.е. «перевода извне — вовнутрь». За счет этого ученик формирует собственную осознаваемую точку зрения на какой-либо вопрос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2978280" y="4861080"/>
            <a:ext cx="5854680" cy="172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ри проектировании стратегии развития способностей опираться на механизм их развития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сновными компонентами которого (по К.Коффке) являются: "операция — действие — способ деятельности — обобщенный способ, или способность ".  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8604360" y="64008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69840" y="138240"/>
            <a:ext cx="4784760" cy="466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 учебном процессе могут быть смоделированы ситуации, проблемные для обучаемых, которые они не в состоянии решить репродуктивным образ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ешения этих ситуаций ученику требуются размышления, коллективные обсуждения, выдвижение гипотез и их проверка, обращение к дополнительной литературе, консультация и помощь педагог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чебном процессе 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ля эффективного развития обучаемоговажно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4794120" y="22096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9" name="AutoShape 9"/>
          <p:cNvSpPr/>
          <p:nvPr/>
        </p:nvSpPr>
        <p:spPr>
          <a:xfrm>
            <a:off x="3956040" y="4114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20" name="Group 10"/>
          <p:cNvGrpSpPr/>
          <p:nvPr/>
        </p:nvGrpSpPr>
        <p:grpSpPr>
          <a:xfrm>
            <a:off x="330120" y="4968720"/>
            <a:ext cx="1442880" cy="1382760"/>
            <a:chOff x="330120" y="4968720"/>
            <a:chExt cx="1442880" cy="1382760"/>
          </a:xfrm>
        </p:grpSpPr>
        <p:sp>
          <p:nvSpPr>
            <p:cNvPr id="521" name="Freeform 11"/>
            <p:cNvSpPr/>
            <p:nvPr/>
          </p:nvSpPr>
          <p:spPr>
            <a:xfrm>
              <a:off x="330120" y="4981680"/>
              <a:ext cx="571320" cy="3999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2" name="Freeform 12"/>
            <p:cNvSpPr/>
            <p:nvPr/>
          </p:nvSpPr>
          <p:spPr>
            <a:xfrm>
              <a:off x="342720" y="5840280"/>
              <a:ext cx="1424160" cy="50652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3" name="Freeform 13"/>
            <p:cNvSpPr/>
            <p:nvPr/>
          </p:nvSpPr>
          <p:spPr>
            <a:xfrm>
              <a:off x="336600" y="4968720"/>
              <a:ext cx="1436400" cy="13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4" name="Freeform 14"/>
            <p:cNvSpPr/>
            <p:nvPr/>
          </p:nvSpPr>
          <p:spPr>
            <a:xfrm>
              <a:off x="1635120" y="5856120"/>
              <a:ext cx="122040" cy="38124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5" name="Freeform 15"/>
            <p:cNvSpPr/>
            <p:nvPr/>
          </p:nvSpPr>
          <p:spPr>
            <a:xfrm>
              <a:off x="1108080" y="4997520"/>
              <a:ext cx="185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006200" y="5056200"/>
              <a:ext cx="379440" cy="328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155600" y="5091120"/>
              <a:ext cx="824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347400" y="5143680"/>
              <a:ext cx="33516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17600" y="5157720"/>
              <a:ext cx="252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97000" y="5143680"/>
              <a:ext cx="252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1269720" y="519912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15920" y="5200560"/>
              <a:ext cx="252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341280" y="5248440"/>
              <a:ext cx="1602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4" name="Freeform 24"/>
            <p:cNvSpPr/>
            <p:nvPr/>
          </p:nvSpPr>
          <p:spPr>
            <a:xfrm>
              <a:off x="1199880" y="5284800"/>
              <a:ext cx="874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5" name="Freeform 25"/>
            <p:cNvSpPr/>
            <p:nvPr/>
          </p:nvSpPr>
          <p:spPr>
            <a:xfrm>
              <a:off x="731880" y="5364000"/>
              <a:ext cx="2174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6" name="Freeform 26"/>
            <p:cNvSpPr/>
            <p:nvPr/>
          </p:nvSpPr>
          <p:spPr>
            <a:xfrm>
              <a:off x="1162080" y="5403960"/>
              <a:ext cx="349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7" name="Freeform 27"/>
            <p:cNvSpPr/>
            <p:nvPr/>
          </p:nvSpPr>
          <p:spPr>
            <a:xfrm>
              <a:off x="738000" y="5446800"/>
              <a:ext cx="211320" cy="4896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8" name="Freeform 28"/>
            <p:cNvSpPr/>
            <p:nvPr/>
          </p:nvSpPr>
          <p:spPr>
            <a:xfrm>
              <a:off x="1074600" y="5430960"/>
              <a:ext cx="239760" cy="19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9" name="Freeform 29"/>
            <p:cNvSpPr/>
            <p:nvPr/>
          </p:nvSpPr>
          <p:spPr>
            <a:xfrm>
              <a:off x="1427040" y="5445000"/>
              <a:ext cx="95400" cy="9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>
              <a:off x="1406520" y="544824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1" name="Freeform 31"/>
            <p:cNvSpPr/>
            <p:nvPr/>
          </p:nvSpPr>
          <p:spPr>
            <a:xfrm>
              <a:off x="738000" y="5472000"/>
              <a:ext cx="2174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2" name="Freeform 32"/>
            <p:cNvSpPr/>
            <p:nvPr/>
          </p:nvSpPr>
          <p:spPr>
            <a:xfrm>
              <a:off x="1371600" y="5492880"/>
              <a:ext cx="507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1288800" y="5508720"/>
              <a:ext cx="6840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1180800" y="5516640"/>
              <a:ext cx="115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5" name="Freeform 35"/>
            <p:cNvSpPr/>
            <p:nvPr/>
          </p:nvSpPr>
          <p:spPr>
            <a:xfrm>
              <a:off x="1035000" y="5521320"/>
              <a:ext cx="71280" cy="51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6" name="Freeform 36"/>
            <p:cNvSpPr/>
            <p:nvPr/>
          </p:nvSpPr>
          <p:spPr>
            <a:xfrm>
              <a:off x="739800" y="5530680"/>
              <a:ext cx="20160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7" name="Freeform 37"/>
            <p:cNvSpPr/>
            <p:nvPr/>
          </p:nvSpPr>
          <p:spPr>
            <a:xfrm>
              <a:off x="847440" y="5533920"/>
              <a:ext cx="173160" cy="554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8" name="Freeform 38"/>
            <p:cNvSpPr/>
            <p:nvPr/>
          </p:nvSpPr>
          <p:spPr>
            <a:xfrm>
              <a:off x="1434960" y="5548320"/>
              <a:ext cx="6192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9" name="Freeform 39"/>
            <p:cNvSpPr/>
            <p:nvPr/>
          </p:nvSpPr>
          <p:spPr>
            <a:xfrm>
              <a:off x="1376280" y="5580000"/>
              <a:ext cx="55440" cy="63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0" name="Freeform 40"/>
            <p:cNvSpPr/>
            <p:nvPr/>
          </p:nvSpPr>
          <p:spPr>
            <a:xfrm>
              <a:off x="887400" y="5605560"/>
              <a:ext cx="8244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1" name="Freeform 41"/>
            <p:cNvSpPr/>
            <p:nvPr/>
          </p:nvSpPr>
          <p:spPr>
            <a:xfrm>
              <a:off x="1279440" y="5613480"/>
              <a:ext cx="601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2" name="Freeform 42"/>
            <p:cNvSpPr/>
            <p:nvPr/>
          </p:nvSpPr>
          <p:spPr>
            <a:xfrm>
              <a:off x="914400" y="5632560"/>
              <a:ext cx="4104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3" name="Freeform 43"/>
            <p:cNvSpPr/>
            <p:nvPr/>
          </p:nvSpPr>
          <p:spPr>
            <a:xfrm>
              <a:off x="1114200" y="5634000"/>
              <a:ext cx="1350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4" name="Freeform 44"/>
            <p:cNvSpPr/>
            <p:nvPr/>
          </p:nvSpPr>
          <p:spPr>
            <a:xfrm>
              <a:off x="1438200" y="5638680"/>
              <a:ext cx="460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5" name="Freeform 45"/>
            <p:cNvSpPr/>
            <p:nvPr/>
          </p:nvSpPr>
          <p:spPr>
            <a:xfrm>
              <a:off x="1336680" y="5657760"/>
              <a:ext cx="9360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6" name="Freeform 46"/>
            <p:cNvSpPr/>
            <p:nvPr/>
          </p:nvSpPr>
          <p:spPr>
            <a:xfrm>
              <a:off x="1336680" y="5670720"/>
              <a:ext cx="2052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7" name="Freeform 47"/>
            <p:cNvSpPr/>
            <p:nvPr/>
          </p:nvSpPr>
          <p:spPr>
            <a:xfrm>
              <a:off x="1066680" y="5699160"/>
              <a:ext cx="272880" cy="309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8" name="Freeform 48"/>
            <p:cNvSpPr/>
            <p:nvPr/>
          </p:nvSpPr>
          <p:spPr>
            <a:xfrm>
              <a:off x="1306440" y="573084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9" name="Freeform 49"/>
            <p:cNvSpPr/>
            <p:nvPr/>
          </p:nvSpPr>
          <p:spPr>
            <a:xfrm>
              <a:off x="618840" y="5742000"/>
              <a:ext cx="225720" cy="390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0" name="Freeform 50"/>
            <p:cNvSpPr/>
            <p:nvPr/>
          </p:nvSpPr>
          <p:spPr>
            <a:xfrm>
              <a:off x="1172880" y="5745240"/>
              <a:ext cx="748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1" name="Freeform 51"/>
            <p:cNvSpPr/>
            <p:nvPr/>
          </p:nvSpPr>
          <p:spPr>
            <a:xfrm>
              <a:off x="1189080" y="5767560"/>
              <a:ext cx="4104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2" name="Freeform 52"/>
            <p:cNvSpPr/>
            <p:nvPr/>
          </p:nvSpPr>
          <p:spPr>
            <a:xfrm>
              <a:off x="641160" y="5808600"/>
              <a:ext cx="16344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3" name="Freeform 53"/>
            <p:cNvSpPr/>
            <p:nvPr/>
          </p:nvSpPr>
          <p:spPr>
            <a:xfrm>
              <a:off x="1560240" y="5818320"/>
              <a:ext cx="9684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4" name="Freeform 54"/>
            <p:cNvSpPr/>
            <p:nvPr/>
          </p:nvSpPr>
          <p:spPr>
            <a:xfrm>
              <a:off x="676080" y="58482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5" name="Freeform 55"/>
            <p:cNvSpPr/>
            <p:nvPr/>
          </p:nvSpPr>
          <p:spPr>
            <a:xfrm>
              <a:off x="430200" y="6032520"/>
              <a:ext cx="1792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6" name="Freeform 56"/>
            <p:cNvSpPr/>
            <p:nvPr/>
          </p:nvSpPr>
          <p:spPr>
            <a:xfrm>
              <a:off x="1042920" y="6111720"/>
              <a:ext cx="166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7" name="Freeform 57"/>
            <p:cNvSpPr/>
            <p:nvPr/>
          </p:nvSpPr>
          <p:spPr>
            <a:xfrm>
              <a:off x="1076040" y="6176880"/>
              <a:ext cx="302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8" name="Freeform 58"/>
            <p:cNvSpPr/>
            <p:nvPr/>
          </p:nvSpPr>
          <p:spPr>
            <a:xfrm>
              <a:off x="1157040" y="6180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9" name="Freeform 59"/>
            <p:cNvSpPr/>
            <p:nvPr/>
          </p:nvSpPr>
          <p:spPr>
            <a:xfrm>
              <a:off x="1427040" y="6229440"/>
              <a:ext cx="396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0" name="Freeform 60"/>
            <p:cNvSpPr/>
            <p:nvPr/>
          </p:nvSpPr>
          <p:spPr>
            <a:xfrm>
              <a:off x="444240" y="6288120"/>
              <a:ext cx="61128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1" name="Freeform 61"/>
            <p:cNvSpPr/>
            <p:nvPr/>
          </p:nvSpPr>
          <p:spPr>
            <a:xfrm>
              <a:off x="1717560" y="6288120"/>
              <a:ext cx="22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Прямоугольник 2"/>
          <p:cNvSpPr/>
          <p:nvPr/>
        </p:nvSpPr>
        <p:spPr>
          <a:xfrm>
            <a:off x="142920" y="428760"/>
            <a:ext cx="90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Monotype Corsiva"/>
              </a:rPr>
              <a:t>У каждого учителя химии ярко выражено стремление не только научить, передать ученику все свои знания, но и стремление раскрыть удивительный мир химии. Мир, который не укладывается ни в один учебник и поэтому познавать его каждый будет всю свою жизнь, даже уйдя из школы. А для этого необходимо научиться добывать знания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3" name="Picture 4" descr="C:\Users\User\Desktop\3.jpg"/>
          <p:cNvPicPr/>
          <p:nvPr/>
        </p:nvPicPr>
        <p:blipFill>
          <a:blip r:embed="rId1"/>
          <a:stretch/>
        </p:blipFill>
        <p:spPr>
          <a:xfrm>
            <a:off x="4576680" y="3378240"/>
            <a:ext cx="3424320" cy="34243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6"/>
          <p:cNvSpPr/>
          <p:nvPr/>
        </p:nvSpPr>
        <p:spPr>
          <a:xfrm>
            <a:off x="1643040" y="53578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5" name="Прямоугольник 7"/>
          <p:cNvSpPr/>
          <p:nvPr/>
        </p:nvSpPr>
        <p:spPr>
          <a:xfrm>
            <a:off x="285840" y="4000680"/>
            <a:ext cx="435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ллеги!!!Желаю вам творческих успехов! Спасибо за внимание</a:t>
            </a: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Развивающемуся обществу нужны современно образованные, нравственные, предприимчивые люди, которые могут самостоятельно принимать ответственные решения в ситуации выбора, прогнозируя их возможные последствия, способны к сотрудничеству, отличаются мобильностью, динамизмом, конструктивностью, обладают развитым чувством ответственности за судьбу стран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(Концепция модернизации российского           образов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307360" y="5181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Freeform 1026"/>
          <p:cNvSpPr/>
          <p:nvPr/>
        </p:nvSpPr>
        <p:spPr>
          <a:xfrm>
            <a:off x="0" y="152280"/>
            <a:ext cx="9144000" cy="670572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1027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6781680" y="685800"/>
            <a:ext cx="2362320" cy="2090880"/>
          </a:xfrm>
          <a:prstGeom prst="rect">
            <a:avLst/>
          </a:prstGeom>
          <a:ln w="0">
            <a:noFill/>
          </a:ln>
        </p:spPr>
      </p:pic>
      <p:sp>
        <p:nvSpPr>
          <p:cNvPr id="97" name="WordArt 1028"/>
          <p:cNvSpPr txBox="1"/>
          <p:nvPr/>
        </p:nvSpPr>
        <p:spPr>
          <a:xfrm>
            <a:off x="1143000" y="990720"/>
            <a:ext cx="380988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еобходим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озда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едагогическу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реду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98" name="WordArt 1029"/>
          <p:cNvSpPr txBox="1"/>
          <p:nvPr/>
        </p:nvSpPr>
        <p:spPr>
          <a:xfrm rot="34800">
            <a:off x="4038480" y="380880"/>
            <a:ext cx="24526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лияющую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разные аспект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стороны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вития личности,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AutoShape 1030"/>
          <p:cNvSpPr/>
          <p:nvPr/>
        </p:nvSpPr>
        <p:spPr>
          <a:xfrm>
            <a:off x="6389640" y="3608280"/>
            <a:ext cx="2373480" cy="1415160"/>
          </a:xfrm>
          <a:prstGeom prst="wedgeRoundRectCallout">
            <a:avLst>
              <a:gd name="adj1" fmla="val -51726"/>
              <a:gd name="adj2" fmla="val -64111"/>
              <a:gd name="adj3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ссов, явлений, событий, свойств, законов  и закономерностей, отношений и др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Text Box 1032"/>
          <p:cNvSpPr/>
          <p:nvPr/>
        </p:nvSpPr>
        <p:spPr>
          <a:xfrm>
            <a:off x="228600" y="25909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оявления у учащихся мотива к самоизменению, личностному росту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1033"/>
          <p:cNvSpPr/>
          <p:nvPr/>
        </p:nvSpPr>
        <p:spPr>
          <a:xfrm>
            <a:off x="2438280" y="38862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возможности к реализации «Я – концепции» («Я – могу» - «я – хочу» - «я – нравлюсь»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Text Box 1034"/>
          <p:cNvSpPr/>
          <p:nvPr/>
        </p:nvSpPr>
        <p:spPr>
          <a:xfrm>
            <a:off x="4267080" y="228600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дать условия для приобретения учащимися средств познания и исследования мир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Text Box 1037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Freeform 2"/>
          <p:cNvSpPr/>
          <p:nvPr/>
        </p:nvSpPr>
        <p:spPr>
          <a:xfrm>
            <a:off x="0" y="0"/>
            <a:ext cx="9144000" cy="670572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990720" y="457200"/>
            <a:ext cx="724824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Мастер создает особое пространство,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обеспечивающее деятельность Учителя и Ученика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Times New Roman"/>
              </a:rPr>
              <a:t>в новой образовательной парадигме.</a:t>
            </a:r>
            <a:endParaRPr b="0" lang="en-US" sz="2400" spc="1" strike="noStrike">
              <a:ln w="936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914400" y="1981080"/>
            <a:ext cx="268596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есь нет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28600" y="32004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уки, принуждения и лени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19320" y="38862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сивности и страха ожидания - двойки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33520" y="5029200"/>
            <a:ext cx="281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2» на контрольной работе или на экзамене и желания увернуться от не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5410080" y="1600200"/>
            <a:ext cx="208620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ДЕСЬ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419720" y="2819520"/>
            <a:ext cx="373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к испытывает радость от преодоленной трудности учения, будь то: задача, пример, правило, закон, теорема или  -   выведенное самостоятельно понятие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572000" y="43434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к открывает мир для себя  -  себя в этом мире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581280" y="5173560"/>
            <a:ext cx="411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14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дагог ведет учащегося по пути субъективного открытия, он управляет проблемно – поисковой или исследовательской деятельностью учащегося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AutoShape 12">
            <a:hlinkClick r:id="" action="ppaction://hlinkshowjump?jump=nextslide"/>
          </p:cNvPr>
          <p:cNvSpPr/>
          <p:nvPr/>
        </p:nvSpPr>
        <p:spPr>
          <a:xfrm>
            <a:off x="76201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AutoShape 13">
            <a:hlinkClick r:id="" action="ppaction://hlinkshowjump?jump=previousslide"/>
          </p:cNvPr>
          <p:cNvSpPr/>
          <p:nvPr/>
        </p:nvSpPr>
        <p:spPr>
          <a:xfrm>
            <a:off x="7010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8" name="Picture 15" descr="C:\Program Files\Microsoft Office\Clipart\standard\stddir1\bd06220_.wmf"/>
          <p:cNvPicPr/>
          <p:nvPr/>
        </p:nvPicPr>
        <p:blipFill>
          <a:blip r:embed="rId2"/>
          <a:stretch/>
        </p:blipFill>
        <p:spPr>
          <a:xfrm>
            <a:off x="7691400" y="4648320"/>
            <a:ext cx="145260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428760" y="214200"/>
            <a:ext cx="792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Виды универсальных учебных  действий (УУД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</a:t>
            </a: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а)  личностный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б)  регулятивный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в) познавательный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   г)  коммуникативный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85840" y="2071800"/>
            <a:ext cx="88581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Monotype Corsiva"/>
              </a:rPr>
              <a:t>Логические </a:t>
            </a:r>
            <a:r>
              <a:rPr b="1" lang="ru-RU" sz="2800" spc="-1" strike="noStrike">
                <a:solidFill>
                  <a:srgbClr val="0d0d0d"/>
                </a:solidFill>
                <a:latin typeface="Monotype Corsiva"/>
              </a:rPr>
              <a:t>УУД предполагают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нализ объектов с целью выделения признаков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существенных, несущественных)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интез как составление целого из част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в том числе самостоятельное достраивание, восполнение недостающих компонентов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бор оснований и критериев для сравнения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лассификации объектов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дведение под понятия, выведение 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становление причинно-следственных связей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строение логической цепи рассуждени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казательство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движение гипотез и их обосновани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857160" y="785880"/>
            <a:ext cx="7643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На уроках химии развитие УУД возможно через систему заданий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пример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личностные действия формируются при выполнении заданий, в которых ученик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Monotype Corsiva"/>
              </a:rPr>
              <a:t>должен отразить личное видение проблемы или раскрыть своё отношение к изучаемому материалу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(8 класс -изучение химии можно начать с домашнего задания составить 5 предложений, раскрывающих применение химических знаний в работе мамы (папы), применение химии на кухне, в ванной, во время ремонта. При этом предложить попросить совета родителей. Это не только покажет прочность химических знаний родителей и сыграет на упрочнение их авторитета для ученика, но и раскроет важность этих знаний в быту, в будущей жизни. У ученика формируется понимание необходимости прочных знаний по химии. 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500040" y="85716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последующем предлагаются задания на подготовку сообщений на темы «Роль растворов в медицине», «Химия в моей будущей профессии», «Йод и его роль для моего здоровья», «Добыча нефти в нашем крае и проблемы экологии»; и т.д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5" name="Picture 2" descr="C:\Users\User\Desktop\filin.jpg"/>
          <p:cNvPicPr/>
          <p:nvPr/>
        </p:nvPicPr>
        <p:blipFill>
          <a:blip r:embed="rId1"/>
          <a:stretch/>
        </p:blipFill>
        <p:spPr>
          <a:xfrm>
            <a:off x="4357800" y="2857680"/>
            <a:ext cx="3643200" cy="37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User\Desktop\i.jpg"/>
          <p:cNvPicPr/>
          <p:nvPr/>
        </p:nvPicPr>
        <p:blipFill>
          <a:blip r:embed="rId2"/>
          <a:stretch/>
        </p:blipFill>
        <p:spPr>
          <a:xfrm>
            <a:off x="500040" y="3143160"/>
            <a:ext cx="385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85840" y="35712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 целью формирования регулятивного действия - действия контроля, проводятся самопроверки и взаимопроверки теста. Например, небольшой тест графический или буквенный, проверку которого ученики проводят самостоятельно или в парах, обмениваясь листочками с ответам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9" name="Picture 3" descr="C:\Users\User\Desktop\7550c209a5ef15805d244e766e2f2aff_873a81fc255e00be956080eab681879e.jpg"/>
          <p:cNvPicPr/>
          <p:nvPr/>
        </p:nvPicPr>
        <p:blipFill>
          <a:blip r:embed="rId1"/>
          <a:stretch/>
        </p:blipFill>
        <p:spPr>
          <a:xfrm>
            <a:off x="4352760" y="2786040"/>
            <a:ext cx="4577040" cy="385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User\Desktop\8049531beb2fdfb2341e39dc22c8620d_original.jpg"/>
          <p:cNvPicPr/>
          <p:nvPr/>
        </p:nvPicPr>
        <p:blipFill>
          <a:blip r:embed="rId2"/>
          <a:stretch/>
        </p:blipFill>
        <p:spPr>
          <a:xfrm>
            <a:off x="214200" y="2786040"/>
            <a:ext cx="4159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76240" y="3049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равнительные особенности традиционной и инновационной педагогик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33520" y="233028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    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14400" y="2214720"/>
            <a:ext cx="230040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00400" y="2238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ирование знаний, умений и навы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867280" y="22860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витие личност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3520" y="28875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14400" y="2819520"/>
            <a:ext cx="2286000" cy="580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гральная характерис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352680" y="296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Школа памят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867280" y="29401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Школа развити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33520" y="349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914400" y="3429000"/>
            <a:ext cx="228600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обладающий тип и характер взаимоотношен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00400" y="34974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бъект - объектны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867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бъект - субъектны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380880" y="4267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33520" y="4311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914400" y="4335480"/>
            <a:ext cx="228600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виз педагог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200400" y="4335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Делай как я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867280" y="4311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Не навреди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33520" y="471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914400" y="4724280"/>
            <a:ext cx="2286000" cy="580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 и стиль взаимодействи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3200400" y="4844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итар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5867280" y="4844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мократич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380880" y="60199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533520" y="5987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00400" y="52578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нологичность, закрыт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5867280" y="51814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иалогичность,   открытость,  рефлексивность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914400" y="6087960"/>
            <a:ext cx="228600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ы организац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00400" y="5943600"/>
            <a:ext cx="2666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онтальные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867280" y="5943600"/>
            <a:ext cx="2895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упповые,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ллективны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61" name="Group 31"/>
          <p:cNvGrpSpPr/>
          <p:nvPr/>
        </p:nvGrpSpPr>
        <p:grpSpPr>
          <a:xfrm>
            <a:off x="380880" y="1676520"/>
            <a:ext cx="8382240" cy="4952880"/>
            <a:chOff x="380880" y="1676520"/>
            <a:chExt cx="8382240" cy="4952880"/>
          </a:xfrm>
        </p:grpSpPr>
        <p:sp>
          <p:nvSpPr>
            <p:cNvPr id="162" name="Text Box 32"/>
            <p:cNvSpPr/>
            <p:nvPr/>
          </p:nvSpPr>
          <p:spPr>
            <a:xfrm>
              <a:off x="457200" y="1752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№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63" name="Text Box 33"/>
            <p:cNvSpPr/>
            <p:nvPr/>
          </p:nvSpPr>
          <p:spPr>
            <a:xfrm>
              <a:off x="3200400" y="16765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Традиционная  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64" name="Text Box 34"/>
            <p:cNvSpPr/>
            <p:nvPr/>
          </p:nvSpPr>
          <p:spPr>
            <a:xfrm>
              <a:off x="5867280" y="1676520"/>
              <a:ext cx="289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Инновационная </a:t>
              </a:r>
              <a:r>
                <a:rPr b="1" lang="ru-RU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«Способностная» педагогика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65" name="Group 35"/>
            <p:cNvGrpSpPr/>
            <p:nvPr/>
          </p:nvGrpSpPr>
          <p:grpSpPr>
            <a:xfrm>
              <a:off x="380880" y="1676520"/>
              <a:ext cx="8382240" cy="4952880"/>
              <a:chOff x="380880" y="1676520"/>
              <a:chExt cx="8382240" cy="4952880"/>
            </a:xfrm>
          </p:grpSpPr>
          <p:sp>
            <p:nvSpPr>
              <p:cNvPr id="166" name="Line 36"/>
              <p:cNvSpPr/>
              <p:nvPr/>
            </p:nvSpPr>
            <p:spPr>
              <a:xfrm>
                <a:off x="380880" y="167652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7" name="Line 37"/>
              <p:cNvSpPr/>
              <p:nvPr/>
            </p:nvSpPr>
            <p:spPr>
              <a:xfrm>
                <a:off x="3808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8" name="Line 38"/>
              <p:cNvSpPr/>
              <p:nvPr/>
            </p:nvSpPr>
            <p:spPr>
              <a:xfrm>
                <a:off x="876312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9" name="Line 39"/>
              <p:cNvSpPr/>
              <p:nvPr/>
            </p:nvSpPr>
            <p:spPr>
              <a:xfrm>
                <a:off x="914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0" name="Line 40"/>
              <p:cNvSpPr/>
              <p:nvPr/>
            </p:nvSpPr>
            <p:spPr>
              <a:xfrm>
                <a:off x="320040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1" name="Line 41"/>
              <p:cNvSpPr/>
              <p:nvPr/>
            </p:nvSpPr>
            <p:spPr>
              <a:xfrm>
                <a:off x="5867280" y="1676520"/>
                <a:ext cx="0" cy="495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2" name="Line 42"/>
              <p:cNvSpPr/>
              <p:nvPr/>
            </p:nvSpPr>
            <p:spPr>
              <a:xfrm>
                <a:off x="380880" y="2209680"/>
                <a:ext cx="83822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73" name="Rectangle 43"/>
          <p:cNvSpPr/>
          <p:nvPr/>
        </p:nvSpPr>
        <p:spPr>
          <a:xfrm>
            <a:off x="1113840" y="106668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380880" y="2819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380880" y="66294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Line 47"/>
          <p:cNvSpPr/>
          <p:nvPr/>
        </p:nvSpPr>
        <p:spPr>
          <a:xfrm>
            <a:off x="380880" y="34290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75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9:38:30Z</dcterms:created>
  <dc:creator>Учитель</dc:creator>
  <dc:description/>
  <dc:language>en-US</dc:language>
  <cp:lastModifiedBy>User</cp:lastModifiedBy>
  <dcterms:modified xsi:type="dcterms:W3CDTF">2012-11-08T20:06:47Z</dcterms:modified>
  <cp:revision>70</cp:revision>
  <dc:subject/>
  <dc:title>Педагогический совет</dc:title>
</cp:coreProperties>
</file>