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FCF-85AD-45F5-9144-BAD7F159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3B6-9073-4FAC-B98B-C0AA47E8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6C6-CF8A-43FE-8C5F-BF98A186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55A-1986-472C-8BFB-816B9783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FF6A-F700-4676-ADBC-FC6093F0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21E2-47A5-44B3-A215-C9915A32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1D79-3A2A-408C-92C8-8EC676FC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A046-8F57-4712-8704-9751AC00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CA18-D177-4B2D-AE6E-B1EAC3F2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4766-CCCC-42BD-8756-10CDFD58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7BAA-F77C-4028-90E8-CCB49580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8EE-B905-4A40-B469-7B8913A9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BFEC-46A9-42C0-AE9D-3E70A28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75D2-2F17-4D0A-975B-F3CA2E08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117D-009D-4B34-93AD-03B96B1B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CA01-6930-4595-B982-CD7076A2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B4FD-B582-417A-92D4-50211871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2F5-6440-4794-9A1E-C13D3F49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479-8E71-467A-8A67-289C05D4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C50-6343-48E1-B120-3CD8DD20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5D9-91E9-4719-B19E-E63F37EA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42E-F65F-498D-9553-4CE0A0C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479-C686-481C-A279-7DAB0832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13D-EF0B-46DE-BF4D-DF783CBE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66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D6F5-11AD-4989-BBE6-0EFD55C69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66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38DB-18B3-4FB6-AEBB-7F0220ADF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12.xml"/><Relationship Id="rId11" Type="http://schemas.openxmlformats.org/officeDocument/2006/relationships/slide" Target="slide17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image" Target="../media/image1.jpeg"/><Relationship Id="rId22" Type="http://schemas.openxmlformats.org/officeDocument/2006/relationships/image" Target="../media/image2.jpeg"/><Relationship Id="rId23" Type="http://schemas.openxmlformats.org/officeDocument/2006/relationships/image" Target="../media/image3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6.jpeg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9280" y="1397160"/>
          <a:ext cx="8713800" cy="4216320"/>
        </p:xfrm>
        <a:graphic>
          <a:graphicData uri="http://schemas.openxmlformats.org/drawingml/2006/table">
            <a:tbl>
              <a:tblPr/>
              <a:tblGrid>
                <a:gridCol w="3456000"/>
                <a:gridCol w="844560"/>
                <a:gridCol w="927360"/>
                <a:gridCol w="1744560"/>
                <a:gridCol w="17413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t-RU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ызыклы математ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«Ох, бу алгебра!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игезләмәләр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t-RU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из исәплә, тиз уйла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AutoShape 126">
            <a:hlinkClick r:id="rId1" action="ppaction://hlinksldjump"/>
          </p:cNvPr>
          <p:cNvSpPr/>
          <p:nvPr/>
        </p:nvSpPr>
        <p:spPr>
          <a:xfrm>
            <a:off x="356400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7">
            <a:hlinkClick r:id="rId2" action="ppaction://hlinksldjump"/>
          </p:cNvPr>
          <p:cNvSpPr/>
          <p:nvPr/>
        </p:nvSpPr>
        <p:spPr>
          <a:xfrm>
            <a:off x="464508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8">
            <a:hlinkClick r:id="rId3" action="ppaction://hlinksldjump"/>
          </p:cNvPr>
          <p:cNvSpPr/>
          <p:nvPr/>
        </p:nvSpPr>
        <p:spPr>
          <a:xfrm>
            <a:off x="565164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9">
            <a:hlinkClick r:id="rId4" action="ppaction://hlinksldjump"/>
          </p:cNvPr>
          <p:cNvSpPr/>
          <p:nvPr/>
        </p:nvSpPr>
        <p:spPr>
          <a:xfrm>
            <a:off x="680400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0">
            <a:hlinkClick r:id="rId5" action="ppaction://hlinksldjump"/>
          </p:cNvPr>
          <p:cNvSpPr/>
          <p:nvPr/>
        </p:nvSpPr>
        <p:spPr>
          <a:xfrm>
            <a:off x="7958160" y="148428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0">
            <a:hlinkClick r:id="rId6" action="ppaction://hlinksldjump"/>
          </p:cNvPr>
          <p:cNvSpPr/>
          <p:nvPr/>
        </p:nvSpPr>
        <p:spPr>
          <a:xfrm>
            <a:off x="3635280" y="256392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1">
            <a:hlinkClick r:id="rId7" action="ppaction://hlinksldjump"/>
          </p:cNvPr>
          <p:cNvSpPr/>
          <p:nvPr/>
        </p:nvSpPr>
        <p:spPr>
          <a:xfrm>
            <a:off x="4716360" y="256392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2">
            <a:hlinkClick r:id="rId8" action="ppaction://hlinksldjump"/>
          </p:cNvPr>
          <p:cNvSpPr/>
          <p:nvPr/>
        </p:nvSpPr>
        <p:spPr>
          <a:xfrm>
            <a:off x="4716360" y="3643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3">
            <a:hlinkClick r:id="rId9" action="ppaction://hlinksldjump"/>
          </p:cNvPr>
          <p:cNvSpPr/>
          <p:nvPr/>
        </p:nvSpPr>
        <p:spPr>
          <a:xfrm>
            <a:off x="4716360" y="4651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4">
            <a:hlinkClick r:id="rId10" action="ppaction://hlinksldjump"/>
          </p:cNvPr>
          <p:cNvSpPr/>
          <p:nvPr/>
        </p:nvSpPr>
        <p:spPr>
          <a:xfrm>
            <a:off x="3635280" y="3643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5">
            <a:hlinkClick r:id="rId11" action="ppaction://hlinksldjump"/>
          </p:cNvPr>
          <p:cNvSpPr/>
          <p:nvPr/>
        </p:nvSpPr>
        <p:spPr>
          <a:xfrm>
            <a:off x="3635280" y="4651200"/>
            <a:ext cx="935280" cy="8654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3342" h="21600">
                <a:moveTo>
                  <a:pt x="0" y="0"/>
                </a:moveTo>
                <a:lnTo>
                  <a:pt x="23342" y="0"/>
                </a:lnTo>
                <a:lnTo>
                  <a:pt x="23342" y="21600"/>
                </a:lnTo>
                <a:lnTo>
                  <a:pt x="0" y="21600"/>
                </a:lnTo>
                <a:close/>
              </a:path>
              <a:path fill="lightenLess" w="23342" h="21600">
                <a:moveTo>
                  <a:pt x="0" y="0"/>
                </a:moveTo>
                <a:lnTo>
                  <a:pt x="23342" y="0"/>
                </a:lnTo>
                <a:lnTo>
                  <a:pt x="21942" y="1400"/>
                </a:lnTo>
                <a:lnTo>
                  <a:pt x="1400" y="1400"/>
                </a:lnTo>
                <a:close/>
              </a:path>
              <a:path fill="darken" w="23342" h="21600">
                <a:moveTo>
                  <a:pt x="23342" y="0"/>
                </a:moveTo>
                <a:lnTo>
                  <a:pt x="23342" y="21600"/>
                </a:lnTo>
                <a:lnTo>
                  <a:pt x="21942" y="20200"/>
                </a:lnTo>
                <a:lnTo>
                  <a:pt x="21942" y="1400"/>
                </a:lnTo>
                <a:close/>
              </a:path>
              <a:path fill="darkenLess" w="23342" h="21600">
                <a:moveTo>
                  <a:pt x="23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2" y="20200"/>
                </a:lnTo>
                <a:close/>
              </a:path>
              <a:path fill="lighten" w="23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6">
            <a:hlinkClick r:id="rId12" action="ppaction://hlinksldjump"/>
          </p:cNvPr>
          <p:cNvSpPr/>
          <p:nvPr/>
        </p:nvSpPr>
        <p:spPr>
          <a:xfrm>
            <a:off x="5724360" y="2563920"/>
            <a:ext cx="935280" cy="86508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52" h="21600">
                <a:moveTo>
                  <a:pt x="0" y="0"/>
                </a:moveTo>
                <a:lnTo>
                  <a:pt x="23352" y="0"/>
                </a:lnTo>
                <a:lnTo>
                  <a:pt x="23352" y="21600"/>
                </a:lnTo>
                <a:lnTo>
                  <a:pt x="0" y="21600"/>
                </a:lnTo>
                <a:close/>
              </a:path>
              <a:path fill="lightenLess" w="23352" h="21600">
                <a:moveTo>
                  <a:pt x="0" y="0"/>
                </a:moveTo>
                <a:lnTo>
                  <a:pt x="23352" y="0"/>
                </a:lnTo>
                <a:lnTo>
                  <a:pt x="21952" y="1400"/>
                </a:lnTo>
                <a:lnTo>
                  <a:pt x="1400" y="1400"/>
                </a:lnTo>
                <a:close/>
              </a:path>
              <a:path fill="darken" w="23352" h="21600">
                <a:moveTo>
                  <a:pt x="23352" y="0"/>
                </a:moveTo>
                <a:lnTo>
                  <a:pt x="23352" y="21600"/>
                </a:lnTo>
                <a:lnTo>
                  <a:pt x="21952" y="20200"/>
                </a:lnTo>
                <a:lnTo>
                  <a:pt x="21952" y="1400"/>
                </a:lnTo>
                <a:close/>
              </a:path>
              <a:path fill="darkenLess" w="23352" h="21600">
                <a:moveTo>
                  <a:pt x="2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52" y="20200"/>
                </a:lnTo>
                <a:close/>
              </a:path>
              <a:path fill="lighten" w="2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7">
            <a:hlinkClick r:id="rId13" action="ppaction://hlinksldjump"/>
          </p:cNvPr>
          <p:cNvSpPr/>
          <p:nvPr/>
        </p:nvSpPr>
        <p:spPr>
          <a:xfrm>
            <a:off x="5796000" y="3645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8">
            <a:hlinkClick r:id="rId14" action="ppaction://hlinksldjump"/>
          </p:cNvPr>
          <p:cNvSpPr/>
          <p:nvPr/>
        </p:nvSpPr>
        <p:spPr>
          <a:xfrm>
            <a:off x="5796000" y="4653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9">
            <a:hlinkClick r:id="rId15" action="ppaction://hlinksldjump"/>
          </p:cNvPr>
          <p:cNvSpPr/>
          <p:nvPr/>
        </p:nvSpPr>
        <p:spPr>
          <a:xfrm>
            <a:off x="6804000" y="256392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0">
            <a:hlinkClick r:id="rId16" action="ppaction://hlinksldjump"/>
          </p:cNvPr>
          <p:cNvSpPr/>
          <p:nvPr/>
        </p:nvSpPr>
        <p:spPr>
          <a:xfrm>
            <a:off x="6877080" y="3645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1">
            <a:hlinkClick r:id="rId17" action="ppaction://hlinksldjump"/>
          </p:cNvPr>
          <p:cNvSpPr/>
          <p:nvPr/>
        </p:nvSpPr>
        <p:spPr>
          <a:xfrm>
            <a:off x="6877080" y="4653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2">
            <a:hlinkClick r:id="rId18" action="ppaction://hlinksldjump"/>
          </p:cNvPr>
          <p:cNvSpPr/>
          <p:nvPr/>
        </p:nvSpPr>
        <p:spPr>
          <a:xfrm>
            <a:off x="7885080" y="256392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3">
            <a:hlinkClick r:id="rId19" action="ppaction://hlinksldjump"/>
          </p:cNvPr>
          <p:cNvSpPr/>
          <p:nvPr/>
        </p:nvSpPr>
        <p:spPr>
          <a:xfrm>
            <a:off x="7885080" y="3645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4">
            <a:hlinkClick r:id="rId20" action="ppaction://hlinksldjump"/>
          </p:cNvPr>
          <p:cNvSpPr/>
          <p:nvPr/>
        </p:nvSpPr>
        <p:spPr>
          <a:xfrm>
            <a:off x="7885080" y="4653000"/>
            <a:ext cx="934920" cy="86508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3343" h="21600">
                <a:moveTo>
                  <a:pt x="0" y="0"/>
                </a:moveTo>
                <a:lnTo>
                  <a:pt x="23343" y="0"/>
                </a:lnTo>
                <a:lnTo>
                  <a:pt x="23343" y="21600"/>
                </a:lnTo>
                <a:lnTo>
                  <a:pt x="0" y="21600"/>
                </a:lnTo>
                <a:close/>
              </a:path>
              <a:path fill="lightenLess" w="23343" h="21600">
                <a:moveTo>
                  <a:pt x="0" y="0"/>
                </a:moveTo>
                <a:lnTo>
                  <a:pt x="23343" y="0"/>
                </a:lnTo>
                <a:lnTo>
                  <a:pt x="21943" y="1400"/>
                </a:lnTo>
                <a:lnTo>
                  <a:pt x="1400" y="1400"/>
                </a:lnTo>
                <a:close/>
              </a:path>
              <a:path fill="darken" w="23343" h="21600">
                <a:moveTo>
                  <a:pt x="23343" y="0"/>
                </a:moveTo>
                <a:lnTo>
                  <a:pt x="23343" y="21600"/>
                </a:lnTo>
                <a:lnTo>
                  <a:pt x="21943" y="20200"/>
                </a:lnTo>
                <a:lnTo>
                  <a:pt x="21943" y="1400"/>
                </a:lnTo>
                <a:close/>
              </a:path>
              <a:path fill="darkenLess" w="23343" h="21600">
                <a:moveTo>
                  <a:pt x="2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3" y="20200"/>
                </a:lnTo>
                <a:close/>
              </a:path>
              <a:path fill="lighten" w="2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7" descr=""/>
          <p:cNvPicPr/>
          <p:nvPr/>
        </p:nvPicPr>
        <p:blipFill>
          <a:blip r:embed="rId21"/>
          <a:stretch/>
        </p:blipFill>
        <p:spPr>
          <a:xfrm>
            <a:off x="7380360" y="0"/>
            <a:ext cx="1076400" cy="134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8" descr=""/>
          <p:cNvPicPr/>
          <p:nvPr/>
        </p:nvPicPr>
        <p:blipFill>
          <a:blip r:embed="rId22"/>
          <a:stretch/>
        </p:blipFill>
        <p:spPr>
          <a:xfrm>
            <a:off x="395280" y="0"/>
            <a:ext cx="2232000" cy="1341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9" descr=""/>
          <p:cNvPicPr/>
          <p:nvPr/>
        </p:nvPicPr>
        <p:blipFill>
          <a:blip r:embed="rId23"/>
          <a:stretch/>
        </p:blipFill>
        <p:spPr>
          <a:xfrm>
            <a:off x="539640" y="5734080"/>
            <a:ext cx="2376720" cy="112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0" descr=""/>
          <p:cNvPicPr/>
          <p:nvPr/>
        </p:nvPicPr>
        <p:blipFill>
          <a:blip r:embed="rId24"/>
          <a:stretch/>
        </p:blipFill>
        <p:spPr>
          <a:xfrm>
            <a:off x="7164360" y="5600880"/>
            <a:ext cx="1523880" cy="12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1" descr=""/>
          <p:cNvPicPr/>
          <p:nvPr/>
        </p:nvPicPr>
        <p:blipFill>
          <a:blip r:embed="rId25"/>
          <a:stretch/>
        </p:blipFill>
        <p:spPr>
          <a:xfrm>
            <a:off x="3851280" y="5661000"/>
            <a:ext cx="1765440" cy="11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2" descr=""/>
          <p:cNvPicPr/>
          <p:nvPr/>
        </p:nvPicPr>
        <p:blipFill>
          <a:blip r:embed="rId26"/>
          <a:stretch/>
        </p:blipFill>
        <p:spPr>
          <a:xfrm>
            <a:off x="3564000" y="0"/>
            <a:ext cx="2448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17480"/>
            <a:ext cx="799128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12 санының 4 нче дәрәҗәсе нинди цифрга тәмамла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843280" y="4437000"/>
            <a:ext cx="2305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лик Иа – Иа съедает за обедом 40 кустиков чертополоха по 50 грамм каждый. Винни – Пух – 4 банки меда по полкило каждая. Кто потяжелел за обед больш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илгесез хәрефне әйтегез: 2х – 5 = 1 (р), 2х – 1 = 13 (л), 8 – х = ? Чишү ачкычы: портфел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5239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8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8400" indent="13680">
              <a:spcBef>
                <a:spcPts val="9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гезләмә төзеп мәсьәләне чиш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та  36 укучы. Малайлар кызларга караганда 2 тапкыр артык. Класста ничә малай һәм ничә кыз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>
            <a:hlinkClick r:id="" action="ppaction://hlinkshowjump?jump=firstslide"/>
          </p:cNvPr>
          <p:cNvSpPr/>
          <p:nvPr/>
        </p:nvSpPr>
        <p:spPr>
          <a:xfrm>
            <a:off x="1547640" y="5373720"/>
            <a:ext cx="1368720" cy="936720"/>
          </a:xfrm>
          <a:custGeom>
            <a:avLst/>
            <a:gdLst>
              <a:gd name="textAreaLeft" fmla="*/ 60480 w 1368720"/>
              <a:gd name="textAreaRight" fmla="*/ 1308240 w 1368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58" h="21600">
                <a:moveTo>
                  <a:pt x="0" y="0"/>
                </a:moveTo>
                <a:lnTo>
                  <a:pt x="31558" y="0"/>
                </a:lnTo>
                <a:lnTo>
                  <a:pt x="31558" y="21600"/>
                </a:lnTo>
                <a:lnTo>
                  <a:pt x="0" y="21600"/>
                </a:lnTo>
                <a:close/>
              </a:path>
              <a:path fill="lightenLess" w="31558" h="21600">
                <a:moveTo>
                  <a:pt x="0" y="0"/>
                </a:moveTo>
                <a:lnTo>
                  <a:pt x="31558" y="0"/>
                </a:lnTo>
                <a:lnTo>
                  <a:pt x="30158" y="1400"/>
                </a:lnTo>
                <a:lnTo>
                  <a:pt x="1400" y="1400"/>
                </a:lnTo>
                <a:close/>
              </a:path>
              <a:path fill="darken" w="31558" h="21600">
                <a:moveTo>
                  <a:pt x="31558" y="0"/>
                </a:moveTo>
                <a:lnTo>
                  <a:pt x="31558" y="21600"/>
                </a:lnTo>
                <a:lnTo>
                  <a:pt x="30158" y="20200"/>
                </a:lnTo>
                <a:lnTo>
                  <a:pt x="30158" y="1400"/>
                </a:lnTo>
                <a:close/>
              </a:path>
              <a:path fill="darkenLess" w="31558" h="21600">
                <a:moveTo>
                  <a:pt x="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8" y="20200"/>
                </a:lnTo>
                <a:close/>
              </a:path>
              <a:path fill="lighten" w="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58" h="21600">
                <a:moveTo>
                  <a:pt x="12280" y="10800"/>
                </a:moveTo>
                <a:lnTo>
                  <a:pt x="22785" y="3794"/>
                </a:lnTo>
                <a:lnTo>
                  <a:pt x="22785" y="17806"/>
                </a:lnTo>
                <a:close/>
              </a:path>
              <a:path fill="darken" w="31558" h="21600">
                <a:moveTo>
                  <a:pt x="8772" y="3794"/>
                </a:moveTo>
                <a:lnTo>
                  <a:pt x="10435" y="3794"/>
                </a:lnTo>
                <a:lnTo>
                  <a:pt x="10435" y="17806"/>
                </a:lnTo>
                <a:lnTo>
                  <a:pt x="87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4356000" y="4713120"/>
            <a:ext cx="3102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йсы тигезләмә артык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  3х + 4 = 7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   18 – 5х = 8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  2х + 4 = 20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   9 – х =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6875640" y="342900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бурашка белән крокодил Генага,  Шапокляк карчык 39 – әшәкелек эшләгән. Крокодилга Чебурашкага караганда 7 гә күбрәк эләккән.  Һәрберсенә карчык ничәшәр начарлык эшләгән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2484360" y="44737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на белән Чебурашка урманга гөмбәгә барганнар. Крокодилга караганда Чебурашка 3 тапкыр күбрәк гөмбә тапкан. Аларның икесенә бергә 24 кортсыз гөмбәләре булып чыккан. Гөм бәләрнең яртысы кортлы булса, Г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чә гөмб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пкан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3708360" y="4797360"/>
            <a:ext cx="26956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рау урынындагы санны тап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                         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   !    12             8      !     10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  !   16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>
            <a:hlinkClick r:id="" action="ppaction://hlinkshowjump?jump=firstslide"/>
          </p:cNvPr>
          <p:cNvSpPr/>
          <p:nvPr/>
        </p:nvSpPr>
        <p:spPr>
          <a:xfrm>
            <a:off x="611280" y="537372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7120080" y="3933720"/>
            <a:ext cx="2023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аннар рәтен дәвам ит:  7, 9,  16,  25,  41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3240000" cy="21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0" y="4005360"/>
            <a:ext cx="4897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аннар рәтен дәвам ит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5,  1,  13,  2,  11,  3,  9 ..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1187280" y="5300640"/>
            <a:ext cx="1368720" cy="936720"/>
          </a:xfrm>
          <a:custGeom>
            <a:avLst/>
            <a:gdLst>
              <a:gd name="textAreaLeft" fmla="*/ 60480 w 1368720"/>
              <a:gd name="textAreaRight" fmla="*/ 1308240 w 1368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58" h="21600">
                <a:moveTo>
                  <a:pt x="0" y="0"/>
                </a:moveTo>
                <a:lnTo>
                  <a:pt x="31558" y="0"/>
                </a:lnTo>
                <a:lnTo>
                  <a:pt x="31558" y="21600"/>
                </a:lnTo>
                <a:lnTo>
                  <a:pt x="0" y="21600"/>
                </a:lnTo>
                <a:close/>
              </a:path>
              <a:path fill="lightenLess" w="31558" h="21600">
                <a:moveTo>
                  <a:pt x="0" y="0"/>
                </a:moveTo>
                <a:lnTo>
                  <a:pt x="31558" y="0"/>
                </a:lnTo>
                <a:lnTo>
                  <a:pt x="30158" y="1400"/>
                </a:lnTo>
                <a:lnTo>
                  <a:pt x="1400" y="1400"/>
                </a:lnTo>
                <a:close/>
              </a:path>
              <a:path fill="darken" w="31558" h="21600">
                <a:moveTo>
                  <a:pt x="31558" y="0"/>
                </a:moveTo>
                <a:lnTo>
                  <a:pt x="31558" y="21600"/>
                </a:lnTo>
                <a:lnTo>
                  <a:pt x="30158" y="20200"/>
                </a:lnTo>
                <a:lnTo>
                  <a:pt x="30158" y="1400"/>
                </a:lnTo>
                <a:close/>
              </a:path>
              <a:path fill="darkenLess" w="31558" h="21600">
                <a:moveTo>
                  <a:pt x="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8" y="20200"/>
                </a:lnTo>
                <a:close/>
              </a:path>
              <a:path fill="lighten" w="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58" h="21600">
                <a:moveTo>
                  <a:pt x="12280" y="10800"/>
                </a:moveTo>
                <a:lnTo>
                  <a:pt x="22785" y="3794"/>
                </a:lnTo>
                <a:lnTo>
                  <a:pt x="22785" y="17806"/>
                </a:lnTo>
                <a:close/>
              </a:path>
              <a:path fill="darken" w="31558" h="21600">
                <a:moveTo>
                  <a:pt x="8772" y="3794"/>
                </a:moveTo>
                <a:lnTo>
                  <a:pt x="10435" y="3794"/>
                </a:lnTo>
                <a:lnTo>
                  <a:pt x="10435" y="17806"/>
                </a:lnTo>
                <a:lnTo>
                  <a:pt x="87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012000" y="4346640"/>
            <a:ext cx="3132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>
            <a:hlinkClick r:id="" action="ppaction://hlinkshowjump?jump=firstslide"/>
          </p:cNvPr>
          <p:cNvSpPr/>
          <p:nvPr/>
        </p:nvSpPr>
        <p:spPr>
          <a:xfrm>
            <a:off x="7667640" y="5877000"/>
            <a:ext cx="1079640" cy="69192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33697" h="21600">
                <a:moveTo>
                  <a:pt x="0" y="0"/>
                </a:moveTo>
                <a:lnTo>
                  <a:pt x="33697" y="0"/>
                </a:lnTo>
                <a:lnTo>
                  <a:pt x="33697" y="21600"/>
                </a:lnTo>
                <a:lnTo>
                  <a:pt x="0" y="21600"/>
                </a:lnTo>
                <a:close/>
              </a:path>
              <a:path fill="lightenLess" w="33697" h="21600">
                <a:moveTo>
                  <a:pt x="0" y="0"/>
                </a:moveTo>
                <a:lnTo>
                  <a:pt x="33697" y="0"/>
                </a:lnTo>
                <a:lnTo>
                  <a:pt x="32297" y="1400"/>
                </a:lnTo>
                <a:lnTo>
                  <a:pt x="1400" y="1400"/>
                </a:lnTo>
                <a:close/>
              </a:path>
              <a:path fill="darken" w="33697" h="21600">
                <a:moveTo>
                  <a:pt x="33697" y="0"/>
                </a:moveTo>
                <a:lnTo>
                  <a:pt x="33697" y="21600"/>
                </a:lnTo>
                <a:lnTo>
                  <a:pt x="32297" y="20200"/>
                </a:lnTo>
                <a:lnTo>
                  <a:pt x="32297" y="1400"/>
                </a:lnTo>
                <a:close/>
              </a:path>
              <a:path fill="darkenLess" w="33697" h="21600">
                <a:moveTo>
                  <a:pt x="33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97" y="20200"/>
                </a:lnTo>
                <a:close/>
              </a:path>
              <a:path fill="lighten" w="33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97" h="21600">
                <a:moveTo>
                  <a:pt x="13350" y="10800"/>
                </a:moveTo>
                <a:lnTo>
                  <a:pt x="23855" y="3794"/>
                </a:lnTo>
                <a:lnTo>
                  <a:pt x="23855" y="17806"/>
                </a:lnTo>
                <a:close/>
              </a:path>
              <a:path fill="darken" w="33697" h="21600">
                <a:moveTo>
                  <a:pt x="9842" y="3794"/>
                </a:moveTo>
                <a:lnTo>
                  <a:pt x="11505" y="3794"/>
                </a:lnTo>
                <a:lnTo>
                  <a:pt x="11505" y="17806"/>
                </a:lnTo>
                <a:lnTo>
                  <a:pt x="9842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68360" y="22320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 укучы 5 йомырканы 5 минутта пешерер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 укучы 10 йомырканы ничә минутта пешере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пончик"/>
          <p:cNvPicPr/>
          <p:nvPr/>
        </p:nvPicPr>
        <p:blipFill>
          <a:blip r:embed="rId1"/>
          <a:stretch/>
        </p:blipFill>
        <p:spPr>
          <a:xfrm>
            <a:off x="3132000" y="4173480"/>
            <a:ext cx="2737080" cy="212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7667640" y="3645000"/>
            <a:ext cx="10303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67564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 1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рау урынындагы санны тап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4   (38)  52,            47 (50) 53,                             14 (  ?  ) 3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519280" cy="2208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3203640" y="3933720"/>
            <a:ext cx="3222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ки-маус  20 шар тотып очып киткән. Ул киемнәре белән бергә 7 кг икән. Һәр шар  0,5 кг «күтәрсә» ,  түбән төшә башлар өчен ничә шарны ычкындырырга кирәк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2916360" y="4641840"/>
            <a:ext cx="22161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612720" y="847080"/>
            <a:ext cx="806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ер гаиләдә 2 ата, 2 ул, 1 онык. Болар барлыгы ничә кеш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>
            <a:hlinkClick r:id="" action="ppaction://hlinkshowjump?jump=firstslide"/>
          </p:cNvPr>
          <p:cNvSpPr/>
          <p:nvPr/>
        </p:nvSpPr>
        <p:spPr>
          <a:xfrm>
            <a:off x="7093080" y="5877000"/>
            <a:ext cx="1295280" cy="720720"/>
          </a:xfrm>
          <a:custGeom>
            <a:avLst/>
            <a:gdLst>
              <a:gd name="textAreaLeft" fmla="*/ 46440 w 1295280"/>
              <a:gd name="textAreaRight" fmla="*/ 1248840 w 1295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11" h="21600">
                <a:moveTo>
                  <a:pt x="0" y="0"/>
                </a:moveTo>
                <a:lnTo>
                  <a:pt x="38811" y="0"/>
                </a:lnTo>
                <a:lnTo>
                  <a:pt x="38811" y="21600"/>
                </a:lnTo>
                <a:lnTo>
                  <a:pt x="0" y="21600"/>
                </a:lnTo>
                <a:close/>
              </a:path>
              <a:path fill="lightenLess" w="38811" h="21600">
                <a:moveTo>
                  <a:pt x="0" y="0"/>
                </a:moveTo>
                <a:lnTo>
                  <a:pt x="38811" y="0"/>
                </a:lnTo>
                <a:lnTo>
                  <a:pt x="37411" y="1400"/>
                </a:lnTo>
                <a:lnTo>
                  <a:pt x="1400" y="1400"/>
                </a:lnTo>
                <a:close/>
              </a:path>
              <a:path fill="darken" w="38811" h="21600">
                <a:moveTo>
                  <a:pt x="38811" y="0"/>
                </a:moveTo>
                <a:lnTo>
                  <a:pt x="38811" y="21600"/>
                </a:lnTo>
                <a:lnTo>
                  <a:pt x="37411" y="20200"/>
                </a:lnTo>
                <a:lnTo>
                  <a:pt x="37411" y="1400"/>
                </a:lnTo>
                <a:close/>
              </a:path>
              <a:path fill="darkenLess" w="38811" h="21600">
                <a:moveTo>
                  <a:pt x="38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11" y="20200"/>
                </a:lnTo>
                <a:close/>
              </a:path>
              <a:path fill="lighten" w="38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11" h="21600">
                <a:moveTo>
                  <a:pt x="15907" y="10800"/>
                </a:moveTo>
                <a:lnTo>
                  <a:pt x="26412" y="3794"/>
                </a:lnTo>
                <a:lnTo>
                  <a:pt x="26412" y="17806"/>
                </a:lnTo>
                <a:close/>
              </a:path>
              <a:path fill="darken" w="38811" h="21600">
                <a:moveTo>
                  <a:pt x="12399" y="3794"/>
                </a:moveTo>
                <a:lnTo>
                  <a:pt x="14061" y="3794"/>
                </a:lnTo>
                <a:lnTo>
                  <a:pt x="14061" y="17806"/>
                </a:lnTo>
                <a:lnTo>
                  <a:pt x="12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181560" y="2565360"/>
            <a:ext cx="28782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250920" y="475560"/>
            <a:ext cx="871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үлмәдә  почмак саен бер мәч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һәр мәченең койрыгында 1 мәч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һәр мәченең каршысында өчәр мәч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үлмәдә барысы ничә мәч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>
            <a:hlinkClick r:id="" action="ppaction://hlinkshowjump?jump=firstslide"/>
          </p:cNvPr>
          <p:cNvSpPr/>
          <p:nvPr/>
        </p:nvSpPr>
        <p:spPr>
          <a:xfrm>
            <a:off x="7667640" y="5805360"/>
            <a:ext cx="1297080" cy="71928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8943" h="21600">
                <a:moveTo>
                  <a:pt x="0" y="0"/>
                </a:moveTo>
                <a:lnTo>
                  <a:pt x="38943" y="0"/>
                </a:lnTo>
                <a:lnTo>
                  <a:pt x="38943" y="21600"/>
                </a:lnTo>
                <a:lnTo>
                  <a:pt x="0" y="21600"/>
                </a:lnTo>
                <a:close/>
              </a:path>
              <a:path fill="lightenLess" w="38943" h="21600">
                <a:moveTo>
                  <a:pt x="0" y="0"/>
                </a:moveTo>
                <a:lnTo>
                  <a:pt x="38943" y="0"/>
                </a:lnTo>
                <a:lnTo>
                  <a:pt x="37543" y="1400"/>
                </a:lnTo>
                <a:lnTo>
                  <a:pt x="1400" y="1400"/>
                </a:lnTo>
                <a:close/>
              </a:path>
              <a:path fill="darken" w="38943" h="21600">
                <a:moveTo>
                  <a:pt x="38943" y="0"/>
                </a:moveTo>
                <a:lnTo>
                  <a:pt x="38943" y="21600"/>
                </a:lnTo>
                <a:lnTo>
                  <a:pt x="37543" y="20200"/>
                </a:lnTo>
                <a:lnTo>
                  <a:pt x="37543" y="1400"/>
                </a:lnTo>
                <a:close/>
              </a:path>
              <a:path fill="darkenLess" w="38943" h="21600">
                <a:moveTo>
                  <a:pt x="38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43" y="20200"/>
                </a:lnTo>
                <a:close/>
              </a:path>
              <a:path fill="lighten" w="38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43" h="21600">
                <a:moveTo>
                  <a:pt x="15972" y="10800"/>
                </a:moveTo>
                <a:lnTo>
                  <a:pt x="26478" y="3794"/>
                </a:lnTo>
                <a:lnTo>
                  <a:pt x="26478" y="17806"/>
                </a:lnTo>
                <a:close/>
              </a:path>
              <a:path fill="darken" w="38943" h="21600">
                <a:moveTo>
                  <a:pt x="12465" y="3794"/>
                </a:moveTo>
                <a:lnTo>
                  <a:pt x="14127" y="3794"/>
                </a:lnTo>
                <a:lnTo>
                  <a:pt x="14127" y="17806"/>
                </a:lnTo>
                <a:lnTo>
                  <a:pt x="124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266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1533600" y="1061280"/>
            <a:ext cx="582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шәм яна ид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сен сүндерделә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чә шәм калы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firstslide"/>
          </p:cNvPr>
          <p:cNvSpPr/>
          <p:nvPr/>
        </p:nvSpPr>
        <p:spPr>
          <a:xfrm>
            <a:off x="7308720" y="5877000"/>
            <a:ext cx="1366920" cy="792000"/>
          </a:xfrm>
          <a:custGeom>
            <a:avLst/>
            <a:gdLst>
              <a:gd name="textAreaLeft" fmla="*/ 51120 w 1366920"/>
              <a:gd name="textAreaRight" fmla="*/ 1315800 w 1366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7273" h="21600">
                <a:moveTo>
                  <a:pt x="0" y="0"/>
                </a:moveTo>
                <a:lnTo>
                  <a:pt x="37273" y="0"/>
                </a:lnTo>
                <a:lnTo>
                  <a:pt x="37273" y="21600"/>
                </a:lnTo>
                <a:lnTo>
                  <a:pt x="0" y="21600"/>
                </a:lnTo>
                <a:close/>
              </a:path>
              <a:path fill="lightenLess" w="37273" h="21600">
                <a:moveTo>
                  <a:pt x="0" y="0"/>
                </a:moveTo>
                <a:lnTo>
                  <a:pt x="37273" y="0"/>
                </a:lnTo>
                <a:lnTo>
                  <a:pt x="35873" y="1400"/>
                </a:lnTo>
                <a:lnTo>
                  <a:pt x="1400" y="1400"/>
                </a:lnTo>
                <a:close/>
              </a:path>
              <a:path fill="darken" w="37273" h="21600">
                <a:moveTo>
                  <a:pt x="37273" y="0"/>
                </a:moveTo>
                <a:lnTo>
                  <a:pt x="37273" y="21600"/>
                </a:lnTo>
                <a:lnTo>
                  <a:pt x="35873" y="20200"/>
                </a:lnTo>
                <a:lnTo>
                  <a:pt x="35873" y="1400"/>
                </a:lnTo>
                <a:close/>
              </a:path>
              <a:path fill="darkenLess" w="37273" h="21600">
                <a:moveTo>
                  <a:pt x="37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73" y="20200"/>
                </a:lnTo>
                <a:close/>
              </a:path>
              <a:path fill="lighten" w="37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73" h="21600">
                <a:moveTo>
                  <a:pt x="15137" y="10800"/>
                </a:moveTo>
                <a:lnTo>
                  <a:pt x="25643" y="3794"/>
                </a:lnTo>
                <a:lnTo>
                  <a:pt x="25643" y="17806"/>
                </a:lnTo>
                <a:close/>
              </a:path>
              <a:path fill="darken" w="37273" h="21600">
                <a:moveTo>
                  <a:pt x="11630" y="3794"/>
                </a:moveTo>
                <a:lnTo>
                  <a:pt x="13292" y="3794"/>
                </a:lnTo>
                <a:lnTo>
                  <a:pt x="13292" y="17806"/>
                </a:lnTo>
                <a:lnTo>
                  <a:pt x="11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3780000" y="3429000"/>
            <a:ext cx="3873240" cy="286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Image177"/>
          <p:cNvPicPr/>
          <p:nvPr/>
        </p:nvPicPr>
        <p:blipFill>
          <a:blip r:embed="rId2"/>
          <a:stretch/>
        </p:blipFill>
        <p:spPr>
          <a:xfrm>
            <a:off x="468360" y="4164120"/>
            <a:ext cx="20797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>
            <a:hlinkClick r:id="" action="ppaction://hlinkshowjump?jump=firstslide"/>
          </p:cNvPr>
          <p:cNvSpPr/>
          <p:nvPr/>
        </p:nvSpPr>
        <p:spPr>
          <a:xfrm>
            <a:off x="7667640" y="5877000"/>
            <a:ext cx="1079640" cy="69192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33697" h="21600">
                <a:moveTo>
                  <a:pt x="0" y="0"/>
                </a:moveTo>
                <a:lnTo>
                  <a:pt x="33697" y="0"/>
                </a:lnTo>
                <a:lnTo>
                  <a:pt x="33697" y="21600"/>
                </a:lnTo>
                <a:lnTo>
                  <a:pt x="0" y="21600"/>
                </a:lnTo>
                <a:close/>
              </a:path>
              <a:path fill="lightenLess" w="33697" h="21600">
                <a:moveTo>
                  <a:pt x="0" y="0"/>
                </a:moveTo>
                <a:lnTo>
                  <a:pt x="33697" y="0"/>
                </a:lnTo>
                <a:lnTo>
                  <a:pt x="32297" y="1400"/>
                </a:lnTo>
                <a:lnTo>
                  <a:pt x="1400" y="1400"/>
                </a:lnTo>
                <a:close/>
              </a:path>
              <a:path fill="darken" w="33697" h="21600">
                <a:moveTo>
                  <a:pt x="33697" y="0"/>
                </a:moveTo>
                <a:lnTo>
                  <a:pt x="33697" y="21600"/>
                </a:lnTo>
                <a:lnTo>
                  <a:pt x="32297" y="20200"/>
                </a:lnTo>
                <a:lnTo>
                  <a:pt x="32297" y="1400"/>
                </a:lnTo>
                <a:close/>
              </a:path>
              <a:path fill="darkenLess" w="33697" h="21600">
                <a:moveTo>
                  <a:pt x="33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97" y="20200"/>
                </a:lnTo>
                <a:close/>
              </a:path>
              <a:path fill="lighten" w="33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97" h="21600">
                <a:moveTo>
                  <a:pt x="13350" y="10800"/>
                </a:moveTo>
                <a:lnTo>
                  <a:pt x="23855" y="3794"/>
                </a:lnTo>
                <a:lnTo>
                  <a:pt x="23855" y="17806"/>
                </a:lnTo>
                <a:close/>
              </a:path>
              <a:path fill="darken" w="33697" h="21600">
                <a:moveTo>
                  <a:pt x="9842" y="3794"/>
                </a:moveTo>
                <a:lnTo>
                  <a:pt x="11505" y="3794"/>
                </a:lnTo>
                <a:lnTo>
                  <a:pt x="11505" y="17806"/>
                </a:lnTo>
                <a:lnTo>
                  <a:pt x="9842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08000" y="186120"/>
            <a:ext cx="903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нчикның  комбинезонын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 кесәсе бар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 кесә- алд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лганнары – артт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лгы кесәләрдә 2 шәр пончик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рттагыларында –  3әр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рлыгы Пончикның ничә   пончигы бар 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пончик"/>
          <p:cNvPicPr/>
          <p:nvPr/>
        </p:nvPicPr>
        <p:blipFill>
          <a:blip r:embed="rId1"/>
          <a:stretch/>
        </p:blipFill>
        <p:spPr>
          <a:xfrm>
            <a:off x="6299280" y="981000"/>
            <a:ext cx="2736720" cy="212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7667640" y="3645000"/>
            <a:ext cx="10303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ң зур икеурынлы сан белән  аңа капма-каршы сан аермасын тап 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" action="ppaction://hlinkshowjump?jump=firstslide"/>
          </p:cNvPr>
          <p:cNvSpPr/>
          <p:nvPr/>
        </p:nvSpPr>
        <p:spPr>
          <a:xfrm>
            <a:off x="478800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6732720" y="3068640"/>
            <a:ext cx="20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201636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Өч тапкыр кыры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һәм бишнең сумм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ичә бул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7380360" y="3860640"/>
            <a:ext cx="13460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spcBef>
                <a:spcPts val="134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инди санны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ң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3 %ы 33 саны бул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>
            <a:hlinkClick r:id="" action="ppaction://hlinkshowjump?jump=firstslide"/>
          </p:cNvPr>
          <p:cNvSpPr/>
          <p:nvPr/>
        </p:nvSpPr>
        <p:spPr>
          <a:xfrm>
            <a:off x="6659640" y="5661000"/>
            <a:ext cx="1368360" cy="936720"/>
          </a:xfrm>
          <a:custGeom>
            <a:avLst/>
            <a:gdLst>
              <a:gd name="textAreaLeft" fmla="*/ 60480 w 1368360"/>
              <a:gd name="textAreaRight" fmla="*/ 1307880 w 1368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49" h="21600">
                <a:moveTo>
                  <a:pt x="0" y="0"/>
                </a:moveTo>
                <a:lnTo>
                  <a:pt x="31549" y="0"/>
                </a:lnTo>
                <a:lnTo>
                  <a:pt x="31549" y="21600"/>
                </a:lnTo>
                <a:lnTo>
                  <a:pt x="0" y="21600"/>
                </a:lnTo>
                <a:close/>
              </a:path>
              <a:path fill="lightenLess" w="31549" h="21600">
                <a:moveTo>
                  <a:pt x="0" y="0"/>
                </a:moveTo>
                <a:lnTo>
                  <a:pt x="31549" y="0"/>
                </a:lnTo>
                <a:lnTo>
                  <a:pt x="30149" y="1400"/>
                </a:lnTo>
                <a:lnTo>
                  <a:pt x="1400" y="1400"/>
                </a:lnTo>
                <a:close/>
              </a:path>
              <a:path fill="darken" w="31549" h="21600">
                <a:moveTo>
                  <a:pt x="31549" y="0"/>
                </a:moveTo>
                <a:lnTo>
                  <a:pt x="31549" y="21600"/>
                </a:lnTo>
                <a:lnTo>
                  <a:pt x="30149" y="20200"/>
                </a:lnTo>
                <a:lnTo>
                  <a:pt x="30149" y="1400"/>
                </a:lnTo>
                <a:close/>
              </a:path>
              <a:path fill="darkenLess" w="31549" h="21600">
                <a:moveTo>
                  <a:pt x="3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9" y="20200"/>
                </a:lnTo>
                <a:close/>
              </a:path>
              <a:path fill="lighten" w="3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9" h="21600">
                <a:moveTo>
                  <a:pt x="12276" y="10800"/>
                </a:moveTo>
                <a:lnTo>
                  <a:pt x="22781" y="3794"/>
                </a:lnTo>
                <a:lnTo>
                  <a:pt x="22781" y="17806"/>
                </a:lnTo>
                <a:close/>
              </a:path>
              <a:path fill="darken" w="31549" h="21600">
                <a:moveTo>
                  <a:pt x="8768" y="3794"/>
                </a:moveTo>
                <a:lnTo>
                  <a:pt x="10431" y="3794"/>
                </a:lnTo>
                <a:lnTo>
                  <a:pt x="10431" y="17806"/>
                </a:lnTo>
                <a:lnTo>
                  <a:pt x="8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2357280" y="3929040"/>
            <a:ext cx="3918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6:03:32Z</dcterms:created>
  <dc:creator>МОУОШ№1</dc:creator>
  <dc:description/>
  <dc:language>en-US</dc:language>
  <cp:lastModifiedBy>Customer</cp:lastModifiedBy>
  <dcterms:modified xsi:type="dcterms:W3CDTF">2012-10-15T11:19:42Z</dcterms:modified>
  <cp:revision>27</cp:revision>
  <dc:subject/>
  <dc:title>Слайд 1</dc:title>
</cp:coreProperties>
</file>