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00A-DE06-4CDF-9E77-FB724157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C79-4217-4338-8415-F1EFF3A6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648-04A3-4CA8-8A73-A0306105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29B-9105-412F-824B-CF49CDCE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C9B7-20DA-4F3F-B74F-F471E8ED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A163-72A5-41B2-929C-678EC81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BC8-0EAF-429C-BD6A-3CD845F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B3E-B4C1-48D8-B448-6C9BB6B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A30C-4E68-49C8-BF39-7A7AE273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F85-50D9-4DF7-BCD9-EBAB70B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7801-E7A3-4A82-9E76-1E8CCE6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B0E-C42B-41F3-8489-84CD2FF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003-590E-440D-9ECE-5E87AAD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DF6-7C0A-47F5-BE1F-DCCF664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FFDF-C4BC-43EE-B274-153A97C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A7C3-2D0E-426B-85B8-A3929DEE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E94-ED65-47E2-9F02-B599B7B3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3CC-2F0E-49E8-B690-6A3BB07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1D4-A1EE-47E5-AE44-A0CEC6F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BEE-3D4F-4F24-9CB7-4EBB335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E20-3E3A-4913-B9A7-065B80C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3A9-086A-4DC3-BDEF-EAEE505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EEB-B0A8-415F-9577-94EA2C3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C6B-AA4D-40C9-9A4F-090AE3A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5FF-2AAF-4913-8E75-B15BF1FDD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7668-A60C-4FBE-A275-D863D1B95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7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jpeg"/><Relationship Id="rId22" Type="http://schemas.openxmlformats.org/officeDocument/2006/relationships/image" Target="../media/image2.jpe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6.jpe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9280" y="1397160"/>
          <a:ext cx="8713800" cy="4216320"/>
        </p:xfrm>
        <a:graphic>
          <a:graphicData uri="http://schemas.openxmlformats.org/drawingml/2006/table">
            <a:tbl>
              <a:tblPr/>
              <a:tblGrid>
                <a:gridCol w="3456000"/>
                <a:gridCol w="844560"/>
                <a:gridCol w="927360"/>
                <a:gridCol w="1744560"/>
                <a:gridCol w="17413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ызыклы 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«Ох, бу алгебра!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игезләмәләр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из исәплә, тиз уйла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AutoShape 126">
            <a:hlinkClick r:id="rId1" action="ppaction://hlinksldjump"/>
          </p:cNvPr>
          <p:cNvSpPr/>
          <p:nvPr/>
        </p:nvSpPr>
        <p:spPr>
          <a:xfrm>
            <a:off x="356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7">
            <a:hlinkClick r:id="rId2" action="ppaction://hlinksldjump"/>
          </p:cNvPr>
          <p:cNvSpPr/>
          <p:nvPr/>
        </p:nvSpPr>
        <p:spPr>
          <a:xfrm>
            <a:off x="464508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8">
            <a:hlinkClick r:id="rId3" action="ppaction://hlinksldjump"/>
          </p:cNvPr>
          <p:cNvSpPr/>
          <p:nvPr/>
        </p:nvSpPr>
        <p:spPr>
          <a:xfrm>
            <a:off x="565164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9">
            <a:hlinkClick r:id="rId4" action="ppaction://hlinksldjump"/>
          </p:cNvPr>
          <p:cNvSpPr/>
          <p:nvPr/>
        </p:nvSpPr>
        <p:spPr>
          <a:xfrm>
            <a:off x="680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0">
            <a:hlinkClick r:id="rId5" action="ppaction://hlinksldjump"/>
          </p:cNvPr>
          <p:cNvSpPr/>
          <p:nvPr/>
        </p:nvSpPr>
        <p:spPr>
          <a:xfrm>
            <a:off x="795816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0">
            <a:hlinkClick r:id="rId6" action="ppaction://hlinksldjump"/>
          </p:cNvPr>
          <p:cNvSpPr/>
          <p:nvPr/>
        </p:nvSpPr>
        <p:spPr>
          <a:xfrm>
            <a:off x="363528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1">
            <a:hlinkClick r:id="rId7" action="ppaction://hlinksldjump"/>
          </p:cNvPr>
          <p:cNvSpPr/>
          <p:nvPr/>
        </p:nvSpPr>
        <p:spPr>
          <a:xfrm>
            <a:off x="4716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2">
            <a:hlinkClick r:id="rId8" action="ppaction://hlinksldjump"/>
          </p:cNvPr>
          <p:cNvSpPr/>
          <p:nvPr/>
        </p:nvSpPr>
        <p:spPr>
          <a:xfrm>
            <a:off x="471636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3">
            <a:hlinkClick r:id="rId9" action="ppaction://hlinksldjump"/>
          </p:cNvPr>
          <p:cNvSpPr/>
          <p:nvPr/>
        </p:nvSpPr>
        <p:spPr>
          <a:xfrm>
            <a:off x="471636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4">
            <a:hlinkClick r:id="rId10" action="ppaction://hlinksldjump"/>
          </p:cNvPr>
          <p:cNvSpPr/>
          <p:nvPr/>
        </p:nvSpPr>
        <p:spPr>
          <a:xfrm>
            <a:off x="363528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5">
            <a:hlinkClick r:id="rId11" action="ppaction://hlinksldjump"/>
          </p:cNvPr>
          <p:cNvSpPr/>
          <p:nvPr/>
        </p:nvSpPr>
        <p:spPr>
          <a:xfrm>
            <a:off x="363528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6">
            <a:hlinkClick r:id="rId12" action="ppaction://hlinksldjump"/>
          </p:cNvPr>
          <p:cNvSpPr/>
          <p:nvPr/>
        </p:nvSpPr>
        <p:spPr>
          <a:xfrm>
            <a:off x="5724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7">
            <a:hlinkClick r:id="rId13" action="ppaction://hlinksldjump"/>
          </p:cNvPr>
          <p:cNvSpPr/>
          <p:nvPr/>
        </p:nvSpPr>
        <p:spPr>
          <a:xfrm>
            <a:off x="579600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8">
            <a:hlinkClick r:id="rId14" action="ppaction://hlinksldjump"/>
          </p:cNvPr>
          <p:cNvSpPr/>
          <p:nvPr/>
        </p:nvSpPr>
        <p:spPr>
          <a:xfrm>
            <a:off x="579600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9">
            <a:hlinkClick r:id="rId15" action="ppaction://hlinksldjump"/>
          </p:cNvPr>
          <p:cNvSpPr/>
          <p:nvPr/>
        </p:nvSpPr>
        <p:spPr>
          <a:xfrm>
            <a:off x="680400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0">
            <a:hlinkClick r:id="rId16" action="ppaction://hlinksldjump"/>
          </p:cNvPr>
          <p:cNvSpPr/>
          <p:nvPr/>
        </p:nvSpPr>
        <p:spPr>
          <a:xfrm>
            <a:off x="6877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1">
            <a:hlinkClick r:id="rId17" action="ppaction://hlinksldjump"/>
          </p:cNvPr>
          <p:cNvSpPr/>
          <p:nvPr/>
        </p:nvSpPr>
        <p:spPr>
          <a:xfrm>
            <a:off x="6877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2">
            <a:hlinkClick r:id="rId18" action="ppaction://hlinksldjump"/>
          </p:cNvPr>
          <p:cNvSpPr/>
          <p:nvPr/>
        </p:nvSpPr>
        <p:spPr>
          <a:xfrm>
            <a:off x="788508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3">
            <a:hlinkClick r:id="rId19" action="ppaction://hlinksldjump"/>
          </p:cNvPr>
          <p:cNvSpPr/>
          <p:nvPr/>
        </p:nvSpPr>
        <p:spPr>
          <a:xfrm>
            <a:off x="7885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4">
            <a:hlinkClick r:id="rId20" action="ppaction://hlinksldjump"/>
          </p:cNvPr>
          <p:cNvSpPr/>
          <p:nvPr/>
        </p:nvSpPr>
        <p:spPr>
          <a:xfrm>
            <a:off x="7885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7" descr=""/>
          <p:cNvPicPr/>
          <p:nvPr/>
        </p:nvPicPr>
        <p:blipFill>
          <a:blip r:embed="rId21"/>
          <a:stretch/>
        </p:blipFill>
        <p:spPr>
          <a:xfrm>
            <a:off x="7380360" y="0"/>
            <a:ext cx="1076400" cy="13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8" descr=""/>
          <p:cNvPicPr/>
          <p:nvPr/>
        </p:nvPicPr>
        <p:blipFill>
          <a:blip r:embed="rId22"/>
          <a:stretch/>
        </p:blipFill>
        <p:spPr>
          <a:xfrm>
            <a:off x="395280" y="0"/>
            <a:ext cx="223200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9" descr=""/>
          <p:cNvPicPr/>
          <p:nvPr/>
        </p:nvPicPr>
        <p:blipFill>
          <a:blip r:embed="rId23"/>
          <a:stretch/>
        </p:blipFill>
        <p:spPr>
          <a:xfrm>
            <a:off x="539640" y="5734080"/>
            <a:ext cx="2376720" cy="112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0" descr=""/>
          <p:cNvPicPr/>
          <p:nvPr/>
        </p:nvPicPr>
        <p:blipFill>
          <a:blip r:embed="rId24"/>
          <a:stretch/>
        </p:blipFill>
        <p:spPr>
          <a:xfrm>
            <a:off x="7164360" y="560088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1" descr=""/>
          <p:cNvPicPr/>
          <p:nvPr/>
        </p:nvPicPr>
        <p:blipFill>
          <a:blip r:embed="rId25"/>
          <a:stretch/>
        </p:blipFill>
        <p:spPr>
          <a:xfrm>
            <a:off x="3851280" y="5661000"/>
            <a:ext cx="1765440" cy="11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2" descr=""/>
          <p:cNvPicPr/>
          <p:nvPr/>
        </p:nvPicPr>
        <p:blipFill>
          <a:blip r:embed="rId26"/>
          <a:stretch/>
        </p:blipFill>
        <p:spPr>
          <a:xfrm>
            <a:off x="3564000" y="0"/>
            <a:ext cx="244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17480"/>
            <a:ext cx="799128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12 санының 4 нче дәрәҗәсе нинди цифрга тәмамл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2305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лик Иа – Иа съедает за обедом 40 кустиков чертополоха по 50 грамм каждый. Винни – Пух – 4 банки меда по полкило каждая. Кто потяжелел за обед больш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илгесез хәрефне әйтегез: 2х – 5 = 1 (р), 2х – 1 = 13 (л), 8 – х = ? Чишү ачкычы: портфе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5239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400" indent="1368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гезләмә төзеп мәсьәләне чиш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та  36 укучы. Малайлар кызларга караганда 2 тапкыр артык. Класста ничә малай һәм ничә кы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firstslide"/>
          </p:cNvPr>
          <p:cNvSpPr/>
          <p:nvPr/>
        </p:nvSpPr>
        <p:spPr>
          <a:xfrm>
            <a:off x="1547640" y="537372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356000" y="4713120"/>
            <a:ext cx="3102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йсы тигезләмә арты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  3х + 4 = 7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  18 – 5х = 8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2х + 4 = 20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   9 – х =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875640" y="342900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бурашка белән крокодил Генага,  Шапокляк карчык 39 – әшәкелек эшләгән. Крокодилга Чебурашкага караганда 7 гә күбрәк эләккән.  Һәрберсенә карчык ничәшәр начарлык эшләгән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484360" y="4473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на белән Чебурашка урманга гөмбәгә барганнар. Крокодилга караганда Чебурашка 3 тапкыр күбрәк гөмбә тапкан. Аларның икесенә бергә 24 кортсыз гөмбәләре булып чыккан. Гөм бәләрнең яртысы кортлы булса, Г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чә гөмб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пкан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708360" y="4797360"/>
            <a:ext cx="26956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рау урынындагы санны тап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                       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   !    12             8      !     10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  !   1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611280" y="537372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120080" y="3933720"/>
            <a:ext cx="2023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 7, 9,  16,  25,  41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4005360"/>
            <a:ext cx="4897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,  1,  13,  2,  11,  3,  9 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1187280" y="530064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012000" y="4346640"/>
            <a:ext cx="3132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232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укучы 5 йомырканы 5 минутта пешерер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 укучы 10 йомырканы ничә минутта пешер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пончик"/>
          <p:cNvPicPr/>
          <p:nvPr/>
        </p:nvPicPr>
        <p:blipFill>
          <a:blip r:embed="rId1"/>
          <a:stretch/>
        </p:blipFill>
        <p:spPr>
          <a:xfrm>
            <a:off x="3132000" y="4173480"/>
            <a:ext cx="2737080" cy="212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7667640" y="3645000"/>
            <a:ext cx="10303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756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1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рау урынындагы санны тап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   (38)  52,            47 (50) 53,                             14 (  ?  ) 3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20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322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ки-маус  20 шар тотып очып киткән. Ул киемнәре белән бергә 7 кг икән. Һәр шар  0,5 кг «күтәрсә» ,  түбән төшә башлар өчен ничә шарны ычкындырырга кирәк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916360" y="464184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12720" y="847080"/>
            <a:ext cx="806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р гаиләдә 2 ата, 2 ул, 1 онык. Болар барлыгы ничә кеш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firstslide"/>
          </p:cNvPr>
          <p:cNvSpPr/>
          <p:nvPr/>
        </p:nvSpPr>
        <p:spPr>
          <a:xfrm>
            <a:off x="7093080" y="5877000"/>
            <a:ext cx="1295280" cy="720720"/>
          </a:xfrm>
          <a:custGeom>
            <a:avLst/>
            <a:gdLst>
              <a:gd name="textAreaLeft" fmla="*/ 46440 w 1295280"/>
              <a:gd name="textAreaRight" fmla="*/ 1248840 w 1295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11" h="21600">
                <a:moveTo>
                  <a:pt x="0" y="0"/>
                </a:moveTo>
                <a:lnTo>
                  <a:pt x="38811" y="0"/>
                </a:lnTo>
                <a:lnTo>
                  <a:pt x="38811" y="21600"/>
                </a:lnTo>
                <a:lnTo>
                  <a:pt x="0" y="21600"/>
                </a:lnTo>
                <a:close/>
              </a:path>
              <a:path fill="lightenLess" w="38811" h="21600">
                <a:moveTo>
                  <a:pt x="0" y="0"/>
                </a:moveTo>
                <a:lnTo>
                  <a:pt x="38811" y="0"/>
                </a:lnTo>
                <a:lnTo>
                  <a:pt x="37411" y="1400"/>
                </a:lnTo>
                <a:lnTo>
                  <a:pt x="1400" y="1400"/>
                </a:lnTo>
                <a:close/>
              </a:path>
              <a:path fill="darken" w="38811" h="21600">
                <a:moveTo>
                  <a:pt x="38811" y="0"/>
                </a:moveTo>
                <a:lnTo>
                  <a:pt x="38811" y="21600"/>
                </a:lnTo>
                <a:lnTo>
                  <a:pt x="37411" y="20200"/>
                </a:lnTo>
                <a:lnTo>
                  <a:pt x="37411" y="1400"/>
                </a:lnTo>
                <a:close/>
              </a:path>
              <a:path fill="darkenLess" w="38811" h="21600">
                <a:moveTo>
                  <a:pt x="38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1" y="20200"/>
                </a:lnTo>
                <a:close/>
              </a:path>
              <a:path fill="lighten" w="38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1" h="21600">
                <a:moveTo>
                  <a:pt x="15907" y="10800"/>
                </a:moveTo>
                <a:lnTo>
                  <a:pt x="26412" y="3794"/>
                </a:lnTo>
                <a:lnTo>
                  <a:pt x="26412" y="17806"/>
                </a:lnTo>
                <a:close/>
              </a:path>
              <a:path fill="darken" w="38811" h="21600">
                <a:moveTo>
                  <a:pt x="12399" y="3794"/>
                </a:moveTo>
                <a:lnTo>
                  <a:pt x="14061" y="3794"/>
                </a:lnTo>
                <a:lnTo>
                  <a:pt x="14061" y="17806"/>
                </a:lnTo>
                <a:lnTo>
                  <a:pt x="12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81560" y="2565360"/>
            <a:ext cx="2878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250920" y="47556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үлмәдә  почмак саен бер мәч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һәр мәченең койрыгында 1 мәч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һәр мәченең каршысында өчәр мәч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үлмәдә барысы ничә мәч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firstslide"/>
          </p:cNvPr>
          <p:cNvSpPr/>
          <p:nvPr/>
        </p:nvSpPr>
        <p:spPr>
          <a:xfrm>
            <a:off x="7667640" y="580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43" h="21600">
                <a:moveTo>
                  <a:pt x="15972" y="10800"/>
                </a:moveTo>
                <a:lnTo>
                  <a:pt x="26478" y="3794"/>
                </a:lnTo>
                <a:lnTo>
                  <a:pt x="26478" y="17806"/>
                </a:lnTo>
                <a:close/>
              </a:path>
              <a:path fill="darken" w="38943" h="21600">
                <a:moveTo>
                  <a:pt x="12465" y="3794"/>
                </a:moveTo>
                <a:lnTo>
                  <a:pt x="14127" y="3794"/>
                </a:lnTo>
                <a:lnTo>
                  <a:pt x="14127" y="17806"/>
                </a:lnTo>
                <a:lnTo>
                  <a:pt x="124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266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1533600" y="1061280"/>
            <a:ext cx="58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шәм яна ид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сен сүндерделә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чә шәм калы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firstslide"/>
          </p:cNvPr>
          <p:cNvSpPr/>
          <p:nvPr/>
        </p:nvSpPr>
        <p:spPr>
          <a:xfrm>
            <a:off x="7308720" y="5877000"/>
            <a:ext cx="1366920" cy="792000"/>
          </a:xfrm>
          <a:custGeom>
            <a:avLst/>
            <a:gdLst>
              <a:gd name="textAreaLeft" fmla="*/ 51120 w 1366920"/>
              <a:gd name="textAreaRight" fmla="*/ 1315800 w 136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273" h="21600">
                <a:moveTo>
                  <a:pt x="0" y="0"/>
                </a:moveTo>
                <a:lnTo>
                  <a:pt x="37273" y="0"/>
                </a:lnTo>
                <a:lnTo>
                  <a:pt x="37273" y="21600"/>
                </a:lnTo>
                <a:lnTo>
                  <a:pt x="0" y="21600"/>
                </a:lnTo>
                <a:close/>
              </a:path>
              <a:path fill="lightenLess" w="37273" h="21600">
                <a:moveTo>
                  <a:pt x="0" y="0"/>
                </a:moveTo>
                <a:lnTo>
                  <a:pt x="37273" y="0"/>
                </a:lnTo>
                <a:lnTo>
                  <a:pt x="35873" y="1400"/>
                </a:lnTo>
                <a:lnTo>
                  <a:pt x="1400" y="1400"/>
                </a:lnTo>
                <a:close/>
              </a:path>
              <a:path fill="darken" w="37273" h="21600">
                <a:moveTo>
                  <a:pt x="37273" y="0"/>
                </a:moveTo>
                <a:lnTo>
                  <a:pt x="37273" y="21600"/>
                </a:lnTo>
                <a:lnTo>
                  <a:pt x="35873" y="20200"/>
                </a:lnTo>
                <a:lnTo>
                  <a:pt x="35873" y="1400"/>
                </a:lnTo>
                <a:close/>
              </a:path>
              <a:path fill="darkenLess" w="37273" h="21600">
                <a:moveTo>
                  <a:pt x="37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3" y="20200"/>
                </a:lnTo>
                <a:close/>
              </a:path>
              <a:path fill="lighten" w="37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73" h="21600">
                <a:moveTo>
                  <a:pt x="15137" y="10800"/>
                </a:moveTo>
                <a:lnTo>
                  <a:pt x="25643" y="3794"/>
                </a:lnTo>
                <a:lnTo>
                  <a:pt x="25643" y="17806"/>
                </a:lnTo>
                <a:close/>
              </a:path>
              <a:path fill="darken" w="37273" h="21600">
                <a:moveTo>
                  <a:pt x="11630" y="3794"/>
                </a:moveTo>
                <a:lnTo>
                  <a:pt x="13292" y="3794"/>
                </a:lnTo>
                <a:lnTo>
                  <a:pt x="13292" y="17806"/>
                </a:lnTo>
                <a:lnTo>
                  <a:pt x="11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73240" cy="286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177"/>
          <p:cNvPicPr/>
          <p:nvPr/>
        </p:nvPicPr>
        <p:blipFill>
          <a:blip r:embed="rId2"/>
          <a:stretch/>
        </p:blipFill>
        <p:spPr>
          <a:xfrm>
            <a:off x="468360" y="4164120"/>
            <a:ext cx="2079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08000" y="186120"/>
            <a:ext cx="90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чикның  комбинезонын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 кесәсе бар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 кесә- алд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лганнары – артт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гы кесәләрдә 2 шәр пончик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рттагыларында –  3ә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рлыгы Пончикның ничә   пончигы бар 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пончик"/>
          <p:cNvPicPr/>
          <p:nvPr/>
        </p:nvPicPr>
        <p:blipFill>
          <a:blip r:embed="rId1"/>
          <a:stretch/>
        </p:blipFill>
        <p:spPr>
          <a:xfrm>
            <a:off x="6299280" y="981000"/>
            <a:ext cx="2736720" cy="212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667640" y="3645000"/>
            <a:ext cx="10303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ң зур икеурынлы сан белән  аңа капма-каршы сан аермасын тап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478800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0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Өч тапкыр кыр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һәм бишнең сум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ичә бул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80360" y="3860640"/>
            <a:ext cx="134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инди санны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3 %ы 33 саны бул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357280" y="3929040"/>
            <a:ext cx="3918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6:03:32Z</dcterms:created>
  <dc:creator>МОУОШ№1</dc:creator>
  <dc:description/>
  <dc:language>en-US</dc:language>
  <cp:lastModifiedBy>Customer</cp:lastModifiedBy>
  <dcterms:modified xsi:type="dcterms:W3CDTF">2012-10-15T11:19:42Z</dcterms:modified>
  <cp:revision>27</cp:revision>
  <dc:subject/>
  <dc:title>Слайд 1</dc:title>
</cp:coreProperties>
</file>