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486-1054-4AC4-8067-53F530E8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6D4-BF5D-441A-8734-A709DA5F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F99-B2DE-4FC7-9A22-5750968D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223-94C3-49C8-8900-C750CEAB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6BC-DC06-4BD1-BE11-31DC8C74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F45-B440-4BAA-B82A-40902F81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B76-ADF0-4862-8468-DDC75B94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9E3-9B13-4A8D-97A3-F2C0B1E2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0F2-63C9-4703-BCC5-7386CEEB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364-B4F9-4056-BC84-0F0D560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A0B-3A28-4BCF-805C-9EC8EF3B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D88-9E62-4A49-8E12-3CDE3CA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66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A58C-FE60-4689-B710-090A3DE0C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12.xml"/><Relationship Id="rId11" Type="http://schemas.openxmlformats.org/officeDocument/2006/relationships/slide" Target="slide17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image" Target="../media/image1.jpeg"/><Relationship Id="rId22" Type="http://schemas.openxmlformats.org/officeDocument/2006/relationships/image" Target="../media/image2.jpeg"/><Relationship Id="rId23" Type="http://schemas.openxmlformats.org/officeDocument/2006/relationships/image" Target="../media/image3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6.jpeg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1397160"/>
          <a:ext cx="8713800" cy="4362120"/>
        </p:xfrm>
        <a:graphic>
          <a:graphicData uri="http://schemas.openxmlformats.org/drawingml/2006/table">
            <a:tbl>
              <a:tblPr/>
              <a:tblGrid>
                <a:gridCol w="3456000"/>
                <a:gridCol w="844560"/>
                <a:gridCol w="927360"/>
                <a:gridCol w="1744560"/>
                <a:gridCol w="17413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ян- тапкыр математиклар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Җир үлчәү турында фән”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Җырлыйк әле!”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Җилдән җитез уйлыйм мин!”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AutoShape 126">
            <a:hlinkClick r:id="rId1" action="ppaction://hlinksldjump"/>
          </p:cNvPr>
          <p:cNvSpPr/>
          <p:nvPr/>
        </p:nvSpPr>
        <p:spPr>
          <a:xfrm>
            <a:off x="356400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27">
            <a:hlinkClick r:id="rId2" action="ppaction://hlinksldjump"/>
          </p:cNvPr>
          <p:cNvSpPr/>
          <p:nvPr/>
        </p:nvSpPr>
        <p:spPr>
          <a:xfrm>
            <a:off x="464508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8">
            <a:hlinkClick r:id="rId3" action="ppaction://hlinksldjump"/>
          </p:cNvPr>
          <p:cNvSpPr/>
          <p:nvPr/>
        </p:nvSpPr>
        <p:spPr>
          <a:xfrm>
            <a:off x="565164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9">
            <a:hlinkClick r:id="rId4" action="ppaction://hlinksldjump"/>
          </p:cNvPr>
          <p:cNvSpPr/>
          <p:nvPr/>
        </p:nvSpPr>
        <p:spPr>
          <a:xfrm>
            <a:off x="680400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0">
            <a:hlinkClick r:id="rId5" action="ppaction://hlinksldjump"/>
          </p:cNvPr>
          <p:cNvSpPr/>
          <p:nvPr/>
        </p:nvSpPr>
        <p:spPr>
          <a:xfrm>
            <a:off x="795816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0">
            <a:hlinkClick r:id="rId6" action="ppaction://hlinksldjump"/>
          </p:cNvPr>
          <p:cNvSpPr/>
          <p:nvPr/>
        </p:nvSpPr>
        <p:spPr>
          <a:xfrm>
            <a:off x="363528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41">
            <a:hlinkClick r:id="rId7" action="ppaction://hlinksldjump"/>
          </p:cNvPr>
          <p:cNvSpPr/>
          <p:nvPr/>
        </p:nvSpPr>
        <p:spPr>
          <a:xfrm>
            <a:off x="471636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42">
            <a:hlinkClick r:id="rId8" action="ppaction://hlinksldjump"/>
          </p:cNvPr>
          <p:cNvSpPr/>
          <p:nvPr/>
        </p:nvSpPr>
        <p:spPr>
          <a:xfrm>
            <a:off x="4716360" y="3643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3">
            <a:hlinkClick r:id="rId9" action="ppaction://hlinksldjump"/>
          </p:cNvPr>
          <p:cNvSpPr/>
          <p:nvPr/>
        </p:nvSpPr>
        <p:spPr>
          <a:xfrm>
            <a:off x="4716360" y="4651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4">
            <a:hlinkClick r:id="rId10" action="ppaction://hlinksldjump"/>
          </p:cNvPr>
          <p:cNvSpPr/>
          <p:nvPr/>
        </p:nvSpPr>
        <p:spPr>
          <a:xfrm>
            <a:off x="3635280" y="3643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5">
            <a:hlinkClick r:id="rId11" action="ppaction://hlinksldjump"/>
          </p:cNvPr>
          <p:cNvSpPr/>
          <p:nvPr/>
        </p:nvSpPr>
        <p:spPr>
          <a:xfrm>
            <a:off x="3635280" y="4651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6">
            <a:hlinkClick r:id="rId12" action="ppaction://hlinksldjump"/>
          </p:cNvPr>
          <p:cNvSpPr/>
          <p:nvPr/>
        </p:nvSpPr>
        <p:spPr>
          <a:xfrm>
            <a:off x="572436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7">
            <a:hlinkClick r:id="rId13" action="ppaction://hlinksldjump"/>
          </p:cNvPr>
          <p:cNvSpPr/>
          <p:nvPr/>
        </p:nvSpPr>
        <p:spPr>
          <a:xfrm>
            <a:off x="579600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8">
            <a:hlinkClick r:id="rId14" action="ppaction://hlinksldjump"/>
          </p:cNvPr>
          <p:cNvSpPr/>
          <p:nvPr/>
        </p:nvSpPr>
        <p:spPr>
          <a:xfrm>
            <a:off x="579600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9">
            <a:hlinkClick r:id="rId15" action="ppaction://hlinksldjump"/>
          </p:cNvPr>
          <p:cNvSpPr/>
          <p:nvPr/>
        </p:nvSpPr>
        <p:spPr>
          <a:xfrm>
            <a:off x="6804000" y="256392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0">
            <a:hlinkClick r:id="rId16" action="ppaction://hlinksldjump"/>
          </p:cNvPr>
          <p:cNvSpPr/>
          <p:nvPr/>
        </p:nvSpPr>
        <p:spPr>
          <a:xfrm>
            <a:off x="687708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1">
            <a:hlinkClick r:id="rId17" action="ppaction://hlinksldjump"/>
          </p:cNvPr>
          <p:cNvSpPr/>
          <p:nvPr/>
        </p:nvSpPr>
        <p:spPr>
          <a:xfrm>
            <a:off x="687708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2">
            <a:hlinkClick r:id="rId18" action="ppaction://hlinksldjump"/>
          </p:cNvPr>
          <p:cNvSpPr/>
          <p:nvPr/>
        </p:nvSpPr>
        <p:spPr>
          <a:xfrm>
            <a:off x="7885080" y="256392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3">
            <a:hlinkClick r:id="rId19" action="ppaction://hlinksldjump"/>
          </p:cNvPr>
          <p:cNvSpPr/>
          <p:nvPr/>
        </p:nvSpPr>
        <p:spPr>
          <a:xfrm>
            <a:off x="788508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4">
            <a:hlinkClick r:id="rId20" action="ppaction://hlinksldjump"/>
          </p:cNvPr>
          <p:cNvSpPr/>
          <p:nvPr/>
        </p:nvSpPr>
        <p:spPr>
          <a:xfrm>
            <a:off x="788508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7" descr=""/>
          <p:cNvPicPr/>
          <p:nvPr/>
        </p:nvPicPr>
        <p:blipFill>
          <a:blip r:embed="rId21"/>
          <a:stretch/>
        </p:blipFill>
        <p:spPr>
          <a:xfrm>
            <a:off x="7380360" y="0"/>
            <a:ext cx="1076400" cy="1341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8" descr=""/>
          <p:cNvPicPr/>
          <p:nvPr/>
        </p:nvPicPr>
        <p:blipFill>
          <a:blip r:embed="rId22"/>
          <a:stretch/>
        </p:blipFill>
        <p:spPr>
          <a:xfrm>
            <a:off x="395280" y="0"/>
            <a:ext cx="2232000" cy="1341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9" descr=""/>
          <p:cNvPicPr/>
          <p:nvPr/>
        </p:nvPicPr>
        <p:blipFill>
          <a:blip r:embed="rId23"/>
          <a:stretch/>
        </p:blipFill>
        <p:spPr>
          <a:xfrm>
            <a:off x="539640" y="5734080"/>
            <a:ext cx="237672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"/>
          <p:cNvPicPr/>
          <p:nvPr/>
        </p:nvPicPr>
        <p:blipFill>
          <a:blip r:embed="rId24"/>
          <a:stretch/>
        </p:blipFill>
        <p:spPr>
          <a:xfrm>
            <a:off x="7164360" y="5600880"/>
            <a:ext cx="1523880" cy="1257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"/>
          <p:cNvPicPr/>
          <p:nvPr/>
        </p:nvPicPr>
        <p:blipFill>
          <a:blip r:embed="rId25"/>
          <a:stretch/>
        </p:blipFill>
        <p:spPr>
          <a:xfrm>
            <a:off x="3851280" y="5661000"/>
            <a:ext cx="176544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"/>
          <p:cNvPicPr/>
          <p:nvPr/>
        </p:nvPicPr>
        <p:blipFill>
          <a:blip r:embed="rId26"/>
          <a:stretch/>
        </p:blipFill>
        <p:spPr>
          <a:xfrm>
            <a:off x="3564000" y="0"/>
            <a:ext cx="2448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2803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Әгәр бирелгән кысынкы почмакның эчендә аның түбәсеннән 2 нур үткәрелсә, ничә почмак төзеле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059280" y="5516640"/>
            <a:ext cx="2304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гы 1 метр булган кубны ягы 1 әр см булган кубикларга кисеп, бу кубиклардан багана өйделәр. Нинди биеклектә багана килеп чык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" action="ppaction://hlinkshowjump?jump=firstslide"/>
          </p:cNvPr>
          <p:cNvSpPr/>
          <p:nvPr/>
        </p:nvSpPr>
        <p:spPr>
          <a:xfrm>
            <a:off x="2556000" y="530064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5516640" y="361008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32000" y="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712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1547640" y="5373720"/>
            <a:ext cx="1368720" cy="936720"/>
          </a:xfrm>
          <a:custGeom>
            <a:avLst/>
            <a:gdLst>
              <a:gd name="textAreaLeft" fmla="*/ 60480 w 1368720"/>
              <a:gd name="textAreaRight" fmla="*/ 1308240 w 1368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58" h="21600">
                <a:moveTo>
                  <a:pt x="0" y="0"/>
                </a:moveTo>
                <a:lnTo>
                  <a:pt x="31558" y="0"/>
                </a:lnTo>
                <a:lnTo>
                  <a:pt x="31558" y="21600"/>
                </a:lnTo>
                <a:lnTo>
                  <a:pt x="0" y="21600"/>
                </a:lnTo>
                <a:close/>
              </a:path>
              <a:path fill="lightenLess" w="31558" h="21600">
                <a:moveTo>
                  <a:pt x="0" y="0"/>
                </a:moveTo>
                <a:lnTo>
                  <a:pt x="31558" y="0"/>
                </a:lnTo>
                <a:lnTo>
                  <a:pt x="30158" y="1400"/>
                </a:lnTo>
                <a:lnTo>
                  <a:pt x="1400" y="1400"/>
                </a:lnTo>
                <a:close/>
              </a:path>
              <a:path fill="darken" w="31558" h="21600">
                <a:moveTo>
                  <a:pt x="31558" y="0"/>
                </a:moveTo>
                <a:lnTo>
                  <a:pt x="31558" y="21600"/>
                </a:lnTo>
                <a:lnTo>
                  <a:pt x="30158" y="20200"/>
                </a:lnTo>
                <a:lnTo>
                  <a:pt x="30158" y="1400"/>
                </a:lnTo>
                <a:close/>
              </a:path>
              <a:path fill="darkenLess" w="31558" h="21600">
                <a:moveTo>
                  <a:pt x="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8" y="20200"/>
                </a:lnTo>
                <a:close/>
              </a:path>
              <a:path fill="lighten" w="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58" h="21600">
                <a:moveTo>
                  <a:pt x="12280" y="10800"/>
                </a:moveTo>
                <a:lnTo>
                  <a:pt x="22785" y="3794"/>
                </a:lnTo>
                <a:lnTo>
                  <a:pt x="22785" y="17806"/>
                </a:lnTo>
                <a:close/>
              </a:path>
              <a:path fill="darken" w="31558" h="21600">
                <a:moveTo>
                  <a:pt x="8772" y="3794"/>
                </a:moveTo>
                <a:lnTo>
                  <a:pt x="10435" y="3794"/>
                </a:lnTo>
                <a:lnTo>
                  <a:pt x="10435" y="17806"/>
                </a:lnTo>
                <a:lnTo>
                  <a:pt x="87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5508720" y="4292640"/>
            <a:ext cx="31017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7093080" y="126828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2484360" y="44737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000000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835280" y="4581360"/>
            <a:ext cx="26953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firstslide"/>
          </p:cNvPr>
          <p:cNvSpPr/>
          <p:nvPr/>
        </p:nvSpPr>
        <p:spPr>
          <a:xfrm>
            <a:off x="611280" y="537372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7120080" y="3933720"/>
            <a:ext cx="202392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Объект 4"/>
          <p:cNvGraphicFramePr/>
          <p:nvPr/>
        </p:nvGraphicFramePr>
        <p:xfrm>
          <a:off x="604800" y="1052640"/>
          <a:ext cx="5953320" cy="110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1052640"/>
                    <a:ext cx="595332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Объект 6"/>
          <p:cNvGraphicFramePr/>
          <p:nvPr/>
        </p:nvGraphicFramePr>
        <p:xfrm>
          <a:off x="17640" y="2781360"/>
          <a:ext cx="5952960" cy="14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40" y="2781360"/>
                    <a:ext cx="595296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794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х – 5 = 1 (А),   2х – 1 = 13 (Т),   8 – х = 3 (?). Сорау билгесенә нинди хәреф куелырга тиеш?  Ачкыч:   К В А Д Р А 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3240000" cy="2160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0" y="4005360"/>
            <a:ext cx="4897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аннар рәтен дәвам ит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; 9; 16; 25; 41.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>
            <a:hlinkClick r:id="" action="ppaction://hlinkshowjump?jump=firstslide"/>
          </p:cNvPr>
          <p:cNvSpPr/>
          <p:nvPr/>
        </p:nvSpPr>
        <p:spPr>
          <a:xfrm>
            <a:off x="1187280" y="5300640"/>
            <a:ext cx="1368720" cy="936720"/>
          </a:xfrm>
          <a:custGeom>
            <a:avLst/>
            <a:gdLst>
              <a:gd name="textAreaLeft" fmla="*/ 60480 w 1368720"/>
              <a:gd name="textAreaRight" fmla="*/ 1308240 w 1368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58" h="21600">
                <a:moveTo>
                  <a:pt x="0" y="0"/>
                </a:moveTo>
                <a:lnTo>
                  <a:pt x="31558" y="0"/>
                </a:lnTo>
                <a:lnTo>
                  <a:pt x="31558" y="21600"/>
                </a:lnTo>
                <a:lnTo>
                  <a:pt x="0" y="21600"/>
                </a:lnTo>
                <a:close/>
              </a:path>
              <a:path fill="lightenLess" w="31558" h="21600">
                <a:moveTo>
                  <a:pt x="0" y="0"/>
                </a:moveTo>
                <a:lnTo>
                  <a:pt x="31558" y="0"/>
                </a:lnTo>
                <a:lnTo>
                  <a:pt x="30158" y="1400"/>
                </a:lnTo>
                <a:lnTo>
                  <a:pt x="1400" y="1400"/>
                </a:lnTo>
                <a:close/>
              </a:path>
              <a:path fill="darken" w="31558" h="21600">
                <a:moveTo>
                  <a:pt x="31558" y="0"/>
                </a:moveTo>
                <a:lnTo>
                  <a:pt x="31558" y="21600"/>
                </a:lnTo>
                <a:lnTo>
                  <a:pt x="30158" y="20200"/>
                </a:lnTo>
                <a:lnTo>
                  <a:pt x="30158" y="1400"/>
                </a:lnTo>
                <a:close/>
              </a:path>
              <a:path fill="darkenLess" w="31558" h="21600">
                <a:moveTo>
                  <a:pt x="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8" y="20200"/>
                </a:lnTo>
                <a:close/>
              </a:path>
              <a:path fill="lighten" w="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58" h="21600">
                <a:moveTo>
                  <a:pt x="12280" y="10800"/>
                </a:moveTo>
                <a:lnTo>
                  <a:pt x="22785" y="3794"/>
                </a:lnTo>
                <a:lnTo>
                  <a:pt x="22785" y="17806"/>
                </a:lnTo>
                <a:close/>
              </a:path>
              <a:path fill="darken" w="31558" h="21600">
                <a:moveTo>
                  <a:pt x="8772" y="3794"/>
                </a:moveTo>
                <a:lnTo>
                  <a:pt x="10435" y="3794"/>
                </a:lnTo>
                <a:lnTo>
                  <a:pt x="10435" y="17806"/>
                </a:lnTo>
                <a:lnTo>
                  <a:pt x="87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012000" y="4346640"/>
            <a:ext cx="3132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>
            <a:hlinkClick r:id="" action="ppaction://hlinkshowjump?jump=firstslide"/>
          </p:cNvPr>
          <p:cNvSpPr/>
          <p:nvPr/>
        </p:nvSpPr>
        <p:spPr>
          <a:xfrm>
            <a:off x="7667640" y="5877000"/>
            <a:ext cx="1079640" cy="69192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33697" h="21600">
                <a:moveTo>
                  <a:pt x="0" y="0"/>
                </a:moveTo>
                <a:lnTo>
                  <a:pt x="33697" y="0"/>
                </a:lnTo>
                <a:lnTo>
                  <a:pt x="33697" y="21600"/>
                </a:lnTo>
                <a:lnTo>
                  <a:pt x="0" y="21600"/>
                </a:lnTo>
                <a:close/>
              </a:path>
              <a:path fill="lightenLess" w="33697" h="21600">
                <a:moveTo>
                  <a:pt x="0" y="0"/>
                </a:moveTo>
                <a:lnTo>
                  <a:pt x="33697" y="0"/>
                </a:lnTo>
                <a:lnTo>
                  <a:pt x="32297" y="1400"/>
                </a:lnTo>
                <a:lnTo>
                  <a:pt x="1400" y="1400"/>
                </a:lnTo>
                <a:close/>
              </a:path>
              <a:path fill="darken" w="33697" h="21600">
                <a:moveTo>
                  <a:pt x="33697" y="0"/>
                </a:moveTo>
                <a:lnTo>
                  <a:pt x="33697" y="21600"/>
                </a:lnTo>
                <a:lnTo>
                  <a:pt x="32297" y="20200"/>
                </a:lnTo>
                <a:lnTo>
                  <a:pt x="32297" y="1400"/>
                </a:lnTo>
                <a:close/>
              </a:path>
              <a:path fill="darkenLess" w="33697" h="21600">
                <a:moveTo>
                  <a:pt x="33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97" y="20200"/>
                </a:lnTo>
                <a:close/>
              </a:path>
              <a:path fill="lighten" w="33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97" h="21600">
                <a:moveTo>
                  <a:pt x="13350" y="10800"/>
                </a:moveTo>
                <a:lnTo>
                  <a:pt x="23855" y="3794"/>
                </a:lnTo>
                <a:lnTo>
                  <a:pt x="23855" y="17806"/>
                </a:lnTo>
                <a:close/>
              </a:path>
              <a:path fill="darken" w="33697" h="21600">
                <a:moveTo>
                  <a:pt x="9842" y="3794"/>
                </a:moveTo>
                <a:lnTo>
                  <a:pt x="11505" y="3794"/>
                </a:lnTo>
                <a:lnTo>
                  <a:pt x="11505" y="17806"/>
                </a:lnTo>
                <a:lnTo>
                  <a:pt x="9842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08000" y="52164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рат белән Азат үзләренең өйләреннән капма-каршы чыгалар. Маратның тизлеге 4 км/сәг., Азатның тизлеге 5 км/сәг. Очрашу вакытында аларның кайсысы мәктәптән ераграк булы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школе для бесенят было 10 учеников. На дом каждому задали совершить по три мелких пакости. Один бесенок не выполнил задание. Сколько мелких пакостей было выполнено бесенятам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519280" cy="2208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3203640" y="3933720"/>
            <a:ext cx="3222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20600" y="644040"/>
            <a:ext cx="8859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нтик белән Шпунти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зыш автомобиле җыйгач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ропыжка утырып китә һә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минуттан ва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нтик белән Шпунтик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, Торопыжка 1 сәг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йөри алсын өчен ничә автомобиль җыярга кирәк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" action="ppaction://hlinkshowjump?jump=firstslide"/>
          </p:cNvPr>
          <p:cNvSpPr/>
          <p:nvPr/>
        </p:nvSpPr>
        <p:spPr>
          <a:xfrm>
            <a:off x="7093080" y="5877000"/>
            <a:ext cx="1295280" cy="720720"/>
          </a:xfrm>
          <a:custGeom>
            <a:avLst/>
            <a:gdLst>
              <a:gd name="textAreaLeft" fmla="*/ 46440 w 1295280"/>
              <a:gd name="textAreaRight" fmla="*/ 1248840 w 1295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11" h="21600">
                <a:moveTo>
                  <a:pt x="0" y="0"/>
                </a:moveTo>
                <a:lnTo>
                  <a:pt x="38811" y="0"/>
                </a:lnTo>
                <a:lnTo>
                  <a:pt x="38811" y="21600"/>
                </a:lnTo>
                <a:lnTo>
                  <a:pt x="0" y="21600"/>
                </a:lnTo>
                <a:close/>
              </a:path>
              <a:path fill="lightenLess" w="38811" h="21600">
                <a:moveTo>
                  <a:pt x="0" y="0"/>
                </a:moveTo>
                <a:lnTo>
                  <a:pt x="38811" y="0"/>
                </a:lnTo>
                <a:lnTo>
                  <a:pt x="37411" y="1400"/>
                </a:lnTo>
                <a:lnTo>
                  <a:pt x="1400" y="1400"/>
                </a:lnTo>
                <a:close/>
              </a:path>
              <a:path fill="darken" w="38811" h="21600">
                <a:moveTo>
                  <a:pt x="38811" y="0"/>
                </a:moveTo>
                <a:lnTo>
                  <a:pt x="38811" y="21600"/>
                </a:lnTo>
                <a:lnTo>
                  <a:pt x="37411" y="20200"/>
                </a:lnTo>
                <a:lnTo>
                  <a:pt x="37411" y="1400"/>
                </a:lnTo>
                <a:close/>
              </a:path>
              <a:path fill="darkenLess" w="38811" h="21600">
                <a:moveTo>
                  <a:pt x="38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11" y="20200"/>
                </a:lnTo>
                <a:close/>
              </a:path>
              <a:path fill="lighten" w="38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11" h="21600">
                <a:moveTo>
                  <a:pt x="15907" y="10800"/>
                </a:moveTo>
                <a:lnTo>
                  <a:pt x="26412" y="3794"/>
                </a:lnTo>
                <a:lnTo>
                  <a:pt x="26412" y="17806"/>
                </a:lnTo>
                <a:close/>
              </a:path>
              <a:path fill="darken" w="38811" h="21600">
                <a:moveTo>
                  <a:pt x="12399" y="3794"/>
                </a:moveTo>
                <a:lnTo>
                  <a:pt x="14061" y="3794"/>
                </a:lnTo>
                <a:lnTo>
                  <a:pt x="14061" y="17806"/>
                </a:lnTo>
                <a:lnTo>
                  <a:pt x="12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6181560" y="2565360"/>
            <a:ext cx="28782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77920" y="960840"/>
            <a:ext cx="626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акыт 12 тулып 15 мину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әгать уклары арасынд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инди почмак ясалыр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>
            <a:hlinkClick r:id="" action="ppaction://hlinkshowjump?jump=firstslide"/>
          </p:cNvPr>
          <p:cNvSpPr/>
          <p:nvPr/>
        </p:nvSpPr>
        <p:spPr>
          <a:xfrm>
            <a:off x="7667640" y="5805360"/>
            <a:ext cx="1297080" cy="71928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8943" h="21600">
                <a:moveTo>
                  <a:pt x="0" y="0"/>
                </a:moveTo>
                <a:lnTo>
                  <a:pt x="38943" y="0"/>
                </a:lnTo>
                <a:lnTo>
                  <a:pt x="38943" y="21600"/>
                </a:lnTo>
                <a:lnTo>
                  <a:pt x="0" y="21600"/>
                </a:lnTo>
                <a:close/>
              </a:path>
              <a:path fill="lightenLess" w="38943" h="21600">
                <a:moveTo>
                  <a:pt x="0" y="0"/>
                </a:moveTo>
                <a:lnTo>
                  <a:pt x="38943" y="0"/>
                </a:lnTo>
                <a:lnTo>
                  <a:pt x="37543" y="1400"/>
                </a:lnTo>
                <a:lnTo>
                  <a:pt x="1400" y="1400"/>
                </a:lnTo>
                <a:close/>
              </a:path>
              <a:path fill="darken" w="38943" h="21600">
                <a:moveTo>
                  <a:pt x="38943" y="0"/>
                </a:moveTo>
                <a:lnTo>
                  <a:pt x="38943" y="21600"/>
                </a:lnTo>
                <a:lnTo>
                  <a:pt x="37543" y="20200"/>
                </a:lnTo>
                <a:lnTo>
                  <a:pt x="37543" y="1400"/>
                </a:lnTo>
                <a:close/>
              </a:path>
              <a:path fill="darkenLess" w="38943" h="21600">
                <a:moveTo>
                  <a:pt x="3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43" y="20200"/>
                </a:lnTo>
                <a:close/>
              </a:path>
              <a:path fill="lighten" w="3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43" h="21600">
                <a:moveTo>
                  <a:pt x="15972" y="10800"/>
                </a:moveTo>
                <a:lnTo>
                  <a:pt x="26478" y="3794"/>
                </a:lnTo>
                <a:lnTo>
                  <a:pt x="26478" y="17806"/>
                </a:lnTo>
                <a:close/>
              </a:path>
              <a:path fill="darken" w="38943" h="21600">
                <a:moveTo>
                  <a:pt x="12465" y="3794"/>
                </a:moveTo>
                <a:lnTo>
                  <a:pt x="14127" y="3794"/>
                </a:lnTo>
                <a:lnTo>
                  <a:pt x="14127" y="17806"/>
                </a:lnTo>
                <a:lnTo>
                  <a:pt x="124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6640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7704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 үзеннән 120 м ераклыктаг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өлкене куа. Әгәр төлк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инутына 320м, эт минуты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0 м үтсә, эт төлке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чә минуттан соң куып җитәр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>
            <a:hlinkClick r:id="" action="ppaction://hlinkshowjump?jump=firstslide"/>
          </p:cNvPr>
          <p:cNvSpPr/>
          <p:nvPr/>
        </p:nvSpPr>
        <p:spPr>
          <a:xfrm>
            <a:off x="7308720" y="5877000"/>
            <a:ext cx="1366920" cy="792000"/>
          </a:xfrm>
          <a:custGeom>
            <a:avLst/>
            <a:gdLst>
              <a:gd name="textAreaLeft" fmla="*/ 51120 w 1366920"/>
              <a:gd name="textAreaRight" fmla="*/ 1315800 w 1366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7273" h="21600">
                <a:moveTo>
                  <a:pt x="0" y="0"/>
                </a:moveTo>
                <a:lnTo>
                  <a:pt x="37273" y="0"/>
                </a:lnTo>
                <a:lnTo>
                  <a:pt x="37273" y="21600"/>
                </a:lnTo>
                <a:lnTo>
                  <a:pt x="0" y="21600"/>
                </a:lnTo>
                <a:close/>
              </a:path>
              <a:path fill="lightenLess" w="37273" h="21600">
                <a:moveTo>
                  <a:pt x="0" y="0"/>
                </a:moveTo>
                <a:lnTo>
                  <a:pt x="37273" y="0"/>
                </a:lnTo>
                <a:lnTo>
                  <a:pt x="35873" y="1400"/>
                </a:lnTo>
                <a:lnTo>
                  <a:pt x="1400" y="1400"/>
                </a:lnTo>
                <a:close/>
              </a:path>
              <a:path fill="darken" w="37273" h="21600">
                <a:moveTo>
                  <a:pt x="37273" y="0"/>
                </a:moveTo>
                <a:lnTo>
                  <a:pt x="37273" y="21600"/>
                </a:lnTo>
                <a:lnTo>
                  <a:pt x="35873" y="20200"/>
                </a:lnTo>
                <a:lnTo>
                  <a:pt x="35873" y="1400"/>
                </a:lnTo>
                <a:close/>
              </a:path>
              <a:path fill="darkenLess" w="37273" h="21600">
                <a:moveTo>
                  <a:pt x="37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73" y="20200"/>
                </a:lnTo>
                <a:close/>
              </a:path>
              <a:path fill="lighten" w="37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73" h="21600">
                <a:moveTo>
                  <a:pt x="15137" y="10800"/>
                </a:moveTo>
                <a:lnTo>
                  <a:pt x="25643" y="3794"/>
                </a:lnTo>
                <a:lnTo>
                  <a:pt x="25643" y="17806"/>
                </a:lnTo>
                <a:close/>
              </a:path>
              <a:path fill="darken" w="37273" h="21600">
                <a:moveTo>
                  <a:pt x="11630" y="3794"/>
                </a:moveTo>
                <a:lnTo>
                  <a:pt x="13292" y="3794"/>
                </a:lnTo>
                <a:lnTo>
                  <a:pt x="13292" y="17806"/>
                </a:lnTo>
                <a:lnTo>
                  <a:pt x="11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mage177"/>
          <p:cNvPicPr/>
          <p:nvPr/>
        </p:nvPicPr>
        <p:blipFill>
          <a:blip r:embed="rId1"/>
          <a:stretch/>
        </p:blipFill>
        <p:spPr>
          <a:xfrm>
            <a:off x="468360" y="4164120"/>
            <a:ext cx="20797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ое коротышек вместе выпивают за праздничным столом 6 бутылок сладкой воды, а Сахарин Сахаринович Сиропчик выпивает в 5 раз больше чем другой любой коротышка. Сколько бутылок воды нужно Сиропчику на праздник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3132000" y="4883040"/>
            <a:ext cx="2376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626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вадратның ягын 3 тапкыр киметкәч, мәйданы ничек үзгәрер 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>
            <a:hlinkClick r:id="" action="ppaction://hlinkshowjump?jump=firstslide"/>
          </p:cNvPr>
          <p:cNvSpPr/>
          <p:nvPr/>
        </p:nvSpPr>
        <p:spPr>
          <a:xfrm>
            <a:off x="478800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7093080" y="1557360"/>
            <a:ext cx="205092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20163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1098720"/>
            <a:ext cx="65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Arial"/>
              </a:rPr>
              <a:t>Километр метрдан ничә тапкыр зурр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7380360" y="3860640"/>
            <a:ext cx="13460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айсы сүз артык: өчпочмак, турыпочмаклык, линейк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вадра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700360" y="5084640"/>
            <a:ext cx="35751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6:03:32Z</dcterms:created>
  <dc:creator>МОУОШ№1</dc:creator>
  <dc:description/>
  <dc:language>en-US</dc:language>
  <cp:lastModifiedBy>Шадчинская СОШ</cp:lastModifiedBy>
  <dcterms:modified xsi:type="dcterms:W3CDTF">2012-10-14T15:39:33Z</dcterms:modified>
  <cp:revision>23</cp:revision>
  <dc:subject/>
  <dc:title>Слайд 1</dc:title>
</cp:coreProperties>
</file>