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3A8F-314E-4C0B-9A0F-C0F9B055A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D773-5F41-42A7-B96B-5EC509CE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8506-4029-4D60-9536-E8714D13C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B954-3C4A-438F-95C1-FB5568190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B5B2-F55E-4BDD-845E-8DC37DD05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3D7F-E13C-4637-9948-4BD2AA30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9A2A-FDBC-4D9F-8D1F-50891681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E65D-FB69-4EF4-BE9C-1F36B294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E911-ED8E-4CE1-B933-8036565F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B02C-CFEA-4FE8-9A89-66DE4CF2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14DF-5F4C-453D-9C27-36264A41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3347-6515-4B84-8275-2CD7AF49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E846-B74F-4BDF-8720-E673E474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2EF1-994A-44D1-815F-CBC107B6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1B6B7-74FF-46D5-AF7A-325D2624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1BCA7-9C73-460F-9E49-4AFDD0282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7A67-706D-4816-ACA3-36678FA31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B08C-08CF-403A-B841-A8514965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C56C-4528-4F83-90EB-2B26AF31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BF9F-A2D8-44DD-91FF-66836A6D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3CA9-23D8-4D08-91C9-44F0A7EE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576B-7BDB-4292-9165-3E368774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E11D-EE20-4A1B-BD45-B016EAAB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66BD-14FB-4527-854F-0E047BD5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9C67-4032-444E-A15A-A9B921EE2E1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8ABE-08E2-4389-BCBA-4E2669270CE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47280" y="404280"/>
            <a:ext cx="6008760" cy="5148360"/>
          </a:xfrm>
          <a:prstGeom prst="rect">
            <a:avLst/>
          </a:prstGeom>
          <a:solidFill>
            <a:srgbClr val="cc99ff"/>
          </a:solidFill>
          <a:ln w="38160">
            <a:solidFill>
              <a:srgbClr val="80008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Люди перестают мыслить, когда перестают читать.</a:t>
            </a:r>
            <a:br>
              <a:rPr sz="5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идро Д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596360" y="3716280"/>
            <a:ext cx="1547640" cy="2924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9868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1332000" y="189000"/>
            <a:ext cx="5472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ы дежурим.</a:t>
            </a:r>
            <a:endParaRPr b="1" i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596360" y="0"/>
            <a:ext cx="1547640" cy="116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2" name=""/>
          <p:cNvGraphicFramePr/>
          <p:nvPr/>
        </p:nvGraphicFramePr>
        <p:xfrm>
          <a:off x="179280" y="1197000"/>
          <a:ext cx="8785440" cy="5400720"/>
        </p:xfrm>
        <a:graphic>
          <a:graphicData uri="http://schemas.openxmlformats.org/drawingml/2006/table">
            <a:tbl>
              <a:tblPr/>
              <a:tblGrid>
                <a:gridCol w="1764000"/>
                <a:gridCol w="1130040"/>
                <a:gridCol w="1101960"/>
                <a:gridCol w="1117440"/>
                <a:gridCol w="1211400"/>
                <a:gridCol w="1234800"/>
                <a:gridCol w="122580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Ф.И. уч-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н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тор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ре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Четвер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ят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уб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</a:tr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</a:tr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5466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31640" y="189000"/>
            <a:ext cx="6365880" cy="6840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8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Правила для учени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4457880" cy="5229360"/>
          </a:xfrm>
          <a:prstGeom prst="rect">
            <a:avLst/>
          </a:prstGeom>
          <a:solidFill>
            <a:srgbClr val="c0c0c0"/>
          </a:solidFill>
          <a:ln w="38160">
            <a:solidFill>
              <a:srgbClr val="3333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Ученик обязан знать: нужно правильно писать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Чтобы не было помарок и в тетради только «5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Быть умней из класса в класс.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ЭТО   Р А З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Бодренько вставать с утр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 восемь в школе быть пора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ЭТО Д В 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Нужно добрым быть всегда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Помнить добрые слова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Не кричи и не груби.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ЭТО  Т Р 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А ещё дружить старайся и  собой не похваляйс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Другом дорожить умей! Обижать его не смей. Это правило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Ч Е Т Ы Р 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Знают дети в целом мире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60720" y="1628640"/>
            <a:ext cx="4282920" cy="5229360"/>
          </a:xfrm>
          <a:prstGeom prst="rect">
            <a:avLst/>
          </a:prstGeom>
          <a:solidFill>
            <a:srgbClr val="c0c0c0"/>
          </a:solidFill>
          <a:ln w="38160">
            <a:solidFill>
              <a:srgbClr val="3333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у, а правило же 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П Я Т 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должен каждый  соблюдать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Береги родной свой край и берёзку охраня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воим маленьким друзьям –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тицам, белкам,  муравьям должен каждый помогать и  в обиду не давать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Маме дома помогать,брата в детский сад собрать,всю посуду перемыть,все кровати застелить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 общем, дел не перечесть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ЭТО  Ш Е С Т Ь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Это правило 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С Е Д Ь М О 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чень-очень озорно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Можно петь, играть, плясать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о не стоит забывать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делу – время, час – игре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6216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68360" y="1557000"/>
            <a:ext cx="3744720" cy="3384360"/>
          </a:xfrm>
          <a:prstGeom prst="rect">
            <a:avLst/>
          </a:prstGeom>
          <a:solidFill>
            <a:srgbClr val="99ccff"/>
          </a:solidFill>
          <a:ln w="38160">
            <a:solidFill>
              <a:srgbClr val="003366"/>
            </a:solidFill>
            <a:miter/>
          </a:ln>
        </p:spPr>
        <p:txBody>
          <a:bodyPr lIns="109080" rIns="109080" tIns="65880" bIns="658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00360" y="1557000"/>
            <a:ext cx="3816360" cy="3384360"/>
          </a:xfrm>
          <a:prstGeom prst="rect">
            <a:avLst/>
          </a:prstGeom>
          <a:solidFill>
            <a:srgbClr val="99ccff"/>
          </a:solidFill>
          <a:ln w="38160">
            <a:solidFill>
              <a:srgbClr val="003366"/>
            </a:solidFill>
            <a:miter/>
          </a:ln>
        </p:spPr>
        <p:txBody>
          <a:bodyPr lIns="109080" rIns="109080" tIns="65880" bIns="658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908000" y="189000"/>
            <a:ext cx="6769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азднуем!!!</a:t>
            </a:r>
            <a:endParaRPr b="0" lang="en-US" sz="1800" spc="1" strike="noStrike">
              <a:ln w="12600">
                <a:solidFill>
                  <a:srgbClr val="008000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4950000"/>
            <a:ext cx="2268360" cy="1908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8000" cy="1557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6516720" y="4941720"/>
            <a:ext cx="262728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68000" y="2276640"/>
            <a:ext cx="3771720" cy="282384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80"/>
            </a:solidFill>
            <a:miter/>
          </a:ln>
        </p:spPr>
        <p:txBody>
          <a:bodyPr lIns="109080" rIns="109080" tIns="65880" bIns="658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09800" y="1828440"/>
            <a:ext cx="3771720" cy="2824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ff"/>
            </a:solidFill>
            <a:miter/>
          </a:ln>
        </p:spPr>
        <p:txBody>
          <a:bodyPr lIns="109080" rIns="109080" tIns="65880" bIns="658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692360" y="260280"/>
            <a:ext cx="612144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 классе.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66800" cy="1773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7" name="" descr=""/>
          <p:cNvPicPr/>
          <p:nvPr/>
        </p:nvPicPr>
        <p:blipFill>
          <a:blip r:embed="rId2"/>
          <a:srcRect l="12087" t="13102" r="0" b="0"/>
          <a:stretch/>
        </p:blipFill>
        <p:spPr>
          <a:xfrm>
            <a:off x="7101000" y="4724280"/>
            <a:ext cx="1861920" cy="1944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6197760" y="4965840"/>
            <a:ext cx="322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4206960" cy="4751280"/>
          </a:xfrm>
          <a:prstGeom prst="rect">
            <a:avLst/>
          </a:prstGeom>
          <a:solidFill>
            <a:srgbClr val="ffff99"/>
          </a:solidFill>
          <a:ln w="38160">
            <a:solidFill>
              <a:srgbClr val="993300"/>
            </a:solidFill>
            <a:miter/>
          </a:ln>
        </p:spPr>
        <p:txBody>
          <a:bodyPr lIns="109080" rIns="109080" tIns="65880" bIns="658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1640" y="1557000"/>
            <a:ext cx="4065480" cy="4753080"/>
          </a:xfrm>
          <a:prstGeom prst="rect">
            <a:avLst/>
          </a:prstGeom>
          <a:solidFill>
            <a:srgbClr val="ffff99"/>
          </a:solidFill>
          <a:ln w="38160">
            <a:solidFill>
              <a:srgbClr val="99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124000" y="189000"/>
            <a:ext cx="56548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 школе.</a:t>
            </a:r>
            <a:endParaRPr b="1" i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619280" y="0"/>
            <a:ext cx="648180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b200"/>
                </a:solidFill>
                <a:latin typeface="Times New Roman"/>
              </a:rPr>
              <a:t>День за днем...</a:t>
            </a:r>
            <a:endParaRPr b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b200"/>
              </a:solidFill>
              <a:latin typeface="Times New Roman"/>
              <a:ea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16133" t="26279" r="0" b="0"/>
          <a:stretch/>
        </p:blipFill>
        <p:spPr>
          <a:xfrm>
            <a:off x="7812000" y="5516640"/>
            <a:ext cx="1332000" cy="13413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rcRect l="0" t="0" r="3817" b="13815"/>
          <a:stretch/>
        </p:blipFill>
        <p:spPr>
          <a:xfrm>
            <a:off x="0" y="0"/>
            <a:ext cx="1231920" cy="1557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0" y="5343480"/>
            <a:ext cx="197964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692360" y="404640"/>
            <a:ext cx="6408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0080"/>
                </a:solidFill>
                <a:latin typeface="Impact"/>
              </a:rPr>
              <a:t>Расписание звонков.</a:t>
            </a:r>
            <a:endParaRPr b="0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000080"/>
              </a:solidFill>
              <a:latin typeface="Impact"/>
              <a:ea typeface="Impact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067280" y="5392800"/>
            <a:ext cx="1511280" cy="14652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10920" y="1557360"/>
            <a:ext cx="7489800" cy="3657600"/>
          </a:xfrm>
          <a:prstGeom prst="rect">
            <a:avLst/>
          </a:prstGeom>
          <a:solidFill>
            <a:srgbClr val="808080"/>
          </a:solidFill>
          <a:ln w="38160">
            <a:solidFill>
              <a:srgbClr val="333333"/>
            </a:solidFill>
            <a:miter/>
          </a:ln>
        </p:spPr>
        <p:txBody>
          <a:bodyPr lIns="109080" rIns="109080" tIns="65880" bIns="658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908000" y="333360"/>
            <a:ext cx="597708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списание уроков.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1247760" cy="14842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7596360" y="5351400"/>
            <a:ext cx="1547640" cy="15066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0" y="5288040"/>
            <a:ext cx="1979640" cy="15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258920" y="260280"/>
            <a:ext cx="6624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ши достижения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47600" cy="14288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7969320" y="0"/>
            <a:ext cx="11746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17:44:05Z</dcterms:created>
  <dc:creator>Admin</dc:creator>
  <dc:description/>
  <dc:language>en-US</dc:language>
  <cp:lastModifiedBy>Admin</cp:lastModifiedBy>
  <dcterms:modified xsi:type="dcterms:W3CDTF">2011-09-03T18:13:49Z</dcterms:modified>
  <cp:revision>40</cp:revision>
  <dc:subject/>
  <dc:title>Слайд 1</dc:title>
</cp:coreProperties>
</file>