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005-730E-40C7-A46B-A465A24B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175-D548-43A5-B789-1DC19FBC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957-BE16-4562-BD85-29F7B6F6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692-A5E7-464F-AEA6-DCE8EA40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6534-F0BE-4438-92B6-C0EBBF95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60C4-2492-4C30-984E-1CB454E9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90A8-74AC-4FD1-9335-C9783F24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BDCC-CCBA-4A13-98E0-4E3D5F3E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D06F-E122-4C44-8959-BA7CCCE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DA6F-3E4C-4204-AA36-43EDAC7D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A83F-6393-401F-B40F-F7C7707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6A1-E415-48DF-8958-54113EDB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C43E-3003-49D2-BB12-A203215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4D8C-438F-4A41-A72D-FB2BE3F5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570A-440F-49EE-A7AB-A525CE01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9FDC-9051-4BA9-9231-DC42B753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CBE6-B2A6-4ACE-827E-4F86B0C7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FBB-9DCD-4581-8E3F-C38FFFFF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D07-70E7-42D9-970C-DE9EF62C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9F6-EE75-46A1-B9B0-257C72FE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7F5-423C-43D2-84EF-9A8092A4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7F0-787C-41C6-AAFE-F74308F2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306-D323-47F3-AD7E-AD7646F8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DE6-0103-4815-93BE-93F10006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2957-B480-43D0-B8EF-E19D4984C8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E82-38C6-429D-BFE6-1027E98A78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008760" cy="5148360"/>
          </a:xfrm>
          <a:prstGeom prst="rect">
            <a:avLst/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Люди перестают мыслить, когда перестают читать.</a:t>
            </a:r>
            <a:br>
              <a:rPr sz="5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идро 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96360" y="3716280"/>
            <a:ext cx="1547640" cy="2924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986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332000" y="189000"/>
            <a:ext cx="547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 дежурим.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179280" y="1197000"/>
          <a:ext cx="8785440" cy="5400720"/>
        </p:xfrm>
        <a:graphic>
          <a:graphicData uri="http://schemas.openxmlformats.org/drawingml/2006/table">
            <a:tbl>
              <a:tblPr/>
              <a:tblGrid>
                <a:gridCol w="1764000"/>
                <a:gridCol w="1130040"/>
                <a:gridCol w="1101960"/>
                <a:gridCol w="1117440"/>
                <a:gridCol w="1211400"/>
                <a:gridCol w="1234800"/>
                <a:gridCol w="1225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.И. 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5466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6365880" cy="684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8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Правила для учен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457880" cy="5229360"/>
          </a:xfrm>
          <a:prstGeom prst="rect">
            <a:avLst/>
          </a:prstGeom>
          <a:solidFill>
            <a:srgbClr val="c0c0c0"/>
          </a:solidFill>
          <a:ln w="38160">
            <a:solidFill>
              <a:srgbClr val="3333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Ученик обязан знать: нужно правильно писа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тобы не было помарок и в тетради только «5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ыть умней из класса в класс.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ЭТО   Р А З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одренько вставать с ут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восемь в школе быть пора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ЭТО Д В 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ужно добрым быть всегд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мнить добрые слов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 кричи и не груби.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ЭТО  Т Р 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А ещё дружить старайся и  собой не похваляй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ругом дорожить умей! Обижать его не смей. Это правил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 Е Т Ы Р 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Знают дети в целом мире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60720" y="1628640"/>
            <a:ext cx="4282920" cy="5229360"/>
          </a:xfrm>
          <a:prstGeom prst="rect">
            <a:avLst/>
          </a:prstGeom>
          <a:solidFill>
            <a:srgbClr val="c0c0c0"/>
          </a:solidFill>
          <a:ln w="38160">
            <a:solidFill>
              <a:srgbClr val="3333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у, а правило же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П Я Т 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жен каждый  соблюд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ереги родной свой край и берёзку охраня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воим маленьким друзьям –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тицам, белкам,  муравьям должен каждый помогать и  в обиду не дав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ме дома помогать,брата в детский сад собрать,всю посуду перемыть,все кровати застели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общем, дел не перечесть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ЭТО  Ш Е С Т 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то правило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 Е Д Ь М О 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чень-очень озорно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жно петь, играть, пляса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 не стоит забыват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елу – время, час – игре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21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3744720" cy="3384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3366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00360" y="1557000"/>
            <a:ext cx="3816360" cy="3384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3366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8000" y="189000"/>
            <a:ext cx="676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зднуем!!!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2268360" cy="19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55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16720" y="4941720"/>
            <a:ext cx="2627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000" y="2276640"/>
            <a:ext cx="3771720" cy="28238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8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2824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ff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92360" y="260280"/>
            <a:ext cx="6121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классе.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66800" cy="1773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12087" t="13102" r="0" b="0"/>
          <a:stretch/>
        </p:blipFill>
        <p:spPr>
          <a:xfrm>
            <a:off x="7101000" y="4724280"/>
            <a:ext cx="1861920" cy="194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6197760" y="4965840"/>
            <a:ext cx="32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206960" cy="4751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33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1640" y="1557000"/>
            <a:ext cx="4065480" cy="4753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24000" y="189000"/>
            <a:ext cx="56548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школе.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619280" y="0"/>
            <a:ext cx="6481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b200"/>
                </a:solidFill>
                <a:latin typeface="Times New Roman"/>
              </a:rPr>
              <a:t>День за днем...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b200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16133" t="26279" r="0" b="0"/>
          <a:stretch/>
        </p:blipFill>
        <p:spPr>
          <a:xfrm>
            <a:off x="7812000" y="5516640"/>
            <a:ext cx="1332000" cy="1341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0" t="0" r="3817" b="13815"/>
          <a:stretch/>
        </p:blipFill>
        <p:spPr>
          <a:xfrm>
            <a:off x="0" y="0"/>
            <a:ext cx="1231920" cy="1557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5343480"/>
            <a:ext cx="1979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692360" y="404640"/>
            <a:ext cx="6408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Расписание звонков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067280" y="5392800"/>
            <a:ext cx="1511280" cy="1465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489800" cy="3657600"/>
          </a:xfrm>
          <a:prstGeom prst="rect">
            <a:avLst/>
          </a:prstGeom>
          <a:solidFill>
            <a:srgbClr val="808080"/>
          </a:solidFill>
          <a:ln w="38160">
            <a:solidFill>
              <a:srgbClr val="333333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08000" y="333360"/>
            <a:ext cx="5977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исание уроков.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247760" cy="1484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596360" y="5351400"/>
            <a:ext cx="1547640" cy="1506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5288040"/>
            <a:ext cx="19796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58920" y="260280"/>
            <a:ext cx="6624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ши достижения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760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969320" y="0"/>
            <a:ext cx="1174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17:44:05Z</dcterms:created>
  <dc:creator>Admin</dc:creator>
  <dc:description/>
  <dc:language>en-US</dc:language>
  <cp:lastModifiedBy>Admin</cp:lastModifiedBy>
  <dcterms:modified xsi:type="dcterms:W3CDTF">2011-09-03T18:13:49Z</dcterms:modified>
  <cp:revision>40</cp:revision>
  <dc:subject/>
  <dc:title>Слайд 1</dc:title>
</cp:coreProperties>
</file>