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26E-1705-4C29-AC8E-480A2B83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B1A-C9BD-432E-8DAB-F6546862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62E-F5AA-4FD1-9EDE-08A40CE8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F1A-0810-4171-BE67-D5C4A417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3ED7-27EF-450B-8720-E38AB4CB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2AFE-14C4-4327-8A6B-E785A3C2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8967-6464-4191-B992-599C191D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55BA-B1FA-4780-AD8F-0FECC814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1119-D009-442F-BE17-149B8DD8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7CAB-FFF8-4D53-BF31-F8E8DF1D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53B7-A928-4A9F-A555-7BE0CBE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C63-67F0-458E-8923-66E204C6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E9EC-19FA-4B67-8128-1120D03E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37EA-49DA-4EF3-82A7-C2EDDBBA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15C2-50A4-4CAA-9690-049773F9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CB88-36CD-4AFC-88A8-04376C03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1254-20DC-4B25-A35B-727BF2F1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BB4-F89C-4BCA-A045-46F013E4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8B4-78C2-4EE0-A309-1F81CDD8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992-2573-4A36-9FF6-D6E1A80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620-89DB-46AA-B6AD-CBCA4D38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5D7-C55F-4FB3-AD65-4AD285DE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774-A1B0-4D07-B8EB-CA06289A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BFC-0759-4EE0-A30F-DD69E9EE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1354-1A20-4D08-8188-A9E2CA196599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EC28-5A04-441C-BB5F-643D0DE570F1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620640"/>
            <a:ext cx="720720" cy="720720"/>
          </a:xfrm>
          <a:prstGeom prst="triangle">
            <a:avLst>
              <a:gd name="adj" fmla="val 50000"/>
            </a:avLst>
          </a:prstGeom>
          <a:solidFill>
            <a:srgbClr val="ff131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620640"/>
            <a:ext cx="647640" cy="720720"/>
          </a:xfrm>
          <a:prstGeom prst="rect">
            <a:avLst/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620640"/>
            <a:ext cx="796680" cy="792360"/>
          </a:xfrm>
          <a:prstGeom prst="ellipse">
            <a:avLst/>
          </a:prstGeom>
          <a:solidFill>
            <a:srgbClr val="ff131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620640"/>
            <a:ext cx="720720" cy="720720"/>
          </a:xfrm>
          <a:prstGeom prst="triangle">
            <a:avLst>
              <a:gd name="adj" fmla="val 50000"/>
            </a:avLst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6000" y="620640"/>
            <a:ext cx="647640" cy="720720"/>
          </a:xfrm>
          <a:prstGeom prst="rect">
            <a:avLst/>
          </a:prstGeom>
          <a:solidFill>
            <a:srgbClr val="ff131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Arial"/>
              </a:rPr>
              <a:t>Дорисуй следующую фигуру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27480" y="100008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5472"/>
                </a:solidFill>
                <a:latin typeface="Arial"/>
              </a:rPr>
              <a:t>. . 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30420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565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86064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01336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Arial"/>
              </a:rPr>
              <a:t>С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3645000"/>
            <a:ext cx="831960" cy="792000"/>
          </a:xfrm>
          <a:prstGeom prst="ellipse">
            <a:avLst/>
          </a:prstGeom>
          <a:solidFill>
            <a:srgbClr val="ff131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620640"/>
            <a:ext cx="647640" cy="720720"/>
          </a:xfrm>
          <a:prstGeom prst="rect">
            <a:avLst/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2349360"/>
            <a:ext cx="720720" cy="720720"/>
          </a:xfrm>
          <a:prstGeom prst="triangle">
            <a:avLst>
              <a:gd name="adj" fmla="val 50000"/>
            </a:avLst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609480"/>
            <a:ext cx="836640" cy="792360"/>
          </a:xfrm>
          <a:prstGeom prst="ellipse">
            <a:avLst/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874000" y="6534000"/>
            <a:ext cx="270000" cy="324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324000"/>
              <a:gd name="textAreaBottom" fmla="*/ 306720 h 3240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  <a:path fill="darken" w="21600" h="25914">
                <a:moveTo>
                  <a:pt x="3794" y="5951"/>
                </a:moveTo>
                <a:lnTo>
                  <a:pt x="17806" y="12957"/>
                </a:lnTo>
                <a:lnTo>
                  <a:pt x="3794" y="19964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199360" y="6534000"/>
            <a:ext cx="316080" cy="32400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24000"/>
              <a:gd name="textAreaBottom" fmla="*/ 303840 h 324000"/>
            </a:gdLst>
            <a:ahLst/>
            <a:rect l="textAreaLeft" t="textAreaTop" r="textAreaRight" b="textAreaBottom"/>
            <a:pathLst>
              <a:path w="21600" h="22141">
                <a:moveTo>
                  <a:pt x="0" y="0"/>
                </a:moveTo>
                <a:lnTo>
                  <a:pt x="21600" y="0"/>
                </a:lnTo>
                <a:lnTo>
                  <a:pt x="21600" y="22141"/>
                </a:lnTo>
                <a:lnTo>
                  <a:pt x="0" y="22141"/>
                </a:lnTo>
                <a:close/>
              </a:path>
              <a:path fill="lightenLess" w="21600" h="22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41">
                <a:moveTo>
                  <a:pt x="21600" y="0"/>
                </a:moveTo>
                <a:lnTo>
                  <a:pt x="21600" y="22141"/>
                </a:lnTo>
                <a:lnTo>
                  <a:pt x="20200" y="20741"/>
                </a:lnTo>
                <a:lnTo>
                  <a:pt x="20200" y="1400"/>
                </a:lnTo>
                <a:close/>
              </a:path>
              <a:path fill="darkenLess" w="21600" h="22141">
                <a:moveTo>
                  <a:pt x="21600" y="22141"/>
                </a:moveTo>
                <a:lnTo>
                  <a:pt x="0" y="22141"/>
                </a:lnTo>
                <a:lnTo>
                  <a:pt x="1400" y="20741"/>
                </a:lnTo>
                <a:lnTo>
                  <a:pt x="20200" y="20741"/>
                </a:lnTo>
                <a:close/>
              </a:path>
              <a:path fill="lighten" w="21600" h="22141">
                <a:moveTo>
                  <a:pt x="0" y="22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41"/>
                </a:lnTo>
                <a:close/>
              </a:path>
              <a:path fill="darken" w="21600" h="22141">
                <a:moveTo>
                  <a:pt x="3794" y="11070"/>
                </a:moveTo>
                <a:lnTo>
                  <a:pt x="17806" y="4064"/>
                </a:lnTo>
                <a:lnTo>
                  <a:pt x="17806" y="18077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513640" y="6534000"/>
            <a:ext cx="360360" cy="324000"/>
          </a:xfrm>
          <a:custGeom>
            <a:avLst/>
            <a:gdLst>
              <a:gd name="textAreaLeft" fmla="*/ 20880 w 360360"/>
              <a:gd name="textAreaRight" fmla="*/ 339480 w 360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4021" h="21600">
                <a:moveTo>
                  <a:pt x="0" y="0"/>
                </a:moveTo>
                <a:lnTo>
                  <a:pt x="24021" y="0"/>
                </a:lnTo>
                <a:lnTo>
                  <a:pt x="24021" y="21600"/>
                </a:lnTo>
                <a:lnTo>
                  <a:pt x="0" y="21600"/>
                </a:lnTo>
                <a:close/>
              </a:path>
              <a:path fill="lightenLess" w="24021" h="21600">
                <a:moveTo>
                  <a:pt x="0" y="0"/>
                </a:moveTo>
                <a:lnTo>
                  <a:pt x="24021" y="0"/>
                </a:lnTo>
                <a:lnTo>
                  <a:pt x="22621" y="1400"/>
                </a:lnTo>
                <a:lnTo>
                  <a:pt x="1400" y="1400"/>
                </a:lnTo>
                <a:close/>
              </a:path>
              <a:path fill="darken" w="24021" h="21600">
                <a:moveTo>
                  <a:pt x="24021" y="0"/>
                </a:moveTo>
                <a:lnTo>
                  <a:pt x="24021" y="21600"/>
                </a:lnTo>
                <a:lnTo>
                  <a:pt x="22621" y="20200"/>
                </a:lnTo>
                <a:lnTo>
                  <a:pt x="22621" y="1400"/>
                </a:lnTo>
                <a:close/>
              </a:path>
              <a:path fill="darkenLess" w="24021" h="21600">
                <a:moveTo>
                  <a:pt x="24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1" y="20200"/>
                </a:lnTo>
                <a:close/>
              </a:path>
              <a:path fill="lighten" w="24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1" h="21600">
                <a:moveTo>
                  <a:pt x="12011" y="3837"/>
                </a:moveTo>
                <a:lnTo>
                  <a:pt x="14587" y="6448"/>
                </a:lnTo>
                <a:lnTo>
                  <a:pt x="14587" y="4707"/>
                </a:lnTo>
                <a:lnTo>
                  <a:pt x="16363" y="4707"/>
                </a:lnTo>
                <a:lnTo>
                  <a:pt x="16363" y="8224"/>
                </a:lnTo>
                <a:lnTo>
                  <a:pt x="18974" y="10800"/>
                </a:lnTo>
                <a:lnTo>
                  <a:pt x="17320" y="10800"/>
                </a:lnTo>
                <a:lnTo>
                  <a:pt x="17320" y="17989"/>
                </a:lnTo>
                <a:lnTo>
                  <a:pt x="6701" y="17989"/>
                </a:lnTo>
                <a:lnTo>
                  <a:pt x="6701" y="10800"/>
                </a:lnTo>
                <a:lnTo>
                  <a:pt x="5048" y="10800"/>
                </a:lnTo>
                <a:close/>
              </a:path>
              <a:path fill="darkenLess" w="24021" h="21600">
                <a:moveTo>
                  <a:pt x="14587" y="6448"/>
                </a:moveTo>
                <a:lnTo>
                  <a:pt x="14587" y="4707"/>
                </a:lnTo>
                <a:lnTo>
                  <a:pt x="16363" y="4707"/>
                </a:lnTo>
                <a:lnTo>
                  <a:pt x="16363" y="8224"/>
                </a:lnTo>
                <a:close/>
              </a:path>
              <a:path fill="darkenLess" w="24021" h="21600">
                <a:moveTo>
                  <a:pt x="11088" y="14299"/>
                </a:moveTo>
                <a:lnTo>
                  <a:pt x="12933" y="14299"/>
                </a:lnTo>
                <a:lnTo>
                  <a:pt x="12933" y="17989"/>
                </a:lnTo>
                <a:lnTo>
                  <a:pt x="17320" y="17989"/>
                </a:lnTo>
                <a:lnTo>
                  <a:pt x="17320" y="10800"/>
                </a:lnTo>
                <a:lnTo>
                  <a:pt x="6701" y="10800"/>
                </a:lnTo>
                <a:lnTo>
                  <a:pt x="6701" y="17989"/>
                </a:lnTo>
                <a:lnTo>
                  <a:pt x="1108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952880"/>
            <a:ext cx="836640" cy="792360"/>
          </a:xfrm>
          <a:prstGeom prst="ellipse">
            <a:avLst/>
          </a:prstGeom>
          <a:solidFill>
            <a:srgbClr val="8888ae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3522960" cy="3789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484360" y="141300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comic"/>
              </a:rPr>
              <a:t>МОЛОДЦЫ !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143964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4" name="applause.wav"/>
      </p:stSnd>
    </p:sndAc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26920" y="155736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1989000"/>
            <a:ext cx="43200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155736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2360" y="2060640"/>
            <a:ext cx="43200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2060640"/>
            <a:ext cx="43200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77080" y="2060640"/>
            <a:ext cx="43164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67280" y="1628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1628640"/>
            <a:ext cx="914400" cy="914400"/>
          </a:xfrm>
          <a:prstGeom prst="rect">
            <a:avLst/>
          </a:prstGeom>
          <a:solidFill>
            <a:srgbClr val="0000fa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17002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22720" y="433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50920" y="4220280"/>
            <a:ext cx="3384360" cy="11192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Times New Roman"/>
              </a:rPr>
              <a:t>ЛАПТА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40360" y="4220280"/>
            <a:ext cx="2087280" cy="11192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Times New Roman"/>
              </a:rPr>
              <a:t>ЛАПА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419640" y="4507200"/>
            <a:ext cx="77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659640" y="4220280"/>
            <a:ext cx="865080" cy="11192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Times New Roman"/>
              </a:rPr>
              <a:t>Т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780000" y="436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156360" y="4506480"/>
            <a:ext cx="4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08640"/>
            <a:ext cx="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4" idx="2"/>
          </p:cNvCxnSpPr>
          <p:nvPr/>
        </p:nvCxnSpPr>
        <p:spPr>
          <a:xfrm>
            <a:off x="1943280" y="4222800"/>
            <a:ext cx="2160" cy="2160"/>
          </a:xfrm>
          <a:prstGeom prst="straightConnector1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</p:cxnSp>
      <p:sp>
        <p:nvSpPr>
          <p:cNvPr id="172" name="door"/>
          <p:cNvSpPr/>
          <p:nvPr/>
        </p:nvSpPr>
        <p:spPr>
          <a:xfrm>
            <a:off x="1187280" y="2976480"/>
            <a:ext cx="3313440" cy="1604880"/>
          </a:xfrm>
          <a:prstGeom prst="pi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door"/>
          <p:cNvSpPr/>
          <p:nvPr/>
        </p:nvSpPr>
        <p:spPr>
          <a:xfrm>
            <a:off x="1600200" y="2819520"/>
            <a:ext cx="3352680" cy="1752480"/>
          </a:xfrm>
          <a:prstGeom prst="pi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door"/>
          <p:cNvSpPr/>
          <p:nvPr/>
        </p:nvSpPr>
        <p:spPr>
          <a:xfrm>
            <a:off x="1981080" y="3048120"/>
            <a:ext cx="3407040" cy="1523880"/>
          </a:xfrm>
          <a:prstGeom prst="pi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door"/>
          <p:cNvSpPr/>
          <p:nvPr/>
        </p:nvSpPr>
        <p:spPr>
          <a:xfrm>
            <a:off x="2743200" y="2895480"/>
            <a:ext cx="3124080" cy="1676520"/>
          </a:xfrm>
          <a:prstGeom prst="pi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СЛОЖ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3429000"/>
            <a:ext cx="22860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3429000"/>
            <a:ext cx="18288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98760" y="354636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3429000"/>
            <a:ext cx="25146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2720" y="387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36576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6576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3513240"/>
            <a:ext cx="4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45472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36576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480" y="36576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20760" y="4800600"/>
            <a:ext cx="5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8320" y="49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5360" y="480060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Ж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67080" y="48448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54100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4100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4800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Ф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4800600"/>
            <a:ext cx="9144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720" y="25146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 слагаемое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52920" y="266688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слагаемое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88960" y="251460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сумм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3200400"/>
            <a:ext cx="29718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44956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ПРАВИЛО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Tahoma"/>
              </a:rPr>
              <a:t>СЛАГАЕМЫЕ – ЭТО ЧАСТИ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, ИЗ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КОТОРЫХ СОСТОИТ СУММ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Tahoma"/>
              </a:rPr>
              <a:t>СУММА – ЭТО ЦЕЛОЕ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, СОСТОИ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ИЗ ЧАСТЕЙ – СЛАГАЕМЫХ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" y="3352680"/>
            <a:ext cx="228600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3352680"/>
            <a:ext cx="160020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352680"/>
            <a:ext cx="358128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3657600"/>
            <a:ext cx="380880" cy="380880"/>
          </a:xfrm>
          <a:prstGeom prst="rect">
            <a:avLst/>
          </a:prstGeom>
          <a:solidFill>
            <a:srgbClr val="cc00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3657600"/>
            <a:ext cx="3812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3657600"/>
            <a:ext cx="380880" cy="380880"/>
          </a:xfrm>
          <a:prstGeom prst="rect">
            <a:avLst/>
          </a:prstGeom>
          <a:solidFill>
            <a:srgbClr val="66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365760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2360" y="3429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3581280"/>
            <a:ext cx="381240" cy="381240"/>
          </a:xfrm>
          <a:prstGeom prst="rect">
            <a:avLst/>
          </a:prstGeom>
          <a:solidFill>
            <a:srgbClr val="cc00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600" y="3581280"/>
            <a:ext cx="38088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7120" y="3581280"/>
            <a:ext cx="380880" cy="381240"/>
          </a:xfrm>
          <a:prstGeom prst="rect">
            <a:avLst/>
          </a:prstGeom>
          <a:solidFill>
            <a:srgbClr val="66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3581280"/>
            <a:ext cx="38124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35812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01000" y="35812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58200" y="35812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35812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35812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35812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46134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480060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cc0099"/>
                </a:solidFill>
                <a:latin typeface="Times New Roman"/>
              </a:rPr>
              <a:t>К            +         Т      =            Ф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8360" y="3429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90360" y="54864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038480" y="54864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4800600"/>
            <a:ext cx="8380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419720"/>
            <a:ext cx="243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441972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3124080"/>
            <a:ext cx="396252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720" y="236232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 слагаемое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05560" y="259092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слагаемое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93880" y="23623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сумм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ВЫЧИТ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3429000"/>
            <a:ext cx="22860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429000"/>
            <a:ext cx="18288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3505320"/>
            <a:ext cx="7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3429000"/>
            <a:ext cx="25146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22720" y="387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2880" y="3513240"/>
            <a:ext cx="4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816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44280" y="263988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уменьшаемо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76320" y="2666880"/>
            <a:ext cx="25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вычитаемо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91960" y="26668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разност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38880" y="36576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048120"/>
            <a:ext cx="2590920" cy="167616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4495680"/>
            <a:ext cx="1981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4495680"/>
            <a:ext cx="25905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3733920"/>
            <a:ext cx="1600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5013360"/>
            <a:ext cx="705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          –    Ж       =          К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876920"/>
            <a:ext cx="1150920" cy="10080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5791320"/>
            <a:ext cx="936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5805360"/>
            <a:ext cx="720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3505320"/>
            <a:ext cx="7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22720" y="387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3513240"/>
            <a:ext cx="4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1f4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ПРАВИЛО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Если из целого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вычитаем одну часть,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то останется  другая часть.</a:t>
            </a:r>
            <a:r>
              <a:rPr b="0" lang="ru-RU" sz="4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68360" y="1989000"/>
            <a:ext cx="320040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68360" y="3429000"/>
            <a:ext cx="3200400" cy="838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5472"/>
                </a:solidFill>
                <a:latin typeface="Times New Roman"/>
              </a:rPr>
              <a:t>ОНА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68360" y="5013360"/>
            <a:ext cx="32004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59280" y="2133720"/>
            <a:ext cx="504720" cy="5032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40360" y="2133720"/>
            <a:ext cx="50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515772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0360" y="515772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2000" y="184464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4360" y="3357720"/>
            <a:ext cx="141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3  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0000" y="692280"/>
            <a:ext cx="32004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5080" y="62064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95640" y="836640"/>
            <a:ext cx="5050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43280" y="836640"/>
            <a:ext cx="576360" cy="5047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4000" y="515772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16360" y="5157720"/>
            <a:ext cx="5050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68360" y="5157720"/>
            <a:ext cx="648000" cy="504720"/>
          </a:xfrm>
          <a:prstGeom prst="star5">
            <a:avLst/>
          </a:pr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4720" y="5013360"/>
            <a:ext cx="113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№ </a:t>
            </a:r>
            <a:r>
              <a:rPr b="0" lang="ru-RU" sz="4400" spc="-1" strike="noStrike">
                <a:solidFill>
                  <a:srgbClr val="545472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50920" y="981000"/>
            <a:ext cx="228600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981000"/>
            <a:ext cx="160020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950760"/>
            <a:ext cx="358128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2360" y="10270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8360" y="102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2781360"/>
            <a:ext cx="18288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03640" y="263700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7640" y="2781360"/>
            <a:ext cx="251460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35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1640" y="2852640"/>
            <a:ext cx="4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2781360"/>
            <a:ext cx="2952720" cy="83808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352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119700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42920" y="119700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119700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92360" y="119700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7280" y="119700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37080" y="1123920"/>
            <a:ext cx="50508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1123920"/>
            <a:ext cx="50508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34160" y="112392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292428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292428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47640" y="2924280"/>
            <a:ext cx="50508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51640" y="119700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26560" y="119700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24000" y="2997360"/>
            <a:ext cx="36036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98920" y="2997360"/>
            <a:ext cx="36036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40360" y="2997360"/>
            <a:ext cx="36036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14920" y="2997360"/>
            <a:ext cx="360360" cy="358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16720" y="299736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64360" y="299736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13800" y="299736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48360" y="404640"/>
            <a:ext cx="3995640" cy="1727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276640"/>
            <a:ext cx="3132000" cy="17269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0" y="4363920"/>
            <a:ext cx="194436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3640" y="421956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27640" y="4363920"/>
            <a:ext cx="251460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35200" y="478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4437000"/>
            <a:ext cx="4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4363920"/>
            <a:ext cx="2952720" cy="838440"/>
          </a:xfrm>
          <a:prstGeom prst="flowChartAlternateProcess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35200" y="478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0920" y="450684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98560" y="4506840"/>
            <a:ext cx="5047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4506840"/>
            <a:ext cx="50508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4000" y="457992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98920" y="457992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05440" y="458136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80360" y="4581360"/>
            <a:ext cx="36036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52720" y="4581360"/>
            <a:ext cx="505080" cy="50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00720" y="4581360"/>
            <a:ext cx="504720" cy="50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49800" y="4581360"/>
            <a:ext cx="504720" cy="50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789360"/>
            <a:ext cx="3132000" cy="1727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060640"/>
            <a:ext cx="22334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3932280"/>
            <a:ext cx="2233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00720" y="5516640"/>
            <a:ext cx="2233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35280" y="3860640"/>
            <a:ext cx="2233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64000" y="5516640"/>
            <a:ext cx="22334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87640" y="2060640"/>
            <a:ext cx="2233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2:45:20Z</dcterms:created>
  <dc:creator>8k2f</dc:creator>
  <dc:description/>
  <dc:language>en-US</dc:language>
  <cp:lastModifiedBy>Class315</cp:lastModifiedBy>
  <dcterms:modified xsi:type="dcterms:W3CDTF">2007-10-01T07:40:43Z</dcterms:modified>
  <cp:revision>18</cp:revision>
  <dc:subject/>
  <dc:title>СЛОЖЕНИЕ</dc:title>
</cp:coreProperties>
</file>