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40D-988F-4DB8-BC1C-1B724CF3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F0A-CB6E-40A4-BFB5-1556A13B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C35-87FF-4EB4-AA2A-64334DC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95-1F58-4831-B55F-1198BBFF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3C7-23B3-4055-89C5-99908EC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38B-D806-43D7-99B5-1957237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0C8A-C6E7-473A-A05F-55775CA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A148-7C5A-4B60-9ABB-B3C1B43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CAA-0D2B-42E1-85CF-D177947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F444-4821-4C0F-94ED-3341A3D5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4904-037C-4A09-9A5D-A200716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66A-9C5D-4D1C-A8AD-071B7E6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960-D7D1-418D-BB38-9E7BDE3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9336-229C-42A1-9C55-9918E98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6A89-E8D3-4911-936D-E14EEBB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261B-026D-42FA-93A2-AD358BA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CB8-B5E7-4738-9546-E077CB3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E4D-35EE-4BA2-819F-1A272D78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34A-A3BF-460E-B86D-147DDAC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4E0-C3F9-49A5-B360-DE24878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9A0-EAB0-428A-A55C-0F60D37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362-006F-4FD1-9A84-D653267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D32-3069-4B99-B404-352D546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A2C-36EB-4F92-A007-3BEF7B8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A678-DB6D-420E-ADB3-98D1F38B5A33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47FF-678F-4027-A473-2896AB7116F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62064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620640"/>
            <a:ext cx="647640" cy="720720"/>
          </a:xfrm>
          <a:prstGeom prst="rect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620640"/>
            <a:ext cx="796680" cy="792360"/>
          </a:xfrm>
          <a:prstGeom prst="ellipse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62064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620640"/>
            <a:ext cx="647640" cy="720720"/>
          </a:xfrm>
          <a:prstGeom prst="rect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Arial"/>
              </a:rPr>
              <a:t>Дорисуй следующую фигуру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7480" y="10000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Arial"/>
              </a:rPr>
              <a:t>. . 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304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65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6064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01336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С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645000"/>
            <a:ext cx="831960" cy="792000"/>
          </a:xfrm>
          <a:prstGeom prst="ellipse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620640"/>
            <a:ext cx="647640" cy="720720"/>
          </a:xfrm>
          <a:prstGeom prst="rect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34936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609480"/>
            <a:ext cx="836640" cy="792360"/>
          </a:xfrm>
          <a:prstGeom prst="ellipse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874000" y="6534000"/>
            <a:ext cx="270000" cy="324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324000"/>
              <a:gd name="textAreaBottom" fmla="*/ 306720 h 3240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5951"/>
                </a:moveTo>
                <a:lnTo>
                  <a:pt x="17806" y="12957"/>
                </a:lnTo>
                <a:lnTo>
                  <a:pt x="3794" y="19964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99360" y="6534000"/>
            <a:ext cx="316080" cy="32400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24000"/>
              <a:gd name="textAreaBottom" fmla="*/ 303840 h 324000"/>
            </a:gdLst>
            <a:ahLst/>
            <a:rect l="textAreaLeft" t="textAreaTop" r="textAreaRight" b="textAreaBottom"/>
            <a:pathLst>
              <a:path w="21600" h="22141">
                <a:moveTo>
                  <a:pt x="0" y="0"/>
                </a:moveTo>
                <a:lnTo>
                  <a:pt x="21600" y="0"/>
                </a:lnTo>
                <a:lnTo>
                  <a:pt x="21600" y="22141"/>
                </a:lnTo>
                <a:lnTo>
                  <a:pt x="0" y="22141"/>
                </a:lnTo>
                <a:close/>
              </a:path>
              <a:path fill="lightenLess" w="21600" h="22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1">
                <a:moveTo>
                  <a:pt x="21600" y="0"/>
                </a:moveTo>
                <a:lnTo>
                  <a:pt x="21600" y="22141"/>
                </a:lnTo>
                <a:lnTo>
                  <a:pt x="20200" y="20741"/>
                </a:lnTo>
                <a:lnTo>
                  <a:pt x="20200" y="1400"/>
                </a:lnTo>
                <a:close/>
              </a:path>
              <a:path fill="darkenLess" w="21600" h="22141">
                <a:moveTo>
                  <a:pt x="21600" y="22141"/>
                </a:moveTo>
                <a:lnTo>
                  <a:pt x="0" y="22141"/>
                </a:lnTo>
                <a:lnTo>
                  <a:pt x="1400" y="20741"/>
                </a:lnTo>
                <a:lnTo>
                  <a:pt x="20200" y="20741"/>
                </a:lnTo>
                <a:close/>
              </a:path>
              <a:path fill="lighten" w="21600" h="22141">
                <a:moveTo>
                  <a:pt x="0" y="22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1"/>
                </a:lnTo>
                <a:close/>
              </a:path>
              <a:path fill="darken" w="21600" h="22141">
                <a:moveTo>
                  <a:pt x="3794" y="11070"/>
                </a:moveTo>
                <a:lnTo>
                  <a:pt x="17806" y="4064"/>
                </a:lnTo>
                <a:lnTo>
                  <a:pt x="17806" y="18077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513640" y="653400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837"/>
                </a:moveTo>
                <a:lnTo>
                  <a:pt x="14587" y="6448"/>
                </a:ln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lnTo>
                  <a:pt x="18974" y="10800"/>
                </a:lnTo>
                <a:lnTo>
                  <a:pt x="17320" y="10800"/>
                </a:lnTo>
                <a:lnTo>
                  <a:pt x="17320" y="17989"/>
                </a:lnTo>
                <a:lnTo>
                  <a:pt x="6701" y="17989"/>
                </a:lnTo>
                <a:lnTo>
                  <a:pt x="6701" y="10800"/>
                </a:lnTo>
                <a:lnTo>
                  <a:pt x="5048" y="10800"/>
                </a:lnTo>
                <a:close/>
              </a:path>
              <a:path fill="darkenLess" w="24021" h="21600">
                <a:moveTo>
                  <a:pt x="14587" y="6448"/>
                </a:move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close/>
              </a:path>
              <a:path fill="darkenLess" w="24021" h="21600">
                <a:moveTo>
                  <a:pt x="11088" y="14299"/>
                </a:moveTo>
                <a:lnTo>
                  <a:pt x="12933" y="14299"/>
                </a:lnTo>
                <a:lnTo>
                  <a:pt x="12933" y="17989"/>
                </a:lnTo>
                <a:lnTo>
                  <a:pt x="17320" y="17989"/>
                </a:lnTo>
                <a:lnTo>
                  <a:pt x="17320" y="10800"/>
                </a:lnTo>
                <a:lnTo>
                  <a:pt x="6701" y="10800"/>
                </a:lnTo>
                <a:lnTo>
                  <a:pt x="6701" y="17989"/>
                </a:lnTo>
                <a:lnTo>
                  <a:pt x="110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952880"/>
            <a:ext cx="836640" cy="792360"/>
          </a:xfrm>
          <a:prstGeom prst="ellipse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4" name="applause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26920" y="155736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198900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155736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206064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06064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2060640"/>
            <a:ext cx="4316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1628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1628640"/>
            <a:ext cx="914400" cy="914400"/>
          </a:xfrm>
          <a:prstGeom prst="rect">
            <a:avLst/>
          </a:prstGeom>
          <a:solidFill>
            <a:srgbClr val="0000fa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17002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22720" y="43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4220280"/>
            <a:ext cx="338436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ЛАПТ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40360" y="4220280"/>
            <a:ext cx="208728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ЛАП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419640" y="4507200"/>
            <a:ext cx="77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659640" y="4220280"/>
            <a:ext cx="86508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80000" y="436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56360" y="450648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08640"/>
            <a:ext cx="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2"/>
          </p:cNvCxnSpPr>
          <p:nvPr/>
        </p:nvCxnSpPr>
        <p:spPr>
          <a:xfrm>
            <a:off x="1943280" y="4222800"/>
            <a:ext cx="2160" cy="216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</p:cxnSp>
      <p:sp>
        <p:nvSpPr>
          <p:cNvPr id="172" name="door"/>
          <p:cNvSpPr/>
          <p:nvPr/>
        </p:nvSpPr>
        <p:spPr>
          <a:xfrm>
            <a:off x="1187280" y="2976480"/>
            <a:ext cx="3313440" cy="16048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door"/>
          <p:cNvSpPr/>
          <p:nvPr/>
        </p:nvSpPr>
        <p:spPr>
          <a:xfrm>
            <a:off x="1600200" y="2819520"/>
            <a:ext cx="3352680" cy="17524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door"/>
          <p:cNvSpPr/>
          <p:nvPr/>
        </p:nvSpPr>
        <p:spPr>
          <a:xfrm>
            <a:off x="1981080" y="3048120"/>
            <a:ext cx="3407040" cy="15238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door"/>
          <p:cNvSpPr/>
          <p:nvPr/>
        </p:nvSpPr>
        <p:spPr>
          <a:xfrm>
            <a:off x="2743200" y="2895480"/>
            <a:ext cx="3124080" cy="167652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ЛОЖ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3429000"/>
            <a:ext cx="22860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342900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8760" y="354636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342900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72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20760" y="4800600"/>
            <a:ext cx="5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832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5360" y="480060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080" y="48448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410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4800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4800600"/>
            <a:ext cx="9144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20" y="25146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52920" y="266688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88960" y="251460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умм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200400"/>
            <a:ext cx="29718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44956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СЛАГАЕМЫЕ – ЭТО ЧАСТИ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, И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КОТОРЫХ СОСТОИТ СУМ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СУММА – ЭТО ЦЕЛОЕ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, СОСТОИ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ИЗ ЧАСТЕЙ – СЛАГАЕМЫ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3352680"/>
            <a:ext cx="22860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3352680"/>
            <a:ext cx="16002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352680"/>
            <a:ext cx="358128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3657600"/>
            <a:ext cx="380880" cy="380880"/>
          </a:xfrm>
          <a:prstGeom prst="rect">
            <a:avLst/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657600"/>
            <a:ext cx="3812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657600"/>
            <a:ext cx="38088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6576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2360" y="3429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581280"/>
            <a:ext cx="381240" cy="381240"/>
          </a:xfrm>
          <a:prstGeom prst="rect">
            <a:avLst/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5812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3581280"/>
            <a:ext cx="380880" cy="38124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6134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80060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К            +         Т      =            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342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90360" y="54864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5486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800600"/>
            <a:ext cx="8380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419720"/>
            <a:ext cx="243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4419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124080"/>
            <a:ext cx="396252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20" y="236232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5560" y="259092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93880" y="23623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умм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ВЫЧИТ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3429000"/>
            <a:ext cx="22860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350532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42900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44280" y="263988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уменьшаемо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6320" y="2666880"/>
            <a:ext cx="25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вычитаемо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91960" y="26668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разност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8120"/>
            <a:ext cx="2590920" cy="16761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4495680"/>
            <a:ext cx="198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4495680"/>
            <a:ext cx="25905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373392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5013360"/>
            <a:ext cx="70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          –    Ж       =          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876920"/>
            <a:ext cx="1150920" cy="1008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5791320"/>
            <a:ext cx="936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805360"/>
            <a:ext cx="720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50532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Если из целого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вычитаем одну часть,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то останется  другая часть.</a:t>
            </a:r>
            <a:r>
              <a:rPr b="0" lang="ru-RU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68360" y="1989000"/>
            <a:ext cx="32004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3429000"/>
            <a:ext cx="32004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5013360"/>
            <a:ext cx="32004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2133720"/>
            <a:ext cx="504720" cy="5032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13372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036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2000" y="1844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360" y="3357720"/>
            <a:ext cx="14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3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0000" y="692280"/>
            <a:ext cx="32004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5080" y="620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5640" y="83664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83664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16360" y="515772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5157720"/>
            <a:ext cx="648000" cy="504720"/>
          </a:xfrm>
          <a:prstGeom prst="star5">
            <a:avLst/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4720" y="5013360"/>
            <a:ext cx="11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0920" y="981000"/>
            <a:ext cx="22860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981000"/>
            <a:ext cx="16002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950760"/>
            <a:ext cx="358128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2360" y="10270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8360" y="102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278136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3640" y="26370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278136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5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1640" y="285264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2781360"/>
            <a:ext cx="295272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35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37080" y="112392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112392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4160" y="112392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92428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92428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92428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5164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2656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2400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9892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492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380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48360" y="404640"/>
            <a:ext cx="3995640" cy="1727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76640"/>
            <a:ext cx="3132000" cy="17269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4363920"/>
            <a:ext cx="194436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3640" y="421956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4363920"/>
            <a:ext cx="25146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35200" y="478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43700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4363920"/>
            <a:ext cx="295272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5200" y="478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450684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8560" y="450684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450684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4000" y="457992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98920" y="457992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5440" y="458136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0360" y="458136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52720" y="4581360"/>
            <a:ext cx="50508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4581360"/>
            <a:ext cx="50472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49800" y="4581360"/>
            <a:ext cx="50472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789360"/>
            <a:ext cx="3132000" cy="1727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060640"/>
            <a:ext cx="2233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393228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5516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3860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64000" y="5516640"/>
            <a:ext cx="2233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7640" y="2060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Class315</cp:lastModifiedBy>
  <dcterms:modified xsi:type="dcterms:W3CDTF">2007-10-01T07:40:43Z</dcterms:modified>
  <cp:revision>18</cp:revision>
  <dc:subject/>
  <dc:title>СЛОЖЕНИЕ</dc:title>
</cp:coreProperties>
</file>