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546-8454-4F71-8DEF-14FA9DF1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763-4DC4-4399-A900-15D891A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9CB-ADED-4B1F-A714-B857ABD5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D1E-9647-4622-80E8-4E4987DD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FE5-A967-4ED0-9A88-51F263C0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757-DBFB-44FE-81C5-1E5E6BE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071A-27D3-433B-B0D1-E5348D9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2A0-9477-49AE-84B6-954A3A0B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7C5-361D-4C45-87DF-50EE6976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948-93D7-4F6F-97CD-F3FBAA3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C144-8B33-4DD9-A68C-06BC980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B24-CF33-4B3E-BE54-055675D5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003-070F-4E52-888A-B7584E3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C0C8-715D-4749-A942-617F51C4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7589-AE3D-437F-A461-B878175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733B-4BB1-457E-85EC-45629F0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420-C832-4F62-A1D1-EA83AE69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77C-D5C2-4F9B-AEDB-92E7D32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E8F-AA6E-4903-A28C-D70061F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35A-E4EC-4D42-9CD9-1FA9A3B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7C9-30AD-42D2-BCA1-4660A18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E76-708D-4E9B-B6E0-FB644C3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3EC-5FF3-47B8-83A8-963F048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200-EB0D-4E94-B9CD-04509A6A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B41-1FBF-47E8-B14F-52E52633D6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E7B-470D-48A4-B77F-BF7C232794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3/9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3/4.htm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3/7.htm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3/8.htm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3/2.htm" TargetMode="External"/><Relationship Id="rId2" Type="http://schemas.openxmlformats.org/officeDocument/2006/relationships/hyperlink" Target="file:///3/2.htm" TargetMode="External"/><Relationship Id="rId3" Type="http://schemas.openxmlformats.org/officeDocument/2006/relationships/hyperlink" Target="file:///3/3.htm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00720" y="1773360"/>
            <a:ext cx="424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ыцарском замк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§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1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9" name="image00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5840" y="494172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енное дело стало занятием почти исключительно феодалов, и так было на протяжении многих веков. Феодал зачастую сражался всю жизнь.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ыцарь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был вооружен большим мечом и длинным копьем; нередко он пользовался также боевым топором 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палицей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тяжелой дубиной с металлическим утолщенным концом. Большим щитом рыцарь мог прикрыться с головы до но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483084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571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80000" y="1125000"/>
            <a:ext cx="35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рыцаря защищала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льчуга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рубаха, сплетенная из железных колец (иногда в 2—3 слоя) и доходившая до колен. Позднее кольчугу сменил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лат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доспехи из стальных пластин. На голову рыцарь надевал шлем, а в минуту опасности он опускал на лицо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забрало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таллическую пластинку с прорезями для глаз. Сражались рыцари на сильных, выносливых конях, которые также были защищены доспехами. Рыцаря сопровождали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уженосец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несколько вооруженных воинов, конных и пеших, — целая «боевая единица»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152960" cy="489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32000" y="907920"/>
            <a:ext cx="1490400" cy="360360"/>
          </a:xfrm>
          <a:prstGeom prst="rightArrowCallout">
            <a:avLst>
              <a:gd name="adj1" fmla="val 25002"/>
              <a:gd name="adj2" fmla="val 25000"/>
              <a:gd name="adj3" fmla="val 68931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Ш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3203280" y="1125360"/>
            <a:ext cx="1873080" cy="360720"/>
          </a:xfrm>
          <a:prstGeom prst="rightArrowCallout">
            <a:avLst>
              <a:gd name="adj1" fmla="val 25002"/>
              <a:gd name="adj2" fmla="val 25000"/>
              <a:gd name="adj3" fmla="val 86544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Забрал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3492360" y="1915200"/>
            <a:ext cx="1873440" cy="360360"/>
          </a:xfrm>
          <a:prstGeom prst="rightArrowCallout">
            <a:avLst>
              <a:gd name="adj1" fmla="val 25002"/>
              <a:gd name="adj2" fmla="val 25000"/>
              <a:gd name="adj3" fmla="val 8664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Кольчуг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844640"/>
            <a:ext cx="1490760" cy="360360"/>
          </a:xfrm>
          <a:prstGeom prst="rightArrowCallout">
            <a:avLst>
              <a:gd name="adj1" fmla="val 25002"/>
              <a:gd name="adj2" fmla="val 25000"/>
              <a:gd name="adj3" fmla="val 68948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3635280" y="3932640"/>
            <a:ext cx="1224000" cy="360360"/>
          </a:xfrm>
          <a:prstGeom prst="rightArrowCallout">
            <a:avLst>
              <a:gd name="adj1" fmla="val 25002"/>
              <a:gd name="adj2" fmla="val 22250"/>
              <a:gd name="adj3" fmla="val 56610"/>
              <a:gd name="adj4" fmla="val 58231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Щи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06864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бедр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93372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кол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084640"/>
            <a:ext cx="1600200" cy="720720"/>
          </a:xfrm>
          <a:prstGeom prst="rightArrowCallout">
            <a:avLst>
              <a:gd name="adj1" fmla="val 11010"/>
              <a:gd name="adj2" fmla="val 12556"/>
              <a:gd name="adj3" fmla="val 22953"/>
              <a:gd name="adj4" fmla="val 78569"/>
            </a:avLst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башма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634560" y="2781360"/>
            <a:ext cx="1800360" cy="720720"/>
          </a:xfrm>
          <a:prstGeom prst="rightArrowCallout">
            <a:avLst>
              <a:gd name="adj1" fmla="val 11010"/>
              <a:gd name="adj2" fmla="val 16301"/>
              <a:gd name="adj3" fmla="val 25824"/>
              <a:gd name="adj4" fmla="val 69046"/>
            </a:avLst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перчат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4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евой конь, рыцарское снаряжение и снаряжение  путников стоили очень дорого. Поэтому нести рыцарскую службу мог землевладелец, которого обеспечивали всем необходимым зависимые крестья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еодалы готовились к военной службе с детства. Они постоянно упражнялись в фехтовании, верховой езде, борьбе, плавании и метании копья, учились приемам и тактике бо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5445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Рыцарь в полном вооружен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230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995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пода редко сами занимались хозяйственными делами. Для этого в каждом имении они держали управляющих. Основное время феодалы отдавали войнам и воинским упражнениям, охоте и пирам. Любимые развлечения рыцаря —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охота и турни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ыли связаны с военным де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ота не только служила развлечением, но и помогала пополнять запасы пищи. Во время охоты можно было проявить отвагу и ловкость: борьба с разъяренным диким кабаном или раненым медведем была столь же опасна, как с вражеским воином, а погоня за оленями тренировала в верховой ез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927680" y="60930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хот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986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урнир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военные состязания рыцарей в силе и ловкости — устраивали короли и знатные феодалы. Там собиралось много зрителей, порой из нескольких стран. Знатные господа, судьи и дамы восседали на трибунах, а простой люд теснился за деревянным барьером вокруг аре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892920" cy="2390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228840" cy="21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72000" y="4508640"/>
            <a:ext cx="3243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052280"/>
            <a:ext cx="4105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ьные глашатаи —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герольд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объявляли имена и девизы рыцарей, вступающих в б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ники турнира, одетые в боевые доспехи, разъезжались в противоположные концы арены. По знаку судьи они мчались на конях навстречу друг к другу. Тупым турнирным копьем рыцарь старался выбить противника из седла. Иногда состязание кончалось серьезными увечьями или даже гибелью участников. Победитель получал в награду коня и доспехи побежденного противника. Изредка разыгрывалось сражение двух рыцарских отрядов, которые выстраивались цеп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645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Королевские герольды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Сражение отряд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14880" cy="256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3470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4132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ычно турнир завершали пиром. И наоборот, торжественные пиры по случаю побед, коронаций, свадеб и других важных для знати событий включали зачастую не только застолье и танцы, но и турнирные состязания. Во время таких торжеств нередко происходили посвящения в рыцари, раздавались почести и награды. Вечерами обитатели замка собирались в общей зале, где горел огромный очаг — камин, играли в кости и шахматы, пили вино и пиво, решали свои семейные дела. Однообразную жизнь нарушали приезды гостей и праздники. На пирах в замках рекой лилось вино, столы ломились под тяжестью закусок. Звериные туши зажаривались в очагах целиком, на огромных вертелах. Обитателей замков и их гостей веселили шуты и карлики, приглашенные артисты и, конечно, поэты из числа св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ыступление музыкант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67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5300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детстве к будущим рыцарям приглашали учителей, которые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учал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х пению, танцам, умению одеваться, поведению в обществе, но не всегда — чтению, письму, арифмет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6720" y="1738440"/>
            <a:ext cx="835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84360" y="1341360"/>
            <a:ext cx="2916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тные рыцари считали себя людьми «благородными», гордились древностью своих родов и числом знаменитых предков. Рыцарь имел свой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ерб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отличительный знак рода и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девиз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краткое изречение, обычно объяснявшее смысл гер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59421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лный герб и примеры гербов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255680"/>
            <a:ext cx="3200400" cy="5602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457720" cy="2814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4194000"/>
            <a:ext cx="245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35280" y="1557000"/>
            <a:ext cx="349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цари не стеснялись грабить побежденных, собственных крестьян и даже проезжих на больших дорогах. В то же время рыцарю полагалось презирать расчетливость, бережливость, но проявлять щедрость. Доходы, получаемые от крестьян, и военную добычу чаще всего тратили на подарки, пиры и угощения друзей, охоту, дорогую одежду, на содержание слуг и вои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40957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3038040"/>
            <a:ext cx="806436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К середине </a:t>
            </a:r>
            <a:r>
              <a:rPr b="1" i="1" lang="en-US" sz="1800" spc="-1" strike="noStrike">
                <a:solidFill>
                  <a:srgbClr val="ff9900"/>
                </a:solidFill>
                <a:latin typeface="Tahoma"/>
              </a:rPr>
              <a:t>XI </a:t>
            </a: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века в Европе установился общественный строй, который современные историки называют феода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един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конц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а -  время расцвета средневекового об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сть принадлежала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землевладельцам-феодалам, светским 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и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церковным.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авляющее большинство населения составля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висимые крестьяне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главе стоял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монарх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единоличный правитель): король, в более мелком государстве — граф или герцо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илегии и обязанности господ и крестьян оформились определенными обычаями, писанными законами и установлениями. Крестьяне и горожане не входили в феодальную лестницу, но также были связаны с господами договорными отношениями. Такие личностные отношения в виде договоров и клятв-обязательств — примечательная особенность западного Средневеков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400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494136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им важным качеством рыцаря считалась верность королю и сеньору. Это была его главная обязанность. А измена налагала клеймо позора на весь род предателя. «Кто своему сеньору изменяет, тот кару должен понести по праву» — сказано в одной из поэм. В сказаниях о рыцарях воспевались смелость, удаль, презрение к смерти, благород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626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392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тот выработанный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декс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(законы)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рыцарской чести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ходили и другие особые правила: рыцарь должен искать подвиги, бороться с врагами христианской веры, защищать честь дам, а также слабых и обиженных, особенно вдов и сирот, быть справедливым и галант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эти правила рыцарской чести применялись главным образом в отношениях между феодалами. Всех, кого считали «неблагородными», рыцари презирали, вели себя с ними высокомерно и жест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прочем, и в отношениях между «благородными» людьми правила рыцарской чести соблюдались не всегда. В повседневной жизни, в семье, с вассалами и равными многие феодалы были грубы, жестоки и несдержанны, алчны и скупы, могли нанести бесчестье женщ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19720" y="580536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клонение прекрасной даме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14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средневековое общество состояло из трех больших групп людей. Образно люди того времени представляли его т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rot="2921400">
            <a:off x="6351120" y="2585520"/>
            <a:ext cx="760680" cy="287640"/>
          </a:xfrm>
          <a:prstGeom prst="rightArrow">
            <a:avLst>
              <a:gd name="adj1" fmla="val 50000"/>
              <a:gd name="adj2" fmla="val 6611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 rot="7861200">
            <a:off x="2168640" y="2664360"/>
            <a:ext cx="866880" cy="236520"/>
          </a:xfrm>
          <a:prstGeom prst="rightArrow">
            <a:avLst>
              <a:gd name="adj1" fmla="val 50000"/>
              <a:gd name="adj2" fmla="val 9162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91120" y="2657520"/>
            <a:ext cx="760320" cy="287280"/>
          </a:xfrm>
          <a:prstGeom prst="rightArrow">
            <a:avLst>
              <a:gd name="adj1" fmla="val 50000"/>
              <a:gd name="adj2" fmla="val 6616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410" t="3985" r="6410" b="33552"/>
          <a:stretch/>
        </p:blipFill>
        <p:spPr>
          <a:xfrm>
            <a:off x="900000" y="364500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2636" t="1668" r="8009" b="31416"/>
          <a:stretch/>
        </p:blipFill>
        <p:spPr>
          <a:xfrm>
            <a:off x="3851280" y="3716280"/>
            <a:ext cx="172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6551" t="0" r="0" b="25361"/>
          <a:stretch/>
        </p:blipFill>
        <p:spPr>
          <a:xfrm>
            <a:off x="6659640" y="3716280"/>
            <a:ext cx="172728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5120" y="618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997800" y="623736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Духове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059840" y="6237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Рыцар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678360" y="6237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Крестья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на ур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?   Почему рыцарем мог быть только очень богатый человек  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83664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Начиная с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ека для защиты от нападений норманнов и венгров в Европе было построено немало замков. Постепенно каждый господин старался соорудить себе замок: в зависимости от возможностей — огромный или скромный.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1"/>
              </a:rPr>
              <a:t>Замок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2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— это жилище феодала и его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3"/>
              </a:rPr>
              <a:t>крепость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376800" cy="2535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372120" cy="259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338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25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замки строили из дерева, позднее— из камня. Мощные стены с зубчатыми башнями служили надежной защитой. Замок часто возводили на холме или высокой скале, окружали широким рвом с водой. Иногда его строили на острове посреди реки или озера. Через ров или протоку перекидывали подъемный мост, на ночь и при нападении врага его поднимали на цепях. Из башни над воротами постоянно обозревала окрестности стража и, заметив в отдалении врага, трубила сигнал тревоги. Тогда воины спешили занять свои места на стенах и в башн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105440" cy="477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40880" y="59500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оротная башн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125000"/>
            <a:ext cx="36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проникнуть в замок, надо было преодолеть   много   препятствий.   Враги   должны были  засыпать  ров,   по  открытому пространству одолеть холм, подойти к стенам, взобраться на них по приставленным штурмовым лестницам или разбить тараном дубовые, окованные железом вор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оловы врагов защитники замка сбрасывали камни и бревна, лили кипяток и горячую смолу, метали копья, осыпали их стрелами. Зачастую нападавшим приходилось штурмовать вторую, еще более высокую сте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93080" y="5805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борона зам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416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595008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052640"/>
            <a:ext cx="30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Над всеми постройками возвышалась главная башня — </a:t>
            </a:r>
            <a:r>
              <a:rPr b="0" i="1" lang="en-US" sz="1800" spc="-1" strike="noStrike">
                <a:solidFill>
                  <a:srgbClr val="ffcc66"/>
                </a:solidFill>
                <a:latin typeface="Arial Narrow"/>
              </a:rPr>
              <a:t>донжон.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В ней феодал со своими воинами и слугами мог выдержать долгую осаду, если другие укрепления уже захвачены. Внутри башни один над другим были расположены залы. В подвальном помещении делали колодец и хранили запасы продуктов. Рядом в сыром и темном подземелье томились узники. Из подвала обычно рыли тайный подземный ход, который выводил к реке или лесу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47242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Донжон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1143000"/>
            <a:ext cx="3143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7280" y="1197000"/>
            <a:ext cx="3059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динственная железная дверь, ведущая в башню, была расположена высоко над землей. Если удавалось ее разбить, то приходилось ве­сти борьбу за каждый этаж. По приставным лестницам надо было пробираться через люки, которые закрывались тяжелыми каменными плитами. На случай захвата башни в толще стены была сделана винтовая лестница; по ней хозяин замка вместе с семьей и воинами мог спуститься в спасительный подземный х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900080" y="204804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5084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Замок в Испани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193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44:01Z</dcterms:created>
  <dc:creator>СЕРГЕЙ</dc:creator>
  <dc:description/>
  <dc:language>en-US</dc:language>
  <cp:lastModifiedBy>люба</cp:lastModifiedBy>
  <dcterms:modified xsi:type="dcterms:W3CDTF">2012-09-30T13:39:15Z</dcterms:modified>
  <cp:revision>441</cp:revision>
  <dc:subject/>
  <dc:title>Слайд 1</dc:title>
</cp:coreProperties>
</file>