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7A3-C175-4B2D-9D46-806E1441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5CF-D78E-4DBB-94C0-F8C00932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600-C452-4977-AAD8-F9878598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822-9503-4C7E-B733-D7FFC688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9F08-F60F-4217-9666-7450BDCB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630B-ACA0-4E13-99C4-27592283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3386-7054-4616-BF73-41C4DB43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A58-A4EE-404A-8D66-7DDD1C64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3714-0110-4C32-8B20-9D4A0D96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C53D-7AF6-4917-8D73-7275DA5F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B0D8-03D9-46AD-BA22-D89D2743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1EC-A72C-44EC-9055-F1E403B2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C18A-7C3B-4427-88E4-956F0CE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342D-478C-4877-B888-BC2C973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A380-D156-469F-B122-643AED2D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F9D8-50DD-4238-9CEA-961C0EE0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03AA-DD0E-4C7F-8FB0-0D92358F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8DE-FF68-4199-AF1F-F3287E12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0D0-01C1-4010-B653-413FBD46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463-2BA4-406F-A13E-9FDB8E34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01E-1AF7-4D35-8295-4ED27F0B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AC1-7049-44EB-8220-FD97AD84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D4B-3DCE-4CB7-95E2-85A3826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77F-6002-4059-AB84-4D66F72E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9F91-114A-48F5-B559-DA320E6B7A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097F-FDDA-4133-9A8A-33B92F7FC6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velich.ru/images/about14_big.jpg&amp;imgrefurl=http://www.velich.ru/pages/33&amp;h=320&amp;w=240&amp;sz=24&amp;hl=ru&amp;start=20&amp;tbnid=UEywgAuv9KMewM:&amp;tbnh=118&amp;tbnw=89&amp;prev=/images%3Fq%3D%25D0%259D.%25D0%259C.%25D0%259A%25D0%25B0%25D1%2580%25D0%25B0%25D0%25BC%25D0%25B7%25D0%25B8%25D0%25BD%26svnum%3D10%26hl%3Dru%26newwindow%3D1" TargetMode="External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bse.sci-lib.com/a_pictures/01/00/286520993.jpg&amp;imgrefurl=http://bse.sci-lib.com/article067541.html&amp;h=200&amp;w=148&amp;sz=6&amp;hl=ru&amp;start=39&amp;tbnid=0K2EGtULZnbmyM:&amp;tbnh=104&amp;tbnw=77&amp;prev=/images%3Fq%3D%25D0%2590.%25D0%2598.%25D0%259A%25D1%2583%25D0%25BF%25D1%2580%25D0%25B8%25D0%25BD..%26start%3D20%26ndsp%3D20%26svnum%3D10%26hl%3Dru%26newwindow%3D1%26sa%3DN" TargetMode="External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on.msu.ru/cmt2/lib/c/72/Image/lomonosov(1).jpg" TargetMode="External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vestnik.com/issues/2000/0829/images/orlov_paustov.jpg&amp;imgrefurl=http://www.vestnik.com/issues/2000/0829/win/orlov.htm&amp;h=399&amp;w=300&amp;sz=30&amp;hl=ru&amp;start=1&amp;tbnid=dGjJ6e-VtA7nGM:&amp;tbnh=124&amp;tbnw=93&amp;prev=/images%3Fq%3D%25D0%259A.%25D0%259F%25D0%25B0%25D1%2583%25D1%2581%25D1%2582%25D0%25BE%25D0%25B2%25D1%2581%25D0%25BA%25D0%25B8%25D0%25B9%26svnum%3D10%26hl%3Dru%26newwindow%3D1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ru/imgres?imgurl=http://www.vestnik.com/issues/2003/0625/images/krichevsky_sumarokov.jpg&amp;imgrefurl=http://www.vestnik.com/issues/2003/0625/win/krichevskaya.htm&amp;h=150&amp;w=116&amp;sz=4&amp;hl=ru&amp;start=9&amp;tbnid=VVronMmDjbX48M:&amp;tbnh=96&amp;tbnw=74&amp;prev=" TargetMode="External"/><Relationship Id="rId3" Type="http://schemas.openxmlformats.org/officeDocument/2006/relationships/image" Target="../media/image1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urgenev.org.ru/pic/bergam.jpg" TargetMode="External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ido.edu.ru/psychology/pedagogical_psychology/ushinsk.jpg&amp;imgrefurl=http://www.ido.edu.ru/psychology/pedagogical_psychology/1.html&amp;h=213&amp;w=192&amp;sz=24&amp;hl=ru&amp;start=11&amp;tbnid=3ZLR9Y-BhB4G-M:&amp;tbnh=106&amp;tbnw=96&amp;prev=" TargetMode="External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lechaim.ru/ARHIV/144/sarnov.files/image002.jpg&amp;imgrefurl=http://www.lechaim.ru/ARHIV/144/sarnov.htm&amp;h=439&amp;w=328&amp;sz=20&amp;hl=ru&amp;start=1&amp;tbnid=GWgnyUXKx8C9qM:&amp;tbnh=127&amp;tbnw=95&amp;prev=" TargetMode="External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lechaim.ru/ARHIV/150/sarnov.files/image007.jpg&amp;imgrefurl=http://www.lechaim.ru/ARHIV/150/sarnov.htm&amp;h=331&amp;w=236&amp;sz=15&amp;hl=ru&amp;start=10&amp;tbnid=8XzLvAlyL8wdfM:&amp;tbnh=119&amp;tbnw=85&amp;prev=/images%3Fq%3D%25D0%2590.%25D0%2598.%2B%25D0%2593%25D0%25B5%25D1%2580%25D1%2586%25D0%25B5%25D0%25BD%26svnum%3D10%26hl%3Dru%26newwindow%3D1" TargetMode="External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edmitza.ru/htdocs/database/imagebase/11543.jpg&amp;imgrefurl=http://www.sedmitza.ru/index.html%3Fdid%3D41680&amp;h=416&amp;w=350&amp;sz=78&amp;hl=ru&amp;start=1&amp;tbnid=9BQpXWxhvwQPLM:&amp;tbnh=125&amp;tbnw=105&amp;prev=/images%3Fq%3D%25D0%259D.%25D0%2592.%2B%25D0%2593%25D0%25BE%25D0%25B3%25D0%25BE%25D0%25BB%25D1%258C%26svnum%3D10%26hl%3Dru%26newwindow%3D1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voskres.ru/info/images/dal.jpg&amp;imgrefurl=http://www.voskres.ru/info/collegi.htm&amp;h=321&amp;w=231&amp;sz=10&amp;hl=ru&amp;start=6&amp;tbnid=jOWA3mXHS4kjdM:&amp;tbnh=118&amp;tbnw=85&amp;prev=" TargetMode="External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bse.sci-lib.com/pictures/05/16/219573795.jpg&amp;imgrefurl=http://bse.sci-lib.com/particle008410.html&amp;h=200&amp;w=147&amp;sz=6&amp;hl=ru&amp;start=2&amp;tbnid=flv94CZmlDQw6M:&amp;tbnh=104&amp;tbnw=76&amp;prev=/images%3Fq%3D%25D0%259D.%25D0%2590.%25D0%2594%25D0%25BE%25D0%25B1%25D1%2580%25D0%25BE%25D0%25BB%25D1%258E%25D0%25B1%25D0%25BE%25D0%25B2%26svnum%3D10%26hl%3Dru%26newwindow%3D1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rezanov.krasu.ru/eng/epoch/img/shelehovlarge.jpg&amp;imgrefurl=http://rezanov.krasu.ru/eng/epoch/shelih.php&amp;h=479&amp;w=480&amp;sz=28&amp;hl=ru&amp;start=1&amp;tbnid=0SZTXBSWjfIaHM:&amp;tbnh=129&amp;tbnw=129&amp;prev=/images%3Fq%3D%25D0%2593.%25D0%25A0.%25D0%2594%25D0%25B5%25D1%2580%25D0%25B6%25D0%25B0%25D0%25B2%25D0%25B8%25D0%25BD.%26ndsp%3D20%26svnum%3D10%26hl%3Dru%26newwindow%3D1%26sa%3DN" TargetMode="External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imes New Roman"/>
              </a:rPr>
              <a:t>Великие о великом…</a:t>
            </a:r>
            <a:endParaRPr b="1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5708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63680" y="5572080"/>
            <a:ext cx="84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  Кузнецова Н., ученица 10б класса МОУ «Озерки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Шемякина И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.М. Карамзин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540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а будет же честь и слава нашему языку, который в самородном богатстве своем, почти без всякого чуждого примеса, течет, как гордая, величественная река- шумит, гремит- и вдруг, если надобно, смягчается, журчит нежным ручейком и сладостно вливается в душу, образуя все меры, какие заключаются только  в падении и возвышении человеческого голос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about14_b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50120" y="1773360"/>
            <a:ext cx="2087280" cy="2798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1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.И. Куприн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54007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зык- это история народа. Язык- это путь цивилизации и культуры…Поэтому- то изучение и сбережение русского языка является не праздным занятием от нечего делать, но насущной необходимость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усский язык в умелых руках и в опытных устах- красив, певуч, выразителен, гибок, послушен, ловок и вместител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286520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51560" y="1628640"/>
            <a:ext cx="1960560" cy="25862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8">
            <a:hlinkClick r:id="rId1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. Кюхельбекер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00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й язык произошел от славянского языка, различные ветви которого теперь распространяются от берегов Адриатического моря до Ледовитого океана, от Дуная и Эльбы до тихоокеанских остров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6" descr="i?id=7299692&amp;tov=4"/>
          <p:cNvPicPr/>
          <p:nvPr/>
        </p:nvPicPr>
        <p:blipFill>
          <a:blip r:embed="rId2"/>
          <a:stretch/>
        </p:blipFill>
        <p:spPr>
          <a:xfrm>
            <a:off x="5643720" y="2214720"/>
            <a:ext cx="225252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.В. Ломоносов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47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676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л Пятый, римский  император, говаривал, что ишпанским языком с богом, французским с друзьями, немецким с неприятелями, итальянским с женским полом говорить прилично. Но если бы он российскому языку был искусен, то, конечно, к тому присовокупил бы, что им со всеми оными говорить пристойно, ибо нашел бы в нем великолепие ишпанского, живость французского, крепость немецкого, нежность итальянского, сверх того богатую и сильную в изображениях краткость греческого и латинского язы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lomonosov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1120" y="1341360"/>
            <a:ext cx="2370240" cy="3087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7">
            <a:hlinkClick r:id="rId1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. Мериме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усский язык является богатейшим из всех европейских наречий и ,кажется, нарочно созданным для выражения тончайших оттен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i?id=873249&amp;tov=0"/>
          <p:cNvPicPr/>
          <p:nvPr/>
        </p:nvPicPr>
        <p:blipFill>
          <a:blip r:embed="rId2"/>
          <a:stretch/>
        </p:blipFill>
        <p:spPr>
          <a:xfrm>
            <a:off x="5286240" y="1785960"/>
            <a:ext cx="30466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. Паустовский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5616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334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русским языком можно творить чудеса. Нет ничего такого в жизни и в нашем сознании, что нельзя было бы передать русским словом. Звучание музыки, спектральный блеск красок, игру света, шум и тень садов, несносность сна, тяжкое громыхание грозы, детский шепот и шорох морского гравия. Нет таких звуков, красок, образов и мыслей- сложных и простых, для которых не нашлось бы в нашем языке точного выра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orlov_paust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341360"/>
            <a:ext cx="2884680" cy="34578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8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А.П. Сумароков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Язык наш сладок, чист, и пышен, и бога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9" descr="krichevsky_sumaroko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7920" y="1500120"/>
            <a:ext cx="1881000" cy="24415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0">
            <a:hlinkClick r:id="rId4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И.С. Тургенев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60836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 дни сомнений, во дни тягостных раздумий о судьбах моей родины- ты один мне поддержка и опора, о великий, могучий, правдивый и свободный русский язык! – Не будь тебя- как не впасть в отчаянье при виде всего, что совершается дома?- Нельзя верить, чтобы такой язык не был дан великому народу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И.С.Тургенев. Фото К.Бергамского. 1874. 30х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700280"/>
            <a:ext cx="2503440" cy="3230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8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.Д. Ушинский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5400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30924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языке одухотворяется весь народ и вся его родина; в нем претворяется творческой силой народного духа в мысль, в картину и звук небо отчизны, ее воздух, физические явления, ее климат, ее поля, горы и долины, ее леса и реки, ее бури и грозы, весь тот глубокий, полный мысли и чувства голос родной природы, который говорит так громко о любви человека к его иногда суровой родине, который высказывается так ясно в родной песне, в родных напевах, в устах народных поэтов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ushins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53040" y="1413000"/>
            <a:ext cx="2660760" cy="28731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.Н. Толстой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усский народ создал русский язык, яркий, как радуга после весеннего ливня, меткий, как стрелы, певучий и богатый, задушевный, как песня над колыбель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такое Родина?- Это весь народ. Это его культура, его язы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6" descr="image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3400" y="1628640"/>
            <a:ext cx="2362320" cy="31575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3970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" action="ppaction://hlinksldjump"/>
              </a:rPr>
              <a:t>В.Г.Бел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2" action="ppaction://hlinksldjump"/>
              </a:rPr>
              <a:t>П.А. Вязем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3" action="ppaction://hlinksldjump"/>
              </a:rPr>
              <a:t>А.И.Герц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4" action="ppaction://hlinksldjump"/>
              </a:rPr>
              <a:t>В.И. Да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5" action="ppaction://hlinksldjump"/>
              </a:rPr>
              <a:t>Н.А. Добролюб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6" action="ppaction://hlinksldjump"/>
              </a:rPr>
              <a:t>Г.Р. Держав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7" action="ppaction://hlinksldjump"/>
              </a:rPr>
              <a:t>Н.М. Карам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8" action="ppaction://hlinksldjump"/>
              </a:rPr>
              <a:t>А.И. Куп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9" action="ppaction://hlinksldjump"/>
              </a:rPr>
              <a:t>В. Кюхельбек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0" action="ppaction://hlinksldjump"/>
              </a:rPr>
              <a:t>М.В. Ломоно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716360" y="620640"/>
            <a:ext cx="397044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1" action="ppaction://hlinksldjump"/>
              </a:rPr>
              <a:t>П. Мер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2" action="ppaction://hlinksldjump"/>
              </a:rPr>
              <a:t>К. Пауст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3" action="ppaction://hlinksldjump"/>
              </a:rPr>
              <a:t>А.П. Сумаро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4" action="ppaction://hlinksldjump"/>
              </a:rPr>
              <a:t>И.С. Турген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5" action="ppaction://hlinksldjump"/>
              </a:rPr>
              <a:t>К.Д. Уш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6" action="ppaction://hlinksldjump"/>
              </a:rPr>
              <a:t>А.Н. Тол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7" action="ppaction://hlinksldjump"/>
              </a:rPr>
              <a:t>М.А. Шолох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8" action="ppaction://hlinksldjump"/>
              </a:rPr>
              <a:t>Муст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9" action="ppaction://hlinksldjump"/>
              </a:rPr>
              <a:t>А. Яш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.А. Шолох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личайшее богатство народа – его язык! Тысячелетиями накапливаются и вечно живут в слове несметные сокровища человеческой мысли и опы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7" descr="05_05"/>
          <p:cNvPicPr/>
          <p:nvPr/>
        </p:nvPicPr>
        <p:blipFill>
          <a:blip r:embed="rId1"/>
          <a:stretch/>
        </p:blipFill>
        <p:spPr>
          <a:xfrm>
            <a:off x="5324400" y="1773360"/>
            <a:ext cx="2616120" cy="30938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8"/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Мустай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тарший брат!.. Горячей любовью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ьется твое великое сердце. Твой язык - язык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орцов и мудрец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 русском языке говорит совесть.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9" descr="i?id=47852021&amp;tov=4"/>
          <p:cNvPicPr/>
          <p:nvPr/>
        </p:nvPicPr>
        <p:blipFill>
          <a:blip r:embed="rId2"/>
          <a:stretch/>
        </p:blipFill>
        <p:spPr>
          <a:xfrm>
            <a:off x="6649920" y="3844800"/>
            <a:ext cx="33480" cy="41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i?id=47852021&amp;tov=4"/>
          <p:cNvPicPr/>
          <p:nvPr/>
        </p:nvPicPr>
        <p:blipFill>
          <a:blip r:embed="rId3"/>
          <a:stretch/>
        </p:blipFill>
        <p:spPr>
          <a:xfrm>
            <a:off x="5364000" y="1341360"/>
            <a:ext cx="2837160" cy="36003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.Яшин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люблю свой родной язык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понятен для все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певуч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, как русский народ, многоли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держава наша, могу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6" descr="Click to view image details"/>
          <p:cNvPicPr/>
          <p:nvPr/>
        </p:nvPicPr>
        <p:blipFill>
          <a:blip r:embed="rId1"/>
          <a:stretch/>
        </p:blipFill>
        <p:spPr>
          <a:xfrm>
            <a:off x="5141880" y="1773360"/>
            <a:ext cx="2674800" cy="31654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7"/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fffff"/>
                </a:solidFill>
                <a:uFillTx/>
                <a:latin typeface="Times New Roman"/>
              </a:rPr>
              <a:t>Любите и берегите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fffff"/>
                </a:solidFill>
                <a:uFillTx/>
                <a:latin typeface="Times New Roman"/>
              </a:rPr>
              <a:t>русский язык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.Г.Белинский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44654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СКИЙ ЯЗЫК ЧРЕЗВЫЧАЙНО БОГАТ, ГИБОК И ЖИВОПИСЕН ДЛЯ ВЫРАЖЕНИЯ ПРОСТЫХ, ЕСТЕССТВЕННЫХ ПОНЯТИЙ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русский язык – один из богатейших языков в мире, в этом нет никакого сомнения.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 "/>
          <p:cNvPicPr/>
          <p:nvPr/>
        </p:nvPicPr>
        <p:blipFill>
          <a:blip r:embed="rId1"/>
          <a:stretch/>
        </p:blipFill>
        <p:spPr>
          <a:xfrm>
            <a:off x="5143680" y="1714680"/>
            <a:ext cx="3186000" cy="4159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>
            <a:hlinkClick r:id="rId2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.А. Вяземский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зык есть исповедь народа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нем слышится его природ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Его душа…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6" descr=" "/>
          <p:cNvPicPr/>
          <p:nvPr/>
        </p:nvPicPr>
        <p:blipFill>
          <a:blip r:embed="rId2"/>
          <a:stretch/>
        </p:blipFill>
        <p:spPr>
          <a:xfrm>
            <a:off x="5634000" y="1557360"/>
            <a:ext cx="2654280" cy="315756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.И.Герцен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7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ый характер нашего языка состоит в чрезвычайной легкости, с которой все выражается на нем -отвлеченные мысли, внутренние, лирические чувствования, «жизни мышья беготня», крик негодования, искрящаяся шалость и потрясающая стра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2" descr="image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29320" y="1413000"/>
            <a:ext cx="2865240" cy="38019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3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.В. Гоголь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60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жается сильно русский народ! Все сам- самородок, живой и бойкий русский ум, что не лезет за словом в карман, не высиживает его, как наседка цыплят, а вылепливает сразу, как пашпорт на вечную носку, и нечего прибавлять уже потом, какой у тебя нос или губы,- одной чертой обрисован ты с ног до голов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115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29240" y="1341360"/>
            <a:ext cx="3065400" cy="40165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.И. Даль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5370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вой народный язык, сберегший в жизненной свежести дух, который придает языку стройность, силу, ясность, целость и красоту, должен послужить источником и сокровищницей для развития образованной русской реч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6" descr="d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1714680"/>
            <a:ext cx="2174760" cy="3016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.А. Добролюбов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60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ш русский язык более всех новых, может быть, способен приблизиться к языкам классическим по своему богатству, силе, свободе расположения, обилию форм. Но чтобы воспользоваться всеми сокровищами, нужно хорошо знать его, нужно уметь владеть 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2" descr="2195737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26120" y="1773360"/>
            <a:ext cx="2144880" cy="27273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3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Г.Р. Державин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68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авяно- российский язык, по свидетельству самих иностранных эстетиков, не уступает ни в мужестве латинскому, ни в плавности греческому, превосходя все европейские: итальянский, французский и испанский, кольми паче немецкий, хотя некоторые из новейших их писателей и в сладкозвучии нарочитые успехи показа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shelehov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557360"/>
            <a:ext cx="3244680" cy="35146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44:39Z</dcterms:created>
  <dc:creator>учащиеся</dc:creator>
  <dc:description/>
  <dc:language>en-US</dc:language>
  <cp:lastModifiedBy>Ленуся</cp:lastModifiedBy>
  <dcterms:modified xsi:type="dcterms:W3CDTF">2012-11-09T14:52:46Z</dcterms:modified>
  <cp:revision>18</cp:revision>
  <dc:subject/>
  <dc:title>Слайд 1</dc:title>
</cp:coreProperties>
</file>