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4DFD-EC17-4330-B2ED-2EBDB8DB6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C1A6-D296-414D-B135-3976D880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9ED1-4511-45BE-84DC-3E756ECF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30A4-1590-4BFE-80B2-04CDBB46C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E89A-6882-4751-801E-B49C2BC9D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35C2-F3FD-4311-BC19-EA664476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BDFE-F52C-4E2B-B9E6-6170BA2B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8DC4-9E56-4CD3-BA50-60170D76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CF10-C03D-4631-8363-F3020C19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929F-31A7-4FC1-B597-3218AC41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006D-EEC3-499D-926C-61211B45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A150-3DF0-4DE2-A8C7-0B97C738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8062-1328-4658-8096-EDC79D3D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ECA6-7877-4944-8297-4FC6C152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94F4-AC18-4358-8F35-E35821DC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53F3-BD5E-4F6B-8BFF-E4C17FB4C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EB8F-81CD-404F-B120-335A8272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103E-7B5B-40AA-A192-ADA662EE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2135-A26A-41DA-817D-B58AAE7A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6EE5-5062-4EF7-8279-2BA3C20F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6754-4E90-41FD-B6EA-15494F51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64AA-DA59-46E6-A88E-C25879C1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E4BF-E1AC-432B-A459-ABC58643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2797-3875-43B4-8E45-1FA67DBB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B32D-DD1A-4CF1-B842-4A2EA42323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4FAA-86C4-4247-AE84-133CD44723B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velich.ru/images/about14_big.jpg&amp;imgrefurl=http://www.velich.ru/pages/33&amp;h=320&amp;w=240&amp;sz=24&amp;hl=ru&amp;start=20&amp;tbnid=UEywgAuv9KMewM:&amp;tbnh=118&amp;tbnw=89&amp;prev=/images%3Fq%3D%25D0%259D.%25D0%259C.%25D0%259A%25D0%25B0%25D1%2580%25D0%25B0%25D0%25BC%25D0%25B7%25D0%25B8%25D0%25BD%26svnum%3D10%26hl%3Dru%26newwindow%3D1" TargetMode="External"/><Relationship Id="rId2" Type="http://schemas.openxmlformats.org/officeDocument/2006/relationships/image" Target="../media/image9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bse.sci-lib.com/a_pictures/01/00/286520993.jpg&amp;imgrefurl=http://bse.sci-lib.com/article067541.html&amp;h=200&amp;w=148&amp;sz=6&amp;hl=ru&amp;start=39&amp;tbnid=0K2EGtULZnbmyM:&amp;tbnh=104&amp;tbnw=77&amp;prev=/images%3Fq%3D%25D0%2590.%25D0%2598.%25D0%259A%25D1%2583%25D0%25BF%25D1%2580%25D0%25B8%25D0%25BD..%26start%3D20%26ndsp%3D20%26svnum%3D10%26hl%3Dru%26newwindow%3D1%26sa%3DN" TargetMode="External"/><Relationship Id="rId2" Type="http://schemas.openxmlformats.org/officeDocument/2006/relationships/image" Target="../media/image10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con.msu.ru/cmt2/lib/c/72/Image/lomonosov(1).jpg" TargetMode="External"/><Relationship Id="rId2" Type="http://schemas.openxmlformats.org/officeDocument/2006/relationships/image" Target="../media/image1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vestnik.com/issues/2000/0829/images/orlov_paustov.jpg&amp;imgrefurl=http://www.vestnik.com/issues/2000/0829/win/orlov.htm&amp;h=399&amp;w=300&amp;sz=30&amp;hl=ru&amp;start=1&amp;tbnid=dGjJ6e-VtA7nGM:&amp;tbnh=124&amp;tbnw=93&amp;prev=/images%3Fq%3D%25D0%259A.%25D0%259F%25D0%25B0%25D1%2583%25D1%2581%25D1%2582%25D0%25BE%25D0%25B2%25D1%2581%25D0%25BA%25D0%25B8%25D0%25B9%26svnum%3D10%26hl%3Dru%26newwindow%3D1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mages.google.ru/imgres?imgurl=http://www.vestnik.com/issues/2003/0625/images/krichevsky_sumarokov.jpg&amp;imgrefurl=http://www.vestnik.com/issues/2003/0625/win/krichevskaya.htm&amp;h=150&amp;w=116&amp;sz=4&amp;hl=ru&amp;start=9&amp;tbnid=VVronMmDjbX48M:&amp;tbnh=96&amp;tbnw=74&amp;prev=" TargetMode="External"/><Relationship Id="rId3" Type="http://schemas.openxmlformats.org/officeDocument/2006/relationships/image" Target="../media/image15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turgenev.org.ru/pic/bergam.jpg" TargetMode="External"/><Relationship Id="rId2" Type="http://schemas.openxmlformats.org/officeDocument/2006/relationships/image" Target="../media/image1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ido.edu.ru/psychology/pedagogical_psychology/ushinsk.jpg&amp;imgrefurl=http://www.ido.edu.ru/psychology/pedagogical_psychology/1.html&amp;h=213&amp;w=192&amp;sz=24&amp;hl=ru&amp;start=11&amp;tbnid=3ZLR9Y-BhB4G-M:&amp;tbnh=106&amp;tbnw=96&amp;prev=" TargetMode="External"/><Relationship Id="rId2" Type="http://schemas.openxmlformats.org/officeDocument/2006/relationships/image" Target="../media/image17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lechaim.ru/ARHIV/144/sarnov.files/image002.jpg&amp;imgrefurl=http://www.lechaim.ru/ARHIV/144/sarnov.htm&amp;h=439&amp;w=328&amp;sz=20&amp;hl=ru&amp;start=1&amp;tbnid=GWgnyUXKx8C9qM:&amp;tbnh=127&amp;tbnw=95&amp;prev=" TargetMode="External"/><Relationship Id="rId2" Type="http://schemas.openxmlformats.org/officeDocument/2006/relationships/image" Target="../media/image18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18.xml"/><Relationship Id="rId16" Type="http://schemas.openxmlformats.org/officeDocument/2006/relationships/slide" Target="slide19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2.xml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lechaim.ru/ARHIV/150/sarnov.files/image007.jpg&amp;imgrefurl=http://www.lechaim.ru/ARHIV/150/sarnov.htm&amp;h=331&amp;w=236&amp;sz=15&amp;hl=ru&amp;start=10&amp;tbnid=8XzLvAlyL8wdfM:&amp;tbnh=119&amp;tbnw=85&amp;prev=/images%3Fq%3D%25D0%2590.%25D0%2598.%2B%25D0%2593%25D0%25B5%25D1%2580%25D1%2586%25D0%25B5%25D0%25BD%26svnum%3D10%26hl%3Dru%26newwindow%3D1" TargetMode="External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sedmitza.ru/htdocs/database/imagebase/11543.jpg&amp;imgrefurl=http://www.sedmitza.ru/index.html%3Fdid%3D41680&amp;h=416&amp;w=350&amp;sz=78&amp;hl=ru&amp;start=1&amp;tbnid=9BQpXWxhvwQPLM:&amp;tbnh=125&amp;tbnw=105&amp;prev=/images%3Fq%3D%25D0%259D.%25D0%2592.%2B%25D0%2593%25D0%25BE%25D0%25B3%25D0%25BE%25D0%25BB%25D1%258C%26svnum%3D10%26hl%3Dru%26newwindow%3D1" TargetMode="External"/><Relationship Id="rId2" Type="http://schemas.openxmlformats.org/officeDocument/2006/relationships/image" Target="../media/image5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voskres.ru/info/images/dal.jpg&amp;imgrefurl=http://www.voskres.ru/info/collegi.htm&amp;h=321&amp;w=231&amp;sz=10&amp;hl=ru&amp;start=6&amp;tbnid=jOWA3mXHS4kjdM:&amp;tbnh=118&amp;tbnw=85&amp;prev=" TargetMode="External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bse.sci-lib.com/pictures/05/16/219573795.jpg&amp;imgrefurl=http://bse.sci-lib.com/particle008410.html&amp;h=200&amp;w=147&amp;sz=6&amp;hl=ru&amp;start=2&amp;tbnid=flv94CZmlDQw6M:&amp;tbnh=104&amp;tbnw=76&amp;prev=/images%3Fq%3D%25D0%259D.%25D0%2590.%25D0%2594%25D0%25BE%25D0%25B1%25D1%2580%25D0%25BE%25D0%25BB%25D1%258E%25D0%25B1%25D0%25BE%25D0%25B2%26svnum%3D10%26hl%3Dru%26newwindow%3D1" TargetMode="External"/><Relationship Id="rId2" Type="http://schemas.openxmlformats.org/officeDocument/2006/relationships/image" Target="../media/image7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rezanov.krasu.ru/eng/epoch/img/shelehovlarge.jpg&amp;imgrefurl=http://rezanov.krasu.ru/eng/epoch/shelih.php&amp;h=479&amp;w=480&amp;sz=28&amp;hl=ru&amp;start=1&amp;tbnid=0SZTXBSWjfIaHM:&amp;tbnh=129&amp;tbnw=129&amp;prev=/images%3Fq%3D%25D0%2593.%25D0%25A0.%25D0%2594%25D0%25B5%25D1%2580%25D0%25B6%25D0%25B0%25D0%25B2%25D0%25B8%25D0%25BD.%26ndsp%3D20%26svnum%3D10%26hl%3Dru%26newwindow%3D1%26sa%3DN" TargetMode="External"/><Relationship Id="rId2" Type="http://schemas.openxmlformats.org/officeDocument/2006/relationships/image" Target="../media/image8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cc"/>
                </a:solidFill>
                <a:latin typeface="Times New Roman"/>
              </a:rPr>
              <a:t>Великие о великом…</a:t>
            </a:r>
            <a:endParaRPr b="1" lang="en-US" sz="8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75708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463680" y="5572080"/>
            <a:ext cx="846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полнила  Кузнецова Н., ученица 10б класса МОУ «Озеркинская СОШ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итель Шемякина И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Н.М. Карамзин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540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а будет же честь и слава нашему языку, который в самородном богатстве своем, почти без всякого чуждого примеса, течет, как гордая, величественная река- шумит, гремит- и вдруг, если надобно, смягчается, журчит нежным ручейком и сладостно вливается в душу, образуя все меры, какие заключаются только  в падении и возвышении человеческого голоса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8" descr="about14_bi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50120" y="1773360"/>
            <a:ext cx="2087280" cy="279864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11">
            <a:hlinkClick r:id="rId3" action="ppaction://hlinksldjump"/>
          </p:cNvPr>
          <p:cNvSpPr/>
          <p:nvPr/>
        </p:nvSpPr>
        <p:spPr>
          <a:xfrm>
            <a:off x="8028000" y="616572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7493"/>
                </a:moveTo>
                <a:lnTo>
                  <a:pt x="12708" y="7493"/>
                </a:lnTo>
                <a:lnTo>
                  <a:pt x="12708" y="12828"/>
                </a:lnTo>
                <a:cubicBezTo>
                  <a:pt x="12708" y="13751"/>
                  <a:pt x="13509" y="14482"/>
                  <a:pt x="14544" y="14482"/>
                </a:cubicBezTo>
                <a:lnTo>
                  <a:pt x="16207" y="14482"/>
                </a:lnTo>
                <a:cubicBezTo>
                  <a:pt x="17242" y="14482"/>
                  <a:pt x="18043" y="13751"/>
                  <a:pt x="18043" y="12828"/>
                </a:cubicBezTo>
                <a:lnTo>
                  <a:pt x="18043" y="7493"/>
                </a:lnTo>
                <a:lnTo>
                  <a:pt x="16207" y="7493"/>
                </a:lnTo>
                <a:lnTo>
                  <a:pt x="19714" y="3985"/>
                </a:lnTo>
                <a:lnTo>
                  <a:pt x="23387" y="7493"/>
                </a:lnTo>
                <a:lnTo>
                  <a:pt x="21551" y="7493"/>
                </a:lnTo>
                <a:lnTo>
                  <a:pt x="21551" y="12828"/>
                </a:lnTo>
                <a:cubicBezTo>
                  <a:pt x="21551" y="15596"/>
                  <a:pt x="18975" y="18155"/>
                  <a:pt x="16207" y="18155"/>
                </a:cubicBezTo>
                <a:lnTo>
                  <a:pt x="14544" y="18155"/>
                </a:lnTo>
                <a:cubicBezTo>
                  <a:pt x="11777" y="18155"/>
                  <a:pt x="9200" y="15596"/>
                  <a:pt x="9200" y="12828"/>
                </a:cubicBezTo>
                <a:close/>
              </a:path>
            </a:pathLst>
          </a:custGeom>
          <a:solidFill>
            <a:srgbClr val="2b8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А.И. Куприн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54007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Язык- это история народа. Язык- это путь цивилизации и культуры…Поэтому- то изучение и сбережение русского языка является не праздным занятием от нечего делать, но насущной необходимостью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усский язык в умелых руках и в опытных устах- красив, певуч, выразителен, гибок, послушен, ловок и вместителе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7" descr="28652099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51560" y="1628640"/>
            <a:ext cx="1960560" cy="258624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8">
            <a:hlinkClick r:id="rId3" action="ppaction://hlinksldjump"/>
          </p:cNvPr>
          <p:cNvSpPr/>
          <p:nvPr/>
        </p:nvSpPr>
        <p:spPr>
          <a:xfrm>
            <a:off x="8028000" y="616572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7493"/>
                </a:moveTo>
                <a:lnTo>
                  <a:pt x="12708" y="7493"/>
                </a:lnTo>
                <a:lnTo>
                  <a:pt x="12708" y="12828"/>
                </a:lnTo>
                <a:cubicBezTo>
                  <a:pt x="12708" y="13751"/>
                  <a:pt x="13509" y="14482"/>
                  <a:pt x="14544" y="14482"/>
                </a:cubicBezTo>
                <a:lnTo>
                  <a:pt x="16207" y="14482"/>
                </a:lnTo>
                <a:cubicBezTo>
                  <a:pt x="17242" y="14482"/>
                  <a:pt x="18043" y="13751"/>
                  <a:pt x="18043" y="12828"/>
                </a:cubicBezTo>
                <a:lnTo>
                  <a:pt x="18043" y="7493"/>
                </a:lnTo>
                <a:lnTo>
                  <a:pt x="16207" y="7493"/>
                </a:lnTo>
                <a:lnTo>
                  <a:pt x="19714" y="3985"/>
                </a:lnTo>
                <a:lnTo>
                  <a:pt x="23387" y="7493"/>
                </a:lnTo>
                <a:lnTo>
                  <a:pt x="21551" y="7493"/>
                </a:lnTo>
                <a:lnTo>
                  <a:pt x="21551" y="12828"/>
                </a:lnTo>
                <a:cubicBezTo>
                  <a:pt x="21551" y="15596"/>
                  <a:pt x="18975" y="18155"/>
                  <a:pt x="16207" y="18155"/>
                </a:cubicBezTo>
                <a:lnTo>
                  <a:pt x="14544" y="18155"/>
                </a:lnTo>
                <a:cubicBezTo>
                  <a:pt x="11777" y="18155"/>
                  <a:pt x="9200" y="15596"/>
                  <a:pt x="9200" y="12828"/>
                </a:cubicBezTo>
                <a:close/>
              </a:path>
            </a:pathLst>
          </a:custGeom>
          <a:solidFill>
            <a:srgbClr val="2b8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8">
            <a:hlinkClick r:id="rId1" action="ppaction://hlinksldjump"/>
          </p:cNvPr>
          <p:cNvSpPr/>
          <p:nvPr/>
        </p:nvSpPr>
        <p:spPr>
          <a:xfrm>
            <a:off x="8028000" y="616572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7493"/>
                </a:moveTo>
                <a:lnTo>
                  <a:pt x="12708" y="7493"/>
                </a:lnTo>
                <a:lnTo>
                  <a:pt x="12708" y="12828"/>
                </a:lnTo>
                <a:cubicBezTo>
                  <a:pt x="12708" y="13751"/>
                  <a:pt x="13509" y="14482"/>
                  <a:pt x="14544" y="14482"/>
                </a:cubicBezTo>
                <a:lnTo>
                  <a:pt x="16207" y="14482"/>
                </a:lnTo>
                <a:cubicBezTo>
                  <a:pt x="17242" y="14482"/>
                  <a:pt x="18043" y="13751"/>
                  <a:pt x="18043" y="12828"/>
                </a:cubicBezTo>
                <a:lnTo>
                  <a:pt x="18043" y="7493"/>
                </a:lnTo>
                <a:lnTo>
                  <a:pt x="16207" y="7493"/>
                </a:lnTo>
                <a:lnTo>
                  <a:pt x="19714" y="3985"/>
                </a:lnTo>
                <a:lnTo>
                  <a:pt x="23387" y="7493"/>
                </a:lnTo>
                <a:lnTo>
                  <a:pt x="21551" y="7493"/>
                </a:lnTo>
                <a:lnTo>
                  <a:pt x="21551" y="12828"/>
                </a:lnTo>
                <a:cubicBezTo>
                  <a:pt x="21551" y="15596"/>
                  <a:pt x="18975" y="18155"/>
                  <a:pt x="16207" y="18155"/>
                </a:cubicBezTo>
                <a:lnTo>
                  <a:pt x="14544" y="18155"/>
                </a:lnTo>
                <a:cubicBezTo>
                  <a:pt x="11777" y="18155"/>
                  <a:pt x="9200" y="15596"/>
                  <a:pt x="9200" y="12828"/>
                </a:cubicBezTo>
                <a:close/>
              </a:path>
            </a:pathLst>
          </a:custGeom>
          <a:solidFill>
            <a:srgbClr val="2b8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В. Кюхельбекер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900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усский язык произошел от славянского языка, различные ветви которого теперь распространяются от берегов Адриатического моря до Ледовитого океана, от Дуная и Эльбы до тихоокеанских остров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6" descr="i?id=7299692&amp;tov=4"/>
          <p:cNvPicPr/>
          <p:nvPr/>
        </p:nvPicPr>
        <p:blipFill>
          <a:blip r:embed="rId2"/>
          <a:stretch/>
        </p:blipFill>
        <p:spPr>
          <a:xfrm>
            <a:off x="5643720" y="2214720"/>
            <a:ext cx="2252520" cy="30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М.В. Ломоносов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5473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6676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рл Пятый, римский  император, говаривал, что ишпанским языком с богом, французским с друзьями, немецким с неприятелями, итальянским с женским полом говорить прилично. Но если бы он российскому языку был искусен, то, конечно, к тому присовокупил бы, что им со всеми оными говорить пристойно, ибо нашел бы в нем великолепие ишпанского, живость французского, крепость немецкого, нежность итальянского, сверх того богатую и сильную в изображениях краткость греческого и латинского язык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6" descr="lomonosov(1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1120" y="1341360"/>
            <a:ext cx="2370240" cy="308772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7">
            <a:hlinkClick r:id="rId3" action="ppaction://hlinksldjump"/>
          </p:cNvPr>
          <p:cNvSpPr/>
          <p:nvPr/>
        </p:nvSpPr>
        <p:spPr>
          <a:xfrm>
            <a:off x="8028000" y="616572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7493"/>
                </a:moveTo>
                <a:lnTo>
                  <a:pt x="12708" y="7493"/>
                </a:lnTo>
                <a:lnTo>
                  <a:pt x="12708" y="12828"/>
                </a:lnTo>
                <a:cubicBezTo>
                  <a:pt x="12708" y="13751"/>
                  <a:pt x="13509" y="14482"/>
                  <a:pt x="14544" y="14482"/>
                </a:cubicBezTo>
                <a:lnTo>
                  <a:pt x="16207" y="14482"/>
                </a:lnTo>
                <a:cubicBezTo>
                  <a:pt x="17242" y="14482"/>
                  <a:pt x="18043" y="13751"/>
                  <a:pt x="18043" y="12828"/>
                </a:cubicBezTo>
                <a:lnTo>
                  <a:pt x="18043" y="7493"/>
                </a:lnTo>
                <a:lnTo>
                  <a:pt x="16207" y="7493"/>
                </a:lnTo>
                <a:lnTo>
                  <a:pt x="19714" y="3985"/>
                </a:lnTo>
                <a:lnTo>
                  <a:pt x="23387" y="7493"/>
                </a:lnTo>
                <a:lnTo>
                  <a:pt x="21551" y="7493"/>
                </a:lnTo>
                <a:lnTo>
                  <a:pt x="21551" y="12828"/>
                </a:lnTo>
                <a:cubicBezTo>
                  <a:pt x="21551" y="15596"/>
                  <a:pt x="18975" y="18155"/>
                  <a:pt x="16207" y="18155"/>
                </a:cubicBezTo>
                <a:lnTo>
                  <a:pt x="14544" y="18155"/>
                </a:lnTo>
                <a:cubicBezTo>
                  <a:pt x="11777" y="18155"/>
                  <a:pt x="9200" y="15596"/>
                  <a:pt x="9200" y="12828"/>
                </a:cubicBezTo>
                <a:close/>
              </a:path>
            </a:pathLst>
          </a:custGeom>
          <a:solidFill>
            <a:srgbClr val="2b8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7">
            <a:hlinkClick r:id="rId1" action="ppaction://hlinksldjump"/>
          </p:cNvPr>
          <p:cNvSpPr/>
          <p:nvPr/>
        </p:nvSpPr>
        <p:spPr>
          <a:xfrm>
            <a:off x="8028000" y="616572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7493"/>
                </a:moveTo>
                <a:lnTo>
                  <a:pt x="12708" y="7493"/>
                </a:lnTo>
                <a:lnTo>
                  <a:pt x="12708" y="12828"/>
                </a:lnTo>
                <a:cubicBezTo>
                  <a:pt x="12708" y="13751"/>
                  <a:pt x="13509" y="14482"/>
                  <a:pt x="14544" y="14482"/>
                </a:cubicBezTo>
                <a:lnTo>
                  <a:pt x="16207" y="14482"/>
                </a:lnTo>
                <a:cubicBezTo>
                  <a:pt x="17242" y="14482"/>
                  <a:pt x="18043" y="13751"/>
                  <a:pt x="18043" y="12828"/>
                </a:cubicBezTo>
                <a:lnTo>
                  <a:pt x="18043" y="7493"/>
                </a:lnTo>
                <a:lnTo>
                  <a:pt x="16207" y="7493"/>
                </a:lnTo>
                <a:lnTo>
                  <a:pt x="19714" y="3985"/>
                </a:lnTo>
                <a:lnTo>
                  <a:pt x="23387" y="7493"/>
                </a:lnTo>
                <a:lnTo>
                  <a:pt x="21551" y="7493"/>
                </a:lnTo>
                <a:lnTo>
                  <a:pt x="21551" y="12828"/>
                </a:lnTo>
                <a:cubicBezTo>
                  <a:pt x="21551" y="15596"/>
                  <a:pt x="18975" y="18155"/>
                  <a:pt x="16207" y="18155"/>
                </a:cubicBezTo>
                <a:lnTo>
                  <a:pt x="14544" y="18155"/>
                </a:lnTo>
                <a:cubicBezTo>
                  <a:pt x="11777" y="18155"/>
                  <a:pt x="9200" y="15596"/>
                  <a:pt x="9200" y="12828"/>
                </a:cubicBezTo>
                <a:close/>
              </a:path>
            </a:pathLst>
          </a:custGeom>
          <a:solidFill>
            <a:srgbClr val="2b8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П. Мериме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усский язык является богатейшим из всех европейских наречий и ,кажется, нарочно созданным для выражения тончайших оттен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6" descr="i?id=873249&amp;tov=0"/>
          <p:cNvPicPr/>
          <p:nvPr/>
        </p:nvPicPr>
        <p:blipFill>
          <a:blip r:embed="rId2"/>
          <a:stretch/>
        </p:blipFill>
        <p:spPr>
          <a:xfrm>
            <a:off x="5286240" y="1785960"/>
            <a:ext cx="3046680" cy="26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К. Паустовский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56163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33408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 русским языком можно творить чудеса. Нет ничего такого в жизни и в нашем сознании, что нельзя было бы передать русским словом. Звучание музыки, спектральный блеск красок, игру света, шум и тень садов, несносность сна, тяжкое громыхание грозы, детский шепот и шорох морского гравия. Нет таких звуков, красок, образов и мыслей- сложных и простых, для которых не нашлось бы в нашем языке точного выраж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7" descr="orlov_pausto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1341360"/>
            <a:ext cx="2884680" cy="345780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8">
            <a:hlinkClick r:id="rId3" action="ppaction://hlinksldjump"/>
          </p:cNvPr>
          <p:cNvSpPr/>
          <p:nvPr/>
        </p:nvSpPr>
        <p:spPr>
          <a:xfrm>
            <a:off x="8028000" y="616572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7493"/>
                </a:moveTo>
                <a:lnTo>
                  <a:pt x="12708" y="7493"/>
                </a:lnTo>
                <a:lnTo>
                  <a:pt x="12708" y="12828"/>
                </a:lnTo>
                <a:cubicBezTo>
                  <a:pt x="12708" y="13751"/>
                  <a:pt x="13509" y="14482"/>
                  <a:pt x="14544" y="14482"/>
                </a:cubicBezTo>
                <a:lnTo>
                  <a:pt x="16207" y="14482"/>
                </a:lnTo>
                <a:cubicBezTo>
                  <a:pt x="17242" y="14482"/>
                  <a:pt x="18043" y="13751"/>
                  <a:pt x="18043" y="12828"/>
                </a:cubicBezTo>
                <a:lnTo>
                  <a:pt x="18043" y="7493"/>
                </a:lnTo>
                <a:lnTo>
                  <a:pt x="16207" y="7493"/>
                </a:lnTo>
                <a:lnTo>
                  <a:pt x="19714" y="3985"/>
                </a:lnTo>
                <a:lnTo>
                  <a:pt x="23387" y="7493"/>
                </a:lnTo>
                <a:lnTo>
                  <a:pt x="21551" y="7493"/>
                </a:lnTo>
                <a:lnTo>
                  <a:pt x="21551" y="12828"/>
                </a:lnTo>
                <a:cubicBezTo>
                  <a:pt x="21551" y="15596"/>
                  <a:pt x="18975" y="18155"/>
                  <a:pt x="16207" y="18155"/>
                </a:cubicBezTo>
                <a:lnTo>
                  <a:pt x="14544" y="18155"/>
                </a:lnTo>
                <a:cubicBezTo>
                  <a:pt x="11777" y="18155"/>
                  <a:pt x="9200" y="15596"/>
                  <a:pt x="9200" y="12828"/>
                </a:cubicBezTo>
                <a:close/>
              </a:path>
            </a:pathLst>
          </a:custGeom>
          <a:solidFill>
            <a:srgbClr val="2b8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А.П. Сумароков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Язык наш сладок, чист, и пышен, и богат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9" descr="krichevsky_sumarokov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57920" y="1500120"/>
            <a:ext cx="1881000" cy="244152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10">
            <a:hlinkClick r:id="rId4" action="ppaction://hlinksldjump"/>
          </p:cNvPr>
          <p:cNvSpPr/>
          <p:nvPr/>
        </p:nvSpPr>
        <p:spPr>
          <a:xfrm>
            <a:off x="8028000" y="616572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7493"/>
                </a:moveTo>
                <a:lnTo>
                  <a:pt x="12708" y="7493"/>
                </a:lnTo>
                <a:lnTo>
                  <a:pt x="12708" y="12828"/>
                </a:lnTo>
                <a:cubicBezTo>
                  <a:pt x="12708" y="13751"/>
                  <a:pt x="13509" y="14482"/>
                  <a:pt x="14544" y="14482"/>
                </a:cubicBezTo>
                <a:lnTo>
                  <a:pt x="16207" y="14482"/>
                </a:lnTo>
                <a:cubicBezTo>
                  <a:pt x="17242" y="14482"/>
                  <a:pt x="18043" y="13751"/>
                  <a:pt x="18043" y="12828"/>
                </a:cubicBezTo>
                <a:lnTo>
                  <a:pt x="18043" y="7493"/>
                </a:lnTo>
                <a:lnTo>
                  <a:pt x="16207" y="7493"/>
                </a:lnTo>
                <a:lnTo>
                  <a:pt x="19714" y="3985"/>
                </a:lnTo>
                <a:lnTo>
                  <a:pt x="23387" y="7493"/>
                </a:lnTo>
                <a:lnTo>
                  <a:pt x="21551" y="7493"/>
                </a:lnTo>
                <a:lnTo>
                  <a:pt x="21551" y="12828"/>
                </a:lnTo>
                <a:cubicBezTo>
                  <a:pt x="21551" y="15596"/>
                  <a:pt x="18975" y="18155"/>
                  <a:pt x="16207" y="18155"/>
                </a:cubicBezTo>
                <a:lnTo>
                  <a:pt x="14544" y="18155"/>
                </a:lnTo>
                <a:cubicBezTo>
                  <a:pt x="11777" y="18155"/>
                  <a:pt x="9200" y="15596"/>
                  <a:pt x="9200" y="12828"/>
                </a:cubicBezTo>
                <a:close/>
              </a:path>
            </a:pathLst>
          </a:custGeom>
          <a:solidFill>
            <a:srgbClr val="2b8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И.С. Тургенев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60836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о дни сомнений, во дни тягостных раздумий о судьбах моей родины- ты один мне поддержка и опора, о великий, могучий, правдивый и свободный русский язык! – Не будь тебя- как не впасть в отчаянье при виде всего, что совершается дома?- Нельзя верить, чтобы такой язык не был дан великому народу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7" descr="И.С.Тургенев. Фото К.Бергамского. 1874. 30х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1700280"/>
            <a:ext cx="2503440" cy="323064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8">
            <a:hlinkClick r:id="rId3" action="ppaction://hlinksldjump"/>
          </p:cNvPr>
          <p:cNvSpPr/>
          <p:nvPr/>
        </p:nvSpPr>
        <p:spPr>
          <a:xfrm>
            <a:off x="8028000" y="616572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7493"/>
                </a:moveTo>
                <a:lnTo>
                  <a:pt x="12708" y="7493"/>
                </a:lnTo>
                <a:lnTo>
                  <a:pt x="12708" y="12828"/>
                </a:lnTo>
                <a:cubicBezTo>
                  <a:pt x="12708" y="13751"/>
                  <a:pt x="13509" y="14482"/>
                  <a:pt x="14544" y="14482"/>
                </a:cubicBezTo>
                <a:lnTo>
                  <a:pt x="16207" y="14482"/>
                </a:lnTo>
                <a:cubicBezTo>
                  <a:pt x="17242" y="14482"/>
                  <a:pt x="18043" y="13751"/>
                  <a:pt x="18043" y="12828"/>
                </a:cubicBezTo>
                <a:lnTo>
                  <a:pt x="18043" y="7493"/>
                </a:lnTo>
                <a:lnTo>
                  <a:pt x="16207" y="7493"/>
                </a:lnTo>
                <a:lnTo>
                  <a:pt x="19714" y="3985"/>
                </a:lnTo>
                <a:lnTo>
                  <a:pt x="23387" y="7493"/>
                </a:lnTo>
                <a:lnTo>
                  <a:pt x="21551" y="7493"/>
                </a:lnTo>
                <a:lnTo>
                  <a:pt x="21551" y="12828"/>
                </a:lnTo>
                <a:cubicBezTo>
                  <a:pt x="21551" y="15596"/>
                  <a:pt x="18975" y="18155"/>
                  <a:pt x="16207" y="18155"/>
                </a:cubicBezTo>
                <a:lnTo>
                  <a:pt x="14544" y="18155"/>
                </a:lnTo>
                <a:cubicBezTo>
                  <a:pt x="11777" y="18155"/>
                  <a:pt x="9200" y="15596"/>
                  <a:pt x="9200" y="12828"/>
                </a:cubicBezTo>
                <a:close/>
              </a:path>
            </a:pathLst>
          </a:custGeom>
          <a:solidFill>
            <a:srgbClr val="2b8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К.Д. Ушинский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5400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30924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языке одухотворяется весь народ и вся его родина; в нем претворяется творческой силой народного духа в мысль, в картину и звук небо отчизны, ее воздух, физические явления, ее климат, ее поля, горы и долины, ее леса и реки, ее бури и грозы, весь тот глубокий, полный мысли и чувства голос родной природы, который говорит так громко о любви человека к его иногда суровой родине, который высказывается так ясно в родной песне, в родных напевах, в устах народных поэтов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6" descr="ushins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53040" y="1413000"/>
            <a:ext cx="2660760" cy="28731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7">
            <a:hlinkClick r:id="rId3" action="ppaction://hlinksldjump"/>
          </p:cNvPr>
          <p:cNvSpPr/>
          <p:nvPr/>
        </p:nvSpPr>
        <p:spPr>
          <a:xfrm>
            <a:off x="8028000" y="616572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7493"/>
                </a:moveTo>
                <a:lnTo>
                  <a:pt x="12708" y="7493"/>
                </a:lnTo>
                <a:lnTo>
                  <a:pt x="12708" y="12828"/>
                </a:lnTo>
                <a:cubicBezTo>
                  <a:pt x="12708" y="13751"/>
                  <a:pt x="13509" y="14482"/>
                  <a:pt x="14544" y="14482"/>
                </a:cubicBezTo>
                <a:lnTo>
                  <a:pt x="16207" y="14482"/>
                </a:lnTo>
                <a:cubicBezTo>
                  <a:pt x="17242" y="14482"/>
                  <a:pt x="18043" y="13751"/>
                  <a:pt x="18043" y="12828"/>
                </a:cubicBezTo>
                <a:lnTo>
                  <a:pt x="18043" y="7493"/>
                </a:lnTo>
                <a:lnTo>
                  <a:pt x="16207" y="7493"/>
                </a:lnTo>
                <a:lnTo>
                  <a:pt x="19714" y="3985"/>
                </a:lnTo>
                <a:lnTo>
                  <a:pt x="23387" y="7493"/>
                </a:lnTo>
                <a:lnTo>
                  <a:pt x="21551" y="7493"/>
                </a:lnTo>
                <a:lnTo>
                  <a:pt x="21551" y="12828"/>
                </a:lnTo>
                <a:cubicBezTo>
                  <a:pt x="21551" y="15596"/>
                  <a:pt x="18975" y="18155"/>
                  <a:pt x="16207" y="18155"/>
                </a:cubicBezTo>
                <a:lnTo>
                  <a:pt x="14544" y="18155"/>
                </a:lnTo>
                <a:cubicBezTo>
                  <a:pt x="11777" y="18155"/>
                  <a:pt x="9200" y="15596"/>
                  <a:pt x="9200" y="12828"/>
                </a:cubicBezTo>
                <a:close/>
              </a:path>
            </a:pathLst>
          </a:custGeom>
          <a:solidFill>
            <a:srgbClr val="2b8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А.Н. Толстой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453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усский народ создал русский язык, яркий, как радуга после весеннего ливня, меткий, как стрелы, певучий и богатый, задушевный, как песня над колыбелью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Что такое Родина?- Это весь народ. Это его культура, его язы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6" descr="image0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43400" y="1628640"/>
            <a:ext cx="2362320" cy="315756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7">
            <a:hlinkClick r:id="rId3" action="ppaction://hlinksldjump"/>
          </p:cNvPr>
          <p:cNvSpPr/>
          <p:nvPr/>
        </p:nvSpPr>
        <p:spPr>
          <a:xfrm>
            <a:off x="8028000" y="616572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7493"/>
                </a:moveTo>
                <a:lnTo>
                  <a:pt x="12708" y="7493"/>
                </a:lnTo>
                <a:lnTo>
                  <a:pt x="12708" y="12828"/>
                </a:lnTo>
                <a:cubicBezTo>
                  <a:pt x="12708" y="13751"/>
                  <a:pt x="13509" y="14482"/>
                  <a:pt x="14544" y="14482"/>
                </a:cubicBezTo>
                <a:lnTo>
                  <a:pt x="16207" y="14482"/>
                </a:lnTo>
                <a:cubicBezTo>
                  <a:pt x="17242" y="14482"/>
                  <a:pt x="18043" y="13751"/>
                  <a:pt x="18043" y="12828"/>
                </a:cubicBezTo>
                <a:lnTo>
                  <a:pt x="18043" y="7493"/>
                </a:lnTo>
                <a:lnTo>
                  <a:pt x="16207" y="7493"/>
                </a:lnTo>
                <a:lnTo>
                  <a:pt x="19714" y="3985"/>
                </a:lnTo>
                <a:lnTo>
                  <a:pt x="23387" y="7493"/>
                </a:lnTo>
                <a:lnTo>
                  <a:pt x="21551" y="7493"/>
                </a:lnTo>
                <a:lnTo>
                  <a:pt x="21551" y="12828"/>
                </a:lnTo>
                <a:cubicBezTo>
                  <a:pt x="21551" y="15596"/>
                  <a:pt x="18975" y="18155"/>
                  <a:pt x="16207" y="18155"/>
                </a:cubicBezTo>
                <a:lnTo>
                  <a:pt x="14544" y="18155"/>
                </a:lnTo>
                <a:cubicBezTo>
                  <a:pt x="11777" y="18155"/>
                  <a:pt x="9200" y="15596"/>
                  <a:pt x="9200" y="12828"/>
                </a:cubicBezTo>
                <a:close/>
              </a:path>
            </a:pathLst>
          </a:custGeom>
          <a:solidFill>
            <a:srgbClr val="2b8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39704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33"/>
                </a:solidFill>
                <a:uFillTx/>
                <a:latin typeface="Times New Roman"/>
                <a:hlinkClick r:id="rId1" action="ppaction://hlinksldjump"/>
              </a:rPr>
              <a:t>В.Г.Белинс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33"/>
                </a:solidFill>
                <a:uFillTx/>
                <a:latin typeface="Times New Roman"/>
                <a:hlinkClick r:id="rId2" action="ppaction://hlinksldjump"/>
              </a:rPr>
              <a:t>П.А. Вяземс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33"/>
                </a:solidFill>
                <a:uFillTx/>
                <a:latin typeface="Times New Roman"/>
                <a:hlinkClick r:id="rId3" action="ppaction://hlinksldjump"/>
              </a:rPr>
              <a:t>А.И.Герце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33"/>
                </a:solidFill>
                <a:uFillTx/>
                <a:latin typeface="Times New Roman"/>
                <a:hlinkClick r:id="rId4" action="ppaction://hlinksldjump"/>
              </a:rPr>
              <a:t>В.И. Да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33"/>
                </a:solidFill>
                <a:uFillTx/>
                <a:latin typeface="Times New Roman"/>
                <a:hlinkClick r:id="rId5" action="ppaction://hlinksldjump"/>
              </a:rPr>
              <a:t>Н.А. Добролюб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33"/>
                </a:solidFill>
                <a:uFillTx/>
                <a:latin typeface="Times New Roman"/>
                <a:hlinkClick r:id="rId6" action="ppaction://hlinksldjump"/>
              </a:rPr>
              <a:t>Г.Р. Держав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33"/>
                </a:solidFill>
                <a:uFillTx/>
                <a:latin typeface="Times New Roman"/>
                <a:hlinkClick r:id="rId7" action="ppaction://hlinksldjump"/>
              </a:rPr>
              <a:t>Н.М. Карамз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33"/>
                </a:solidFill>
                <a:uFillTx/>
                <a:latin typeface="Times New Roman"/>
                <a:hlinkClick r:id="rId8" action="ppaction://hlinksldjump"/>
              </a:rPr>
              <a:t>А.И. Купр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33"/>
                </a:solidFill>
                <a:uFillTx/>
                <a:latin typeface="Times New Roman"/>
                <a:hlinkClick r:id="rId9" action="ppaction://hlinksldjump"/>
              </a:rPr>
              <a:t>В. Кюхельбеке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33"/>
                </a:solidFill>
                <a:uFillTx/>
                <a:latin typeface="Times New Roman"/>
                <a:hlinkClick r:id="rId10" action="ppaction://hlinksldjump"/>
              </a:rPr>
              <a:t>М.В. Ломонос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716360" y="620640"/>
            <a:ext cx="3970440" cy="57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33"/>
                </a:solidFill>
                <a:uFillTx/>
                <a:latin typeface="Times New Roman"/>
                <a:hlinkClick r:id="rId11" action="ppaction://hlinksldjump"/>
              </a:rPr>
              <a:t>П. Мери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33"/>
                </a:solidFill>
                <a:uFillTx/>
                <a:latin typeface="Times New Roman"/>
                <a:hlinkClick r:id="rId12" action="ppaction://hlinksldjump"/>
              </a:rPr>
              <a:t>К. Паустов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33"/>
                </a:solidFill>
                <a:uFillTx/>
                <a:latin typeface="Times New Roman"/>
                <a:hlinkClick r:id="rId13" action="ppaction://hlinksldjump"/>
              </a:rPr>
              <a:t>А.П. Сумаро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33"/>
                </a:solidFill>
                <a:uFillTx/>
                <a:latin typeface="Times New Roman"/>
                <a:hlinkClick r:id="rId14" action="ppaction://hlinksldjump"/>
              </a:rPr>
              <a:t>И.С. Тургене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33"/>
                </a:solidFill>
                <a:uFillTx/>
                <a:latin typeface="Times New Roman"/>
                <a:hlinkClick r:id="rId15" action="ppaction://hlinksldjump"/>
              </a:rPr>
              <a:t>К.Д. Ушин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33"/>
                </a:solidFill>
                <a:uFillTx/>
                <a:latin typeface="Times New Roman"/>
                <a:hlinkClick r:id="rId16" action="ppaction://hlinksldjump"/>
              </a:rPr>
              <a:t>А.Н. Толст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33"/>
                </a:solidFill>
                <a:uFillTx/>
                <a:latin typeface="Times New Roman"/>
                <a:hlinkClick r:id="rId17" action="ppaction://hlinksldjump"/>
              </a:rPr>
              <a:t>М.А. Шолох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33"/>
                </a:solidFill>
                <a:uFillTx/>
                <a:latin typeface="Times New Roman"/>
                <a:hlinkClick r:id="rId18" action="ppaction://hlinksldjump"/>
              </a:rPr>
              <a:t>Муста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33"/>
                </a:solidFill>
                <a:uFillTx/>
                <a:latin typeface="Times New Roman"/>
                <a:hlinkClick r:id="rId19" action="ppaction://hlinksldjump"/>
              </a:rPr>
              <a:t>А. Яш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М.А. Шолохов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еличайшее богатство народа – его язык! Тысячелетиями накапливаются и вечно живут в слове несметные сокровища человеческой мысли и опы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7" descr="05_05"/>
          <p:cNvPicPr/>
          <p:nvPr/>
        </p:nvPicPr>
        <p:blipFill>
          <a:blip r:embed="rId1"/>
          <a:stretch/>
        </p:blipFill>
        <p:spPr>
          <a:xfrm>
            <a:off x="5324400" y="1773360"/>
            <a:ext cx="2616120" cy="309384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8"/>
          <p:cNvSpPr/>
          <p:nvPr/>
        </p:nvSpPr>
        <p:spPr>
          <a:xfrm>
            <a:off x="8028000" y="616572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7493"/>
                </a:moveTo>
                <a:lnTo>
                  <a:pt x="12708" y="7493"/>
                </a:lnTo>
                <a:lnTo>
                  <a:pt x="12708" y="12828"/>
                </a:lnTo>
                <a:cubicBezTo>
                  <a:pt x="12708" y="13751"/>
                  <a:pt x="13509" y="14482"/>
                  <a:pt x="14544" y="14482"/>
                </a:cubicBezTo>
                <a:lnTo>
                  <a:pt x="16207" y="14482"/>
                </a:lnTo>
                <a:cubicBezTo>
                  <a:pt x="17242" y="14482"/>
                  <a:pt x="18043" y="13751"/>
                  <a:pt x="18043" y="12828"/>
                </a:cubicBezTo>
                <a:lnTo>
                  <a:pt x="18043" y="7493"/>
                </a:lnTo>
                <a:lnTo>
                  <a:pt x="16207" y="7493"/>
                </a:lnTo>
                <a:lnTo>
                  <a:pt x="19714" y="3985"/>
                </a:lnTo>
                <a:lnTo>
                  <a:pt x="23387" y="7493"/>
                </a:lnTo>
                <a:lnTo>
                  <a:pt x="21551" y="7493"/>
                </a:lnTo>
                <a:lnTo>
                  <a:pt x="21551" y="12828"/>
                </a:lnTo>
                <a:cubicBezTo>
                  <a:pt x="21551" y="15596"/>
                  <a:pt x="18975" y="18155"/>
                  <a:pt x="16207" y="18155"/>
                </a:cubicBezTo>
                <a:lnTo>
                  <a:pt x="14544" y="18155"/>
                </a:lnTo>
                <a:cubicBezTo>
                  <a:pt x="11777" y="18155"/>
                  <a:pt x="9200" y="15596"/>
                  <a:pt x="9200" y="12828"/>
                </a:cubicBezTo>
                <a:close/>
              </a:path>
            </a:pathLst>
          </a:custGeom>
          <a:solidFill>
            <a:srgbClr val="2b8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Мустай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Старший брат!.. Горячей любовью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ьется твое великое сердце. Твой язык - язык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орцов и мудрец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 русском языке говорит совесть.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Picture 9" descr="i?id=47852021&amp;tov=4"/>
          <p:cNvPicPr/>
          <p:nvPr/>
        </p:nvPicPr>
        <p:blipFill>
          <a:blip r:embed="rId2"/>
          <a:stretch/>
        </p:blipFill>
        <p:spPr>
          <a:xfrm>
            <a:off x="6649920" y="3844800"/>
            <a:ext cx="33480" cy="414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i?id=47852021&amp;tov=4"/>
          <p:cNvPicPr/>
          <p:nvPr/>
        </p:nvPicPr>
        <p:blipFill>
          <a:blip r:embed="rId3"/>
          <a:stretch/>
        </p:blipFill>
        <p:spPr>
          <a:xfrm>
            <a:off x="5364000" y="1341360"/>
            <a:ext cx="2837160" cy="360036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2"/>
          <p:cNvSpPr/>
          <p:nvPr/>
        </p:nvSpPr>
        <p:spPr>
          <a:xfrm>
            <a:off x="8028000" y="616572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7493"/>
                </a:moveTo>
                <a:lnTo>
                  <a:pt x="12708" y="7493"/>
                </a:lnTo>
                <a:lnTo>
                  <a:pt x="12708" y="12828"/>
                </a:lnTo>
                <a:cubicBezTo>
                  <a:pt x="12708" y="13751"/>
                  <a:pt x="13509" y="14482"/>
                  <a:pt x="14544" y="14482"/>
                </a:cubicBezTo>
                <a:lnTo>
                  <a:pt x="16207" y="14482"/>
                </a:lnTo>
                <a:cubicBezTo>
                  <a:pt x="17242" y="14482"/>
                  <a:pt x="18043" y="13751"/>
                  <a:pt x="18043" y="12828"/>
                </a:cubicBezTo>
                <a:lnTo>
                  <a:pt x="18043" y="7493"/>
                </a:lnTo>
                <a:lnTo>
                  <a:pt x="16207" y="7493"/>
                </a:lnTo>
                <a:lnTo>
                  <a:pt x="19714" y="3985"/>
                </a:lnTo>
                <a:lnTo>
                  <a:pt x="23387" y="7493"/>
                </a:lnTo>
                <a:lnTo>
                  <a:pt x="21551" y="7493"/>
                </a:lnTo>
                <a:lnTo>
                  <a:pt x="21551" y="12828"/>
                </a:lnTo>
                <a:cubicBezTo>
                  <a:pt x="21551" y="15596"/>
                  <a:pt x="18975" y="18155"/>
                  <a:pt x="16207" y="18155"/>
                </a:cubicBezTo>
                <a:lnTo>
                  <a:pt x="14544" y="18155"/>
                </a:lnTo>
                <a:cubicBezTo>
                  <a:pt x="11777" y="18155"/>
                  <a:pt x="9200" y="15596"/>
                  <a:pt x="9200" y="12828"/>
                </a:cubicBezTo>
                <a:close/>
              </a:path>
            </a:pathLst>
          </a:custGeom>
          <a:solidFill>
            <a:srgbClr val="2b8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А.Яшин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Я люблю свой родной язык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н понятен для всех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н певуч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н, как русский народ, многолик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ак держава наша, могуч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6" descr="Click to view image details"/>
          <p:cNvPicPr/>
          <p:nvPr/>
        </p:nvPicPr>
        <p:blipFill>
          <a:blip r:embed="rId1"/>
          <a:stretch/>
        </p:blipFill>
        <p:spPr>
          <a:xfrm>
            <a:off x="5141880" y="1773360"/>
            <a:ext cx="2674800" cy="316548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7"/>
          <p:cNvSpPr/>
          <p:nvPr/>
        </p:nvSpPr>
        <p:spPr>
          <a:xfrm>
            <a:off x="8028000" y="616572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7493"/>
                </a:moveTo>
                <a:lnTo>
                  <a:pt x="12708" y="7493"/>
                </a:lnTo>
                <a:lnTo>
                  <a:pt x="12708" y="12828"/>
                </a:lnTo>
                <a:cubicBezTo>
                  <a:pt x="12708" y="13751"/>
                  <a:pt x="13509" y="14482"/>
                  <a:pt x="14544" y="14482"/>
                </a:cubicBezTo>
                <a:lnTo>
                  <a:pt x="16207" y="14482"/>
                </a:lnTo>
                <a:cubicBezTo>
                  <a:pt x="17242" y="14482"/>
                  <a:pt x="18043" y="13751"/>
                  <a:pt x="18043" y="12828"/>
                </a:cubicBezTo>
                <a:lnTo>
                  <a:pt x="18043" y="7493"/>
                </a:lnTo>
                <a:lnTo>
                  <a:pt x="16207" y="7493"/>
                </a:lnTo>
                <a:lnTo>
                  <a:pt x="19714" y="3985"/>
                </a:lnTo>
                <a:lnTo>
                  <a:pt x="23387" y="7493"/>
                </a:lnTo>
                <a:lnTo>
                  <a:pt x="21551" y="7493"/>
                </a:lnTo>
                <a:lnTo>
                  <a:pt x="21551" y="12828"/>
                </a:lnTo>
                <a:cubicBezTo>
                  <a:pt x="21551" y="15596"/>
                  <a:pt x="18975" y="18155"/>
                  <a:pt x="16207" y="18155"/>
                </a:cubicBezTo>
                <a:lnTo>
                  <a:pt x="14544" y="18155"/>
                </a:lnTo>
                <a:cubicBezTo>
                  <a:pt x="11777" y="18155"/>
                  <a:pt x="9200" y="15596"/>
                  <a:pt x="9200" y="12828"/>
                </a:cubicBezTo>
                <a:close/>
              </a:path>
            </a:pathLst>
          </a:custGeom>
          <a:solidFill>
            <a:srgbClr val="2b8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 u="sng">
                <a:solidFill>
                  <a:srgbClr val="ffffff"/>
                </a:solidFill>
                <a:uFillTx/>
                <a:latin typeface="Times New Roman"/>
              </a:rPr>
              <a:t>Любите и берегите 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 u="sng">
                <a:solidFill>
                  <a:srgbClr val="ffffff"/>
                </a:solidFill>
                <a:uFillTx/>
                <a:latin typeface="Times New Roman"/>
              </a:rPr>
              <a:t>русский язык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В.Г.Белинский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446544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УССКИЙ ЯЗЫК ЧРЕЗВЫЧАЙНО БОГАТ, ГИБОК И ЖИВОПИСЕН ДЛЯ ВЫРАЖЕНИЯ ПРОСТЫХ, ЕСТЕССТВЕННЫХ ПОНЯТИЙ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Что русский язык – один из богатейших языков в мире, в этом нет никакого сомнения.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4" descr=" "/>
          <p:cNvPicPr/>
          <p:nvPr/>
        </p:nvPicPr>
        <p:blipFill>
          <a:blip r:embed="rId1"/>
          <a:stretch/>
        </p:blipFill>
        <p:spPr>
          <a:xfrm>
            <a:off x="5143680" y="1714680"/>
            <a:ext cx="3186000" cy="415908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5">
            <a:hlinkClick r:id="rId2" action="ppaction://hlinksldjump"/>
          </p:cNvPr>
          <p:cNvSpPr/>
          <p:nvPr/>
        </p:nvSpPr>
        <p:spPr>
          <a:xfrm>
            <a:off x="8028000" y="616572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7493"/>
                </a:moveTo>
                <a:lnTo>
                  <a:pt x="12708" y="7493"/>
                </a:lnTo>
                <a:lnTo>
                  <a:pt x="12708" y="12828"/>
                </a:lnTo>
                <a:cubicBezTo>
                  <a:pt x="12708" y="13751"/>
                  <a:pt x="13509" y="14482"/>
                  <a:pt x="14544" y="14482"/>
                </a:cubicBezTo>
                <a:lnTo>
                  <a:pt x="16207" y="14482"/>
                </a:lnTo>
                <a:cubicBezTo>
                  <a:pt x="17242" y="14482"/>
                  <a:pt x="18043" y="13751"/>
                  <a:pt x="18043" y="12828"/>
                </a:cubicBezTo>
                <a:lnTo>
                  <a:pt x="18043" y="7493"/>
                </a:lnTo>
                <a:lnTo>
                  <a:pt x="16207" y="7493"/>
                </a:lnTo>
                <a:lnTo>
                  <a:pt x="19714" y="3985"/>
                </a:lnTo>
                <a:lnTo>
                  <a:pt x="23387" y="7493"/>
                </a:lnTo>
                <a:lnTo>
                  <a:pt x="21551" y="7493"/>
                </a:lnTo>
                <a:lnTo>
                  <a:pt x="21551" y="12828"/>
                </a:lnTo>
                <a:cubicBezTo>
                  <a:pt x="21551" y="15596"/>
                  <a:pt x="18975" y="18155"/>
                  <a:pt x="16207" y="18155"/>
                </a:cubicBezTo>
                <a:lnTo>
                  <a:pt x="14544" y="18155"/>
                </a:lnTo>
                <a:cubicBezTo>
                  <a:pt x="11777" y="18155"/>
                  <a:pt x="9200" y="15596"/>
                  <a:pt x="9200" y="12828"/>
                </a:cubicBezTo>
                <a:close/>
              </a:path>
            </a:pathLst>
          </a:custGeom>
          <a:solidFill>
            <a:srgbClr val="2b8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П.А. Вяземский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Язык есть исповедь народа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 нем слышится его природ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Его душа…                          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6" descr=" "/>
          <p:cNvPicPr/>
          <p:nvPr/>
        </p:nvPicPr>
        <p:blipFill>
          <a:blip r:embed="rId2"/>
          <a:stretch/>
        </p:blipFill>
        <p:spPr>
          <a:xfrm>
            <a:off x="5634000" y="1557360"/>
            <a:ext cx="2654280" cy="315756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7">
            <a:hlinkClick r:id="rId3" action="ppaction://hlinksldjump"/>
          </p:cNvPr>
          <p:cNvSpPr/>
          <p:nvPr/>
        </p:nvSpPr>
        <p:spPr>
          <a:xfrm>
            <a:off x="8028000" y="616572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7493"/>
                </a:moveTo>
                <a:lnTo>
                  <a:pt x="12708" y="7493"/>
                </a:lnTo>
                <a:lnTo>
                  <a:pt x="12708" y="12828"/>
                </a:lnTo>
                <a:cubicBezTo>
                  <a:pt x="12708" y="13751"/>
                  <a:pt x="13509" y="14482"/>
                  <a:pt x="14544" y="14482"/>
                </a:cubicBezTo>
                <a:lnTo>
                  <a:pt x="16207" y="14482"/>
                </a:lnTo>
                <a:cubicBezTo>
                  <a:pt x="17242" y="14482"/>
                  <a:pt x="18043" y="13751"/>
                  <a:pt x="18043" y="12828"/>
                </a:cubicBezTo>
                <a:lnTo>
                  <a:pt x="18043" y="7493"/>
                </a:lnTo>
                <a:lnTo>
                  <a:pt x="16207" y="7493"/>
                </a:lnTo>
                <a:lnTo>
                  <a:pt x="19714" y="3985"/>
                </a:lnTo>
                <a:lnTo>
                  <a:pt x="23387" y="7493"/>
                </a:lnTo>
                <a:lnTo>
                  <a:pt x="21551" y="7493"/>
                </a:lnTo>
                <a:lnTo>
                  <a:pt x="21551" y="12828"/>
                </a:lnTo>
                <a:cubicBezTo>
                  <a:pt x="21551" y="15596"/>
                  <a:pt x="18975" y="18155"/>
                  <a:pt x="16207" y="18155"/>
                </a:cubicBezTo>
                <a:lnTo>
                  <a:pt x="14544" y="18155"/>
                </a:lnTo>
                <a:cubicBezTo>
                  <a:pt x="11777" y="18155"/>
                  <a:pt x="9200" y="15596"/>
                  <a:pt x="9200" y="12828"/>
                </a:cubicBezTo>
                <a:close/>
              </a:path>
            </a:pathLst>
          </a:custGeom>
          <a:solidFill>
            <a:srgbClr val="2b8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А.И.Герцен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370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лавный характер нашего языка состоит в чрезвычайной легкости, с которой все выражается на нем -отвлеченные мысли, внутренние, лирические чувствования, «жизни мышья беготня», крик негодования, искрящаяся шалость и потрясающая стра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22" descr="image0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29320" y="1413000"/>
            <a:ext cx="2865240" cy="380196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23">
            <a:hlinkClick r:id="rId3" action="ppaction://hlinksldjump"/>
          </p:cNvPr>
          <p:cNvSpPr/>
          <p:nvPr/>
        </p:nvSpPr>
        <p:spPr>
          <a:xfrm>
            <a:off x="8028000" y="616572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7493"/>
                </a:moveTo>
                <a:lnTo>
                  <a:pt x="12708" y="7493"/>
                </a:lnTo>
                <a:lnTo>
                  <a:pt x="12708" y="12828"/>
                </a:lnTo>
                <a:cubicBezTo>
                  <a:pt x="12708" y="13751"/>
                  <a:pt x="13509" y="14482"/>
                  <a:pt x="14544" y="14482"/>
                </a:cubicBezTo>
                <a:lnTo>
                  <a:pt x="16207" y="14482"/>
                </a:lnTo>
                <a:cubicBezTo>
                  <a:pt x="17242" y="14482"/>
                  <a:pt x="18043" y="13751"/>
                  <a:pt x="18043" y="12828"/>
                </a:cubicBezTo>
                <a:lnTo>
                  <a:pt x="18043" y="7493"/>
                </a:lnTo>
                <a:lnTo>
                  <a:pt x="16207" y="7493"/>
                </a:lnTo>
                <a:lnTo>
                  <a:pt x="19714" y="3985"/>
                </a:lnTo>
                <a:lnTo>
                  <a:pt x="23387" y="7493"/>
                </a:lnTo>
                <a:lnTo>
                  <a:pt x="21551" y="7493"/>
                </a:lnTo>
                <a:lnTo>
                  <a:pt x="21551" y="12828"/>
                </a:lnTo>
                <a:cubicBezTo>
                  <a:pt x="21551" y="15596"/>
                  <a:pt x="18975" y="18155"/>
                  <a:pt x="16207" y="18155"/>
                </a:cubicBezTo>
                <a:lnTo>
                  <a:pt x="14544" y="18155"/>
                </a:lnTo>
                <a:cubicBezTo>
                  <a:pt x="11777" y="18155"/>
                  <a:pt x="9200" y="15596"/>
                  <a:pt x="9200" y="12828"/>
                </a:cubicBezTo>
                <a:close/>
              </a:path>
            </a:pathLst>
          </a:custGeom>
          <a:solidFill>
            <a:srgbClr val="2b8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Н.В. Гоголь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608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ражается сильно русский народ! Все сам- самородок, живой и бойкий русский ум, что не лезет за словом в карман, не высиживает его, как наседка цыплят, а вылепливает сразу, как пашпорт на вечную носку, и нечего прибавлять уже потом, какой у тебя нос или губы,- одной чертой обрисован ты с ног до головы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6" descr="115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29240" y="1341360"/>
            <a:ext cx="3065400" cy="401652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7">
            <a:hlinkClick r:id="rId3" action="ppaction://hlinksldjump"/>
          </p:cNvPr>
          <p:cNvSpPr/>
          <p:nvPr/>
        </p:nvSpPr>
        <p:spPr>
          <a:xfrm>
            <a:off x="8028000" y="616572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7493"/>
                </a:moveTo>
                <a:lnTo>
                  <a:pt x="12708" y="7493"/>
                </a:lnTo>
                <a:lnTo>
                  <a:pt x="12708" y="12828"/>
                </a:lnTo>
                <a:cubicBezTo>
                  <a:pt x="12708" y="13751"/>
                  <a:pt x="13509" y="14482"/>
                  <a:pt x="14544" y="14482"/>
                </a:cubicBezTo>
                <a:lnTo>
                  <a:pt x="16207" y="14482"/>
                </a:lnTo>
                <a:cubicBezTo>
                  <a:pt x="17242" y="14482"/>
                  <a:pt x="18043" y="13751"/>
                  <a:pt x="18043" y="12828"/>
                </a:cubicBezTo>
                <a:lnTo>
                  <a:pt x="18043" y="7493"/>
                </a:lnTo>
                <a:lnTo>
                  <a:pt x="16207" y="7493"/>
                </a:lnTo>
                <a:lnTo>
                  <a:pt x="19714" y="3985"/>
                </a:lnTo>
                <a:lnTo>
                  <a:pt x="23387" y="7493"/>
                </a:lnTo>
                <a:lnTo>
                  <a:pt x="21551" y="7493"/>
                </a:lnTo>
                <a:lnTo>
                  <a:pt x="21551" y="12828"/>
                </a:lnTo>
                <a:cubicBezTo>
                  <a:pt x="21551" y="15596"/>
                  <a:pt x="18975" y="18155"/>
                  <a:pt x="16207" y="18155"/>
                </a:cubicBezTo>
                <a:lnTo>
                  <a:pt x="14544" y="18155"/>
                </a:lnTo>
                <a:cubicBezTo>
                  <a:pt x="11777" y="18155"/>
                  <a:pt x="9200" y="15596"/>
                  <a:pt x="9200" y="12828"/>
                </a:cubicBezTo>
                <a:close/>
              </a:path>
            </a:pathLst>
          </a:custGeom>
          <a:solidFill>
            <a:srgbClr val="2b8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В.И. Даль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45370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Живой народный язык, сберегший в жизненной свежести дух, который придает языку стройность, силу, ясность, целость и красоту, должен послужить источником и сокровищницей для развития образованной русской речи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6" descr="d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43720" y="1714680"/>
            <a:ext cx="2174760" cy="301608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7">
            <a:hlinkClick r:id="rId3" action="ppaction://hlinksldjump"/>
          </p:cNvPr>
          <p:cNvSpPr/>
          <p:nvPr/>
        </p:nvSpPr>
        <p:spPr>
          <a:xfrm>
            <a:off x="8028000" y="616572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7493"/>
                </a:moveTo>
                <a:lnTo>
                  <a:pt x="12708" y="7493"/>
                </a:lnTo>
                <a:lnTo>
                  <a:pt x="12708" y="12828"/>
                </a:lnTo>
                <a:cubicBezTo>
                  <a:pt x="12708" y="13751"/>
                  <a:pt x="13509" y="14482"/>
                  <a:pt x="14544" y="14482"/>
                </a:cubicBezTo>
                <a:lnTo>
                  <a:pt x="16207" y="14482"/>
                </a:lnTo>
                <a:cubicBezTo>
                  <a:pt x="17242" y="14482"/>
                  <a:pt x="18043" y="13751"/>
                  <a:pt x="18043" y="12828"/>
                </a:cubicBezTo>
                <a:lnTo>
                  <a:pt x="18043" y="7493"/>
                </a:lnTo>
                <a:lnTo>
                  <a:pt x="16207" y="7493"/>
                </a:lnTo>
                <a:lnTo>
                  <a:pt x="19714" y="3985"/>
                </a:lnTo>
                <a:lnTo>
                  <a:pt x="23387" y="7493"/>
                </a:lnTo>
                <a:lnTo>
                  <a:pt x="21551" y="7493"/>
                </a:lnTo>
                <a:lnTo>
                  <a:pt x="21551" y="12828"/>
                </a:lnTo>
                <a:cubicBezTo>
                  <a:pt x="21551" y="15596"/>
                  <a:pt x="18975" y="18155"/>
                  <a:pt x="16207" y="18155"/>
                </a:cubicBezTo>
                <a:lnTo>
                  <a:pt x="14544" y="18155"/>
                </a:lnTo>
                <a:cubicBezTo>
                  <a:pt x="11777" y="18155"/>
                  <a:pt x="9200" y="15596"/>
                  <a:pt x="9200" y="12828"/>
                </a:cubicBezTo>
                <a:close/>
              </a:path>
            </a:pathLst>
          </a:custGeom>
          <a:solidFill>
            <a:srgbClr val="2b8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Н.А. Добролюбов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46083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ш русский язык более всех новых, может быть, способен приблизиться к языкам классическим по своему богатству, силе, свободе расположения, обилию форм. Но чтобы воспользоваться всеми сокровищами, нужно хорошо знать его, нужно уметь владеть и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22" descr="21957379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26120" y="1773360"/>
            <a:ext cx="2144880" cy="272736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23">
            <a:hlinkClick r:id="rId3" action="ppaction://hlinksldjump"/>
          </p:cNvPr>
          <p:cNvSpPr/>
          <p:nvPr/>
        </p:nvSpPr>
        <p:spPr>
          <a:xfrm>
            <a:off x="8028000" y="616572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7493"/>
                </a:moveTo>
                <a:lnTo>
                  <a:pt x="12708" y="7493"/>
                </a:lnTo>
                <a:lnTo>
                  <a:pt x="12708" y="12828"/>
                </a:lnTo>
                <a:cubicBezTo>
                  <a:pt x="12708" y="13751"/>
                  <a:pt x="13509" y="14482"/>
                  <a:pt x="14544" y="14482"/>
                </a:cubicBezTo>
                <a:lnTo>
                  <a:pt x="16207" y="14482"/>
                </a:lnTo>
                <a:cubicBezTo>
                  <a:pt x="17242" y="14482"/>
                  <a:pt x="18043" y="13751"/>
                  <a:pt x="18043" y="12828"/>
                </a:cubicBezTo>
                <a:lnTo>
                  <a:pt x="18043" y="7493"/>
                </a:lnTo>
                <a:lnTo>
                  <a:pt x="16207" y="7493"/>
                </a:lnTo>
                <a:lnTo>
                  <a:pt x="19714" y="3985"/>
                </a:lnTo>
                <a:lnTo>
                  <a:pt x="23387" y="7493"/>
                </a:lnTo>
                <a:lnTo>
                  <a:pt x="21551" y="7493"/>
                </a:lnTo>
                <a:lnTo>
                  <a:pt x="21551" y="12828"/>
                </a:lnTo>
                <a:cubicBezTo>
                  <a:pt x="21551" y="15596"/>
                  <a:pt x="18975" y="18155"/>
                  <a:pt x="16207" y="18155"/>
                </a:cubicBezTo>
                <a:lnTo>
                  <a:pt x="14544" y="18155"/>
                </a:lnTo>
                <a:cubicBezTo>
                  <a:pt x="11777" y="18155"/>
                  <a:pt x="9200" y="15596"/>
                  <a:pt x="9200" y="12828"/>
                </a:cubicBezTo>
                <a:close/>
              </a:path>
            </a:pathLst>
          </a:custGeom>
          <a:solidFill>
            <a:srgbClr val="2b8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Г.Р. Державин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4681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лавяно- российский язык, по свидетельству самих иностранных эстетиков, не уступает ни в мужестве латинскому, ни в плавности греческому, превосходя все европейские: итальянский, французский и испанский, кольми паче немецкий, хотя некоторые из новейших их писателей и в сладкозвучии нарочитые успехи показа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6" descr="shelehov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4960" y="1557360"/>
            <a:ext cx="3244680" cy="351468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7">
            <a:hlinkClick r:id="rId3" action="ppaction://hlinksldjump"/>
          </p:cNvPr>
          <p:cNvSpPr/>
          <p:nvPr/>
        </p:nvSpPr>
        <p:spPr>
          <a:xfrm>
            <a:off x="8028000" y="616572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7493"/>
                </a:moveTo>
                <a:lnTo>
                  <a:pt x="12708" y="7493"/>
                </a:lnTo>
                <a:lnTo>
                  <a:pt x="12708" y="12828"/>
                </a:lnTo>
                <a:cubicBezTo>
                  <a:pt x="12708" y="13751"/>
                  <a:pt x="13509" y="14482"/>
                  <a:pt x="14544" y="14482"/>
                </a:cubicBezTo>
                <a:lnTo>
                  <a:pt x="16207" y="14482"/>
                </a:lnTo>
                <a:cubicBezTo>
                  <a:pt x="17242" y="14482"/>
                  <a:pt x="18043" y="13751"/>
                  <a:pt x="18043" y="12828"/>
                </a:cubicBezTo>
                <a:lnTo>
                  <a:pt x="18043" y="7493"/>
                </a:lnTo>
                <a:lnTo>
                  <a:pt x="16207" y="7493"/>
                </a:lnTo>
                <a:lnTo>
                  <a:pt x="19714" y="3985"/>
                </a:lnTo>
                <a:lnTo>
                  <a:pt x="23387" y="7493"/>
                </a:lnTo>
                <a:lnTo>
                  <a:pt x="21551" y="7493"/>
                </a:lnTo>
                <a:lnTo>
                  <a:pt x="21551" y="12828"/>
                </a:lnTo>
                <a:cubicBezTo>
                  <a:pt x="21551" y="15596"/>
                  <a:pt x="18975" y="18155"/>
                  <a:pt x="16207" y="18155"/>
                </a:cubicBezTo>
                <a:lnTo>
                  <a:pt x="14544" y="18155"/>
                </a:lnTo>
                <a:cubicBezTo>
                  <a:pt x="11777" y="18155"/>
                  <a:pt x="9200" y="15596"/>
                  <a:pt x="9200" y="12828"/>
                </a:cubicBezTo>
                <a:close/>
              </a:path>
            </a:pathLst>
          </a:custGeom>
          <a:solidFill>
            <a:srgbClr val="2b8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0:44:39Z</dcterms:created>
  <dc:creator>учащиеся</dc:creator>
  <dc:description/>
  <dc:language>en-US</dc:language>
  <cp:lastModifiedBy>Ленуся</cp:lastModifiedBy>
  <dcterms:modified xsi:type="dcterms:W3CDTF">2012-11-09T14:52:46Z</dcterms:modified>
  <cp:revision>18</cp:revision>
  <dc:subject/>
  <dc:title>Слайд 1</dc:title>
</cp:coreProperties>
</file>