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5.gif" ContentType="image/gif"/>
  <Override PartName="/ppt/media/image5.wmf" ContentType="image/x-wmf"/>
  <Override PartName="/ppt/media/image4.wmf" ContentType="image/x-wmf"/>
  <Override PartName="/ppt/media/image23.jpeg" ContentType="image/jpeg"/>
  <Override PartName="/ppt/media/image20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22.jpeg" ContentType="image/jpeg"/>
  <Override PartName="/ppt/media/image14.png" ContentType="image/png"/>
  <Override PartName="/ppt/media/image18.jpeg" ContentType="image/jpeg"/>
  <Override PartName="/ppt/media/image21.wmf" ContentType="image/x-wmf"/>
  <Override PartName="/ppt/media/image17.png" ContentType="image/png"/>
  <Override PartName="/ppt/media/image16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4BECD-737B-446B-99CF-92AA02D33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2AE4-D9CF-4CBA-AD25-DAC86329F3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FCCA-8B84-48AF-8294-19B2F193E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556C-1C9C-4605-A034-92E0E6D0B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51D8-3CBD-4E96-9155-3395B58B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88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88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B371-1B7B-4206-AAED-488294EAC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D90B-4F07-4B69-9A19-1F6888E56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C245-780F-40E7-B6DB-650B38D57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D7F5-402B-43A0-9AD4-983EEEE83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B1D9-3B7E-48E5-ABC8-FFF5FABDA2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06F3-8831-4D23-9316-3D303CE1D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-453960"/>
            <a:ext cx="8637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7653-235D-4714-AB9B-6BBB808BB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4715-C980-4E71-8F5E-68AB37944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4D21-8FEE-4937-BC69-B7AF8B89B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5A9C-7CA4-4D14-8E5D-7D2C42C6CE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FED5-A268-4A9A-AE9A-9533836A9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86B0-191F-4236-AEA6-0E8445BD2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8587-0924-4C26-8BBE-1892EE970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88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88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A19B-F47E-454B-B22A-31C58AA8A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BD0B-5647-461A-A32C-7309A6765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C682-76B0-4835-88C0-7FCD48E3F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620C-E005-4B5B-AE7B-FD98D9AF2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-453960"/>
            <a:ext cx="8637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B860-9348-4DE6-84BA-3978E665E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A6CB-B59C-4E6E-B10E-2AB52A0B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399E-6008-40B6-BE01-53581901D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D906-1330-4706-B3C8-F914EF6A0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9973-90DA-4B2B-8C78-3B2AB475C5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A27400-2194-4E9E-B6A8-F15AE547F4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86040" y="4918320"/>
            <a:ext cx="421488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Ученица 10 класса МОУ СОШ №14 г.Ипатов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Бачеева Ангели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Учитель: Алёхина О.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4280" y="357120"/>
          <a:ext cx="6337440" cy="24685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276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5400" spc="-1" strike="noStrike">
                          <a:solidFill>
                            <a:srgbClr val="99ffcc"/>
                          </a:solidFill>
                          <a:latin typeface="Arial Unicode MS"/>
                          <a:ea typeface="Times New Roman"/>
                        </a:rPr>
                        <a:t>Транспорт и мировое хозяйств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7120" y="3929040"/>
            <a:ext cx="2290680" cy="2290680"/>
          </a:xfrm>
          <a:prstGeom prst="rect">
            <a:avLst/>
          </a:prstGeom>
          <a:ln w="0">
            <a:noFill/>
          </a:ln>
        </p:spPr>
      </p:pic>
    </p:spTree>
  </p:cSld>
  <p:transition advTm="31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Основные виды транспор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1600" y="1554120"/>
            <a:ext cx="8740800" cy="5041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втомобиль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20880" y="2494080"/>
            <a:ext cx="5048280" cy="3616200"/>
            <a:chOff x="920880" y="2494080"/>
            <a:chExt cx="5048280" cy="36162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920880" y="2494080"/>
              <a:ext cx="50482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0880" y="2494080"/>
              <a:ext cx="5048280" cy="36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72160" y="4714920"/>
            <a:ext cx="1943280" cy="1460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-146160"/>
            <a:ext cx="864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Железнодорож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200" y="1852560"/>
            <a:ext cx="6217920" cy="4665600"/>
            <a:chOff x="781200" y="1852560"/>
            <a:chExt cx="6217920" cy="46656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781200" y="1852560"/>
              <a:ext cx="6217920" cy="46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81200" y="1852560"/>
              <a:ext cx="62179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15920"/>
            <a:ext cx="8642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рубопровод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8800" y="1573200"/>
            <a:ext cx="7767720" cy="5286240"/>
            <a:chOff x="658800" y="1573200"/>
            <a:chExt cx="7767720" cy="52862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58800" y="1573200"/>
              <a:ext cx="776772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8800" y="1573200"/>
              <a:ext cx="7767720" cy="52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15920"/>
            <a:ext cx="8642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орско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1857240"/>
            <a:ext cx="6716880" cy="4476960"/>
            <a:chOff x="1143000" y="1857240"/>
            <a:chExt cx="6716880" cy="44769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43000" y="1857240"/>
              <a:ext cx="671688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43000" y="1857240"/>
              <a:ext cx="6716880" cy="44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ечно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62520" y="3071880"/>
            <a:ext cx="2533680" cy="1852560"/>
            <a:chOff x="3962520" y="3071880"/>
            <a:chExt cx="2533680" cy="1852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962520" y="3071880"/>
              <a:ext cx="25336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962520" y="3071880"/>
              <a:ext cx="2533680" cy="18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виацион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680" y="2044800"/>
            <a:ext cx="2138040" cy="1307880"/>
            <a:chOff x="571680" y="2044800"/>
            <a:chExt cx="2138040" cy="1307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71680" y="2044800"/>
              <a:ext cx="2138040" cy="13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1680" y="2044800"/>
              <a:ext cx="213804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43680" y="1500120"/>
            <a:ext cx="1981080" cy="1785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4143240"/>
            <a:ext cx="3736800" cy="2449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14240" y="35712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Verdana"/>
              </a:rPr>
              <a:t>Транспорт и 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82720"/>
            <a:ext cx="40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Растет отрицательное влияние транспорта на окружающую среду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авный загрязнитель атмосферы – автомобильный транспор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шный транспорт загрязняет атмосферу шлейфами тысяч самол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дный транспорт – главный источник загрязнения гидросфе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57800" y="2357280"/>
            <a:ext cx="380988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001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Verdana"/>
              </a:rPr>
              <a:t>Транспорт</a:t>
            </a: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 – третья ведущая отрасль материального производств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00760" y="2714760"/>
            <a:ext cx="40528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0040" y="3500280"/>
            <a:ext cx="3816360" cy="2675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Роль транспорта в развитии мировой эконом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1643040"/>
            <a:ext cx="86425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уществляет все экономические процессы, связанные с перемещением в пространстве объект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висимость от транспорта работы сферы мирового хозяйства- 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43760" y="4071960"/>
            <a:ext cx="2571480" cy="2432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7160" y="2286000"/>
            <a:ext cx="671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территориальной структуре мировой транспортной сети выделяются три ведущих региона: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верная Амери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адная Европ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раны СН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57880" y="0"/>
            <a:ext cx="3786120" cy="1976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-3240"/>
            <a:ext cx="864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Динамика мировой транспортной се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2920" y="1571760"/>
          <a:ext cx="8858160" cy="4970160"/>
        </p:xfrm>
        <a:graphic>
          <a:graphicData uri="http://schemas.openxmlformats.org/drawingml/2006/table">
            <a:tbl>
              <a:tblPr/>
              <a:tblGrid>
                <a:gridCol w="2903400"/>
                <a:gridCol w="1903680"/>
                <a:gridCol w="2025360"/>
                <a:gridCol w="2025720"/>
              </a:tblGrid>
              <a:tr h="380520">
                <a:tc rowSpan="2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Виды тран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Длина сети, тыс.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1950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199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200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Железные дороги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626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т. ч. электрифицирова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Автомобильные дороги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5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4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8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5598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т. ч. усовершенствова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Судоходные реки и кана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3808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фтепро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Газопро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здушные пу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6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-817560"/>
            <a:ext cx="86421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Протяженность транспортной сети,  тыс. к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3680" y="1571760"/>
            <a:ext cx="8753400" cy="5072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5920"/>
            <a:ext cx="8642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Грузооборо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12859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ым показателем работы транспорта является грузооборот. Он зависит от веса перевезенных грузов и расстояния, на которое они были перемещены. Единицей измерения грузооборота является тонно-километр (т 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км). По грузообороту лидируют 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США, Китай и Росс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 страны, имеющие огромные размеры и развитую материальную сферу хозяйства). В настоящее время мировой грузооборот составляет примерно 50 трлн. т 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к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-74520"/>
            <a:ext cx="86421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Структура мирового грузо- и пассажирооборо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500120"/>
          <a:ext cx="9144000" cy="2789280"/>
        </p:xfrm>
        <a:graphic>
          <a:graphicData uri="http://schemas.openxmlformats.org/drawingml/2006/table">
            <a:tbl>
              <a:tblPr/>
              <a:tblGrid>
                <a:gridCol w="2892600"/>
                <a:gridCol w="2965320"/>
                <a:gridCol w="3286080"/>
              </a:tblGrid>
              <a:tr h="42372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Виды транспор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Грузооборот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Пассажирооборот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Железнодоро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528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Автомоби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Трубопровод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348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Мор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Внутренний вод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204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Воздуш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42920" y="4643280"/>
            <a:ext cx="8858160" cy="19227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89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Ежегодно в мире всеми видами транспорта перевозится более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100 млрд. тонн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грузов и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триллионы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 пассажиров. В этих перевозках участвуют свыше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700 млн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автомобилей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80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морских судов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15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рейсовых самолетов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200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локомотив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-74520"/>
            <a:ext cx="86421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Мировые грузо- </a:t>
            </a:r>
            <a:br>
              <a:rPr sz="4400"/>
            </a:b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и пассажироперевоз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6840" y="1457280"/>
            <a:ext cx="8950320" cy="522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86840" y="4786200"/>
            <a:ext cx="57132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286840" y="3357720"/>
            <a:ext cx="57132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286840" y="1643040"/>
            <a:ext cx="57132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45:36Z</dcterms:created>
  <dc:creator>starostina</dc:creator>
  <dc:description/>
  <dc:language>en-US</dc:language>
  <cp:lastModifiedBy>GEG</cp:lastModifiedBy>
  <dcterms:modified xsi:type="dcterms:W3CDTF">2011-04-19T08:55:33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29000000000001024140</vt:lpwstr>
  </property>
  <property fmtid="{D5CDD505-2E9C-101B-9397-08002B2CF9AE}" pid="3" name="_TemplateID">
    <vt:lpwstr>TC011408031049</vt:lpwstr>
  </property>
</Properties>
</file>