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5.gif" ContentType="image/gif"/>
  <Override PartName="/ppt/media/image5.wmf" ContentType="image/x-wmf"/>
  <Override PartName="/ppt/media/image4.wmf" ContentType="image/x-wmf"/>
  <Override PartName="/ppt/media/image23.jpeg" ContentType="image/jpeg"/>
  <Override PartName="/ppt/media/image20.gif" ContentType="image/gif"/>
  <Override PartName="/ppt/media/image3.gif" ContentType="image/gif"/>
  <Override PartName="/ppt/media/image6.wmf" ContentType="image/x-wmf"/>
  <Override PartName="/ppt/media/image11.wmf" ContentType="image/x-wmf"/>
  <Override PartName="/ppt/media/image22.jpeg" ContentType="image/jpeg"/>
  <Override PartName="/ppt/media/image14.png" ContentType="image/png"/>
  <Override PartName="/ppt/media/image18.jpeg" ContentType="image/jpeg"/>
  <Override PartName="/ppt/media/image21.wmf" ContentType="image/x-wmf"/>
  <Override PartName="/ppt/media/image17.png" ContentType="image/png"/>
  <Override PartName="/ppt/media/image16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223BC-DA3B-455A-A50E-9634030753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FF71D-F7C6-4CAC-B843-2AC295A15F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A083-4FF2-446D-AE3C-5A9899C6C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4FFA-8CAD-4B4F-AD69-9544058AE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6FFF-13CF-4117-8795-3759F96CC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88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88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1EA6-14BA-4BD4-9B36-67CE0DA40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32B9-596A-420A-9FDB-1B187210A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0FAE-23B5-4CDE-A719-48842AE93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C3B6-53B3-460E-8CAD-8DECB952A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8698-962D-4BFB-988B-E1B6799BFA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A063-3372-47AB-B99D-C235D496B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-453960"/>
            <a:ext cx="8637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6215-1F96-4447-9601-066AFE7DC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033D-C3C0-4995-B0D5-75C9058CB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8CF3-5586-4928-90FF-1D20A1433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DB53-5245-4D9F-B288-0D1FACF3FE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842D-3247-4A91-8725-45EA4AA1CC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ADFF-2E84-4491-86AE-71F5DA98F3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DA2B-CCA5-4C4E-A84B-F67FC55DE3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88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169992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88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4289400"/>
            <a:ext cx="278100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5231-A29A-44BF-A7C9-0070B48AF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E5DA-294F-4F72-A579-A36DBADFF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08EF-5848-4295-9CCC-C1465C7F7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8980-1205-4868-BCAC-C992C119C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-453960"/>
            <a:ext cx="8637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A939-CDC8-451E-967B-1D2CCD936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F2AB-F95F-4CE7-A8E0-1CCF38B66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428940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F9C9-417C-44E6-A41B-6FC750D31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699920"/>
            <a:ext cx="42148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4289400"/>
            <a:ext cx="8637480" cy="23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CE4D-529D-46DF-BBF1-9A7E57A66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1FCC-C087-43DC-9EF7-8DFA856593C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453960"/>
            <a:ext cx="8637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560" y="1699920"/>
            <a:ext cx="86374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0FE5BC-4D19-4D1F-B182-1D53A39681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86040" y="4918320"/>
            <a:ext cx="421488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Ученица 10 класса МОУ СОШ №14 г.Ипатов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Бачеева Ангели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Учитель: Алёхина О.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4280" y="357120"/>
          <a:ext cx="6337440" cy="246852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276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5400" spc="-1" strike="noStrike">
                          <a:solidFill>
                            <a:srgbClr val="99ffcc"/>
                          </a:solidFill>
                          <a:latin typeface="Arial Unicode MS"/>
                          <a:ea typeface="Times New Roman"/>
                        </a:rPr>
                        <a:t>Транспорт и мировое хозяйство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7120" y="3929040"/>
            <a:ext cx="2290680" cy="2290680"/>
          </a:xfrm>
          <a:prstGeom prst="rect">
            <a:avLst/>
          </a:prstGeom>
          <a:ln w="0">
            <a:noFill/>
          </a:ln>
        </p:spPr>
      </p:pic>
    </p:spTree>
  </p:cSld>
  <p:transition advTm="31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Основные виды транспор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1600" y="1554120"/>
            <a:ext cx="8740800" cy="5041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втомобиль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20880" y="2494080"/>
            <a:ext cx="5048280" cy="3616200"/>
            <a:chOff x="920880" y="2494080"/>
            <a:chExt cx="5048280" cy="36162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920880" y="2494080"/>
              <a:ext cx="50482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20880" y="2494080"/>
              <a:ext cx="5048280" cy="36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72160" y="4714920"/>
            <a:ext cx="1943280" cy="1460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-146160"/>
            <a:ext cx="864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Железнодорож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200" y="1852560"/>
            <a:ext cx="6217920" cy="4665600"/>
            <a:chOff x="781200" y="1852560"/>
            <a:chExt cx="6217920" cy="46656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781200" y="1852560"/>
              <a:ext cx="6217920" cy="46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81200" y="1852560"/>
              <a:ext cx="62179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15920"/>
            <a:ext cx="86421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Трубопровод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58800" y="1573200"/>
            <a:ext cx="7767720" cy="5286240"/>
            <a:chOff x="658800" y="1573200"/>
            <a:chExt cx="7767720" cy="528624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58800" y="1573200"/>
              <a:ext cx="776772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8800" y="1573200"/>
              <a:ext cx="7767720" cy="52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15920"/>
            <a:ext cx="86421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Морско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3000" y="1857240"/>
            <a:ext cx="6716880" cy="4476960"/>
            <a:chOff x="1143000" y="1857240"/>
            <a:chExt cx="6716880" cy="447696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43000" y="1857240"/>
              <a:ext cx="671688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43000" y="1857240"/>
              <a:ext cx="6716880" cy="44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ечно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962520" y="3071880"/>
            <a:ext cx="2533680" cy="1852560"/>
            <a:chOff x="3962520" y="3071880"/>
            <a:chExt cx="2533680" cy="18525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962520" y="3071880"/>
              <a:ext cx="25336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962520" y="3071880"/>
              <a:ext cx="2533680" cy="18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Авиационный транспор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680" y="2044800"/>
            <a:ext cx="2138040" cy="1307880"/>
            <a:chOff x="571680" y="2044800"/>
            <a:chExt cx="2138040" cy="13078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71680" y="2044800"/>
              <a:ext cx="2138040" cy="13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1680" y="2044800"/>
              <a:ext cx="213804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43680" y="1500120"/>
            <a:ext cx="1981080" cy="1785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4143240"/>
            <a:ext cx="3736800" cy="2449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14240" y="35712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Verdana"/>
              </a:rPr>
              <a:t>Транспорт и 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782720"/>
            <a:ext cx="40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Растет отрицательное влияние транспорта на окружающую среду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лавный загрязнитель атмосферы – автомобильный транспор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ушный транспорт загрязняет атмосферу шлейфами тысяч самол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дный транспорт – главный источник загрязнения гидросфе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57800" y="2357280"/>
            <a:ext cx="380988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001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Verdana"/>
              </a:rPr>
              <a:t>Транспорт</a:t>
            </a: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 – третья ведущая отрасль материального производств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00760" y="2714760"/>
            <a:ext cx="40528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0040" y="3500280"/>
            <a:ext cx="3816360" cy="2675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Роль транспорта в развитии мировой эконом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57120" y="1643040"/>
            <a:ext cx="86425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уществляет все экономические процессы, связанные с перемещением в пространстве объект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висимость от транспорта работы сферы мирового хозяйства- 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43760" y="4071960"/>
            <a:ext cx="2571480" cy="24321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57160" y="2286000"/>
            <a:ext cx="671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территориальной структуре мировой транспортной сети выделяются три ведущих региона: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верная Амери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адная Европ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раны СН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57880" y="0"/>
            <a:ext cx="3786120" cy="1976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-3240"/>
            <a:ext cx="864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Динамика мировой транспортной се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2920" y="1571760"/>
          <a:ext cx="8858160" cy="4970160"/>
        </p:xfrm>
        <a:graphic>
          <a:graphicData uri="http://schemas.openxmlformats.org/drawingml/2006/table">
            <a:tbl>
              <a:tblPr/>
              <a:tblGrid>
                <a:gridCol w="2903400"/>
                <a:gridCol w="1903680"/>
                <a:gridCol w="2025360"/>
                <a:gridCol w="2025720"/>
              </a:tblGrid>
              <a:tr h="380520">
                <a:tc rowSpan="2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Виды тран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Длина сети, тыс.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ffcc"/>
                          </a:solidFill>
                          <a:latin typeface="Verdana"/>
                        </a:rPr>
                        <a:t>1950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ffcc"/>
                          </a:solidFill>
                          <a:latin typeface="Verdana"/>
                        </a:rPr>
                        <a:t>1995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ffcc"/>
                          </a:solidFill>
                          <a:latin typeface="Verdana"/>
                        </a:rPr>
                        <a:t>2002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Железные дороги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</a:tr>
              <a:tr h="626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т. ч. электрифицирова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Автомобильные дороги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5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4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28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</a:tr>
              <a:tr h="5598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т. ч. усовершенствова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Судоходные реки и кана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</a:tr>
              <a:tr h="3808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фтепро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Газопро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Verdana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1e8"/>
                        </a:gs>
                        <a:gs pos="100000">
                          <a:srgbClr val="9898b4"/>
                        </a:gs>
                      </a:gsLst>
                      <a:lin ang="189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здушные пу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1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6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-817560"/>
            <a:ext cx="86421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Протяженность транспортной сети,  тыс. к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3680" y="1571760"/>
            <a:ext cx="8753400" cy="5072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15920"/>
            <a:ext cx="8642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ffcc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99ffcc"/>
                </a:solidFill>
                <a:latin typeface="Arial"/>
              </a:rPr>
              <a:t>Грузооборо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12859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ым показателем работы транспорта является грузооборот. Он зависит от веса перевезенных грузов и расстояния, на которое они были перемещены. Единицей измерения грузооборота является тонно-километр (т 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км). По грузообороту лидируют </a:t>
            </a:r>
            <a:r>
              <a:rPr b="0" lang="ru-RU" sz="1800" spc="-1" strike="noStrike">
                <a:solidFill>
                  <a:srgbClr val="ff3399"/>
                </a:solidFill>
                <a:latin typeface="Verdana"/>
              </a:rPr>
              <a:t>США, Китай и Росс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 страны, имеющие огромные размеры и развитую материальную сферу хозяйства). В настоящее время мировой грузооборот составляет примерно 50 трлн. т </a:t>
            </a: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к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-74520"/>
            <a:ext cx="86421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Структура мирового грузо- и пассажирооборо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500120"/>
          <a:ext cx="9144000" cy="2789280"/>
        </p:xfrm>
        <a:graphic>
          <a:graphicData uri="http://schemas.openxmlformats.org/drawingml/2006/table">
            <a:tbl>
              <a:tblPr/>
              <a:tblGrid>
                <a:gridCol w="2892600"/>
                <a:gridCol w="2965320"/>
                <a:gridCol w="3286080"/>
              </a:tblGrid>
              <a:tr h="42372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Виды транспор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Грузооборот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Пассажирооборот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492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Железнодоро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9528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Автомоби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492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Трубопровод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9348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Мор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492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Внутренний вод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92040">
                <a:tc>
                  <a:txBody>
                    <a:bodyPr lIns="65160" rIns="65160" tIns="7308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Воздуш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5160" rIns="65160" tIns="7308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5160" marR="65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42920" y="4643280"/>
            <a:ext cx="8858160" cy="19227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89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Ежегодно в мире всеми видами транспорта перевозится более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100 млрд. тонн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грузов и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триллионы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 пассажиров. В этих перевозках участвуют свыше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700 млн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автомобилей,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80 тыс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морских судов,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15 тыс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рейсовых самолетов, </a:t>
            </a:r>
            <a:r>
              <a:rPr b="0" lang="ru-RU" sz="2400" spc="-1" strike="noStrike">
                <a:solidFill>
                  <a:srgbClr val="0a0aff"/>
                </a:solidFill>
                <a:latin typeface="Verdana"/>
              </a:rPr>
              <a:t>200 тыс. </a:t>
            </a:r>
            <a:r>
              <a:rPr b="0" lang="ru-RU" sz="2400" spc="-1" strike="noStrike">
                <a:solidFill>
                  <a:srgbClr val="191966"/>
                </a:solidFill>
                <a:latin typeface="Verdana"/>
              </a:rPr>
              <a:t>локомотив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-74520"/>
            <a:ext cx="86421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Мировые грузо- </a:t>
            </a:r>
            <a:br>
              <a:rPr sz="4400"/>
            </a:br>
            <a:r>
              <a:rPr b="1" lang="ru-RU" sz="4400" spc="-1" strike="noStrike">
                <a:solidFill>
                  <a:srgbClr val="99ffcc"/>
                </a:solidFill>
                <a:latin typeface="Arial"/>
              </a:rPr>
              <a:t>и пассажироперевоз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6840" y="1457280"/>
            <a:ext cx="8950320" cy="522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86840" y="4786200"/>
            <a:ext cx="57132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286840" y="3357720"/>
            <a:ext cx="57132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286840" y="1643040"/>
            <a:ext cx="57132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45:36Z</dcterms:created>
  <dc:creator>starostina</dc:creator>
  <dc:description/>
  <dc:language>en-US</dc:language>
  <cp:lastModifiedBy>GEG</cp:lastModifiedBy>
  <dcterms:modified xsi:type="dcterms:W3CDTF">2011-04-19T08:55:33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29000000000001024140</vt:lpwstr>
  </property>
  <property fmtid="{D5CDD505-2E9C-101B-9397-08002B2CF9AE}" pid="3" name="_TemplateID">
    <vt:lpwstr>TC011408031049</vt:lpwstr>
  </property>
</Properties>
</file>