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19.png" ContentType="image/png"/>
  <Override PartName="/ppt/media/image24.png" ContentType="image/png"/>
  <Override PartName="/ppt/media/image11.jpeg" ContentType="image/jpeg"/>
  <Override PartName="/ppt/media/image21.gif" ContentType="image/gif"/>
  <Override PartName="/ppt/media/image1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5.gif" ContentType="image/gif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6.jpeg" ContentType="image/jpeg"/>
  <Override PartName="/ppt/media/image27.jpeg" ContentType="image/jpeg"/>
  <Override PartName="/ppt/media/image33.gif" ContentType="image/gif"/>
  <Override PartName="/ppt/media/image8.gif" ContentType="image/gif"/>
  <Override PartName="/ppt/media/image34.gif" ContentType="image/gif"/>
  <Override PartName="/ppt/media/image29.jpeg" ContentType="image/jpeg"/>
  <Override PartName="/ppt/media/image25.png" ContentType="image/png"/>
  <Override PartName="/ppt/media/image2.gif" ContentType="image/gif"/>
  <Override PartName="/ppt/media/image12.jpeg" ContentType="image/jpeg"/>
  <Override PartName="/ppt/media/image14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C2AD-BB87-4DE6-87CC-3ECDF26428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2188-FD98-4B5E-A09A-127C3AC48A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DE56-9998-4245-ACF8-D15F01068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режиме «Показа» можно делать записи на экране на доске ученику или учителю: правая мышка – «Указатель» - «Фломастер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3D0-6501-452E-9C3A-8F42101B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019-2623-4477-A0D3-E2419EB0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06D-B8AE-4445-9F64-090112F1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4F0-E3B3-4F70-A996-596EC738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D143-C667-439B-AF6B-6A1312A8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67C7-B94F-4F76-B1FC-E6C58179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2B5C-E07F-45D5-833F-E31EDAB0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9D58-DE9C-42BC-9F0F-77C6F47F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F06C-F99F-453C-820A-57C6D2A4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2C93-601E-4852-AAEC-3D490EB9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0BE8-D4B4-4E50-AE58-654614BC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FA4-78BC-458D-A533-E92C7F10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4930-019D-4BF5-AE58-29167F95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73F4-1B42-4728-B688-1F604BD8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8429-040D-4462-AF44-B4887FD8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A450-C29E-4C9A-9264-E872008D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11C9-8C56-40C4-9CD3-22B663D2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796-AA27-4F3B-8A69-55ECF9A3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010-17B8-4326-AABB-0F90D76C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DEC-50A7-48D0-B2FA-129EF3B0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303-0414-40C4-9D89-C2855337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31D-8F0E-4A8B-95E7-BA1AB169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1FC-480C-4DB9-9898-9D2DC743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020-95C8-4576-A1A6-7E04E81B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3164-4173-4E6B-B1C0-64400BA9FF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9B82-E6EC-4EE7-9C24-F98BFAFA56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slide15.xm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8.xml"/><Relationship Id="rId3" Type="http://schemas.openxmlformats.org/officeDocument/2006/relationships/image" Target="../media/image7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85816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8000" spc="-1" strike="noStrike">
                <a:solidFill>
                  <a:srgbClr val="00b0f0"/>
                </a:solidFill>
                <a:latin typeface="Calibri"/>
              </a:rPr>
              <a:t>Викторина</a:t>
            </a:r>
            <a:br>
              <a:rPr sz="8000"/>
            </a:br>
            <a:r>
              <a:rPr b="1" lang="ru-RU" sz="8000" spc="-1" strike="noStrike">
                <a:solidFill>
                  <a:srgbClr val="d60093"/>
                </a:solidFill>
                <a:latin typeface="Calibri"/>
              </a:rPr>
              <a:t>«Знаете ли вы химию?»</a:t>
            </a:r>
            <a:br>
              <a:rPr sz="8000"/>
            </a:br>
            <a:endParaRPr b="0" lang="en-US" sz="80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90" name="Picture 4" descr="612486171"/>
          <p:cNvPicPr/>
          <p:nvPr/>
        </p:nvPicPr>
        <p:blipFill>
          <a:blip r:embed="rId1"/>
          <a:stretch/>
        </p:blipFill>
        <p:spPr>
          <a:xfrm>
            <a:off x="826920" y="399240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Удельный вес его так ма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Что стал крылатым тот метал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Во все детали входит о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Являясь важной состав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580000" y="4365720"/>
            <a:ext cx="263376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Calibri"/>
              </a:rPr>
              <a:t>  </a:t>
            </a:r>
            <a:r>
              <a:rPr b="1" lang="ru-RU" sz="6600" spc="-1" strike="noStrike">
                <a:solidFill>
                  <a:srgbClr val="0000cc"/>
                </a:solidFill>
                <a:latin typeface="Calibri"/>
              </a:rPr>
              <a:t>АЛЮМИНИЙ</a:t>
            </a:r>
            <a:endParaRPr b="0" lang="en-US" sz="66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28" name="Picture 4" descr="BD10737_"/>
          <p:cNvPicPr/>
          <p:nvPr/>
        </p:nvPicPr>
        <p:blipFill>
          <a:blip r:embed="rId1"/>
          <a:stretch/>
        </p:blipFill>
        <p:spPr>
          <a:xfrm>
            <a:off x="1979640" y="2060640"/>
            <a:ext cx="5400720" cy="34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Без него мы жить не може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н всегда нам всем помо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н находится везде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на суше и в в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то же скажет мне из вас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к зовётся этот газ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BD07033_"/>
          <p:cNvPicPr/>
          <p:nvPr/>
        </p:nvPicPr>
        <p:blipFill>
          <a:blip r:embed="rId1"/>
          <a:stretch/>
        </p:blipFill>
        <p:spPr>
          <a:xfrm>
            <a:off x="6877080" y="3573360"/>
            <a:ext cx="121608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alibri"/>
              </a:rPr>
              <a:t>КИСЛОРОД</a:t>
            </a:r>
            <a:endParaRPr b="0" lang="en-US" sz="66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32" name="Picture 4" descr="PE07542_"/>
          <p:cNvPicPr/>
          <p:nvPr/>
        </p:nvPicPr>
        <p:blipFill>
          <a:blip r:embed="rId1"/>
          <a:stretch/>
        </p:blipFill>
        <p:spPr>
          <a:xfrm>
            <a:off x="3098880" y="1695600"/>
            <a:ext cx="2946240" cy="34686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5">
            <a:hlinkClick r:id="rId2" action="ppaction://hlinksldjump"/>
          </p:cNvPr>
          <p:cNvSpPr/>
          <p:nvPr/>
        </p:nvSpPr>
        <p:spPr>
          <a:xfrm>
            <a:off x="468360" y="5805360"/>
            <a:ext cx="790560" cy="576360"/>
          </a:xfrm>
          <a:prstGeom prst="leftArrow">
            <a:avLst>
              <a:gd name="adj1" fmla="val 50000"/>
              <a:gd name="adj2" fmla="val 342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63272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d60093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d60093"/>
                </a:solidFill>
                <a:latin typeface="Calibri"/>
              </a:rPr>
              <a:t>По названию этого элемента обозначили целую эпоху в развитии человеческого общества</a:t>
            </a:r>
            <a:r>
              <a:rPr b="0" lang="ru-RU" sz="2800" spc="-1" strike="noStrike">
                <a:solidFill>
                  <a:srgbClr val="d60093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6</a:t>
            </a: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5" name="Text Box 3"/>
          <p:cNvSpPr/>
          <p:nvPr/>
        </p:nvSpPr>
        <p:spPr>
          <a:xfrm rot="21411600">
            <a:off x="900000" y="3499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 rot="19071600">
            <a:off x="5840640" y="5168160"/>
            <a:ext cx="19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 rot="629400">
            <a:off x="6518520" y="357300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910520" y="52736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 flipV="1" rot="11398800">
            <a:off x="3374280" y="4993920"/>
            <a:ext cx="23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8"/>
          <p:cNvSpPr txBox="1"/>
          <p:nvPr/>
        </p:nvSpPr>
        <p:spPr>
          <a:xfrm>
            <a:off x="1187280" y="3284640"/>
            <a:ext cx="45720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9"/>
          <p:cNvSpPr/>
          <p:nvPr/>
        </p:nvSpPr>
        <p:spPr>
          <a:xfrm rot="20843400">
            <a:off x="687240" y="540396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68724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Химический элемент, входящий в состав средства для дезинфекции воды в плавательных бассейнах</a:t>
            </a:r>
            <a:r>
              <a:rPr b="0" lang="ru-RU" sz="4400" spc="-1" strike="noStrike">
                <a:solidFill>
                  <a:srgbClr val="d60093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3860640"/>
            <a:ext cx="7129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1.Se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2.Pb               </a:t>
            </a:r>
            <a:r>
              <a:rPr b="1" lang="en-US" sz="3600" spc="-1" strike="noStrike">
                <a:solidFill>
                  <a:srgbClr val="ff00ff"/>
                </a:solidFill>
                <a:latin typeface="Calibri"/>
              </a:rPr>
              <a:t>3.C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3600" spc="-1" strike="noStrike">
                <a:solidFill>
                  <a:srgbClr val="00ff00"/>
                </a:solidFill>
                <a:latin typeface="Calibri"/>
              </a:rPr>
              <a:t>4.P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3600" spc="-1" strike="noStrike">
                <a:solidFill>
                  <a:srgbClr val="ccff33"/>
                </a:solidFill>
                <a:latin typeface="Calibri"/>
              </a:rPr>
              <a:t>5.M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79280" y="333360"/>
            <a:ext cx="87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c0504d"/>
                </a:solidFill>
                <a:latin typeface="Monotype Corsiva"/>
              </a:rPr>
              <a:t>Всем известно, что молочнокислые продукты полезны для здоровья. Какой процесс используют для получения кефи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427640" y="3860640"/>
            <a:ext cx="532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Химический процесс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бр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одержимое 7" descr="Рисунок5.png"/>
          <p:cNvPicPr/>
          <p:nvPr/>
        </p:nvPicPr>
        <p:blipFill>
          <a:blip r:embed="rId1"/>
          <a:stretch/>
        </p:blipFill>
        <p:spPr>
          <a:xfrm>
            <a:off x="611280" y="1916280"/>
            <a:ext cx="3117600" cy="44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50920" y="49212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Monotype Corsiva"/>
              </a:rPr>
              <a:t>Известно, что бром и иод ядовиты.  Почему же невропатолог может посоветовать принимать бром, в эндокринолог заявить, что вам не хватает 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j0282789"/>
          <p:cNvPicPr/>
          <p:nvPr/>
        </p:nvPicPr>
        <p:blipFill>
          <a:blip r:embed="rId1"/>
          <a:stretch/>
        </p:blipFill>
        <p:spPr>
          <a:xfrm>
            <a:off x="324000" y="2852640"/>
            <a:ext cx="3216240" cy="3456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3203640" y="4076640"/>
            <a:ext cx="561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Ядовиты простые вещества. Лекарства содержат соединения этих эле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190760" cy="1020600"/>
          </a:xfrm>
          <a:prstGeom prst="rect">
            <a:avLst/>
          </a:prstGeom>
          <a:solidFill>
            <a:srgbClr val="9b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d60093"/>
                </a:solidFill>
                <a:latin typeface="Calibri"/>
              </a:rPr>
              <a:t>Пробирка.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25252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578016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665360" y="47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5356080" y="486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1030320" cy="2733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"/>
          <p:cNvPicPr/>
          <p:nvPr/>
        </p:nvPicPr>
        <p:blipFill>
          <a:blip r:embed="rId2"/>
          <a:stretch/>
        </p:blipFill>
        <p:spPr>
          <a:xfrm>
            <a:off x="6934320" y="457200"/>
            <a:ext cx="1517400" cy="2981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"/>
          <p:cNvPicPr/>
          <p:nvPr/>
        </p:nvPicPr>
        <p:blipFill>
          <a:blip r:embed="rId3"/>
          <a:stretch/>
        </p:blipFill>
        <p:spPr>
          <a:xfrm>
            <a:off x="2286000" y="1828800"/>
            <a:ext cx="2438280" cy="2077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" descr=""/>
          <p:cNvPicPr/>
          <p:nvPr/>
        </p:nvPicPr>
        <p:blipFill>
          <a:blip r:embed="rId4"/>
          <a:stretch/>
        </p:blipFill>
        <p:spPr>
          <a:xfrm>
            <a:off x="5105520" y="3276720"/>
            <a:ext cx="1233360" cy="3181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:\Documents and Settings\роол\Мои документы\Мои рисунки\Рисунки-Химия\Анимация-Химия\j0174005.gif"/>
          <p:cNvPicPr/>
          <p:nvPr/>
        </p:nvPicPr>
        <p:blipFill>
          <a:blip r:embed="rId5"/>
          <a:stretch/>
        </p:blipFill>
        <p:spPr>
          <a:xfrm>
            <a:off x="762120" y="3090960"/>
            <a:ext cx="1600200" cy="3767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111780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3402360" y="38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634360" y="27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7506000" y="352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8FDF-1CFF-4A3D-AAA7-EE2CF0309B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372360" y="981000"/>
            <a:ext cx="2305080" cy="12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990099"/>
                </a:solidFill>
                <a:latin typeface="Arial"/>
              </a:rPr>
              <a:t>N</a:t>
            </a:r>
            <a:r>
              <a:rPr b="0" lang="ru-RU" sz="12000" spc="-1" strike="noStrike">
                <a:solidFill>
                  <a:srgbClr val="990099"/>
                </a:solidFill>
                <a:latin typeface="Arial"/>
              </a:rPr>
              <a:t>а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809880" y="990360"/>
            <a:ext cx="151128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0" spc="-1" strike="noStrike">
                <a:solidFill>
                  <a:srgbClr val="009900"/>
                </a:solidFill>
                <a:latin typeface="Comic Sans MS"/>
              </a:rPr>
              <a:t>Р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755640" y="44280"/>
            <a:ext cx="799308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00"/>
                </a:solidFill>
                <a:latin typeface="Arial"/>
              </a:rPr>
              <a:t>Найди родственник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52280" y="2895480"/>
            <a:ext cx="273528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33cc"/>
                </a:solidFill>
                <a:latin typeface="Comic Sans MS"/>
              </a:rPr>
              <a:t>Са</a:t>
            </a:r>
            <a:endParaRPr b="0" lang="en-US" sz="12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69" name="Rectangle 6"/>
          <p:cNvSpPr/>
          <p:nvPr/>
        </p:nvSpPr>
        <p:spPr>
          <a:xfrm rot="970200">
            <a:off x="5514840" y="2579400"/>
            <a:ext cx="12240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9900cc"/>
                </a:solidFill>
                <a:latin typeface="Arial"/>
              </a:rPr>
              <a:t>К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 rot="706800">
            <a:off x="3059280" y="2952360"/>
            <a:ext cx="2160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33cc"/>
                </a:solidFill>
                <a:latin typeface="Arial"/>
              </a:rPr>
              <a:t>Ва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 rot="20473800">
            <a:off x="7067160" y="2333160"/>
            <a:ext cx="1927080" cy="12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66ff33"/>
                </a:solidFill>
                <a:latin typeface="Arial"/>
              </a:rPr>
              <a:t>С</a:t>
            </a:r>
            <a:r>
              <a:rPr b="0" lang="en-US" sz="12000" spc="-1" strike="noStrike">
                <a:solidFill>
                  <a:srgbClr val="66ff33"/>
                </a:solidFill>
                <a:latin typeface="Arial"/>
              </a:rPr>
              <a:t>l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 rot="20837400">
            <a:off x="825480" y="1131840"/>
            <a:ext cx="2151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9900"/>
                </a:solidFill>
                <a:latin typeface="Arial"/>
              </a:rPr>
              <a:t>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916360" y="4365720"/>
            <a:ext cx="3960720" cy="73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«Родственни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152280" y="5181480"/>
            <a:ext cx="2952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1" lang="ru-RU" sz="6000" spc="-1" strike="noStrike">
                <a:solidFill>
                  <a:srgbClr val="ff33cc"/>
                </a:solidFill>
                <a:latin typeface="Arial"/>
              </a:rPr>
              <a:t>, Р,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C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3733920" y="5181480"/>
            <a:ext cx="50292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Arial"/>
              </a:rPr>
              <a:t>Ва, Са, К, 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1" lang="ru-RU" sz="6000" spc="-1" strike="noStrike">
                <a:solidFill>
                  <a:srgbClr val="0033cc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Calibri"/>
              </a:rPr>
              <a:t>Если добавить по две буквы в начале и в конце слова, обозначающего мероприятие, изображенное на рисунке, то получится название химического элемента VIII группы.</a:t>
            </a:r>
            <a:br>
              <a:rPr sz="2400"/>
            </a:br>
            <a:r>
              <a:rPr b="0" lang="ru-RU" sz="2400" spc="-1" strike="noStrike">
                <a:solidFill>
                  <a:srgbClr val="d60093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Что это за химический элемент?</a:t>
            </a:r>
            <a:endParaRPr b="0" lang="en-US" sz="2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6084720" y="5013360"/>
            <a:ext cx="3429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. Бал 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баль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6" descr="Рисунок1.jpg"/>
          <p:cNvPicPr/>
          <p:nvPr/>
        </p:nvPicPr>
        <p:blipFill>
          <a:blip r:embed="rId1"/>
          <a:stretch/>
        </p:blipFill>
        <p:spPr>
          <a:xfrm>
            <a:off x="324000" y="2205000"/>
            <a:ext cx="5832360" cy="40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55280" y="836640"/>
            <a:ext cx="767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Какой металл придает нашей крови красный цв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659640" y="3789360"/>
            <a:ext cx="143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Картинка 5 из 31870"/>
          <p:cNvPicPr/>
          <p:nvPr/>
        </p:nvPicPr>
        <p:blipFill>
          <a:blip r:embed="rId1"/>
          <a:stretch/>
        </p:blipFill>
        <p:spPr>
          <a:xfrm>
            <a:off x="1042920" y="3141720"/>
            <a:ext cx="3853080" cy="231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88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Какой металл называют металлом консервной бан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805800" y="382896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Содержимое 7" descr="Рисунок6.jpg"/>
          <p:cNvPicPr/>
          <p:nvPr/>
        </p:nvPicPr>
        <p:blipFill>
          <a:blip r:embed="rId1"/>
          <a:stretch/>
        </p:blipFill>
        <p:spPr>
          <a:xfrm>
            <a:off x="1042920" y="2349360"/>
            <a:ext cx="385308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6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6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684360" y="692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н создал первый университет. Он лучше сказать, сам был первым нашим университе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А. С.Пуш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971640" y="2133720"/>
            <a:ext cx="4319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748 г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сформулировал важнейш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закон хими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закон сохранения массы вещества в химических реак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684360" y="4292640"/>
            <a:ext cx="46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Arial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Картинка 8 из 1858"/>
          <p:cNvPicPr/>
          <p:nvPr/>
        </p:nvPicPr>
        <p:blipFill>
          <a:blip r:embed="rId1"/>
          <a:stretch/>
        </p:blipFill>
        <p:spPr>
          <a:xfrm>
            <a:off x="5321160" y="981000"/>
            <a:ext cx="3249720" cy="4176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4934160" y="530064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моносов Михаил Васи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2192040" y="765000"/>
            <a:ext cx="476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В 1861 г. создал – теорию стро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органическ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990080" y="1844640"/>
            <a:ext cx="51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Систематизировал 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81d95d7818d70a6e47c27b164870bca2"/>
          <p:cNvPicPr/>
          <p:nvPr/>
        </p:nvPicPr>
        <p:blipFill>
          <a:blip r:embed="rId1"/>
          <a:stretch/>
        </p:blipFill>
        <p:spPr>
          <a:xfrm>
            <a:off x="1547640" y="2421000"/>
            <a:ext cx="2824200" cy="36925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9"/>
          <p:cNvSpPr/>
          <p:nvPr/>
        </p:nvSpPr>
        <p:spPr>
          <a:xfrm>
            <a:off x="4501440" y="386064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тлеров Александр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таблица"/>
          <p:cNvPicPr/>
          <p:nvPr/>
        </p:nvPicPr>
        <p:blipFill>
          <a:blip r:embed="rId1"/>
          <a:stretch/>
        </p:blipFill>
        <p:spPr>
          <a:xfrm>
            <a:off x="684360" y="836640"/>
            <a:ext cx="3852720" cy="28893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1042920" y="422100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В 1869 г. открыл основополагающий закон химии – Периодический зак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Картинка 10 из 1509"/>
          <p:cNvPicPr/>
          <p:nvPr/>
        </p:nvPicPr>
        <p:blipFill>
          <a:blip r:embed="rId2"/>
          <a:stretch/>
        </p:blipFill>
        <p:spPr>
          <a:xfrm>
            <a:off x="4788000" y="981000"/>
            <a:ext cx="3852720" cy="4276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1"/>
          <p:cNvSpPr/>
          <p:nvPr/>
        </p:nvSpPr>
        <p:spPr>
          <a:xfrm>
            <a:off x="4986360" y="532116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делеев Дмитрий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2843280" y="1187640"/>
            <a:ext cx="547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Без химии ты глух и нем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И шагу не шагнешь порою,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Не вырастишь хороший хлеб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И дом хороший не построишь.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Химию любить и не лениться – 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Значит, понятно будет все: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Почему коптит порою примус,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На морозе сушится белье.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Жизнь вокруг себя узнаешь,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Разрешишь любой серьезный спор,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Без огня в дороге яйца сваришь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И без спичек разведешь кос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Картинка 2 из 1055"/>
          <p:cNvPicPr/>
          <p:nvPr/>
        </p:nvPicPr>
        <p:blipFill>
          <a:blip r:embed="rId1"/>
          <a:stretch/>
        </p:blipFill>
        <p:spPr>
          <a:xfrm>
            <a:off x="108000" y="333360"/>
            <a:ext cx="2297160" cy="2733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J0076135"/>
          <p:cNvPicPr/>
          <p:nvPr/>
        </p:nvPicPr>
        <p:blipFill>
          <a:blip r:embed="rId2"/>
          <a:stretch/>
        </p:blipFill>
        <p:spPr>
          <a:xfrm>
            <a:off x="6588000" y="333360"/>
            <a:ext cx="2124360" cy="154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anim4_3_2a"/>
          <p:cNvPicPr/>
          <p:nvPr/>
        </p:nvPicPr>
        <p:blipFill>
          <a:blip r:embed="rId3"/>
          <a:stretch/>
        </p:blipFill>
        <p:spPr>
          <a:xfrm>
            <a:off x="4211640" y="5805360"/>
            <a:ext cx="95256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68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едя небольшие изменения в названии животного, изображенного на рисунке, вы получите название химического элемента-галогена, необходимого в организме человека.</a:t>
            </a:r>
            <a:br>
              <a:rPr sz="2800"/>
            </a:br>
            <a:endParaRPr b="0" lang="en-US" sz="28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2714760" y="6396120"/>
            <a:ext cx="32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. Крот – ф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6" descr="Рисунок2.jpg"/>
          <p:cNvPicPr/>
          <p:nvPr/>
        </p:nvPicPr>
        <p:blipFill>
          <a:blip r:embed="rId1"/>
          <a:stretch/>
        </p:blipFill>
        <p:spPr>
          <a:xfrm>
            <a:off x="1258920" y="1413000"/>
            <a:ext cx="6688080" cy="46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с двумя скругленными противолежащими углами 10"/>
          <p:cNvSpPr/>
          <p:nvPr/>
        </p:nvSpPr>
        <p:spPr>
          <a:xfrm>
            <a:off x="539640" y="4581360"/>
            <a:ext cx="7920000" cy="1500480"/>
          </a:xfrm>
          <a:custGeom>
            <a:avLst/>
            <a:gdLst>
              <a:gd name="textAreaLeft" fmla="*/ 73080 w 7920000"/>
              <a:gd name="textAreaRight" fmla="*/ 7846920 w 7920000"/>
              <a:gd name="textAreaTop" fmla="*/ 73080 h 1500480"/>
              <a:gd name="textAreaBottom" fmla="*/ 1427400 h 1500480"/>
            </a:gdLst>
            <a:ahLst/>
            <a:rect l="textAreaLeft" t="textAreaTop" r="textAreaRight" b="textAreaBottom"/>
            <a:pathLst>
              <a:path w="7920038" h="1500188">
                <a:moveTo>
                  <a:pt x="250036" y="0"/>
                </a:moveTo>
                <a:lnTo>
                  <a:pt x="7920038" y="0"/>
                </a:lnTo>
                <a:lnTo>
                  <a:pt x="7920038" y="1250152"/>
                </a:lnTo>
                <a:lnTo>
                  <a:pt x="7920038" y="1250152"/>
                </a:lnTo>
                <a:arcTo wR="250036" hR="250036" stAng="0" swAng="5400000"/>
                <a:lnTo>
                  <a:pt x="0" y="1500188"/>
                </a:lnTo>
                <a:lnTo>
                  <a:pt x="0" y="250036"/>
                </a:lnTo>
                <a:lnTo>
                  <a:pt x="0" y="250036"/>
                </a:lnTo>
                <a:arcTo wR="250036" hR="250036" stAng="10800000" swAng="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с двумя скругленными противолежащими углами 4"/>
          <p:cNvSpPr/>
          <p:nvPr/>
        </p:nvSpPr>
        <p:spPr>
          <a:xfrm>
            <a:off x="684360" y="907920"/>
            <a:ext cx="7920000" cy="237672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гадайте ребус и узнайте название химической посу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ре.jpg"/>
          <p:cNvPicPr/>
          <p:nvPr/>
        </p:nvPicPr>
        <p:blipFill>
          <a:blip r:embed="rId1"/>
          <a:srcRect l="2654" t="29207" r="60181" b="31858"/>
          <a:stretch/>
        </p:blipFill>
        <p:spPr>
          <a:xfrm>
            <a:off x="1476360" y="4869000"/>
            <a:ext cx="1714680" cy="13474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торт.jpg"/>
          <p:cNvPicPr/>
          <p:nvPr/>
        </p:nvPicPr>
        <p:blipFill>
          <a:blip r:embed="rId2"/>
          <a:stretch/>
        </p:blipFill>
        <p:spPr>
          <a:xfrm>
            <a:off x="3286080" y="4765680"/>
            <a:ext cx="1928880" cy="1357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5508720" y="5013360"/>
            <a:ext cx="13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6-конечная звезда 5"/>
          <p:cNvGrpSpPr/>
          <p:nvPr/>
        </p:nvGrpSpPr>
        <p:grpSpPr>
          <a:xfrm>
            <a:off x="311040" y="103320"/>
            <a:ext cx="2810160" cy="2043000"/>
            <a:chOff x="311040" y="103320"/>
            <a:chExt cx="2810160" cy="2043000"/>
          </a:xfrm>
        </p:grpSpPr>
        <p:pic>
          <p:nvPicPr>
            <p:cNvPr id="103" name="6-конечная звезда 5" descr=""/>
            <p:cNvPicPr/>
            <p:nvPr/>
          </p:nvPicPr>
          <p:blipFill>
            <a:blip r:embed="rId1"/>
            <a:stretch/>
          </p:blipFill>
          <p:spPr>
            <a:xfrm>
              <a:off x="311040" y="103320"/>
              <a:ext cx="28101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19000" y="625320"/>
              <a:ext cx="179712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10"/>
          <p:cNvSpPr/>
          <p:nvPr/>
        </p:nvSpPr>
        <p:spPr>
          <a:xfrm>
            <a:off x="3421800" y="558972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ТО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image001"/>
          <p:cNvPicPr/>
          <p:nvPr/>
        </p:nvPicPr>
        <p:blipFill>
          <a:blip r:embed="rId2"/>
          <a:stretch/>
        </p:blipFill>
        <p:spPr>
          <a:xfrm>
            <a:off x="6012000" y="2852640"/>
            <a:ext cx="2225520" cy="256248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9" descr="Рисунок3.jpg"/>
          <p:cNvPicPr/>
          <p:nvPr/>
        </p:nvPicPr>
        <p:blipFill>
          <a:blip r:embed="rId3"/>
          <a:stretch/>
        </p:blipFill>
        <p:spPr>
          <a:xfrm>
            <a:off x="1403280" y="1989000"/>
            <a:ext cx="4392720" cy="33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00720" y="1599840"/>
            <a:ext cx="4000320" cy="3900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ая свободная сильная кислота всегда есть в желудке здорового челове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5" descr="желудок.jpg"/>
          <p:cNvPicPr/>
          <p:nvPr/>
        </p:nvPicPr>
        <p:blipFill>
          <a:blip r:embed="rId1"/>
          <a:srcRect l="3751" t="4689" r="38127" b="10937"/>
          <a:stretch/>
        </p:blipFill>
        <p:spPr>
          <a:xfrm>
            <a:off x="857160" y="1643040"/>
            <a:ext cx="326088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5880" y="1714680"/>
            <a:ext cx="792936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ляная (хлороводородная) кислота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11" name="Содержимое 4" descr="формула солянки.jpg"/>
          <p:cNvPicPr/>
          <p:nvPr/>
        </p:nvPicPr>
        <p:blipFill>
          <a:blip r:embed="rId1"/>
          <a:stretch/>
        </p:blipFill>
        <p:spPr>
          <a:xfrm>
            <a:off x="3598920" y="3500280"/>
            <a:ext cx="2759040" cy="2570400"/>
          </a:xfrm>
          <a:prstGeom prst="rect">
            <a:avLst/>
          </a:prstGeom>
          <a:ln w="0">
            <a:noFill/>
          </a:ln>
        </p:spPr>
      </p:pic>
      <p:sp>
        <p:nvSpPr>
          <p:cNvPr id="112" name="Стрелка вправо с вырезом 3">
            <a:hlinkClick r:id="rId2" action="ppaction://hlinksldjump"/>
          </p:cNvPr>
          <p:cNvSpPr/>
          <p:nvPr/>
        </p:nvSpPr>
        <p:spPr>
          <a:xfrm rot="16200000">
            <a:off x="8242920" y="5720400"/>
            <a:ext cx="977760" cy="824040"/>
          </a:xfrm>
          <a:custGeom>
            <a:avLst/>
            <a:gdLst>
              <a:gd name="textAreaLeft" fmla="*/ 205920 w 977760"/>
              <a:gd name="textAreaRight" fmla="*/ 771840 w 977760"/>
              <a:gd name="textAreaTop" fmla="*/ 205920 h 824040"/>
              <a:gd name="textAreaBottom" fmla="*/ 618120 h 82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501" y="5400"/>
                </a:lnTo>
                <a:lnTo>
                  <a:pt x="12501" y="0"/>
                </a:lnTo>
                <a:lnTo>
                  <a:pt x="21600" y="10800"/>
                </a:lnTo>
                <a:lnTo>
                  <a:pt x="12501" y="21600"/>
                </a:lnTo>
                <a:lnTo>
                  <a:pt x="12501" y="16200"/>
                </a:lnTo>
                <a:lnTo>
                  <a:pt x="0" y="16200"/>
                </a:lnTo>
                <a:lnTo>
                  <a:pt x="45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6-конечная звезда 5"/>
          <p:cNvGrpSpPr/>
          <p:nvPr/>
        </p:nvGrpSpPr>
        <p:grpSpPr>
          <a:xfrm>
            <a:off x="311040" y="103320"/>
            <a:ext cx="2810160" cy="2043000"/>
            <a:chOff x="311040" y="103320"/>
            <a:chExt cx="2810160" cy="2043000"/>
          </a:xfrm>
        </p:grpSpPr>
        <p:pic>
          <p:nvPicPr>
            <p:cNvPr id="114" name="6-конечная звезда 5" descr=""/>
            <p:cNvPicPr/>
            <p:nvPr/>
          </p:nvPicPr>
          <p:blipFill>
            <a:blip r:embed="rId3"/>
            <a:stretch/>
          </p:blipFill>
          <p:spPr>
            <a:xfrm>
              <a:off x="311040" y="103320"/>
              <a:ext cx="28101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19000" y="625320"/>
              <a:ext cx="179712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692280"/>
            <a:ext cx="528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виде таблеток это вещество применяют внутрь при пищевых отравлениях. Получают его при прокаливании древесины (березы) без доступа воздуха с последующей обработкой. Назовите вещест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7" descr="6.jpg"/>
          <p:cNvPicPr/>
          <p:nvPr/>
        </p:nvPicPr>
        <p:blipFill>
          <a:blip r:embed="rId1"/>
          <a:stretch/>
        </p:blipFill>
        <p:spPr>
          <a:xfrm>
            <a:off x="6000840" y="2143080"/>
            <a:ext cx="259380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74320"/>
            <a:ext cx="5729400" cy="1143000"/>
          </a:xfrm>
          <a:prstGeom prst="rect">
            <a:avLst/>
          </a:prstGeom>
          <a:gradFill rotWithShape="0">
            <a:gsLst>
              <a:gs pos="0">
                <a:srgbClr val="f6a7a5"/>
              </a:gs>
              <a:gs pos="100000">
                <a:srgbClr val="fde7e6"/>
              </a:gs>
            </a:gsLst>
            <a:lin ang="16200000"/>
          </a:gradFill>
          <a:ln w="9360">
            <a:solidFill>
              <a:srgbClr val="ad444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ктивированный уголь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19" name="Рисунок 3" descr="post-31726-1288167065.jpg"/>
          <p:cNvPicPr/>
          <p:nvPr/>
        </p:nvPicPr>
        <p:blipFill>
          <a:blip r:embed="rId1"/>
          <a:stretch/>
        </p:blipFill>
        <p:spPr>
          <a:xfrm>
            <a:off x="900000" y="2637000"/>
            <a:ext cx="3571920" cy="2679480"/>
          </a:xfrm>
          <a:prstGeom prst="rect">
            <a:avLst/>
          </a:prstGeom>
          <a:ln w="0">
            <a:noFill/>
          </a:ln>
        </p:spPr>
      </p:pic>
      <p:sp>
        <p:nvSpPr>
          <p:cNvPr id="120" name="Стрелка вправо с вырезом 5">
            <a:hlinkClick r:id="rId2" action="ppaction://hlinksldjump"/>
          </p:cNvPr>
          <p:cNvSpPr/>
          <p:nvPr/>
        </p:nvSpPr>
        <p:spPr>
          <a:xfrm rot="16200000">
            <a:off x="8242920" y="5956920"/>
            <a:ext cx="977760" cy="824040"/>
          </a:xfrm>
          <a:custGeom>
            <a:avLst/>
            <a:gdLst>
              <a:gd name="textAreaLeft" fmla="*/ 205920 w 977760"/>
              <a:gd name="textAreaRight" fmla="*/ 771840 w 977760"/>
              <a:gd name="textAreaTop" fmla="*/ 205920 h 824040"/>
              <a:gd name="textAreaBottom" fmla="*/ 618120 h 82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501" y="5400"/>
                </a:lnTo>
                <a:lnTo>
                  <a:pt x="12501" y="0"/>
                </a:lnTo>
                <a:lnTo>
                  <a:pt x="21600" y="10800"/>
                </a:lnTo>
                <a:lnTo>
                  <a:pt x="12501" y="21600"/>
                </a:lnTo>
                <a:lnTo>
                  <a:pt x="12501" y="16200"/>
                </a:lnTo>
                <a:lnTo>
                  <a:pt x="0" y="16200"/>
                </a:lnTo>
                <a:lnTo>
                  <a:pt x="45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6-конечная звезда 6"/>
          <p:cNvGrpSpPr/>
          <p:nvPr/>
        </p:nvGrpSpPr>
        <p:grpSpPr>
          <a:xfrm>
            <a:off x="311040" y="103320"/>
            <a:ext cx="2810160" cy="2043000"/>
            <a:chOff x="311040" y="103320"/>
            <a:chExt cx="2810160" cy="2043000"/>
          </a:xfrm>
        </p:grpSpPr>
        <p:pic>
          <p:nvPicPr>
            <p:cNvPr id="122" name="6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311040" y="103320"/>
              <a:ext cx="28101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19000" y="625320"/>
              <a:ext cx="179712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Рисунок 9" descr="Рисунок4.jpg"/>
          <p:cNvPicPr/>
          <p:nvPr/>
        </p:nvPicPr>
        <p:blipFill>
          <a:blip r:embed="rId4"/>
          <a:stretch/>
        </p:blipFill>
        <p:spPr>
          <a:xfrm>
            <a:off x="4788000" y="1413000"/>
            <a:ext cx="4033800" cy="514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1</cp:lastModifiedBy>
  <dcterms:modified xsi:type="dcterms:W3CDTF">2012-11-09T14:52:32Z</dcterms:modified>
  <cp:revision>11</cp:revision>
  <dc:subject/>
  <dc:title>PowerPoint Presentation</dc:title>
</cp:coreProperties>
</file>