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image24.png" ContentType="image/png"/>
  <Override PartName="/ppt/media/image11.jpeg" ContentType="image/jpeg"/>
  <Override PartName="/ppt/media/image21.gif" ContentType="image/gif"/>
  <Override PartName="/ppt/media/image1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5.gif" ContentType="image/gif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33.gif" ContentType="image/gif"/>
  <Override PartName="/ppt/media/image8.gif" ContentType="image/gif"/>
  <Override PartName="/ppt/media/image34.gif" ContentType="image/gif"/>
  <Override PartName="/ppt/media/image29.jpeg" ContentType="image/jpeg"/>
  <Override PartName="/ppt/media/image25.png" ContentType="image/png"/>
  <Override PartName="/ppt/media/image2.gif" ContentType="image/gif"/>
  <Override PartName="/ppt/media/image12.jpeg" ContentType="image/jpeg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7E59-2F77-45D6-BC75-F634BA4D47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46B2-1C8A-43FE-BBF8-6C6F8F0315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C6D2-22E1-4574-8358-720D58EC17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жиме «Показа» можно делать записи на экране на доске ученику или учителю: правая мышка – «Указатель» - «Фломастер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F44-18DB-4F68-8A5B-3FF92706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8B2-63F2-41B4-B02F-732561C0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FFB-7440-4FE6-AE60-29294FE0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7EB-B015-4DE9-A113-8A1E06A1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CECD-4F65-460C-AEED-67512D48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05FD-5579-4FC6-AE88-8034FE24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6CE5-83A3-4C60-96D4-68B3164E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E598-2D0D-4D99-B719-4620BB37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1311-C557-40CF-8867-E581493A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760B-90A0-4C5B-AAA5-7CC968AF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1EC2-0A0E-47BF-A069-8B83144A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BC7-9145-49EE-9126-0D90AF99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A85A-997A-45D2-BB7F-BA5842EA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C149-2D33-4F0E-8BE8-449931D2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419A-2A49-47D9-B682-47794B3D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727E-8AF1-49FB-A606-21493B61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127D-84E1-45CD-BE19-495EA8E1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F4A-6975-4B23-BFD7-47402E8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D74-D831-48A8-9069-688848A4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89F-C5FC-41A0-ADD2-4F8F9DB3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536-2E06-490A-BBD6-E8C0EAFB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DAE-4459-4D2E-A475-5F46F75D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D5E-CDCD-4A84-B7D7-17F3357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BA1-A83B-43B4-BE71-0563C4F4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84FF-4702-4C82-A154-A3A312D97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7A96-8490-4EAC-B24E-5D93CA06D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15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image" Target="../media/image7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85816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8000" spc="-1" strike="noStrike">
                <a:solidFill>
                  <a:srgbClr val="00b0f0"/>
                </a:solidFill>
                <a:latin typeface="Calibri"/>
              </a:rPr>
              <a:t>Викторина</a:t>
            </a:r>
            <a:br>
              <a:rPr sz="8000"/>
            </a:br>
            <a:r>
              <a:rPr b="1" lang="ru-RU" sz="8000" spc="-1" strike="noStrike">
                <a:solidFill>
                  <a:srgbClr val="d60093"/>
                </a:solidFill>
                <a:latin typeface="Calibri"/>
              </a:rPr>
              <a:t>«Знаете ли вы химию?»</a:t>
            </a:r>
            <a:br>
              <a:rPr sz="8000"/>
            </a:br>
            <a:endParaRPr b="0" lang="en-US" sz="80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90" name="Picture 4" descr="612486171"/>
          <p:cNvPicPr/>
          <p:nvPr/>
        </p:nvPicPr>
        <p:blipFill>
          <a:blip r:embed="rId1"/>
          <a:stretch/>
        </p:blipFill>
        <p:spPr>
          <a:xfrm>
            <a:off x="826920" y="399240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Удельный вес его так ма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Что стал крылатым тот метал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Во все детали входит о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Являясь важной состав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580000" y="4365720"/>
            <a:ext cx="26337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1" lang="ru-RU" sz="6600" spc="-1" strike="noStrike">
                <a:solidFill>
                  <a:srgbClr val="0000cc"/>
                </a:solidFill>
                <a:latin typeface="Calibri"/>
              </a:rPr>
              <a:t>АЛЮМИНИЙ</a:t>
            </a:r>
            <a:endParaRPr b="0" lang="en-US" sz="66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28" name="Picture 4" descr="BD10737_"/>
          <p:cNvPicPr/>
          <p:nvPr/>
        </p:nvPicPr>
        <p:blipFill>
          <a:blip r:embed="rId1"/>
          <a:stretch/>
        </p:blipFill>
        <p:spPr>
          <a:xfrm>
            <a:off x="1979640" y="2060640"/>
            <a:ext cx="5400720" cy="34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ез него мы жить не може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н всегда нам всем помо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н находится везде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 на суше и в в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то же скажет мне из вас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к зовётся этот газ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BD07033_"/>
          <p:cNvPicPr/>
          <p:nvPr/>
        </p:nvPicPr>
        <p:blipFill>
          <a:blip r:embed="rId1"/>
          <a:stretch/>
        </p:blipFill>
        <p:spPr>
          <a:xfrm>
            <a:off x="6877080" y="3573360"/>
            <a:ext cx="121608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КИСЛОРОД</a:t>
            </a:r>
            <a:endParaRPr b="0" lang="en-US" sz="66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32" name="Picture 4" descr="PE07542_"/>
          <p:cNvPicPr/>
          <p:nvPr/>
        </p:nvPicPr>
        <p:blipFill>
          <a:blip r:embed="rId1"/>
          <a:stretch/>
        </p:blipFill>
        <p:spPr>
          <a:xfrm>
            <a:off x="3098880" y="1695600"/>
            <a:ext cx="2946240" cy="34686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>
            <a:hlinkClick r:id="rId2" action="ppaction://hlinksldjump"/>
          </p:cNvPr>
          <p:cNvSpPr/>
          <p:nvPr/>
        </p:nvSpPr>
        <p:spPr>
          <a:xfrm>
            <a:off x="468360" y="5805360"/>
            <a:ext cx="790560" cy="576360"/>
          </a:xfrm>
          <a:prstGeom prst="leftArrow">
            <a:avLst>
              <a:gd name="adj1" fmla="val 50000"/>
              <a:gd name="adj2" fmla="val 342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63272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d60093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d60093"/>
                </a:solidFill>
                <a:latin typeface="Calibri"/>
              </a:rPr>
              <a:t>По названию этого элемента обозначили целую эпоху в развитии человеческого общества</a:t>
            </a:r>
            <a:r>
              <a:rPr b="0" lang="ru-RU" sz="2800" spc="-1" strike="noStrike">
                <a:solidFill>
                  <a:srgbClr val="d60093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As</a:t>
            </a:r>
            <a:endParaRPr b="0" lang="en-US" sz="32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 rot="21411600">
            <a:off x="900000" y="3499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 rot="19071600">
            <a:off x="5840640" y="5168160"/>
            <a:ext cx="19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 rot="629400">
            <a:off x="6518520" y="35730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910520" y="5273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 flipV="1" rot="11398800">
            <a:off x="3374280" y="4993920"/>
            <a:ext cx="23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1187280" y="3284640"/>
            <a:ext cx="45720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9"/>
          <p:cNvSpPr/>
          <p:nvPr/>
        </p:nvSpPr>
        <p:spPr>
          <a:xfrm rot="20843400">
            <a:off x="687240" y="540396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68724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Химический элемент, входящий в состав средства для дезинфекции воды в плавательных бассейнах</a:t>
            </a:r>
            <a:r>
              <a:rPr b="0" lang="ru-RU" sz="44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3860640"/>
            <a:ext cx="7129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1.Se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2.Pb               </a:t>
            </a:r>
            <a:r>
              <a:rPr b="1" lang="en-US" sz="3600" spc="-1" strike="noStrike">
                <a:solidFill>
                  <a:srgbClr val="ff00ff"/>
                </a:solidFill>
                <a:latin typeface="Calibri"/>
              </a:rPr>
              <a:t>3.C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600" spc="-1" strike="noStrike">
                <a:solidFill>
                  <a:srgbClr val="00ff00"/>
                </a:solidFill>
                <a:latin typeface="Calibri"/>
              </a:rPr>
              <a:t>4.P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3600" spc="-1" strike="noStrike">
                <a:solidFill>
                  <a:srgbClr val="ccff33"/>
                </a:solidFill>
                <a:latin typeface="Calibri"/>
              </a:rPr>
              <a:t>5.M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79280" y="33336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504d"/>
                </a:solidFill>
                <a:latin typeface="Monotype Corsiva"/>
              </a:rPr>
              <a:t>Всем известно, что молочнокислые продукты полезны для здоровья. Какой процесс используют для получения кеф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427640" y="3860640"/>
            <a:ext cx="53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Химический процесс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бр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одержимое 7" descr="Рисунок5.png"/>
          <p:cNvPicPr/>
          <p:nvPr/>
        </p:nvPicPr>
        <p:blipFill>
          <a:blip r:embed="rId1"/>
          <a:stretch/>
        </p:blipFill>
        <p:spPr>
          <a:xfrm>
            <a:off x="611280" y="1916280"/>
            <a:ext cx="3117600" cy="44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49212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Monotype Corsiva"/>
              </a:rPr>
              <a:t>Известно, что бром и иод ядовиты.  Почему же невропатолог может посоветовать принимать бром, в эндокринолог заявить, что вам не хватает 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j0282789"/>
          <p:cNvPicPr/>
          <p:nvPr/>
        </p:nvPicPr>
        <p:blipFill>
          <a:blip r:embed="rId1"/>
          <a:stretch/>
        </p:blipFill>
        <p:spPr>
          <a:xfrm>
            <a:off x="324000" y="2852640"/>
            <a:ext cx="3216240" cy="3456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3203640" y="4076640"/>
            <a:ext cx="561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Ядовиты простые вещества. Лекарства содержат соединения этих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190760" cy="1020600"/>
          </a:xfrm>
          <a:prstGeom prst="rect">
            <a:avLst/>
          </a:prstGeom>
          <a:solidFill>
            <a:srgbClr val="9b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d60093"/>
                </a:solidFill>
                <a:latin typeface="Calibri"/>
              </a:rPr>
              <a:t>Пробирка.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25252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8016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6536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5356080" y="486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1030320" cy="2733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1517400" cy="2981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3"/>
          <a:stretch/>
        </p:blipFill>
        <p:spPr>
          <a:xfrm>
            <a:off x="2286000" y="1828800"/>
            <a:ext cx="2438280" cy="207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"/>
          <p:cNvPicPr/>
          <p:nvPr/>
        </p:nvPicPr>
        <p:blipFill>
          <a:blip r:embed="rId4"/>
          <a:stretch/>
        </p:blipFill>
        <p:spPr>
          <a:xfrm>
            <a:off x="5105520" y="3276720"/>
            <a:ext cx="1233360" cy="3181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:\Documents and Settings\роол\Мои документы\Мои рисунки\Рисунки-Химия\Анимация-Химия\j0174005.gif"/>
          <p:cNvPicPr/>
          <p:nvPr/>
        </p:nvPicPr>
        <p:blipFill>
          <a:blip r:embed="rId5"/>
          <a:stretch/>
        </p:blipFill>
        <p:spPr>
          <a:xfrm>
            <a:off x="762120" y="3090960"/>
            <a:ext cx="1600200" cy="3767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111780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40236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634360" y="27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7506000" y="35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27DB-B2AE-428F-9871-8A280457A8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372360" y="981000"/>
            <a:ext cx="2305080" cy="12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990099"/>
                </a:solidFill>
                <a:latin typeface="Arial"/>
              </a:rPr>
              <a:t>N</a:t>
            </a:r>
            <a:r>
              <a:rPr b="0" lang="ru-RU" sz="12000" spc="-1" strike="noStrike">
                <a:solidFill>
                  <a:srgbClr val="990099"/>
                </a:solidFill>
                <a:latin typeface="Arial"/>
              </a:rPr>
              <a:t>а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809880" y="990360"/>
            <a:ext cx="151128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009900"/>
                </a:solidFill>
                <a:latin typeface="Comic Sans MS"/>
              </a:rPr>
              <a:t>Р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755640" y="44280"/>
            <a:ext cx="799308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Arial"/>
              </a:rPr>
              <a:t>Найди родственник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52280" y="2895480"/>
            <a:ext cx="273528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cc"/>
                </a:solidFill>
                <a:latin typeface="Comic Sans MS"/>
              </a:rPr>
              <a:t>Са</a:t>
            </a:r>
            <a:endParaRPr b="0" lang="en-US" sz="12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69" name="Rectangle 6"/>
          <p:cNvSpPr/>
          <p:nvPr/>
        </p:nvSpPr>
        <p:spPr>
          <a:xfrm rot="970200">
            <a:off x="5514840" y="2579400"/>
            <a:ext cx="1224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9900cc"/>
                </a:solidFill>
                <a:latin typeface="Arial"/>
              </a:rPr>
              <a:t>К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 rot="706800">
            <a:off x="3059280" y="2952360"/>
            <a:ext cx="2160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33cc"/>
                </a:solidFill>
                <a:latin typeface="Arial"/>
              </a:rPr>
              <a:t>Ва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 rot="20473800">
            <a:off x="7067160" y="2333160"/>
            <a:ext cx="1927080" cy="12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66ff33"/>
                </a:solidFill>
                <a:latin typeface="Arial"/>
              </a:rPr>
              <a:t>С</a:t>
            </a:r>
            <a:r>
              <a:rPr b="0" lang="en-US" sz="12000" spc="-1" strike="noStrike">
                <a:solidFill>
                  <a:srgbClr val="66ff33"/>
                </a:solidFill>
                <a:latin typeface="Arial"/>
              </a:rPr>
              <a:t>l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 rot="20837400">
            <a:off x="825480" y="1131840"/>
            <a:ext cx="2151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9900"/>
                </a:solidFill>
                <a:latin typeface="Arial"/>
              </a:rPr>
              <a:t>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916360" y="4365720"/>
            <a:ext cx="3960720" cy="73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«Родственни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152280" y="5181480"/>
            <a:ext cx="295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1" lang="ru-RU" sz="6000" spc="-1" strike="noStrike">
                <a:solidFill>
                  <a:srgbClr val="ff33cc"/>
                </a:solidFill>
                <a:latin typeface="Arial"/>
              </a:rPr>
              <a:t>, Р,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C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3733920" y="5181480"/>
            <a:ext cx="50292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Arial"/>
              </a:rPr>
              <a:t>Ва, Са, К, 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1" lang="ru-RU" sz="6000" spc="-1" strike="noStrike">
                <a:solidFill>
                  <a:srgbClr val="0033cc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Calibri"/>
              </a:rPr>
              <a:t>Если добавить по две буквы в начале и в конце слова, обозначающего мероприятие, изображенное на рисунке, то получится название химического элемента VIII группы.</a:t>
            </a:r>
            <a:br>
              <a:rPr sz="2400"/>
            </a:br>
            <a:r>
              <a:rPr b="0" lang="ru-RU" sz="2400" spc="-1" strike="noStrike">
                <a:solidFill>
                  <a:srgbClr val="d60093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Что это за химический элемент?</a:t>
            </a:r>
            <a:endParaRPr b="0" lang="en-US" sz="2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6084720" y="5013360"/>
            <a:ext cx="342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. Бал 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баль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6" descr="Рисунок1.jpg"/>
          <p:cNvPicPr/>
          <p:nvPr/>
        </p:nvPicPr>
        <p:blipFill>
          <a:blip r:embed="rId1"/>
          <a:stretch/>
        </p:blipFill>
        <p:spPr>
          <a:xfrm>
            <a:off x="324000" y="2205000"/>
            <a:ext cx="5832360" cy="40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767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Какой металл придает нашей крови красный цв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659640" y="3789360"/>
            <a:ext cx="143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Картинка 5 из 31870"/>
          <p:cNvPicPr/>
          <p:nvPr/>
        </p:nvPicPr>
        <p:blipFill>
          <a:blip r:embed="rId1"/>
          <a:stretch/>
        </p:blipFill>
        <p:spPr>
          <a:xfrm>
            <a:off x="1042920" y="3141720"/>
            <a:ext cx="3853080" cy="23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88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Какой металл называют металлом консервной бан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05800" y="382896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Содержимое 7" descr="Рисунок6.jpg"/>
          <p:cNvPicPr/>
          <p:nvPr/>
        </p:nvPicPr>
        <p:blipFill>
          <a:blip r:embed="rId1"/>
          <a:stretch/>
        </p:blipFill>
        <p:spPr>
          <a:xfrm>
            <a:off x="1042920" y="2349360"/>
            <a:ext cx="385308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6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6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84360" y="6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н создал первый университет. Он лучше сказать, сам был первым нашим университ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А. С.Пуш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71640" y="2133720"/>
            <a:ext cx="4319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748 г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сформулировал важнейш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закон хими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закон сохранения массы вещества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84360" y="429264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Картинка 8 из 1858"/>
          <p:cNvPicPr/>
          <p:nvPr/>
        </p:nvPicPr>
        <p:blipFill>
          <a:blip r:embed="rId1"/>
          <a:stretch/>
        </p:blipFill>
        <p:spPr>
          <a:xfrm>
            <a:off x="5321160" y="981000"/>
            <a:ext cx="3249720" cy="4176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4934160" y="530064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моносов Михаил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2192040" y="765000"/>
            <a:ext cx="476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 1861 г. создал – теорию стро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990080" y="1844640"/>
            <a:ext cx="51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Систематизировал 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81d95d7818d70a6e47c27b164870bca2"/>
          <p:cNvPicPr/>
          <p:nvPr/>
        </p:nvPicPr>
        <p:blipFill>
          <a:blip r:embed="rId1"/>
          <a:stretch/>
        </p:blipFill>
        <p:spPr>
          <a:xfrm>
            <a:off x="1547640" y="2421000"/>
            <a:ext cx="2824200" cy="36925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9"/>
          <p:cNvSpPr/>
          <p:nvPr/>
        </p:nvSpPr>
        <p:spPr>
          <a:xfrm>
            <a:off x="4501440" y="386064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тлеров Александр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таблица"/>
          <p:cNvPicPr/>
          <p:nvPr/>
        </p:nvPicPr>
        <p:blipFill>
          <a:blip r:embed="rId1"/>
          <a:stretch/>
        </p:blipFill>
        <p:spPr>
          <a:xfrm>
            <a:off x="684360" y="836640"/>
            <a:ext cx="3852720" cy="2889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1042920" y="422100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В 1869 г. открыл основополагающий закон химии – Периодический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Картинка 10 из 1509"/>
          <p:cNvPicPr/>
          <p:nvPr/>
        </p:nvPicPr>
        <p:blipFill>
          <a:blip r:embed="rId2"/>
          <a:stretch/>
        </p:blipFill>
        <p:spPr>
          <a:xfrm>
            <a:off x="4788000" y="981000"/>
            <a:ext cx="3852720" cy="4276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1"/>
          <p:cNvSpPr/>
          <p:nvPr/>
        </p:nvSpPr>
        <p:spPr>
          <a:xfrm>
            <a:off x="4986360" y="532116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делеев Дмитри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843280" y="1187640"/>
            <a:ext cx="547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Без химии ты глух и нем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И шагу не шагнешь порою,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Не вырастишь хороший хлеб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И дом хороший не построишь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Химию любить и не лениться – 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Значит, понятно будет все: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Почему коптит порою примус,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На морозе сушится белье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Жизнь вокруг себя узнаешь,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Разрешишь любой серьезный спор,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Без огня в дороге яйца сваришь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И без спичек разведешь кос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Картинка 2 из 1055"/>
          <p:cNvPicPr/>
          <p:nvPr/>
        </p:nvPicPr>
        <p:blipFill>
          <a:blip r:embed="rId1"/>
          <a:stretch/>
        </p:blipFill>
        <p:spPr>
          <a:xfrm>
            <a:off x="108000" y="333360"/>
            <a:ext cx="2297160" cy="2733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J0076135"/>
          <p:cNvPicPr/>
          <p:nvPr/>
        </p:nvPicPr>
        <p:blipFill>
          <a:blip r:embed="rId2"/>
          <a:stretch/>
        </p:blipFill>
        <p:spPr>
          <a:xfrm>
            <a:off x="6588000" y="333360"/>
            <a:ext cx="2124360" cy="15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anim4_3_2a"/>
          <p:cNvPicPr/>
          <p:nvPr/>
        </p:nvPicPr>
        <p:blipFill>
          <a:blip r:embed="rId3"/>
          <a:stretch/>
        </p:blipFill>
        <p:spPr>
          <a:xfrm>
            <a:off x="4211640" y="5805360"/>
            <a:ext cx="95256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68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едя небольшие изменения в названии животного, изображенного на рисунке, вы получите название химического элемента-галогена, необходимого в организме человека.</a:t>
            </a:r>
            <a:br>
              <a:rPr sz="2800"/>
            </a:br>
            <a:endParaRPr b="0" lang="en-US" sz="28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2714760" y="639612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. Крот – ф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6" descr="Рисунок2.jpg"/>
          <p:cNvPicPr/>
          <p:nvPr/>
        </p:nvPicPr>
        <p:blipFill>
          <a:blip r:embed="rId1"/>
          <a:stretch/>
        </p:blipFill>
        <p:spPr>
          <a:xfrm>
            <a:off x="1258920" y="1413000"/>
            <a:ext cx="6688080" cy="46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с двумя скругленными противолежащими углами 10"/>
          <p:cNvSpPr/>
          <p:nvPr/>
        </p:nvSpPr>
        <p:spPr>
          <a:xfrm>
            <a:off x="539640" y="4581360"/>
            <a:ext cx="7920000" cy="1500480"/>
          </a:xfrm>
          <a:custGeom>
            <a:avLst/>
            <a:gdLst>
              <a:gd name="textAreaLeft" fmla="*/ 73080 w 7920000"/>
              <a:gd name="textAreaRight" fmla="*/ 7846920 w 7920000"/>
              <a:gd name="textAreaTop" fmla="*/ 73080 h 1500480"/>
              <a:gd name="textAreaBottom" fmla="*/ 1427400 h 1500480"/>
            </a:gdLst>
            <a:ahLst/>
            <a:rect l="textAreaLeft" t="textAreaTop" r="textAreaRight" b="textAreaBottom"/>
            <a:pathLst>
              <a:path w="7920038" h="1500188">
                <a:moveTo>
                  <a:pt x="250036" y="0"/>
                </a:moveTo>
                <a:lnTo>
                  <a:pt x="7920038" y="0"/>
                </a:lnTo>
                <a:lnTo>
                  <a:pt x="7920038" y="1250152"/>
                </a:lnTo>
                <a:lnTo>
                  <a:pt x="7920038" y="1250152"/>
                </a:lnTo>
                <a:arcTo wR="250036" hR="250036" stAng="0" swAng="5400000"/>
                <a:lnTo>
                  <a:pt x="0" y="1500188"/>
                </a:lnTo>
                <a:lnTo>
                  <a:pt x="0" y="250036"/>
                </a:lnTo>
                <a:lnTo>
                  <a:pt x="0" y="250036"/>
                </a:lnTo>
                <a:arcTo wR="250036" hR="250036" stAng="10800000" swAng="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с двумя скругленными противолежащими углами 4"/>
          <p:cNvSpPr/>
          <p:nvPr/>
        </p:nvSpPr>
        <p:spPr>
          <a:xfrm>
            <a:off x="684360" y="907920"/>
            <a:ext cx="7920000" cy="237672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гадайте ребус и узнайте название химической пос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ре.jpg"/>
          <p:cNvPicPr/>
          <p:nvPr/>
        </p:nvPicPr>
        <p:blipFill>
          <a:blip r:embed="rId1"/>
          <a:srcRect l="2654" t="29207" r="60181" b="31858"/>
          <a:stretch/>
        </p:blipFill>
        <p:spPr>
          <a:xfrm>
            <a:off x="1476360" y="4869000"/>
            <a:ext cx="1714680" cy="1347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торт.jpg"/>
          <p:cNvPicPr/>
          <p:nvPr/>
        </p:nvPicPr>
        <p:blipFill>
          <a:blip r:embed="rId2"/>
          <a:stretch/>
        </p:blipFill>
        <p:spPr>
          <a:xfrm>
            <a:off x="3286080" y="4765680"/>
            <a:ext cx="1928880" cy="1357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5508720" y="501336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6-конечная звезда 5"/>
          <p:cNvGrpSpPr/>
          <p:nvPr/>
        </p:nvGrpSpPr>
        <p:grpSpPr>
          <a:xfrm>
            <a:off x="311040" y="103320"/>
            <a:ext cx="2810160" cy="2043000"/>
            <a:chOff x="311040" y="103320"/>
            <a:chExt cx="2810160" cy="2043000"/>
          </a:xfrm>
        </p:grpSpPr>
        <p:pic>
          <p:nvPicPr>
            <p:cNvPr id="103" name="6-конечная звезда 5" descr=""/>
            <p:cNvPicPr/>
            <p:nvPr/>
          </p:nvPicPr>
          <p:blipFill>
            <a:blip r:embed="rId1"/>
            <a:stretch/>
          </p:blipFill>
          <p:spPr>
            <a:xfrm>
              <a:off x="311040" y="103320"/>
              <a:ext cx="28101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19000" y="625320"/>
              <a:ext cx="179712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0"/>
          <p:cNvSpPr/>
          <p:nvPr/>
        </p:nvSpPr>
        <p:spPr>
          <a:xfrm>
            <a:off x="3421800" y="558972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ТО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image001"/>
          <p:cNvPicPr/>
          <p:nvPr/>
        </p:nvPicPr>
        <p:blipFill>
          <a:blip r:embed="rId2"/>
          <a:stretch/>
        </p:blipFill>
        <p:spPr>
          <a:xfrm>
            <a:off x="6012000" y="2852640"/>
            <a:ext cx="2225520" cy="256248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9" descr="Рисунок3.jpg"/>
          <p:cNvPicPr/>
          <p:nvPr/>
        </p:nvPicPr>
        <p:blipFill>
          <a:blip r:embed="rId3"/>
          <a:stretch/>
        </p:blipFill>
        <p:spPr>
          <a:xfrm>
            <a:off x="1403280" y="1989000"/>
            <a:ext cx="4392720" cy="33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00720" y="1599840"/>
            <a:ext cx="4000320" cy="3900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свободная сильная кислота всегда есть в желудке здорового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5" descr="желудок.jpg"/>
          <p:cNvPicPr/>
          <p:nvPr/>
        </p:nvPicPr>
        <p:blipFill>
          <a:blip r:embed="rId1"/>
          <a:srcRect l="3751" t="4689" r="38127" b="10937"/>
          <a:stretch/>
        </p:blipFill>
        <p:spPr>
          <a:xfrm>
            <a:off x="857160" y="1643040"/>
            <a:ext cx="32608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1714680"/>
            <a:ext cx="7929360" cy="1643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ляная (хлороводородная) кислота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11" name="Содержимое 4" descr="формула солянки.jpg"/>
          <p:cNvPicPr/>
          <p:nvPr/>
        </p:nvPicPr>
        <p:blipFill>
          <a:blip r:embed="rId1"/>
          <a:stretch/>
        </p:blipFill>
        <p:spPr>
          <a:xfrm>
            <a:off x="3598920" y="3500280"/>
            <a:ext cx="2759040" cy="2570400"/>
          </a:xfrm>
          <a:prstGeom prst="rect">
            <a:avLst/>
          </a:prstGeom>
          <a:ln w="0">
            <a:noFill/>
          </a:ln>
        </p:spPr>
      </p:pic>
      <p:sp>
        <p:nvSpPr>
          <p:cNvPr id="112" name="Стрелка вправо с вырезом 3">
            <a:hlinkClick r:id="rId2" action="ppaction://hlinksldjump"/>
          </p:cNvPr>
          <p:cNvSpPr/>
          <p:nvPr/>
        </p:nvSpPr>
        <p:spPr>
          <a:xfrm rot="16200000">
            <a:off x="8242920" y="5720400"/>
            <a:ext cx="977760" cy="824040"/>
          </a:xfrm>
          <a:custGeom>
            <a:avLst/>
            <a:gdLst>
              <a:gd name="textAreaLeft" fmla="*/ 205920 w 977760"/>
              <a:gd name="textAreaRight" fmla="*/ 771840 w 977760"/>
              <a:gd name="textAreaTop" fmla="*/ 205920 h 824040"/>
              <a:gd name="textAreaBottom" fmla="*/ 618120 h 82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501" y="5400"/>
                </a:lnTo>
                <a:lnTo>
                  <a:pt x="12501" y="0"/>
                </a:lnTo>
                <a:lnTo>
                  <a:pt x="21600" y="10800"/>
                </a:lnTo>
                <a:lnTo>
                  <a:pt x="12501" y="21600"/>
                </a:lnTo>
                <a:lnTo>
                  <a:pt x="12501" y="16200"/>
                </a:lnTo>
                <a:lnTo>
                  <a:pt x="0" y="16200"/>
                </a:lnTo>
                <a:lnTo>
                  <a:pt x="45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6-конечная звезда 5"/>
          <p:cNvGrpSpPr/>
          <p:nvPr/>
        </p:nvGrpSpPr>
        <p:grpSpPr>
          <a:xfrm>
            <a:off x="311040" y="103320"/>
            <a:ext cx="2810160" cy="2043000"/>
            <a:chOff x="311040" y="103320"/>
            <a:chExt cx="2810160" cy="2043000"/>
          </a:xfrm>
        </p:grpSpPr>
        <p:pic>
          <p:nvPicPr>
            <p:cNvPr id="114" name="6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311040" y="103320"/>
              <a:ext cx="28101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9000" y="625320"/>
              <a:ext cx="179712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692280"/>
            <a:ext cx="528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виде таблеток это вещество применяют внутрь при пищевых отравлениях. Получают его при прокаливании древесины (березы) без доступа воздуха с последующей обработкой. Назовите вещест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7" descr="6.jpg"/>
          <p:cNvPicPr/>
          <p:nvPr/>
        </p:nvPicPr>
        <p:blipFill>
          <a:blip r:embed="rId1"/>
          <a:stretch/>
        </p:blipFill>
        <p:spPr>
          <a:xfrm>
            <a:off x="6000840" y="2143080"/>
            <a:ext cx="259380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74320"/>
            <a:ext cx="5729400" cy="1143000"/>
          </a:xfrm>
          <a:prstGeom prst="rect">
            <a:avLst/>
          </a:prstGeom>
          <a:gradFill rotWithShape="0">
            <a:gsLst>
              <a:gs pos="0">
                <a:srgbClr val="f6a7a5"/>
              </a:gs>
              <a:gs pos="100000">
                <a:srgbClr val="fde7e6"/>
              </a:gs>
            </a:gsLst>
            <a:lin ang="16200000"/>
          </a:gradFill>
          <a:ln w="9360">
            <a:solidFill>
              <a:srgbClr val="ad444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тивированный уголь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19" name="Рисунок 3" descr="post-31726-1288167065.jpg"/>
          <p:cNvPicPr/>
          <p:nvPr/>
        </p:nvPicPr>
        <p:blipFill>
          <a:blip r:embed="rId1"/>
          <a:stretch/>
        </p:blipFill>
        <p:spPr>
          <a:xfrm>
            <a:off x="900000" y="2637000"/>
            <a:ext cx="3571920" cy="267948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право с вырезом 5">
            <a:hlinkClick r:id="rId2" action="ppaction://hlinksldjump"/>
          </p:cNvPr>
          <p:cNvSpPr/>
          <p:nvPr/>
        </p:nvSpPr>
        <p:spPr>
          <a:xfrm rot="16200000">
            <a:off x="8242920" y="5956920"/>
            <a:ext cx="977760" cy="824040"/>
          </a:xfrm>
          <a:custGeom>
            <a:avLst/>
            <a:gdLst>
              <a:gd name="textAreaLeft" fmla="*/ 205920 w 977760"/>
              <a:gd name="textAreaRight" fmla="*/ 771840 w 977760"/>
              <a:gd name="textAreaTop" fmla="*/ 205920 h 824040"/>
              <a:gd name="textAreaBottom" fmla="*/ 618120 h 82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501" y="5400"/>
                </a:lnTo>
                <a:lnTo>
                  <a:pt x="12501" y="0"/>
                </a:lnTo>
                <a:lnTo>
                  <a:pt x="21600" y="10800"/>
                </a:lnTo>
                <a:lnTo>
                  <a:pt x="12501" y="21600"/>
                </a:lnTo>
                <a:lnTo>
                  <a:pt x="12501" y="16200"/>
                </a:lnTo>
                <a:lnTo>
                  <a:pt x="0" y="16200"/>
                </a:lnTo>
                <a:lnTo>
                  <a:pt x="45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6-конечная звезда 6"/>
          <p:cNvGrpSpPr/>
          <p:nvPr/>
        </p:nvGrpSpPr>
        <p:grpSpPr>
          <a:xfrm>
            <a:off x="311040" y="103320"/>
            <a:ext cx="2810160" cy="2043000"/>
            <a:chOff x="311040" y="103320"/>
            <a:chExt cx="2810160" cy="2043000"/>
          </a:xfrm>
        </p:grpSpPr>
        <p:pic>
          <p:nvPicPr>
            <p:cNvPr id="122" name="6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311040" y="103320"/>
              <a:ext cx="281016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19000" y="625320"/>
              <a:ext cx="179712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Рисунок 9" descr="Рисунок4.jpg"/>
          <p:cNvPicPr/>
          <p:nvPr/>
        </p:nvPicPr>
        <p:blipFill>
          <a:blip r:embed="rId4"/>
          <a:stretch/>
        </p:blipFill>
        <p:spPr>
          <a:xfrm>
            <a:off x="4788000" y="1413000"/>
            <a:ext cx="4033800" cy="514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1</cp:lastModifiedBy>
  <dcterms:modified xsi:type="dcterms:W3CDTF">2012-11-09T14:52:32Z</dcterms:modified>
  <cp:revision>11</cp:revision>
  <dc:subject/>
  <dc:title>PowerPoint Presentation</dc:title>
</cp:coreProperties>
</file>