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D53-70B1-44D2-9A8B-4BFBB3BA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DC7-BED0-45B4-8436-4D41E679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8D3-897D-49D3-8923-13CED29B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CA1-3A4B-4278-BFF3-23A41A90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DB67-B01C-410B-9816-1B87A583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1A2C-1494-42D1-948D-8576838C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5331-50FE-40CB-BE8E-3AC05379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90B0-37BD-4FD7-99FB-5FCFA355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3234-8F07-43FD-9E90-46649330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CBFF-F19E-4E2A-A5A3-BC4EAEC5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3A52-D5BA-4DB8-845B-DC7EDFE5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636-44DB-4241-8FEC-ED170D56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3B6F-9AE4-449E-A00A-C9FCBFF2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AAC3-9B41-408E-B201-F77772DC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62BB-93ED-4CEC-92E3-14C17F95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2F0E-2188-47CB-891C-06D9AC09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9A0D-2F12-498E-AF89-31062109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CCB-F1D2-44D8-9C66-E9679C32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A8C-0F32-410B-BA81-EB28AF61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D4D-7479-4AC7-941E-1D285339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4DA-82D0-4475-813C-1FD19ED3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799-B076-4462-8F40-4F190521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E0A-1C64-449B-9AFF-F1792898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23A-28C1-45EF-9295-4665E49E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F41C-2EDE-4F71-9CB9-8427D2168E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64DC-014A-4123-96E7-5E16B5A7C2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реугольник Паскаля 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: научиться возводить двучлен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+b)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степ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зведите в степ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3024360" y="1557360"/>
            <a:ext cx="23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2ab+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2771640" y="292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3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+3a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68360" y="486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=(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2ab+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)(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2ab+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)=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2771640" y="4221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468360" y="54468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=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4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+6a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4a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+b</a:t>
            </a:r>
            <a:r>
              <a:rPr b="0" lang="ru-RU" sz="36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еугольник Паска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108000" y="1557000"/>
            <a:ext cx="9252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1476360" y="1568520"/>
            <a:ext cx="7416720" cy="31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2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3       3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4       6        4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5        10         10        5  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еугольник Паска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108000" y="1557000"/>
            <a:ext cx="9252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1476360" y="1568520"/>
            <a:ext cx="7416720" cy="31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2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3       3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4       6        4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5        10         10        5  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еугольник Паска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108000" y="1557000"/>
            <a:ext cx="9252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+b)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92d05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92d05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92d05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800" spc="-1" strike="noStrike" baseline="30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92d05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30000">
                <a:solidFill>
                  <a:srgbClr val="92d050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476360" y="1568520"/>
            <a:ext cx="7416720" cy="31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2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3       3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4       6        4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2f2f2"/>
                </a:solidFill>
                <a:latin typeface="Verdana"/>
              </a:rPr>
              <a:t>1     5        10         10        5        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f0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еугольник Паска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71640" y="1267920"/>
            <a:ext cx="92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+b)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38"/>
          <p:cNvSpPr/>
          <p:nvPr/>
        </p:nvSpPr>
        <p:spPr>
          <a:xfrm>
            <a:off x="0" y="17128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+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6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2195640" y="2205000"/>
            <a:ext cx="4824360" cy="33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1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2   1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3   3   1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4   6   4   1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5   10 10   5   1 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1332000" y="5445000"/>
            <a:ext cx="65530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+   +    +    + 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1   6   15  20  15   6   1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8" name="Прямая со стрелкой 24"/>
          <p:cNvCxnSpPr/>
          <p:nvPr/>
        </p:nvCxnSpPr>
        <p:spPr>
          <a:xfrm>
            <a:off x="2842920" y="5445000"/>
            <a:ext cx="14472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9" name="Прямая со стрелкой 25"/>
          <p:cNvCxnSpPr/>
          <p:nvPr/>
        </p:nvCxnSpPr>
        <p:spPr>
          <a:xfrm>
            <a:off x="3563640" y="5445000"/>
            <a:ext cx="14472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0" name="Прямая со стрелкой 26"/>
          <p:cNvCxnSpPr/>
          <p:nvPr/>
        </p:nvCxnSpPr>
        <p:spPr>
          <a:xfrm>
            <a:off x="4356000" y="5445000"/>
            <a:ext cx="14544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1" name="Прямая со стрелкой 27"/>
          <p:cNvCxnSpPr/>
          <p:nvPr/>
        </p:nvCxnSpPr>
        <p:spPr>
          <a:xfrm>
            <a:off x="5148000" y="5445000"/>
            <a:ext cx="21636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2" name="Прямая со стрелкой 28"/>
          <p:cNvCxnSpPr/>
          <p:nvPr/>
        </p:nvCxnSpPr>
        <p:spPr>
          <a:xfrm>
            <a:off x="5795640" y="5445000"/>
            <a:ext cx="36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3" name="Прямая со стрелкой 29"/>
          <p:cNvCxnSpPr/>
          <p:nvPr/>
        </p:nvCxnSpPr>
        <p:spPr>
          <a:xfrm flipH="1">
            <a:off x="3131640" y="5445000"/>
            <a:ext cx="21672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4" name="Прямая со стрелкой 30"/>
          <p:cNvCxnSpPr/>
          <p:nvPr/>
        </p:nvCxnSpPr>
        <p:spPr>
          <a:xfrm flipH="1">
            <a:off x="3850920" y="5445000"/>
            <a:ext cx="28944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5" name="Прямая со стрелкой 31"/>
          <p:cNvCxnSpPr/>
          <p:nvPr/>
        </p:nvCxnSpPr>
        <p:spPr>
          <a:xfrm flipH="1">
            <a:off x="4715640" y="5445000"/>
            <a:ext cx="14364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6" name="Прямая со стрелкой 32"/>
          <p:cNvCxnSpPr/>
          <p:nvPr/>
        </p:nvCxnSpPr>
        <p:spPr>
          <a:xfrm flipH="1">
            <a:off x="5579640" y="5445000"/>
            <a:ext cx="14472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7" name="Прямая со стрелкой 33"/>
          <p:cNvCxnSpPr/>
          <p:nvPr/>
        </p:nvCxnSpPr>
        <p:spPr>
          <a:xfrm>
            <a:off x="3058920" y="587700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8" name="Прямая со стрелкой 34"/>
          <p:cNvCxnSpPr/>
          <p:nvPr/>
        </p:nvCxnSpPr>
        <p:spPr>
          <a:xfrm>
            <a:off x="3779640" y="587700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9" name="Прямая со стрелкой 35"/>
          <p:cNvCxnSpPr/>
          <p:nvPr/>
        </p:nvCxnSpPr>
        <p:spPr>
          <a:xfrm>
            <a:off x="4642920" y="587700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0" name="Прямая со стрелкой 36"/>
          <p:cNvCxnSpPr/>
          <p:nvPr/>
        </p:nvCxnSpPr>
        <p:spPr>
          <a:xfrm>
            <a:off x="5508360" y="587700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1" name="Прямая со стрелкой 37"/>
          <p:cNvCxnSpPr/>
          <p:nvPr/>
        </p:nvCxnSpPr>
        <p:spPr>
          <a:xfrm>
            <a:off x="6227280" y="587700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2" name="Прямая со стрелкой 48"/>
          <p:cNvCxnSpPr/>
          <p:nvPr/>
        </p:nvCxnSpPr>
        <p:spPr>
          <a:xfrm flipH="1">
            <a:off x="6300000" y="5445000"/>
            <a:ext cx="7236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93" name="TextBox 55"/>
          <p:cNvSpPr/>
          <p:nvPr/>
        </p:nvSpPr>
        <p:spPr>
          <a:xfrm>
            <a:off x="0" y="1712880"/>
            <a:ext cx="85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1      6        15        20         15        6       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f03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лез Паскаль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1623-1662 г.г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176720" cy="3816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960720" cy="4051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9528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ект подготовил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ащиеся 7А класс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редней школы №455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олкунов Сергей, Канунникова Ирина                 и Сагитов Егор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епилова Ольга Петровн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8.02.2012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2:59:07Z</dcterms:created>
  <dc:creator>Толкунова Ирина</dc:creator>
  <dc:description/>
  <dc:language>en-US</dc:language>
  <cp:lastModifiedBy>RWT</cp:lastModifiedBy>
  <dcterms:modified xsi:type="dcterms:W3CDTF">2012-03-12T11:48:53Z</dcterms:modified>
  <cp:revision>38</cp:revision>
  <dc:subject/>
  <dc:title>Треугольник Паскаля.</dc:title>
</cp:coreProperties>
</file>