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7B9-656C-476B-9CD1-6F11FB57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A68-364E-4B34-9072-3CD67A60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A14-BBAF-4280-87D7-42187E21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46F-2F5E-4E91-AED5-410ADB5F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F3B8-0A84-42E3-B18D-496AE12D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5B8-C6DC-4DAF-81ED-7A14BCB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A5F0-591F-4526-8972-3530A55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1BC-47EB-4A62-82C2-121ACB5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363-95AF-4944-B7C1-52473CB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483-2379-436F-8808-2572B23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CA5-40DF-40B9-8470-3C24AF29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EFB-427C-492E-86D4-2D7848ED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9220-B53B-4152-9758-3F74EF0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1581-92E4-41D1-BB24-534884D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5EF9-F4F0-491A-9177-AF6433E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175-9EFF-45AF-947F-2950B830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C54-B892-4F84-8052-6167A7D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749-89DC-4487-BCDE-1E5EFC15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001-BCA1-44F5-B3ED-548B0A1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8DD-E9B0-4475-B914-695668C6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392-8972-4D91-A39A-99323998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02B-9888-4DAA-9240-E849A98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AF3-6060-4964-AB67-C4957AF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A21-43C7-4247-B261-B8BCE08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269E-D3A6-4D49-8EC7-3C33BFECF5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A35B-D1F7-4097-8002-BB13ACC9B2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реугольник Паскаля 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 научиться возводить двучлен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+b)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степ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зведите в степ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3024360" y="155736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771640" y="292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3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+3a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68360" y="486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(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)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=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771640" y="4221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468360" y="54468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4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+6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4a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f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71640" y="1267920"/>
            <a:ext cx="92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+b)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0" y="17128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2195640" y="2205000"/>
            <a:ext cx="482436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2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3   3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4   6   4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5   10 10   5   1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1332000" y="5445000"/>
            <a:ext cx="65530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+   +    +    + 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6   15  20  15   6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8" name="Прямая со стрелкой 24"/>
          <p:cNvCxnSpPr/>
          <p:nvPr/>
        </p:nvCxnSpPr>
        <p:spPr>
          <a:xfrm>
            <a:off x="284292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9" name="Прямая со стрелкой 25"/>
          <p:cNvCxnSpPr/>
          <p:nvPr/>
        </p:nvCxnSpPr>
        <p:spPr>
          <a:xfrm>
            <a:off x="356364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4356000" y="5445000"/>
            <a:ext cx="1454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1" name="Прямая со стрелкой 27"/>
          <p:cNvCxnSpPr/>
          <p:nvPr/>
        </p:nvCxnSpPr>
        <p:spPr>
          <a:xfrm>
            <a:off x="5148000" y="5445000"/>
            <a:ext cx="21636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2" name="Прямая со стрелкой 28"/>
          <p:cNvCxnSpPr/>
          <p:nvPr/>
        </p:nvCxnSpPr>
        <p:spPr>
          <a:xfrm>
            <a:off x="5795640" y="5445000"/>
            <a:ext cx="36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29"/>
          <p:cNvCxnSpPr/>
          <p:nvPr/>
        </p:nvCxnSpPr>
        <p:spPr>
          <a:xfrm flipH="1">
            <a:off x="3131640" y="5445000"/>
            <a:ext cx="216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30"/>
          <p:cNvCxnSpPr/>
          <p:nvPr/>
        </p:nvCxnSpPr>
        <p:spPr>
          <a:xfrm flipH="1">
            <a:off x="3850920" y="5445000"/>
            <a:ext cx="2894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5" name="Прямая со стрелкой 31"/>
          <p:cNvCxnSpPr/>
          <p:nvPr/>
        </p:nvCxnSpPr>
        <p:spPr>
          <a:xfrm flipH="1">
            <a:off x="4715640" y="5445000"/>
            <a:ext cx="1436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6" name="Прямая со стрелкой 32"/>
          <p:cNvCxnSpPr/>
          <p:nvPr/>
        </p:nvCxnSpPr>
        <p:spPr>
          <a:xfrm flipH="1">
            <a:off x="557964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7" name="Прямая со стрелкой 33"/>
          <p:cNvCxnSpPr/>
          <p:nvPr/>
        </p:nvCxnSpPr>
        <p:spPr>
          <a:xfrm>
            <a:off x="305892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8" name="Прямая со стрелкой 34"/>
          <p:cNvCxnSpPr/>
          <p:nvPr/>
        </p:nvCxnSpPr>
        <p:spPr>
          <a:xfrm>
            <a:off x="377964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9" name="Прямая со стрелкой 35"/>
          <p:cNvCxnSpPr/>
          <p:nvPr/>
        </p:nvCxnSpPr>
        <p:spPr>
          <a:xfrm>
            <a:off x="464292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0" name="Прямая со стрелкой 36"/>
          <p:cNvCxnSpPr/>
          <p:nvPr/>
        </p:nvCxnSpPr>
        <p:spPr>
          <a:xfrm>
            <a:off x="550836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1" name="Прямая со стрелкой 37"/>
          <p:cNvCxnSpPr/>
          <p:nvPr/>
        </p:nvCxnSpPr>
        <p:spPr>
          <a:xfrm>
            <a:off x="622728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2" name="Прямая со стрелкой 48"/>
          <p:cNvCxnSpPr/>
          <p:nvPr/>
        </p:nvCxnSpPr>
        <p:spPr>
          <a:xfrm flipH="1">
            <a:off x="6300000" y="5445000"/>
            <a:ext cx="7236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93" name="TextBox 55"/>
          <p:cNvSpPr/>
          <p:nvPr/>
        </p:nvSpPr>
        <p:spPr>
          <a:xfrm>
            <a:off x="0" y="1712880"/>
            <a:ext cx="85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1      6        15        20         15        6       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f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ез Паскаль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1623-1662 г.г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960720" cy="4051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528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ект подготовил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ащиеся 7А класс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едней школы №455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унов Сергей, Канунникова Ирина                 и Сагитов Его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пилова Ольга Петровн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8.02.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2:59:07Z</dcterms:created>
  <dc:creator>Толкунова Ирина</dc:creator>
  <dc:description/>
  <dc:language>en-US</dc:language>
  <cp:lastModifiedBy>RWT</cp:lastModifiedBy>
  <dcterms:modified xsi:type="dcterms:W3CDTF">2012-03-12T11:48:53Z</dcterms:modified>
  <cp:revision>38</cp:revision>
  <dc:subject/>
  <dc:title>Треугольник Паскаля.</dc:title>
</cp:coreProperties>
</file>