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6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277-A002-4D26-B13F-AFD2257C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1E8-08B2-4431-B291-BCD68BB1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A0B-84E4-4874-AAD6-7D4A58C3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DB2-0E0C-49FB-8256-90D3497B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9083-7783-449D-9D0A-703DEEA2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D10C-A8E5-41BB-B0C5-87CAB00E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1680-6255-495B-AC58-4C93835F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D754-968D-44EE-9C15-013319F4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B723-A19C-4E5B-A61E-525A156E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D5CB-9BA9-4D40-977C-A244D72F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AF2B-4A16-4BE9-86DD-D2C6FE7E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4CE-9ECC-4075-8A01-500A8907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2C80-8C74-4E7C-9AF6-119FCA2B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0612-B5FE-4FB0-9B36-9506769E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6EB6-7E3C-46A7-AF5B-EBF26884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2A0F-0C1C-46ED-ADB8-372C71FD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9965-A89E-405E-915A-A12E7FC9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9050-7EC9-4269-9C79-DBFB8ED5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1866-04E4-4128-9400-CAB45A8A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97B4-FEC0-42D1-B764-B6EFD0D9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4083-ADFB-413C-8006-E325072E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18AE-B922-4F2A-B3C6-ED54083D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B46-AFEF-4E70-8F91-DE6D595C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DCFA-C0E5-4697-8BE2-9A9ADCE6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E6D7-9E19-44ED-AA07-963F5C31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8108-977A-4327-8AAD-838178A7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E11E-B690-4CD7-95DB-5AE7C52A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9D9B-A4FE-496E-9716-B6B6844E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2B0B-D2AC-489C-933E-3DAD29B3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AB7E-3530-45AF-8D09-C72F9589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4209D-1F78-4ECF-B340-98F7A328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BBEA-2A87-410F-A7E5-241C83A0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D392-7720-49BE-8E60-9C3BF307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324-4D5A-48B2-B803-44E7433C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A30FF-E7D8-4DEF-8704-E59D5F3D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8BED-6052-4C20-94DA-73EAC58F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F48C-D6CF-44D0-8B62-DB8F7655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A211-DF08-49F0-9114-624B09C0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9A7AB-09EA-4E98-BB26-8EFDF082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D91A-6660-48F6-A0AA-88ADBEA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D8B18-B0F9-42D9-912F-9A6F9E49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87B64-5DD4-4A43-AD94-808CCBDC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E2FD-75FF-4264-B9E2-CC7AFDF2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B39-96A1-4570-823B-6161F12F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549-B49A-4B6A-BDD0-F41AAE8C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5EF-7EF2-4C8C-ACA1-E77B605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08B-2414-4B01-B4D7-931EBE3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339-B33B-4715-AE8D-FDF4DDD8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3BEA-10AA-47A2-A3CB-B1B227F971F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56BA-7834-4288-8CBD-C9424AEB250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1151-8D95-4DDB-B132-7D3836C41B5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2AC1-ED27-4AB0-BFB7-C7EDE50B61D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49320"/>
            <a:ext cx="844236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1920" y="17524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</a:t>
            </a: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Цельпроекта: 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                                                              </a:t>
            </a: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Практическое применение ФСУ,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                                      </a:t>
            </a:r>
            <a:r>
              <a:rPr b="1" i="1" lang="ru-RU" sz="3700" spc="-1" strike="noStrike">
                <a:solidFill>
                  <a:srgbClr val="f2f2f2"/>
                </a:solidFill>
                <a:latin typeface="Verdana"/>
              </a:rPr>
              <a:t>рассказать о числах , как их видел Пифагор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685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Холод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Рисунок 5" descr="107711319.jpg"/>
          <p:cNvPicPr/>
          <p:nvPr/>
        </p:nvPicPr>
        <p:blipFill>
          <a:blip r:embed="rId1"/>
          <a:stretch/>
        </p:blipFill>
        <p:spPr>
          <a:xfrm>
            <a:off x="152280" y="3200400"/>
            <a:ext cx="4267440" cy="3400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14" name="Рисунок 7" descr="look.com.ua-52625.jpg"/>
          <p:cNvPicPr/>
          <p:nvPr/>
        </p:nvPicPr>
        <p:blipFill>
          <a:blip r:embed="rId2"/>
          <a:stretch/>
        </p:blipFill>
        <p:spPr>
          <a:xfrm>
            <a:off x="4572000" y="1143000"/>
            <a:ext cx="4419720" cy="26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15" name="Рисунок 8" descr="look.com.ua-52194.jpg"/>
          <p:cNvPicPr/>
          <p:nvPr/>
        </p:nvPicPr>
        <p:blipFill>
          <a:blip r:embed="rId3"/>
          <a:stretch/>
        </p:blipFill>
        <p:spPr>
          <a:xfrm>
            <a:off x="4572000" y="3886200"/>
            <a:ext cx="4446720" cy="2743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Разу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4" descr="54rtt"/>
          <p:cNvPicPr/>
          <p:nvPr/>
        </p:nvPicPr>
        <p:blipFill>
          <a:blip r:embed="rId1"/>
          <a:stretch/>
        </p:blipFill>
        <p:spPr>
          <a:xfrm>
            <a:off x="1581120" y="1905120"/>
            <a:ext cx="5981760" cy="468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умма чисел 1+2+3+4=10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означала весь МИР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Рисунок 3" descr="19666.jpg"/>
          <p:cNvPicPr/>
          <p:nvPr/>
        </p:nvPicPr>
        <p:blipFill>
          <a:blip r:embed="rId1"/>
          <a:stretch/>
        </p:blipFill>
        <p:spPr>
          <a:xfrm>
            <a:off x="1066680" y="2286000"/>
            <a:ext cx="720720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4"/>
          <p:cNvSpPr/>
          <p:nvPr/>
        </p:nvSpPr>
        <p:spPr>
          <a:xfrm>
            <a:off x="762120" y="571680"/>
            <a:ext cx="7619760" cy="5715000"/>
          </a:xfrm>
          <a:prstGeom prst="pi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ид пятиконечной звезды имеют : цветы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морские звез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imagesCA1VR398"/>
          <p:cNvPicPr/>
          <p:nvPr/>
        </p:nvPicPr>
        <p:blipFill>
          <a:blip r:embed="rId1"/>
          <a:stretch/>
        </p:blipFill>
        <p:spPr>
          <a:xfrm>
            <a:off x="838080" y="2819520"/>
            <a:ext cx="3429000" cy="26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23" name="Picture 5" descr="imagesCAFYDIBO"/>
          <p:cNvPicPr/>
          <p:nvPr/>
        </p:nvPicPr>
        <p:blipFill>
          <a:blip r:embed="rId2"/>
          <a:stretch/>
        </p:blipFill>
        <p:spPr>
          <a:xfrm>
            <a:off x="4800600" y="2819520"/>
            <a:ext cx="3505320" cy="26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0000"/>
                </a:solidFill>
                <a:latin typeface="Verdana"/>
              </a:rPr>
              <a:t>Знак особого отличия - медаль </a:t>
            </a: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Verdana"/>
              </a:rPr>
              <a:t>"Золотая Звезда"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25" name="Picture 2" descr="C:\Users\мвидео\Desktop\zv_grb.jpg"/>
          <p:cNvPicPr/>
          <p:nvPr/>
        </p:nvPicPr>
        <p:blipFill>
          <a:blip r:embed="rId1"/>
          <a:stretch/>
        </p:blipFill>
        <p:spPr>
          <a:xfrm>
            <a:off x="3352680" y="1905120"/>
            <a:ext cx="2301840" cy="452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78000" y="12600"/>
            <a:ext cx="8503920" cy="18036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" descr="Рисунок1.jpg"/>
          <p:cNvPicPr/>
          <p:nvPr/>
        </p:nvPicPr>
        <p:blipFill>
          <a:blip r:embed="rId2"/>
          <a:stretch/>
        </p:blipFill>
        <p:spPr>
          <a:xfrm>
            <a:off x="2362320" y="1905120"/>
            <a:ext cx="4456080" cy="4548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755640" y="-139680"/>
            <a:ext cx="8352000" cy="18032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2438280" y="1828800"/>
            <a:ext cx="4329360" cy="4546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542880" y="128520"/>
            <a:ext cx="8559720" cy="12430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2133720" y="1981080"/>
            <a:ext cx="4682880" cy="4540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835200" y="-60480"/>
            <a:ext cx="8126280" cy="18036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Рисунок4.jpg"/>
          <p:cNvPicPr/>
          <p:nvPr/>
        </p:nvPicPr>
        <p:blipFill>
          <a:blip r:embed="rId2"/>
          <a:stretch/>
        </p:blipFill>
        <p:spPr>
          <a:xfrm>
            <a:off x="2286000" y="1905120"/>
            <a:ext cx="4705200" cy="4539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Да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путь познания не гладок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Но знаем мы со школьных лет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Загадок больше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чем разгадок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И поискам предела нет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На радужной узрел я оболочк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Бегущие квадратики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 ,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ружочки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Вселенной опрокинутой узор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И вспыхнуло в мелькании сквозь строчк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Пылающее имя ПИФАГОР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353880" y="-384120"/>
            <a:ext cx="7205760" cy="15177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3200400" y="1447920"/>
            <a:ext cx="2776680" cy="525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ифагоровы заповеди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Сыщи себе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верного друга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; имея его, ты можешь обойтись без бог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Помните, что лицо лишь тогда бывает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прекрасным</a:t>
            </a: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, когда изображает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изящную душ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320" y="160020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д проектом работали ученицы 7А класс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лкснит Елизавет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менчук Валер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вец Анастас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читель: Лепилова Ольга Петровн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276360" y="3045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ифагор Самосский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(лат.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Pythagoras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570 - 490 гг. до н.э.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ревнегреческий философ и математик, создатель религиозно-философской школы пифагорейцев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Pifagor"/>
          <p:cNvPicPr/>
          <p:nvPr/>
        </p:nvPicPr>
        <p:blipFill>
          <a:blip r:embed="rId1"/>
          <a:stretch/>
        </p:blipFill>
        <p:spPr>
          <a:xfrm>
            <a:off x="115920" y="1122480"/>
            <a:ext cx="3432240" cy="3797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огонь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images"/>
          <p:cNvPicPr/>
          <p:nvPr/>
        </p:nvPicPr>
        <p:blipFill>
          <a:blip r:embed="rId1"/>
          <a:stretch/>
        </p:blipFill>
        <p:spPr>
          <a:xfrm>
            <a:off x="2438280" y="2514600"/>
            <a:ext cx="4267440" cy="342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земля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niu"/>
          <p:cNvPicPr/>
          <p:nvPr/>
        </p:nvPicPr>
        <p:blipFill>
          <a:blip r:embed="rId1"/>
          <a:stretch/>
        </p:blipFill>
        <p:spPr>
          <a:xfrm>
            <a:off x="2476440" y="2666880"/>
            <a:ext cx="4191120" cy="402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7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imagesCAIVA5VC"/>
          <p:cNvPicPr/>
          <p:nvPr/>
        </p:nvPicPr>
        <p:blipFill>
          <a:blip r:embed="rId1"/>
          <a:stretch/>
        </p:blipFill>
        <p:spPr>
          <a:xfrm>
            <a:off x="1371600" y="2666880"/>
            <a:ext cx="6426360" cy="3733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5335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Найдите значения числовых выражений, используя Ф.С.У.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(252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250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:251=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(433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-432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):173=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(43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+2</a:t>
            </a:r>
            <a:r>
              <a:rPr b="0" lang="ru-RU" sz="3500" spc="-1" strike="noStrike" baseline="-2000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43</a:t>
            </a:r>
            <a:r>
              <a:rPr b="0" lang="ru-RU" sz="3500" spc="-1" strike="noStrike" baseline="-2000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17+17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):600=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(113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ru-RU" sz="3500" spc="-1" strike="noStrike" baseline="-2000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113</a:t>
            </a:r>
            <a:r>
              <a:rPr b="0" lang="ru-RU" sz="3500" spc="-1" strike="noStrike" baseline="-2000">
                <a:solidFill>
                  <a:srgbClr val="000000"/>
                </a:solidFill>
                <a:latin typeface="Verdana"/>
              </a:rPr>
              <a:t>*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43+43</a:t>
            </a:r>
            <a:r>
              <a:rPr b="0" lang="ru-RU" sz="3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):700=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1828800" y="1600200"/>
            <a:ext cx="6629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Воздух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Рисунок 3" descr="bf19f48ecfcad13998507-1280.jpg"/>
          <p:cNvPicPr/>
          <p:nvPr/>
        </p:nvPicPr>
        <p:blipFill>
          <a:blip r:embed="rId1"/>
          <a:stretch/>
        </p:blipFill>
        <p:spPr>
          <a:xfrm>
            <a:off x="533520" y="2133720"/>
            <a:ext cx="830556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Любовь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Рисунок 3" descr="17.jpg"/>
          <p:cNvPicPr/>
          <p:nvPr/>
        </p:nvPicPr>
        <p:blipFill>
          <a:blip r:embed="rId1"/>
          <a:stretch/>
        </p:blipFill>
        <p:spPr>
          <a:xfrm>
            <a:off x="1600200" y="20574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WT</cp:lastModifiedBy>
  <dcterms:modified xsi:type="dcterms:W3CDTF">2012-10-17T08:32:38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