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38F-2AD7-4CF3-A498-FBCB9063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C22-07C9-4B01-AC91-37E0528F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718-8C10-484E-ADE0-D3E84E60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ADC-F066-4459-A7AA-CA968FCC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8FE-8B5F-4695-89B8-124C1730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6AE-D660-40FA-B1B8-2298E99C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6A8-E0B7-4A79-B2F8-D949B929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446-9754-48F6-9B39-BC31A707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DCA-6E54-4A13-B8E5-1D895ED8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27A-6215-4682-A77F-B7BE0F41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5BD-F3F3-4456-8ED9-82A1FDF9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ED17-2243-4B9C-86B3-CB49CA7E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077E-360B-400F-9981-F4BCA714448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Calibri"/>
              </a:rPr>
              <a:t>Готовимся к ЕГЭ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2707920"/>
            <a:ext cx="7921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А 4.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eb641b"/>
                </a:solidFill>
                <a:latin typeface="Calibri"/>
              </a:rPr>
              <a:t>Синтаксические нормы (построение предложения с деепричастием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692360" y="33336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едняя общеобразовательная школа № 2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5148360" y="4437000"/>
            <a:ext cx="44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го языка и литературы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кова Н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2124000" y="573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Воскресенск                                      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Выбер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Слушая любимую музыку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каждый раз открываешь в ней что-то нов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время как будто перестаёт существов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всегда обнаруживается что-то новое, не замеченное рань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она никогда не надоед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3"/>
          <p:cNvSpPr/>
          <p:nvPr/>
        </p:nvSpPr>
        <p:spPr>
          <a:xfrm>
            <a:off x="7740720" y="1197000"/>
            <a:ext cx="92844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. Укаж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кончив с отличием политехнический институт,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слезы радости навернулись у него на глаз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мне предстояла успешная карь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мои взгляды устремлены на работу в конструкторском бю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выпускник с дипломом инженера-технолога пришел на известный зав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3"/>
          <p:cNvSpPr/>
          <p:nvPr/>
        </p:nvSpPr>
        <p:spPr>
          <a:xfrm>
            <a:off x="7715160" y="928800"/>
            <a:ext cx="92880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. Укаж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Работая с химическими реактивами в лаборатории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старайтесь быть предельно осторож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мне были понятны многие законы хим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отношения иногда не складыва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надписи на колбах сделаны четким почер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3"/>
          <p:cNvSpPr/>
          <p:nvPr/>
        </p:nvSpPr>
        <p:spPr>
          <a:xfrm>
            <a:off x="7715160" y="1571760"/>
            <a:ext cx="92880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4. Укаж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риступая к написанию сочинения-рассуждения на ЕГЭ,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учитывается авторская пози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внимательно, вдумчиво прочитайте исходный тек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часто проблема формулируется неточно, неправи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комментарий к сформулированной проблеме игнориру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3"/>
          <p:cNvSpPr/>
          <p:nvPr/>
        </p:nvSpPr>
        <p:spPr>
          <a:xfrm>
            <a:off x="7858080" y="1643040"/>
            <a:ext cx="92880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5. Выбер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Читая книги о Леонардо да Винчи и глядя на его картины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думаешь о необыкновенном исключении, которое сделала природа для челове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природа захотела соединить множество талантов в одном челове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вас ничто не должно отвлек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за окном библиотеки быстро стемне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3"/>
          <p:cNvSpPr/>
          <p:nvPr/>
        </p:nvSpPr>
        <p:spPr>
          <a:xfrm>
            <a:off x="7715160" y="1285920"/>
            <a:ext cx="92880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6. Выбер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Увидев в иллюминаторе голубую Землю и совершенно черное небо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возникает желание уберечь её от любых бе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космонавту не было рав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космонавта охватило радостное возбуж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космонавт зачарованно зам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3"/>
          <p:cNvSpPr/>
          <p:nvPr/>
        </p:nvSpPr>
        <p:spPr>
          <a:xfrm>
            <a:off x="7885080" y="2781360"/>
            <a:ext cx="92880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7. Выберите грамматически правильное продолжение предложения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ыиграв чемпионат мира по футболу,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стадион долго ликов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мяч влетел в ворота против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команда вновь начала упорно тренирова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изменяется настроение болельщ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Овал 3"/>
          <p:cNvSpPr/>
          <p:nvPr/>
        </p:nvSpPr>
        <p:spPr>
          <a:xfrm>
            <a:off x="7715160" y="928800"/>
            <a:ext cx="92880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8. Укаж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зложив в сочинении личностную позицию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продуманно аргументируйте её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аргументы были очень интерес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у меня возникла неожиданная иде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сочинение получилось интерес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3"/>
          <p:cNvSpPr/>
          <p:nvPr/>
        </p:nvSpPr>
        <p:spPr>
          <a:xfrm>
            <a:off x="7715160" y="928800"/>
            <a:ext cx="100008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9. Выбер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Слушая песни на стихи Р. Рождественского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испытываешь удивительное чувство душевного очищ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у зрителей текли невольные слёз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остается чувство огромной благодарности поэ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в зрительном зале раздавались громкие аплодисмен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7715160" y="928800"/>
            <a:ext cx="92880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10. Выберите грамматически правильное продолжение предложения.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Решая сложное тестовое задание,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ошибка может появиться из-за невнимательности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нужно быть предельно вниматель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невнимательность привела к ошиб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) у меня возникло чувство неуверен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Овал 3"/>
          <p:cNvSpPr/>
          <p:nvPr/>
        </p:nvSpPr>
        <p:spPr>
          <a:xfrm>
            <a:off x="7715160" y="928800"/>
            <a:ext cx="92880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Задание: Выберите (укажите) грамматически    правильное продолжение предложения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алитический отчёт ФИПИ: «……Резкое падение процента выполнения в отдельных вариантах связано с тем, что школьники плохо знают нормы построения предложений с деепричастными оборотами и не опираются на лингвистические понятия, выбирая нормативный вариант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бирая правильное продолжение предложения, начинающегося с деепричастного оборота, необходимо знать, что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действие, о котором идет речь в обороте, является добавочным по отношению к основному действию, речь о котором идет в сказуемом: Сидя не ветке, белка грызла орехи.(Грызла (к а к?) сидя на ветке.) Поэтому и основное, и добавочное действие должно выполняться одним и тем же лицом (должен быть один исполнитель — подлежащее, выполняющее оба действ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щь в выполнении заданий вам окажут пособ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Б.Г.Меркин, Л.Г.Смирнова. Русский язык. Подготовка к ЕГЭ. Дидактические и справочные материалы. Тесты. М., «Русское слово». 2008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С.А.Павлова. Методика подготовки к ЕГЭ по русскому языку. М., «Просвещение». 200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Г.Т.Егораева, Е.М.Сергеева. Русский язык. Тематические тренировочные задания. Уровень А, В, С. М., «Экзамен». 201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Т.М.Пахнова. Русский язык. Школьнику и абитуриенту. М., «Экзамен». 2006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Успехов </a:t>
            </a: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на </a:t>
            </a: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экзаменах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Улыбающееся лицо 2"/>
          <p:cNvSpPr/>
          <p:nvPr/>
        </p:nvSpPr>
        <p:spPr>
          <a:xfrm>
            <a:off x="3851280" y="4508640"/>
            <a:ext cx="1512720" cy="129672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братимся к примеру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отовясь к приёму гостей, производится тщательная убор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отовясь к приёму гостей, я всегда тщательно убираю в кварти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случае в обоих предложениях есть подлежащее. Но при этом в 1-м предложении подлежащее «уборка» не может выполнять действие, о котором идет речь в деепричастном обороте: «уборка» не может «принимать гостей». Значит, это предложение с грамматической ошиб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2-м предложении подлежащее «я» выполняет и основное действие, заключенное в сказуемом «убираю», и добавочное, заключенное в деепричастии «готовясь». Следовательно, в этом предложении нет грамматической оши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760" y="357120"/>
            <a:ext cx="82296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определенно-личных и неопределенно-личных предложениях подлежащего нет, и сказуемое в них может быть выражено глаголом в одной из трех фор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форме повелительного наклонения: Читая текст, обращайте внимание на способы выражения авторской пози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форме 1-го или 2-го лица изъявительного наклонения: Читая текст, обращаю внимание на способы выражения авторской позиции. (Подлежащее «я» легко восстанавливается и относится как к сказуемому, так и к деепричастию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форме инфинитива в значении повелительного наклонения: Читая текст, следует обратить внимание на способы выражения авторской пози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28584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тите вниман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Деепричастный оборот не может быть употреблен, если действие, выраженное глаголом-сказуемым, и действие, выраженное деепричастием, относятся к разным лицам (нельзя: «Пользуясь калькулятором, расчёт производится быстро и легко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Деепричастный оборот не может быть употреблен в безличном предложении (нельзя: «Гуляя вечером, мне нездоровилось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Если предложение выражено конструкцией со страдательным причастием, деепричастный оборот не может быть употреблен, так как исполнитель действия, выраженного сказуемым, и исполнитель действия, выраженного деепричастием, не совпадают (нельзя: «Доставив необходимые медикаменты, самолет МЧС будет осмотрен техникам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 обороте, выделенном жирным шрифтом, найди деепричастие (отвечает на вопросы: что делая? что сделав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ыдели в каждом варианте осно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сли в предложении нет подлежащего, попытайся восстановить его по сказуемо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Если в предложении невозможно восстановить подлежащее, посмотри, не указан ли производитель действия в косвенном падеж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оотнеси в каждом варианте подлежащее с деепричаст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Тот вариант, где подлежащее выполняет действие и деепричастия, и сказуемого, является прави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Webdings"/>
                <a:ea typeface="Webdings"/>
              </a:rPr>
              <a:t>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збор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 рассчитывая на помощ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меня начали покидать си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ученики самостоятельно справились с зада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самостоятельность очень важ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учебник помогает лучше справиться с трудным материа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м деепричастие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считывая на помощь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я?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считыва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м варианте найдем грамматическую основу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меня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чал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кида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л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еник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равилис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задан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стоятельнос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чень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жн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ебни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могае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учше справиться с трудным материал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сим деепричастие и подлежащие, ответив на вопрос: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может не рассчитывать на помощь?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н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, не самостоятельность и не учебник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льк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могут справиться с заданием и не рассчитывать на помощ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№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11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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тренируй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кажите грамматически правильное продолжение предло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уя поэму Пушкина «Полтава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ритиками отмечалось обилие разговорных выраж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ее «очевидным» недостатком считалось обилие разговорных выраж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овременники упрекали поэта в злоупотреблении «бурлацкими» выражени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она была принята критиками без восторга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кажите грамматически правильное продолжение предло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работу с тексто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у нас завязался сп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остарайтесь внимательно прочитать е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ной был неверно определен разм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учениками часто не учитывается деление на абзац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6:50:05Z</dcterms:created>
  <dc:creator>Инна</dc:creator>
  <dc:description/>
  <dc:language>en-US</dc:language>
  <cp:lastModifiedBy>саня</cp:lastModifiedBy>
  <dcterms:modified xsi:type="dcterms:W3CDTF">2012-11-10T18:56:42Z</dcterms:modified>
  <cp:revision>18</cp:revision>
  <dc:subject/>
  <dc:title>Задание А5</dc:title>
</cp:coreProperties>
</file>