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F9B-8FE6-4293-BDF2-1C4F67E6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57D-DC50-4496-929A-2D812AAF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0FF-1C94-4F7A-A84B-794BDCFB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06E-C37F-41FB-A265-09F36B15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1E651-2914-42C3-92A8-28A61823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F0D52-C451-4D9B-B0E2-2F8B84A8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2F827-BF68-44A3-86DB-A4233CCD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B9038-96AE-4354-A6DC-302D169D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545CE-0CA5-4710-BDA2-E0E92DB6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A9751-719C-4EBB-9B0C-80668665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AD450-4076-458F-9EDB-1370603E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8FE-4D52-4633-850F-89E3F262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85081-500A-4305-96B6-ECB69C9D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A661C-29C8-4549-965C-75E132F5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B812D-B9E9-4B05-B52C-6709A852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72A42-085E-41F2-B065-C8A25D3D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6C1FA-3E79-480C-8FB1-123A07E0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F88-7052-467A-981C-8B755644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C8C-FC25-4304-B35E-48C87890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0A6-B19E-411E-A2FE-C0596504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4C7-70D9-4CA7-868B-391C2801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0DA-193A-40D1-8545-7FA03D49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4FA-2C7B-426E-A7B5-A083D569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5E6-00F6-4B28-8B72-06A9660D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7CA5-4538-49EF-97BB-C89F9D2FA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E32E-6996-420F-A994-1883D71E95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ahoma"/>
              </a:rPr>
              <a:t>Просвещенный абсолютизм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-218880"/>
            <a:ext cx="7632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свещенный абсолютизм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олитика, проводимая во второй половин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ка рядом монархических стран Европы и направленная на устранение остатков средневекового строя в пользу капиталист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дставители просвещённого абсолютизма в Западной Европе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ия Терезия      и Иосиф II в Австр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59b4c00b1d3b"/>
          <p:cNvPicPr/>
          <p:nvPr/>
        </p:nvPicPr>
        <p:blipFill>
          <a:blip r:embed="rId1"/>
          <a:stretch/>
        </p:blipFill>
        <p:spPr>
          <a:xfrm>
            <a:off x="533520" y="2590920"/>
            <a:ext cx="3014640" cy="426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45469116_1245705249_josef2"/>
          <p:cNvPicPr/>
          <p:nvPr/>
        </p:nvPicPr>
        <p:blipFill>
          <a:blip r:embed="rId2"/>
          <a:stretch/>
        </p:blipFill>
        <p:spPr>
          <a:xfrm>
            <a:off x="4876920" y="2590920"/>
            <a:ext cx="3189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став II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Швеции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 Росс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1134512714_tonnel"/>
          <p:cNvPicPr/>
          <p:nvPr/>
        </p:nvPicPr>
        <p:blipFill>
          <a:blip r:embed="rId1"/>
          <a:stretch/>
        </p:blipFill>
        <p:spPr>
          <a:xfrm>
            <a:off x="762120" y="1905120"/>
            <a:ext cx="3489120" cy="495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50400880_Ekaterina_Parad"/>
          <p:cNvPicPr/>
          <p:nvPr/>
        </p:nvPicPr>
        <p:blipFill>
          <a:blip r:embed="rId2"/>
          <a:stretch/>
        </p:blipFill>
        <p:spPr>
          <a:xfrm>
            <a:off x="4648320" y="1905120"/>
            <a:ext cx="3504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Фридрих </a:t>
            </a:r>
            <a:r>
              <a:rPr b="1" i="1" lang="en-US" sz="5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74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Король - филос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RAE-15"/>
          <p:cNvPicPr/>
          <p:nvPr/>
        </p:nvPicPr>
        <p:blipFill>
          <a:blip r:embed="rId1"/>
          <a:stretch/>
        </p:blipFill>
        <p:spPr>
          <a:xfrm>
            <a:off x="2438280" y="2057400"/>
            <a:ext cx="411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льте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534160" y="6019560"/>
            <a:ext cx="1522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531px-Voltaire"/>
          <p:cNvPicPr/>
          <p:nvPr/>
        </p:nvPicPr>
        <p:blipFill>
          <a:blip r:embed="rId1"/>
          <a:stretch/>
        </p:blipFill>
        <p:spPr>
          <a:xfrm>
            <a:off x="1981080" y="1600200"/>
            <a:ext cx="4859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нцерт Фридриха Великого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Adolph_Menzel_-_Flötenkonzert_Friedrichs_des_Großen_in_Sanssouci_-_Google_Art_Project"/>
          <p:cNvPicPr/>
          <p:nvPr/>
        </p:nvPicPr>
        <p:blipFill>
          <a:blip r:embed="rId1"/>
          <a:stretch/>
        </p:blipFill>
        <p:spPr>
          <a:xfrm>
            <a:off x="0" y="1371600"/>
            <a:ext cx="922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ерлинская академия наук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germanskaya_akademiya"/>
          <p:cNvPicPr/>
          <p:nvPr/>
        </p:nvPicPr>
        <p:blipFill>
          <a:blip r:embed="rId1"/>
          <a:stretch/>
        </p:blipFill>
        <p:spPr>
          <a:xfrm>
            <a:off x="0" y="1905120"/>
            <a:ext cx="5029200" cy="464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Adolph-von-Menzel-Tafelrunde"/>
          <p:cNvPicPr/>
          <p:nvPr/>
        </p:nvPicPr>
        <p:blipFill>
          <a:blip r:embed="rId2"/>
          <a:stretch/>
        </p:blipFill>
        <p:spPr>
          <a:xfrm>
            <a:off x="4952880" y="1905120"/>
            <a:ext cx="4191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ворец  Сан-Су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71713135_25073ef86363"/>
          <p:cNvPicPr/>
          <p:nvPr/>
        </p:nvPicPr>
        <p:blipFill>
          <a:blip r:embed="rId1"/>
          <a:stretch/>
        </p:blipFill>
        <p:spPr>
          <a:xfrm>
            <a:off x="380880" y="1428840"/>
            <a:ext cx="82296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</dc:creator>
  <dc:description/>
  <dc:language>en-US</dc:language>
  <cp:lastModifiedBy>Наумец Даниил</cp:lastModifiedBy>
  <dcterms:modified xsi:type="dcterms:W3CDTF">2011-09-25T08:59:2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