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5D9-04AB-40DF-9974-2A700BC4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1B0-0AE4-40E2-9914-7EA1CD2E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DF1-A96D-4B66-97A1-824F47AD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934-839E-4E59-8A2D-4840220C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F68BA-773B-4ED0-9FDA-05997EE0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CC11A-7195-4703-8BA1-7E14561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6B93-7D5A-41E5-99C6-A1645DA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0D8DE-51C3-4348-9FC6-F1858E0A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BCD5-F4BC-4B1C-9FCA-EAE9078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6F694-858C-475C-B50E-2F01B31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0C6D3-57FE-43F2-8082-3FD36B7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5A5-A8D3-42F1-92E6-F8DBF4B4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4B924-4AEC-4122-83BE-B3665A5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73711-489B-472A-9517-8F10293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2912-69F8-4F79-9CF7-5480BB9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9A0D3-8256-414A-90A3-184BF9F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9A7C5-04B1-4781-8BAE-BF70A3C6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956-9D16-4316-A490-D4C8970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FDA-1E9A-40F8-BF33-43BFA6A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0EC-F574-43ED-B46F-DB82E30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DB9-207E-41EB-AD87-6ABAE5F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B87-CBD2-4B56-AAB2-1EB4129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25A-F2A4-4D70-BFFD-AD6475B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1F7-C8CB-4ADB-A5F9-E1A845F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201-947A-4810-AAAB-117F8E6F2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271-7C76-4ADF-AEA1-F850FAF510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Просвещенный абсолютиз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-2188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свещенный абсолютизм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литика, проводимая во второй половин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 рядом монархических стран Европы и направленная на устранение остатков средневекового строя в пользу капиталист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ставители просвещённого абсолютизма в Западной Европе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я Терезия      и Иосиф II в Авст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59b4c00b1d3b"/>
          <p:cNvPicPr/>
          <p:nvPr/>
        </p:nvPicPr>
        <p:blipFill>
          <a:blip r:embed="rId1"/>
          <a:stretch/>
        </p:blipFill>
        <p:spPr>
          <a:xfrm>
            <a:off x="533520" y="2590920"/>
            <a:ext cx="3014640" cy="42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469116_1245705249_josef2"/>
          <p:cNvPicPr/>
          <p:nvPr/>
        </p:nvPicPr>
        <p:blipFill>
          <a:blip r:embed="rId2"/>
          <a:stretch/>
        </p:blipFill>
        <p:spPr>
          <a:xfrm>
            <a:off x="4876920" y="2590920"/>
            <a:ext cx="318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став II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веции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Росс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1134512714_tonnel"/>
          <p:cNvPicPr/>
          <p:nvPr/>
        </p:nvPicPr>
        <p:blipFill>
          <a:blip r:embed="rId1"/>
          <a:stretch/>
        </p:blipFill>
        <p:spPr>
          <a:xfrm>
            <a:off x="762120" y="1905120"/>
            <a:ext cx="3489120" cy="495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50400880_Ekaterina_Parad"/>
          <p:cNvPicPr/>
          <p:nvPr/>
        </p:nvPicPr>
        <p:blipFill>
          <a:blip r:embed="rId2"/>
          <a:stretch/>
        </p:blipFill>
        <p:spPr>
          <a:xfrm>
            <a:off x="4648320" y="1905120"/>
            <a:ext cx="3504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Фридрих </a:t>
            </a: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Король - фило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RAE-15"/>
          <p:cNvPicPr/>
          <p:nvPr/>
        </p:nvPicPr>
        <p:blipFill>
          <a:blip r:embed="rId1"/>
          <a:stretch/>
        </p:blipFill>
        <p:spPr>
          <a:xfrm>
            <a:off x="2438280" y="2057400"/>
            <a:ext cx="411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ьте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534160" y="601956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531px-Voltaire"/>
          <p:cNvPicPr/>
          <p:nvPr/>
        </p:nvPicPr>
        <p:blipFill>
          <a:blip r:embed="rId1"/>
          <a:stretch/>
        </p:blipFill>
        <p:spPr>
          <a:xfrm>
            <a:off x="1981080" y="1600200"/>
            <a:ext cx="4859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церт Фридриха Великог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dolph_Menzel_-_Flötenkonzert_Friedrichs_des_Großen_in_Sanssouci_-_Google_Art_Project"/>
          <p:cNvPicPr/>
          <p:nvPr/>
        </p:nvPicPr>
        <p:blipFill>
          <a:blip r:embed="rId1"/>
          <a:stretch/>
        </p:blipFill>
        <p:spPr>
          <a:xfrm>
            <a:off x="0" y="1371600"/>
            <a:ext cx="922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рлинская академия нау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germanskaya_akademiya"/>
          <p:cNvPicPr/>
          <p:nvPr/>
        </p:nvPicPr>
        <p:blipFill>
          <a:blip r:embed="rId1"/>
          <a:stretch/>
        </p:blipFill>
        <p:spPr>
          <a:xfrm>
            <a:off x="0" y="1905120"/>
            <a:ext cx="5029200" cy="46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Adolph-von-Menzel-Tafelrunde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ворец  Сан-С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71713135_25073ef86363"/>
          <p:cNvPicPr/>
          <p:nvPr/>
        </p:nvPicPr>
        <p:blipFill>
          <a:blip r:embed="rId1"/>
          <a:stretch/>
        </p:blipFill>
        <p:spPr>
          <a:xfrm>
            <a:off x="380880" y="1428840"/>
            <a:ext cx="8229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</dc:creator>
  <dc:description/>
  <dc:language>en-US</dc:language>
  <cp:lastModifiedBy>Наумец Даниил</cp:lastModifiedBy>
  <dcterms:modified xsi:type="dcterms:W3CDTF">2011-09-25T08:59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