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1C6-26EF-4570-8E4A-68068CAA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1AE-8D7C-4551-A4E2-1188D065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7F3-16F7-428B-854B-E94CB896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FA3-49B5-4832-9144-F733A479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8430-E654-4E40-9F1B-FDEA1B4B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9520-B840-4133-9CD8-78D221DA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F9A6-6618-425B-85C7-20A9EED7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B42F-DF28-42B5-9CF0-4F34E8B0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DC8F-4AE8-4391-A5BC-4BDD92B7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F0B3-B1B7-41D2-B129-25099B04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E1FB-5434-45C4-A216-5630E8ED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E81-40C9-4792-9253-A84E784E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AC5F-209F-4D4B-ABBE-8E5C62BC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9789-0119-4D26-935A-4B782E9B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ABE3-9CA8-4335-9B6A-FAE9AAA5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BA78-2B58-4D0F-92E1-33590D15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4D00-6C28-48DF-B41A-403A94AC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150-6D14-463C-84AC-07A8BBFB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328-5AEA-4059-BC35-AE2D2548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F18-C9A5-4457-9958-C5501A2B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0FA-4CA9-4BC6-BBFF-58F424CE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14F-52C9-4FD4-A6BB-315EB473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747-A7CA-41EA-931C-D4FFF760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E57-98B0-4E32-8AE3-3FFA220C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EE5A-5AAD-4049-8D7E-CC079ADC5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59B4-1EA3-4B47-9E8C-161180F0F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 Black"/>
              </a:rPr>
              <a:t>Agniya</a:t>
            </a: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8000" spc="-1" strike="noStrike">
                <a:solidFill>
                  <a:srgbClr val="ff0000"/>
                </a:solidFill>
                <a:latin typeface="Arial Black"/>
              </a:rPr>
              <a:t>Barto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198900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90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198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My Hors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9752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My Billy Goat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63640" y="1343160"/>
            <a:ext cx="6048360" cy="54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76720" y="260280"/>
            <a:ext cx="56880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anks for your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ttentio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2520" y="981000"/>
            <a:ext cx="3143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608720" cy="4608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775040" cy="4775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rot="20067600">
            <a:off x="614160" y="3292560"/>
            <a:ext cx="2147760" cy="3547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944880" y="0"/>
            <a:ext cx="2127240" cy="278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020000" y="0"/>
            <a:ext cx="19047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Teddy 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5977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unny 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616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The Wooden Bull Calf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5904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The Elephant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35280" y="1424160"/>
            <a:ext cx="604980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The Lorry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977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The Ball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1370160"/>
            <a:ext cx="6553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The Aeroplan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696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4:54:33Z</dcterms:created>
  <dc:creator>Алексей</dc:creator>
  <dc:description/>
  <dc:language>en-US</dc:language>
  <cp:lastModifiedBy>Loner-XP</cp:lastModifiedBy>
  <dcterms:modified xsi:type="dcterms:W3CDTF">2012-11-10T15:08:37Z</dcterms:modified>
  <cp:revision>7</cp:revision>
  <dc:subject/>
  <dc:title>Agniya Barto</dc:title>
</cp:coreProperties>
</file>