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B23-8E4D-4B33-B2F5-EF5FC9B4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C91-F155-4FA3-AE23-CF926775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6D9A-F196-4624-A17A-B1ABC9F1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448-02CD-4181-8B0B-F3D45AF2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BFF0-8567-40E0-9807-C805A60F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6E8A-448F-4A84-BE2F-E946D529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A3CB-C57F-4234-AE54-C5BBCA66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9559-D97C-404C-8183-893C0914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C626-3B90-4C09-AD6C-DF5F41F1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F9A5-D36F-4560-AD54-A105C648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3877-4493-4381-B11C-0F5F4AB7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817-A368-486A-99D3-4CE40B8B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53A8-2104-47D5-9C50-2C2B4874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B023-C6DE-4D69-B96A-A464A656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5C97-862D-4B23-81E7-B6A6DED0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1FE0-D29A-40E3-8BBB-47F9B753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CE36-B4DD-41C1-A6B9-E649E1A5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39B-4C2E-4B4A-9204-D9E026F6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9F8-8B64-4B23-A82D-E34764CB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BB0-4372-41D9-B208-153C19C4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30A-31EB-4CCA-AC0A-177F74F3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C73-FA7F-43E7-86E0-82EE32C7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400B-76F6-43A1-A2FA-DF7BBC7A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B71-3D34-4788-926E-D7823ADE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A14E-269E-4E27-AB35-8B17A47D2F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317A-4A65-4D9D-8DA7-1612854EEB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 Black"/>
              </a:rPr>
              <a:t>Agniya</a:t>
            </a: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8000" spc="-1" strike="noStrike">
                <a:solidFill>
                  <a:srgbClr val="ff0000"/>
                </a:solidFill>
                <a:latin typeface="Arial Black"/>
              </a:rPr>
              <a:t>Barto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90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198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92720" y="24922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My Horse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9752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My Billy Goat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63640" y="1343160"/>
            <a:ext cx="6048360" cy="54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76720" y="260280"/>
            <a:ext cx="568800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anks for your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attention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2520" y="981000"/>
            <a:ext cx="3143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608720" cy="4608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775040" cy="4775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 rot="20067600">
            <a:off x="614160" y="3292560"/>
            <a:ext cx="2147760" cy="3547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944880" y="0"/>
            <a:ext cx="2127240" cy="2781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020000" y="0"/>
            <a:ext cx="19047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Teddy 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5977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unny 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616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The Wooden Bull Calf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59040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The Elephant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35280" y="1424160"/>
            <a:ext cx="604980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The Lorry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977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The Ball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32000" y="1370160"/>
            <a:ext cx="65530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The Aeroplane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696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4:54:33Z</dcterms:created>
  <dc:creator>Алексей</dc:creator>
  <dc:description/>
  <dc:language>en-US</dc:language>
  <cp:lastModifiedBy>Loner-XP</cp:lastModifiedBy>
  <dcterms:modified xsi:type="dcterms:W3CDTF">2012-11-10T15:08:37Z</dcterms:modified>
  <cp:revision>7</cp:revision>
  <dc:subject/>
  <dc:title>Agniya Barto</dc:title>
</cp:coreProperties>
</file>