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C4D-E786-440A-A549-FFF6002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C5C-8A18-4CC4-B2D3-F5A688F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D23-AC20-43A1-8ED0-E03AF83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F13-0F4B-451B-8306-7684EDE7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6C4-F03A-48F4-9ADC-9A92E9F7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020-91F7-4FC0-A674-B0C29A04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989-4297-4BA4-A227-35F0D36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B8D-CD57-411D-AFBA-6696D06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1BC-C770-4B54-8152-2111B80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0B2-9847-4D5D-9A6A-0DE84FD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CE5-1296-4049-B4E4-A36B59D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8DA-3FCF-4DAC-98FE-2A7C9F1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70C4-BE4D-4850-89FA-088205322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ег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России 19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Циркуляр о кухаркиных детях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7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е приема детей низших сословий и нерусск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а за уч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 не заслуг а патриотизма уче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на автономии универси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иление роли инсп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мгу"/>
          <p:cNvPicPr/>
          <p:nvPr/>
        </p:nvPicPr>
        <p:blipFill>
          <a:blip r:embed="rId1"/>
          <a:stretch/>
        </p:blipFill>
        <p:spPr>
          <a:xfrm>
            <a:off x="395280" y="1628640"/>
            <a:ext cx="4140360" cy="46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9-1890г. г.земская контрре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на крестьянской администрации дворян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аф и арест без суда для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на мировых судов и посре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ловный принцип вы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имущественного цен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на постановлений земств губерн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дебная контрреформа 1887-1894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ые заседания по политическим де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ъятие некоторых дел из суда присяж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имущественного и образователь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за для присяжных засе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дурново ив"/>
          <p:cNvPicPr/>
          <p:nvPr/>
        </p:nvPicPr>
        <p:blipFill>
          <a:blip r:embed="rId1"/>
          <a:stretch/>
        </p:blipFill>
        <p:spPr>
          <a:xfrm>
            <a:off x="4643280" y="1557360"/>
            <a:ext cx="2329200" cy="259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Picture 7" descr="дурново петр"/>
          <p:cNvPicPr/>
          <p:nvPr/>
        </p:nvPicPr>
        <p:blipFill>
          <a:blip r:embed="rId2"/>
          <a:stretch/>
        </p:blipFill>
        <p:spPr>
          <a:xfrm>
            <a:off x="6516720" y="4005360"/>
            <a:ext cx="2328840" cy="259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4" name="WordArt 8"/>
          <p:cNvSpPr txBox="1"/>
          <p:nvPr/>
        </p:nvSpPr>
        <p:spPr>
          <a:xfrm>
            <a:off x="1619280" y="6093000"/>
            <a:ext cx="44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 и П. Дурн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з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1882г. «Временные правила о печа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прет изданий вредного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граничение круга тем для осв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прет книг, пь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истка библио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катков мих"/>
          <p:cNvPicPr/>
          <p:nvPr/>
        </p:nvPicPr>
        <p:blipFill>
          <a:blip r:embed="rId1"/>
          <a:stretch/>
        </p:blipFill>
        <p:spPr>
          <a:xfrm>
            <a:off x="4643280" y="1341360"/>
            <a:ext cx="4205520" cy="46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9" name="WordArt 7"/>
          <p:cNvSpPr txBox="1"/>
          <p:nvPr/>
        </p:nvSpPr>
        <p:spPr>
          <a:xfrm>
            <a:off x="1187280" y="6093000"/>
            <a:ext cx="741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Е.Феоктистов и М. Катков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ка при Александр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нижение выкупных плат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тмена подушной под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онтроль над железными дор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пошлин на им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величение ввоза иностранных капит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циз на керосин, спички,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1893г. доходы России превысили расходы на 100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витте с"/>
          <p:cNvPicPr/>
          <p:nvPr/>
        </p:nvPicPr>
        <p:blipFill>
          <a:blip r:embed="rId1"/>
          <a:srcRect l="8941" t="0" r="12193" b="0"/>
          <a:stretch/>
        </p:blipFill>
        <p:spPr>
          <a:xfrm>
            <a:off x="468360" y="1197000"/>
            <a:ext cx="1940040" cy="27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Picture 7" descr="бунге ник"/>
          <p:cNvPicPr/>
          <p:nvPr/>
        </p:nvPicPr>
        <p:blipFill>
          <a:blip r:embed="rId2"/>
          <a:stretch/>
        </p:blipFill>
        <p:spPr>
          <a:xfrm>
            <a:off x="1979640" y="3933720"/>
            <a:ext cx="2395440" cy="2665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4" name="WordArt 8"/>
          <p:cNvSpPr txBox="1"/>
          <p:nvPr/>
        </p:nvSpPr>
        <p:spPr>
          <a:xfrm>
            <a:off x="2556000" y="1773360"/>
            <a:ext cx="169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.Вит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250920" y="5373720"/>
            <a:ext cx="166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.Бун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чем заслуги Александр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документом стр. 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авторитета России на международной ар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вел войн, разоряющих страну и наро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александр 3"/>
          <p:cNvPicPr/>
          <p:nvPr/>
        </p:nvPicPr>
        <p:blipFill>
          <a:blip r:embed="rId1"/>
          <a:stretch/>
        </p:blipFill>
        <p:spPr>
          <a:xfrm>
            <a:off x="324000" y="2565360"/>
            <a:ext cx="3493800" cy="3888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ександр правил вместо умершего бра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Министром внутренних дел ст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бщая направленность всего правления Александра может быть определена к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Александр получил прозвище «миротворец», за то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Карательная организация при Александре, следящая за деятельностью революционеров, назы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2060640"/>
            <a:ext cx="30974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я Александр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372360" y="249228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419640" y="3573360"/>
            <a:ext cx="20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771640" y="4437000"/>
            <a:ext cx="288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ел в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940360" y="5589720"/>
            <a:ext cx="27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ященная друж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1042920" y="6093000"/>
            <a:ext cx="461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539640" y="692280"/>
            <a:ext cx="828036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циальное происхождение наро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определить к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Теоретиком бунтарей бы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родная воля образовалась в………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Первое покушение на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верши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о совершено ….поку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На месте гибели царя был возведен храм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643280" y="2205000"/>
            <a:ext cx="280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чи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5508720" y="2708280"/>
            <a:ext cx="187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227640" y="3284640"/>
            <a:ext cx="8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843280" y="4149720"/>
            <a:ext cx="22334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Карак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6948360" y="4797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3564000" y="6093000"/>
            <a:ext cx="4537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а – на- Крови , г. Санкт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03.1845-01.11.1894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сын Александ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 лет после смерти старшего брата становиться наследником престола. Участник русско-турецкой войны. Создатель русского исторического общества.Трудолюб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александр 3"/>
          <p:cNvPicPr/>
          <p:nvPr/>
        </p:nvPicPr>
        <p:blipFill>
          <a:blip r:embed="rId1"/>
          <a:stretch/>
        </p:blipFill>
        <p:spPr>
          <a:xfrm>
            <a:off x="324000" y="1341360"/>
            <a:ext cx="414000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александр 3"/>
          <p:cNvPicPr/>
          <p:nvPr/>
        </p:nvPicPr>
        <p:blipFill>
          <a:blip r:embed="rId2"/>
          <a:stretch/>
        </p:blipFill>
        <p:spPr>
          <a:xfrm>
            <a:off x="324000" y="1341360"/>
            <a:ext cx="4140000" cy="46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победоносцев конст"/>
          <p:cNvPicPr/>
          <p:nvPr/>
        </p:nvPicPr>
        <p:blipFill>
          <a:blip r:embed="rId1"/>
          <a:stretch/>
        </p:blipFill>
        <p:spPr>
          <a:xfrm>
            <a:off x="468360" y="1628640"/>
            <a:ext cx="2587680" cy="288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соловьев сер"/>
          <p:cNvPicPr/>
          <p:nvPr/>
        </p:nvPicPr>
        <p:blipFill>
          <a:blip r:embed="rId2"/>
          <a:stretch/>
        </p:blipFill>
        <p:spPr>
          <a:xfrm>
            <a:off x="320364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9" name="Picture 6" descr="драгомиров"/>
          <p:cNvPicPr/>
          <p:nvPr/>
        </p:nvPicPr>
        <p:blipFill>
          <a:blip r:embed="rId3"/>
          <a:stretch/>
        </p:blipFill>
        <p:spPr>
          <a:xfrm>
            <a:off x="608472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0" name="WordArt 7"/>
          <p:cNvSpPr txBox="1"/>
          <p:nvPr/>
        </p:nvSpPr>
        <p:spPr>
          <a:xfrm>
            <a:off x="250920" y="4581360"/>
            <a:ext cx="3181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.Победонос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3708360" y="4941720"/>
            <a:ext cx="2238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.Солов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5940360" y="4508640"/>
            <a:ext cx="28767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Драгоми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1042920" y="5734080"/>
            <a:ext cx="78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о   история  военное д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4" name="Picture 11" descr="победоносцев конст"/>
          <p:cNvPicPr/>
          <p:nvPr/>
        </p:nvPicPr>
        <p:blipFill>
          <a:blip r:embed="rId4"/>
          <a:stretch/>
        </p:blipFill>
        <p:spPr>
          <a:xfrm>
            <a:off x="46836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апреля 188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фест о незыблемости самодерж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 никогда не допущу ограничений самодержавной власти, которую нахожу нужной и полезной для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кибальчич ник"/>
          <p:cNvPicPr/>
          <p:nvPr/>
        </p:nvPicPr>
        <p:blipFill>
          <a:blip r:embed="rId1"/>
          <a:stretch/>
        </p:blipFill>
        <p:spPr>
          <a:xfrm>
            <a:off x="250920" y="3068640"/>
            <a:ext cx="1422360" cy="158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Picture 7" descr="желябов анд"/>
          <p:cNvPicPr/>
          <p:nvPr/>
        </p:nvPicPr>
        <p:blipFill>
          <a:blip r:embed="rId2"/>
          <a:stretch/>
        </p:blipFill>
        <p:spPr>
          <a:xfrm>
            <a:off x="2627280" y="3068640"/>
            <a:ext cx="135900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8" descr="перовская соф"/>
          <p:cNvPicPr/>
          <p:nvPr/>
        </p:nvPicPr>
        <p:blipFill>
          <a:blip r:embed="rId3"/>
          <a:stretch/>
        </p:blipFill>
        <p:spPr>
          <a:xfrm>
            <a:off x="395280" y="4941720"/>
            <a:ext cx="1487520" cy="16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михайлов ал"/>
          <p:cNvPicPr/>
          <p:nvPr/>
        </p:nvPicPr>
        <p:blipFill>
          <a:blip r:embed="rId4"/>
          <a:stretch/>
        </p:blipFill>
        <p:spPr>
          <a:xfrm>
            <a:off x="2556000" y="4869000"/>
            <a:ext cx="1471320" cy="163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WordArt 11"/>
          <p:cNvSpPr txBox="1"/>
          <p:nvPr/>
        </p:nvSpPr>
        <p:spPr>
          <a:xfrm>
            <a:off x="324000" y="1628640"/>
            <a:ext cx="4619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апреля 1881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знь народоволь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став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лорис-меликов"/>
          <p:cNvPicPr/>
          <p:nvPr/>
        </p:nvPicPr>
        <p:blipFill>
          <a:blip r:embed="rId1"/>
          <a:stretch/>
        </p:blipFill>
        <p:spPr>
          <a:xfrm>
            <a:off x="250920" y="1484280"/>
            <a:ext cx="4206960" cy="4681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4" name="Picture 8" descr="абаза александр"/>
          <p:cNvPicPr/>
          <p:nvPr/>
        </p:nvPicPr>
        <p:blipFill>
          <a:blip r:embed="rId2"/>
          <a:stretch/>
        </p:blipFill>
        <p:spPr>
          <a:xfrm>
            <a:off x="4643280" y="1557360"/>
            <a:ext cx="4140360" cy="4608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75" name="WordArt 9"/>
          <p:cNvSpPr txBox="1"/>
          <p:nvPr/>
        </p:nvSpPr>
        <p:spPr>
          <a:xfrm>
            <a:off x="179280" y="6093000"/>
            <a:ext cx="4321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Лорис-Мел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5219640" y="6093000"/>
            <a:ext cx="324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.Аба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е назна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дм"/>
          <p:cNvPicPr/>
          <p:nvPr/>
        </p:nvPicPr>
        <p:blipFill>
          <a:blip r:embed="rId1"/>
          <a:stretch/>
        </p:blipFill>
        <p:spPr>
          <a:xfrm>
            <a:off x="395280" y="1484280"/>
            <a:ext cx="4076640" cy="45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Picture 8" descr="победоносцев конст"/>
          <p:cNvPicPr/>
          <p:nvPr/>
        </p:nvPicPr>
        <p:blipFill>
          <a:blip r:embed="rId2"/>
          <a:stretch/>
        </p:blipFill>
        <p:spPr>
          <a:xfrm>
            <a:off x="5508720" y="3429000"/>
            <a:ext cx="2652480" cy="29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1" name="Picture 9" descr="катков мих"/>
          <p:cNvPicPr/>
          <p:nvPr/>
        </p:nvPicPr>
        <p:blipFill>
          <a:blip r:embed="rId3"/>
          <a:stretch/>
        </p:blipFill>
        <p:spPr>
          <a:xfrm>
            <a:off x="4932360" y="1052640"/>
            <a:ext cx="177156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2" name="Picture 12" descr="плеве вяч"/>
          <p:cNvPicPr/>
          <p:nvPr/>
        </p:nvPicPr>
        <p:blipFill>
          <a:blip r:embed="rId4"/>
          <a:stretch/>
        </p:blipFill>
        <p:spPr>
          <a:xfrm>
            <a:off x="7164360" y="1628640"/>
            <a:ext cx="177156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3" name="WordArt 13"/>
          <p:cNvSpPr txBox="1"/>
          <p:nvPr/>
        </p:nvSpPr>
        <p:spPr>
          <a:xfrm>
            <a:off x="971640" y="6165720"/>
            <a:ext cx="2181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.Толс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5003640" y="6334200"/>
            <a:ext cx="354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.Победонос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6877080" y="1268280"/>
            <a:ext cx="200664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Пле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4643280" y="2924280"/>
            <a:ext cx="2305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Ка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августа 1881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ложение о мерах к охранению государственного поряд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«Священной друж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местность могла быть объявлена на военном по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динение всех подданных империи в единую 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одержавный национализм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сильствен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льша, Финляндия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раинского и белорусск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ьских и финск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7тыс.лютеран, 8,5 тыс. мусульман, 50 тыс. язычников  ст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славн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2г. Временные правила по отношению к евреям(черта оседл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5:35:13Z</dcterms:created>
  <dc:creator>Светик</dc:creator>
  <dc:description/>
  <dc:language>en-US</dc:language>
  <cp:lastModifiedBy>Administrator</cp:lastModifiedBy>
  <dcterms:modified xsi:type="dcterms:W3CDTF">2012-05-23T06:56:49Z</dcterms:modified>
  <cp:revision>14</cp:revision>
  <dc:subject/>
  <dc:title>Александр III и его  внутренняя политика</dc:title>
</cp:coreProperties>
</file>