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334-55D6-4D17-9DC5-E6C586A3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8E1-E0AF-47E4-AF49-CEF48D34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7B4-44CA-4304-AFC0-B0C9F1CE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278-1C72-49AE-B7F5-9F8C9B57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62D-63FF-4ED8-81C2-3B7F17D5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3B4-BD90-4B5F-BBD0-AEAED38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ADD-5BEA-4AF3-9FB2-1CC4A8F0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589-1C77-437A-82CE-0FFBF4D4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E03-E1ED-49F9-9EF9-5A799F9A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C3A-85B6-41F6-A4B5-3735E028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7E3-510A-4F8A-A48A-A4FC5F77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804-002B-4767-B35C-7DE5BAD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2C55-BAAE-4A24-B48E-07F10A257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ег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России 19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Циркуляр о кухаркиных детях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87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ие приема детей низших сословий и нерусского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а за уч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т не заслуг а патриотизма уче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мена автономии универси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иление роли инсп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мгу"/>
          <p:cNvPicPr/>
          <p:nvPr/>
        </p:nvPicPr>
        <p:blipFill>
          <a:blip r:embed="rId1"/>
          <a:stretch/>
        </p:blipFill>
        <p:spPr>
          <a:xfrm>
            <a:off x="395280" y="1628640"/>
            <a:ext cx="4140360" cy="460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89-1890г. г.земская контрре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на крестьянской администрации дворян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аф и арест без суда для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мена мировых судов и посре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ловный принцип вы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имущественного цен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мена постановлений земств губерна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дебная контрреформа 1887-1894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тые заседания по политическим де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ъятие некоторых дел из суда присяж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имущественного и образователь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за для присяжных засе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дурново ив"/>
          <p:cNvPicPr/>
          <p:nvPr/>
        </p:nvPicPr>
        <p:blipFill>
          <a:blip r:embed="rId1"/>
          <a:stretch/>
        </p:blipFill>
        <p:spPr>
          <a:xfrm>
            <a:off x="4643280" y="1557360"/>
            <a:ext cx="2329200" cy="259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3" name="Picture 7" descr="дурново петр"/>
          <p:cNvPicPr/>
          <p:nvPr/>
        </p:nvPicPr>
        <p:blipFill>
          <a:blip r:embed="rId2"/>
          <a:stretch/>
        </p:blipFill>
        <p:spPr>
          <a:xfrm>
            <a:off x="6516720" y="4005360"/>
            <a:ext cx="2328840" cy="259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04" name="WordArt 8"/>
          <p:cNvSpPr txBox="1"/>
          <p:nvPr/>
        </p:nvSpPr>
        <p:spPr>
          <a:xfrm>
            <a:off x="1619280" y="6093000"/>
            <a:ext cx="446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. и П. Дурн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з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1882г. «Временные правила о печа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прет изданий вредного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граничение круга тем для осв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прет книг, пь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истка библио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катков мих"/>
          <p:cNvPicPr/>
          <p:nvPr/>
        </p:nvPicPr>
        <p:blipFill>
          <a:blip r:embed="rId1"/>
          <a:stretch/>
        </p:blipFill>
        <p:spPr>
          <a:xfrm>
            <a:off x="4643280" y="1341360"/>
            <a:ext cx="4205520" cy="468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09" name="WordArt 7"/>
          <p:cNvSpPr txBox="1"/>
          <p:nvPr/>
        </p:nvSpPr>
        <p:spPr>
          <a:xfrm>
            <a:off x="1187280" y="6093000"/>
            <a:ext cx="741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Е.Феоктистов и М. Катков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ка при Александр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нижение выкупных плате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тмена подушной под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онтроль над железными дор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е пошлин на им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увеличение ввоза иностранных капит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циз на керосин, спички, спи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1893г. доходы России превысили расходы на 100 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витте с"/>
          <p:cNvPicPr/>
          <p:nvPr/>
        </p:nvPicPr>
        <p:blipFill>
          <a:blip r:embed="rId1"/>
          <a:srcRect l="8941" t="0" r="12193" b="0"/>
          <a:stretch/>
        </p:blipFill>
        <p:spPr>
          <a:xfrm>
            <a:off x="468360" y="1197000"/>
            <a:ext cx="1940040" cy="2736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3" name="Picture 7" descr="бунге ник"/>
          <p:cNvPicPr/>
          <p:nvPr/>
        </p:nvPicPr>
        <p:blipFill>
          <a:blip r:embed="rId2"/>
          <a:stretch/>
        </p:blipFill>
        <p:spPr>
          <a:xfrm>
            <a:off x="1979640" y="3933720"/>
            <a:ext cx="2395440" cy="2665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4" name="WordArt 8"/>
          <p:cNvSpPr txBox="1"/>
          <p:nvPr/>
        </p:nvSpPr>
        <p:spPr>
          <a:xfrm>
            <a:off x="2556000" y="1773360"/>
            <a:ext cx="169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.Вит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250920" y="5373720"/>
            <a:ext cx="1666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.Бунг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чем заслуги Александр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с документом стр. 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ение авторитета России на международной ар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вел войн, разоряющих страну и наро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александр 3"/>
          <p:cNvPicPr/>
          <p:nvPr/>
        </p:nvPicPr>
        <p:blipFill>
          <a:blip r:embed="rId1"/>
          <a:stretch/>
        </p:blipFill>
        <p:spPr>
          <a:xfrm>
            <a:off x="324000" y="2565360"/>
            <a:ext cx="3493800" cy="3888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зна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Александр правил вместо умершего бра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Министром внутренних дел ст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Общая направленность всего правления Александра может быть определена ка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Александр получил прозвище «миротворец», за то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Карательная организация при Александре, следящая за деятельностью революционеров, назы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867280" y="2060640"/>
            <a:ext cx="30974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я Александр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372360" y="249228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419640" y="3573360"/>
            <a:ext cx="201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ерва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771640" y="4437000"/>
            <a:ext cx="288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ел в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5940360" y="5589720"/>
            <a:ext cx="27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ященная друж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1042920" y="6093000"/>
            <a:ext cx="461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539640" y="692280"/>
            <a:ext cx="828036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циальное происхождение наро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определить ка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Теоретиком бунтарей бы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Народная воля образовалась в………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Первое покушение на Александ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вершил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 Александ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о совершено ….поку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На месте гибели царя был возведен храм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643280" y="2205000"/>
            <a:ext cx="280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чи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5508720" y="2708280"/>
            <a:ext cx="1871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6227640" y="3284640"/>
            <a:ext cx="8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2843280" y="4149720"/>
            <a:ext cx="22334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й Карак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6948360" y="4797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3564000" y="6093000"/>
            <a:ext cx="4537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а – на- Крови , г. Санкт-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03.1845-01.11.1894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сын Александ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 лет после смерти старшего брата становиться наследником престола. Участник русско-турецкой войны. Создатель русского исторического общества.Трудолюб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александр 3"/>
          <p:cNvPicPr/>
          <p:nvPr/>
        </p:nvPicPr>
        <p:blipFill>
          <a:blip r:embed="rId1"/>
          <a:stretch/>
        </p:blipFill>
        <p:spPr>
          <a:xfrm>
            <a:off x="324000" y="1341360"/>
            <a:ext cx="414000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александр 3"/>
          <p:cNvPicPr/>
          <p:nvPr/>
        </p:nvPicPr>
        <p:blipFill>
          <a:blip r:embed="rId2"/>
          <a:stretch/>
        </p:blipFill>
        <p:spPr>
          <a:xfrm>
            <a:off x="324000" y="1341360"/>
            <a:ext cx="4140000" cy="460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победоносцев конст"/>
          <p:cNvPicPr/>
          <p:nvPr/>
        </p:nvPicPr>
        <p:blipFill>
          <a:blip r:embed="rId1"/>
          <a:stretch/>
        </p:blipFill>
        <p:spPr>
          <a:xfrm>
            <a:off x="468360" y="1628640"/>
            <a:ext cx="2587680" cy="288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соловьев сер"/>
          <p:cNvPicPr/>
          <p:nvPr/>
        </p:nvPicPr>
        <p:blipFill>
          <a:blip r:embed="rId2"/>
          <a:stretch/>
        </p:blipFill>
        <p:spPr>
          <a:xfrm>
            <a:off x="3203640" y="1628640"/>
            <a:ext cx="2587680" cy="288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9" name="Picture 6" descr="драгомиров"/>
          <p:cNvPicPr/>
          <p:nvPr/>
        </p:nvPicPr>
        <p:blipFill>
          <a:blip r:embed="rId3"/>
          <a:stretch/>
        </p:blipFill>
        <p:spPr>
          <a:xfrm>
            <a:off x="6084720" y="1628640"/>
            <a:ext cx="2587680" cy="288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60" name="WordArt 7"/>
          <p:cNvSpPr txBox="1"/>
          <p:nvPr/>
        </p:nvSpPr>
        <p:spPr>
          <a:xfrm>
            <a:off x="250920" y="4581360"/>
            <a:ext cx="31813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.Победонос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3708360" y="4941720"/>
            <a:ext cx="2238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.Соловь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5940360" y="4508640"/>
            <a:ext cx="28767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.Драгоми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1042920" y="5734080"/>
            <a:ext cx="78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о   история  военное де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4" name="Picture 11" descr="победоносцев конст"/>
          <p:cNvPicPr/>
          <p:nvPr/>
        </p:nvPicPr>
        <p:blipFill>
          <a:blip r:embed="rId4"/>
          <a:stretch/>
        </p:blipFill>
        <p:spPr>
          <a:xfrm>
            <a:off x="468360" y="1628640"/>
            <a:ext cx="2587680" cy="288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чал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апреля 188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нифест о незыблемости самодерж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 никогда не допущу ограничений самодержавной власти, которую нахожу нужной и полезной для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кибальчич ник"/>
          <p:cNvPicPr/>
          <p:nvPr/>
        </p:nvPicPr>
        <p:blipFill>
          <a:blip r:embed="rId1"/>
          <a:stretch/>
        </p:blipFill>
        <p:spPr>
          <a:xfrm>
            <a:off x="250920" y="3068640"/>
            <a:ext cx="1422360" cy="158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8" name="Picture 7" descr="желябов анд"/>
          <p:cNvPicPr/>
          <p:nvPr/>
        </p:nvPicPr>
        <p:blipFill>
          <a:blip r:embed="rId2"/>
          <a:stretch/>
        </p:blipFill>
        <p:spPr>
          <a:xfrm>
            <a:off x="2627280" y="3068640"/>
            <a:ext cx="135900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8" descr="перовская соф"/>
          <p:cNvPicPr/>
          <p:nvPr/>
        </p:nvPicPr>
        <p:blipFill>
          <a:blip r:embed="rId3"/>
          <a:stretch/>
        </p:blipFill>
        <p:spPr>
          <a:xfrm>
            <a:off x="395280" y="4941720"/>
            <a:ext cx="1487520" cy="16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михайлов ал"/>
          <p:cNvPicPr/>
          <p:nvPr/>
        </p:nvPicPr>
        <p:blipFill>
          <a:blip r:embed="rId4"/>
          <a:stretch/>
        </p:blipFill>
        <p:spPr>
          <a:xfrm>
            <a:off x="2556000" y="4869000"/>
            <a:ext cx="1471320" cy="163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WordArt 11"/>
          <p:cNvSpPr txBox="1"/>
          <p:nvPr/>
        </p:nvSpPr>
        <p:spPr>
          <a:xfrm>
            <a:off x="324000" y="1628640"/>
            <a:ext cx="4619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апреля 1881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знь народоволь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став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лорис-меликов"/>
          <p:cNvPicPr/>
          <p:nvPr/>
        </p:nvPicPr>
        <p:blipFill>
          <a:blip r:embed="rId1"/>
          <a:stretch/>
        </p:blipFill>
        <p:spPr>
          <a:xfrm>
            <a:off x="250920" y="1484280"/>
            <a:ext cx="4206960" cy="4681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74" name="Picture 8" descr="абаза александр"/>
          <p:cNvPicPr/>
          <p:nvPr/>
        </p:nvPicPr>
        <p:blipFill>
          <a:blip r:embed="rId2"/>
          <a:stretch/>
        </p:blipFill>
        <p:spPr>
          <a:xfrm>
            <a:off x="4643280" y="1557360"/>
            <a:ext cx="4140360" cy="4608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75" name="WordArt 9"/>
          <p:cNvSpPr txBox="1"/>
          <p:nvPr/>
        </p:nvSpPr>
        <p:spPr>
          <a:xfrm>
            <a:off x="179280" y="6093000"/>
            <a:ext cx="43214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.Лорис-Мел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5219640" y="6093000"/>
            <a:ext cx="3240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.Аба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ые назна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дм"/>
          <p:cNvPicPr/>
          <p:nvPr/>
        </p:nvPicPr>
        <p:blipFill>
          <a:blip r:embed="rId1"/>
          <a:stretch/>
        </p:blipFill>
        <p:spPr>
          <a:xfrm>
            <a:off x="395280" y="1484280"/>
            <a:ext cx="4076640" cy="4537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0" name="Picture 8" descr="победоносцев конст"/>
          <p:cNvPicPr/>
          <p:nvPr/>
        </p:nvPicPr>
        <p:blipFill>
          <a:blip r:embed="rId2"/>
          <a:stretch/>
        </p:blipFill>
        <p:spPr>
          <a:xfrm>
            <a:off x="5508720" y="3429000"/>
            <a:ext cx="2652480" cy="295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1" name="Picture 9" descr="катков мих"/>
          <p:cNvPicPr/>
          <p:nvPr/>
        </p:nvPicPr>
        <p:blipFill>
          <a:blip r:embed="rId3"/>
          <a:stretch/>
        </p:blipFill>
        <p:spPr>
          <a:xfrm>
            <a:off x="4932360" y="1052640"/>
            <a:ext cx="1771560" cy="1971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2" name="Picture 12" descr="плеве вяч"/>
          <p:cNvPicPr/>
          <p:nvPr/>
        </p:nvPicPr>
        <p:blipFill>
          <a:blip r:embed="rId4"/>
          <a:stretch/>
        </p:blipFill>
        <p:spPr>
          <a:xfrm>
            <a:off x="7164360" y="1628640"/>
            <a:ext cx="1771560" cy="1971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3" name="WordArt 13"/>
          <p:cNvSpPr txBox="1"/>
          <p:nvPr/>
        </p:nvSpPr>
        <p:spPr>
          <a:xfrm>
            <a:off x="971640" y="6165720"/>
            <a:ext cx="2181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.Толст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5003640" y="6334200"/>
            <a:ext cx="354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.Победонос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6877080" y="1268280"/>
            <a:ext cx="200664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.Пле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4643280" y="2924280"/>
            <a:ext cx="23050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.Кат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4августа 1881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ложение о мерах к охранению государственного поряд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«Священной друж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ая местность могла быть объявлена на военном по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единение всех подданных империи в единую н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одержавный национализм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сильствен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иф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льша, Финляндия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краинского и белорусск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ьских и финск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7тыс.лютеран, 8,5 тыс. мусульман, 50 тыс. язычников  ста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славны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82г. Временные правила по отношению к евреям(черта оседл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5:35:13Z</dcterms:created>
  <dc:creator>Светик</dc:creator>
  <dc:description/>
  <dc:language>en-US</dc:language>
  <cp:lastModifiedBy>Administrator</cp:lastModifiedBy>
  <dcterms:modified xsi:type="dcterms:W3CDTF">2012-05-23T06:56:49Z</dcterms:modified>
  <cp:revision>14</cp:revision>
  <dc:subject/>
  <dc:title>Александр III и его  внутренняя политика</dc:title>
</cp:coreProperties>
</file>