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EE7-463E-402A-8560-F98917D4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D9F-C42C-4DE1-8D60-3E9A3D28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B9B-C5EE-4FA5-B33F-F655D86A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0A9-F68E-4EA9-B7E7-0FBDFA9A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B2E2-4C74-42A0-B071-F088431D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571F-4619-4422-8907-7D725219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AF48-C45D-4E90-A859-DCBB3C9D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EC5F-3C6E-4E92-A1CE-175FC52A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4988-0012-444E-86D3-3CDA4108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1D81-0677-409B-A61D-E3D2D709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CD01-D687-4C52-B899-A5F7C343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D83-DBE9-4875-A9C9-68DABD19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1542-637D-4D87-A2BA-5FA36CD1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3367-447F-4A9C-A76B-E1E3BEE1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9E0A-B3E4-4F0D-84DE-CB3A2111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219F-68CF-416F-BCA9-EF9E39C0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047F-57C1-4229-98CA-43650855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C41E1-7201-44C8-A136-25EEC0C5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F13DC-2A6C-4D13-A241-A8E0F4CA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EBC61-1537-4444-8860-B05B95B4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9BB30-8990-4991-8BE8-646C5FE8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65756-85F5-45A2-B553-88D88E81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C68-9EAB-4E28-97A8-6DED4246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9B81B-3974-4E7B-9004-437DF008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FDD87-11B9-4416-ABEE-0662502F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6EBB7-CF83-46A6-90FC-1DE858AA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C9E50-E30A-4E51-AB0A-D82A2D5C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94E22-7650-4F9A-B060-D04D0920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A79B5-FAF1-4121-9318-A8E19DC9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9D26B-E074-421E-B771-373B53B8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B2C3D-E8F0-4C5E-9517-FF1DEF46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26806-0325-4E25-A638-0346D727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D1B31-8596-40E9-A441-0DF70997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6A1-DA83-428E-BABD-C650EDD7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1F6C1-3C38-4D69-A610-C5B30AD8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BC32C-A076-430E-8895-D71D6858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43444-9830-4046-B702-D5E7246D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B0E54-2199-41E6-B9A9-2DD8387C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0DBDC-E27A-42A2-8108-C5EB3EEB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BF8DC-9EE5-4781-A86E-A712DE3B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E3468-0841-4F29-AB20-05442600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47254-6713-47A5-B260-8CF29D81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947F1-FF19-4F7F-9067-0C730ECB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F30-333D-45C9-BC47-E38F1DA3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8426-E972-40D4-A640-993CB437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032-330A-4718-929C-4DEF3ECB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B7AF-8B4F-4957-A3A4-807B491A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DEA-BB42-4D81-ADE5-EB8F85E1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69A2-01D8-4895-84C1-8577C228D721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9293-2BF5-47B1-B1E5-B8F1F55134EA}" type="slidenum">
              <a:rPr b="0" lang="ru-RU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7334-B5C5-4C95-BE9D-6AEE0A604FD0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775C-79FE-4BC6-A3A9-F79721A07B30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Группа 6"/>
          <p:cNvGrpSpPr/>
          <p:nvPr/>
        </p:nvGrpSpPr>
        <p:grpSpPr>
          <a:xfrm>
            <a:off x="0" y="1949400"/>
            <a:ext cx="8559720" cy="2586240"/>
            <a:chOff x="0" y="1949400"/>
            <a:chExt cx="8559720" cy="2586240"/>
          </a:xfrm>
        </p:grpSpPr>
        <p:pic>
          <p:nvPicPr>
            <p:cNvPr id="33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0" y="1949400"/>
              <a:ext cx="8559720" cy="25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Прямоугольник 5"/>
            <p:cNvSpPr/>
            <p:nvPr/>
          </p:nvSpPr>
          <p:spPr>
            <a:xfrm>
              <a:off x="109440" y="2839320"/>
              <a:ext cx="174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-139680" y="1407960"/>
            <a:ext cx="9455040" cy="25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Группа 52"/>
          <p:cNvGrpSpPr/>
          <p:nvPr/>
        </p:nvGrpSpPr>
        <p:grpSpPr>
          <a:xfrm>
            <a:off x="0" y="0"/>
            <a:ext cx="9144000" cy="6557400"/>
            <a:chOff x="0" y="0"/>
            <a:chExt cx="9144000" cy="6557400"/>
          </a:xfrm>
        </p:grpSpPr>
        <p:sp>
          <p:nvSpPr>
            <p:cNvPr id="340" name="TextBox 1"/>
            <p:cNvSpPr/>
            <p:nvPr/>
          </p:nvSpPr>
          <p:spPr>
            <a:xfrm>
              <a:off x="2286000" y="0"/>
              <a:ext cx="4357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Слово употребляется без Не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3"/>
            <p:cNvSpPr/>
            <p:nvPr/>
          </p:nvSpPr>
          <p:spPr>
            <a:xfrm>
              <a:off x="2714400" y="85716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Группа 11"/>
            <p:cNvGrpSpPr/>
            <p:nvPr/>
          </p:nvGrpSpPr>
          <p:grpSpPr>
            <a:xfrm>
              <a:off x="7000920" y="857160"/>
              <a:ext cx="1857240" cy="1977120"/>
              <a:chOff x="7000920" y="857160"/>
              <a:chExt cx="1857240" cy="1977120"/>
            </a:xfrm>
          </p:grpSpPr>
          <p:sp>
            <p:nvSpPr>
              <p:cNvPr id="343" name="TextBox 2"/>
              <p:cNvSpPr/>
              <p:nvPr/>
            </p:nvSpPr>
            <p:spPr>
              <a:xfrm>
                <a:off x="7572240" y="857160"/>
                <a:ext cx="714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0000"/>
                    </a:solidFill>
                    <a:latin typeface="Franklin Gothic Book"/>
                  </a:rPr>
                  <a:t>Не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Box 4"/>
              <p:cNvSpPr/>
              <p:nvPr/>
            </p:nvSpPr>
            <p:spPr>
              <a:xfrm>
                <a:off x="7000920" y="1643040"/>
                <a:ext cx="18572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0000"/>
                    </a:solidFill>
                    <a:latin typeface="Franklin Gothic Book"/>
                  </a:rPr>
                  <a:t>Слит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0000"/>
                    </a:solidFill>
                    <a:latin typeface="Franklin Gothic Book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0000"/>
                    </a:solidFill>
                    <a:latin typeface="Franklin Gothic Book"/>
                  </a:rPr>
                  <a:t>НЕБРЕЖН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Прямая соединительная линия 6"/>
            <p:cNvSpPr/>
            <p:nvPr/>
          </p:nvSpPr>
          <p:spPr>
            <a:xfrm flipV="1">
              <a:off x="3071160" y="461880"/>
              <a:ext cx="1392120" cy="395280"/>
            </a:xfrm>
            <a:prstGeom prst="line">
              <a:avLst/>
            </a:prstGeom>
            <a:ln w="9360">
              <a:solidFill>
                <a:srgbClr val="94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Прямая соединительная линия 10"/>
            <p:cNvSpPr/>
            <p:nvPr/>
          </p:nvSpPr>
          <p:spPr>
            <a:xfrm>
              <a:off x="4464000" y="461880"/>
              <a:ext cx="3465360" cy="395280"/>
            </a:xfrm>
            <a:prstGeom prst="line">
              <a:avLst/>
            </a:prstGeom>
            <a:ln w="9360">
              <a:solidFill>
                <a:srgbClr val="94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7" name="Прямая со стрелкой 13"/>
            <p:cNvCxnSpPr>
              <a:stCxn id="343" idx="2"/>
              <a:endCxn id="344" idx="0"/>
            </p:cNvCxnSpPr>
            <p:nvPr/>
          </p:nvCxnSpPr>
          <p:spPr>
            <a:xfrm flipH="1">
              <a:off x="7929000" y="1318680"/>
              <a:ext cx="1080" cy="32436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  <p:sp>
          <p:nvSpPr>
            <p:cNvPr id="348" name="TextBox 14"/>
            <p:cNvSpPr/>
            <p:nvPr/>
          </p:nvSpPr>
          <p:spPr>
            <a:xfrm>
              <a:off x="0" y="142848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Есть ли в предложении противопоставление с союзом а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9" name="Прямая со стрелкой 16"/>
            <p:cNvCxnSpPr>
              <a:stCxn id="341" idx="2"/>
              <a:endCxn id="348" idx="0"/>
            </p:cNvCxnSpPr>
            <p:nvPr/>
          </p:nvCxnSpPr>
          <p:spPr>
            <a:xfrm>
              <a:off x="3071880" y="1319040"/>
              <a:ext cx="357840" cy="11016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  <p:sp>
          <p:nvSpPr>
            <p:cNvPr id="350" name="TextBox 19"/>
            <p:cNvSpPr/>
            <p:nvPr/>
          </p:nvSpPr>
          <p:spPr>
            <a:xfrm>
              <a:off x="0" y="23572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Box 23"/>
            <p:cNvSpPr/>
            <p:nvPr/>
          </p:nvSpPr>
          <p:spPr>
            <a:xfrm>
              <a:off x="4286160" y="2357280"/>
              <a:ext cx="71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Н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Box 27"/>
            <p:cNvSpPr/>
            <p:nvPr/>
          </p:nvSpPr>
          <p:spPr>
            <a:xfrm>
              <a:off x="2071440" y="3000240"/>
              <a:ext cx="614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Относятся ли к слову зависимые слова? Или слова: Отнюдь не, далеко не, вовсе 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Box 28"/>
            <p:cNvSpPr/>
            <p:nvPr/>
          </p:nvSpPr>
          <p:spPr>
            <a:xfrm>
              <a:off x="0" y="3143160"/>
              <a:ext cx="2357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Раздель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НЕЯРКО, А ТУСКЛ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4" name="Прямая со стрелкой 30"/>
            <p:cNvCxnSpPr/>
            <p:nvPr/>
          </p:nvCxnSpPr>
          <p:spPr>
            <a:xfrm>
              <a:off x="3571560" y="1928880"/>
              <a:ext cx="500760" cy="42912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  <p:cxnSp>
          <p:nvCxnSpPr>
            <p:cNvPr id="355" name="Прямая со стрелкой 32"/>
            <p:cNvCxnSpPr>
              <a:stCxn id="350" idx="2"/>
            </p:cNvCxnSpPr>
            <p:nvPr/>
          </p:nvCxnSpPr>
          <p:spPr>
            <a:xfrm>
              <a:off x="284400" y="2818800"/>
              <a:ext cx="214920" cy="32436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  <p:sp>
          <p:nvSpPr>
            <p:cNvPr id="356" name="TextBox 33"/>
            <p:cNvSpPr/>
            <p:nvPr/>
          </p:nvSpPr>
          <p:spPr>
            <a:xfrm>
              <a:off x="2928960" y="428616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34"/>
            <p:cNvSpPr/>
            <p:nvPr/>
          </p:nvSpPr>
          <p:spPr>
            <a:xfrm>
              <a:off x="7000920" y="4286160"/>
              <a:ext cx="78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Н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8" name="Прямая со стрелкой 36"/>
            <p:cNvCxnSpPr>
              <a:stCxn id="351" idx="2"/>
              <a:endCxn id="352" idx="0"/>
            </p:cNvCxnSpPr>
            <p:nvPr/>
          </p:nvCxnSpPr>
          <p:spPr>
            <a:xfrm>
              <a:off x="4642200" y="2819160"/>
              <a:ext cx="500760" cy="18144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  <p:cxnSp>
          <p:nvCxnSpPr>
            <p:cNvPr id="359" name="Прямая со стрелкой 41"/>
            <p:cNvCxnSpPr/>
            <p:nvPr/>
          </p:nvCxnSpPr>
          <p:spPr>
            <a:xfrm flipH="1">
              <a:off x="642240" y="1857240"/>
              <a:ext cx="2786760" cy="64332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  <p:cxnSp>
          <p:nvCxnSpPr>
            <p:cNvPr id="360" name="Прямая со стрелкой 43"/>
            <p:cNvCxnSpPr>
              <a:stCxn id="352" idx="2"/>
              <a:endCxn id="356" idx="0"/>
            </p:cNvCxnSpPr>
            <p:nvPr/>
          </p:nvCxnSpPr>
          <p:spPr>
            <a:xfrm flipH="1">
              <a:off x="3214440" y="3830400"/>
              <a:ext cx="1929600" cy="45612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  <p:cxnSp>
          <p:nvCxnSpPr>
            <p:cNvPr id="361" name="Прямая со стрелкой 45"/>
            <p:cNvCxnSpPr>
              <a:stCxn id="352" idx="2"/>
              <a:endCxn id="357" idx="0"/>
            </p:cNvCxnSpPr>
            <p:nvPr/>
          </p:nvCxnSpPr>
          <p:spPr>
            <a:xfrm>
              <a:off x="5142600" y="3830400"/>
              <a:ext cx="2251800" cy="45612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  <p:sp>
          <p:nvSpPr>
            <p:cNvPr id="362" name="TextBox 46"/>
            <p:cNvSpPr/>
            <p:nvPr/>
          </p:nvSpPr>
          <p:spPr>
            <a:xfrm>
              <a:off x="1143000" y="5000400"/>
              <a:ext cx="42861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Раздель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ДАЛЕКО НЕ КРАСИВЫЙ СТО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47"/>
            <p:cNvSpPr/>
            <p:nvPr/>
          </p:nvSpPr>
          <p:spPr>
            <a:xfrm>
              <a:off x="6215040" y="5000400"/>
              <a:ext cx="2928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Слит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НЕКРАСИВЫЙ СТО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4" name="Прямая со стрелкой 49"/>
            <p:cNvCxnSpPr>
              <a:stCxn id="356" idx="2"/>
              <a:endCxn id="362" idx="0"/>
            </p:cNvCxnSpPr>
            <p:nvPr/>
          </p:nvCxnSpPr>
          <p:spPr>
            <a:xfrm>
              <a:off x="3214800" y="4747680"/>
              <a:ext cx="72000" cy="25308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  <p:cxnSp>
          <p:nvCxnSpPr>
            <p:cNvPr id="365" name="Прямая со стрелкой 51"/>
            <p:cNvCxnSpPr>
              <a:stCxn id="357" idx="2"/>
              <a:endCxn id="363" idx="0"/>
            </p:cNvCxnSpPr>
            <p:nvPr/>
          </p:nvCxnSpPr>
          <p:spPr>
            <a:xfrm>
              <a:off x="7393680" y="4747680"/>
              <a:ext cx="284400" cy="253080"/>
            </a:xfrm>
            <a:prstGeom prst="straightConnector1">
              <a:avLst/>
            </a:prstGeom>
            <a:ln w="9360">
              <a:solidFill>
                <a:srgbClr val="94c6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Не пишется слит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1.Во всех случаях, когда без отрицательной частицы не слово не употребляется, например: невежда, неизбеж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2.С существительными, если отрицание придаёт слову новое, противоположное значение, например: неприятель, несчастье, если отрицание придаёт слову, не имеющему этой частицы, значение противопоставления, отрицания, например: неспециалист, немарксист, например: разногласия между марксистами и немарксистами; всем неспециалистам доклад понрави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3.С полными и краткими прилагательными и с наречиями на -о (-е), если сочетание их с не служит не для отрицания какого-либо понятия, а для выражения нового, противоположного понятия, например: нездоровый вид (т.е. болезненный), невозможный характер (т.е. тяжел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4.С полными причастиями, при которых нет пояснительных слов, например: неоконченный (труд), нераспустившийся (цвето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1"/>
          <p:cNvSpPr/>
          <p:nvPr/>
        </p:nvSpPr>
        <p:spPr>
          <a:xfrm>
            <a:off x="1692360" y="333360"/>
            <a:ext cx="604836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5.В местоимениях, когда не от последующего местоимения не отделено предлогом, например: некто, нечто, некого, нечего (но: не у кого, не к чему, не с кем, не за чем, не за чт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6.В местоименных наречиях, например: некогда, негде, некуда, неотк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В наречиях незачем (в значении «бесцельно», например: незачем туда идти), нехотя; в предложных сочетаниях несмотря на, невзирая на; в вопросительной частице неуж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7.Написание наречий и наречных сочетаний, в состав которых входят отрицание, предлог и существительное или прилагательное (например, невдомёк, невпопа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В глагольной приставке недо-, обозначающей несоответствие требуемой норме, например: недовыполнить (выполнить ниже требуемой нормы), недосыпать (спать меньше нормальног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8.В местоимениях, если частица ни не отделена от последующего местоимения предлогом, например: никто, ничто, никого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9.В наречиях никогда, нигде, никуда, ниоткуда, никак, нисколько, нимало, нипочем, ничуть и в частице -нибудь</a:t>
            </a: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"/>
          <p:cNvSpPr/>
          <p:nvPr/>
        </p:nvSpPr>
        <p:spPr>
          <a:xfrm>
            <a:off x="108000" y="112536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Не пишется раздель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1.При глаголах, в том числе и при деепричастных формах, например: она не пьёт, не 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2.В причастиях: а) в краткой форме, например: долг не уплачен, дом не достроен б) в полной форме, когда при причастии есть пояснительные слова, а также тогда, когда при причастии есть или подразумевается противопоставление, например: он принёс не законченную работу, а только отдельные набр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3.При существительных, прилагательных и наречиях, если есть или подразумевается противопоставление, например: не удача привела нас к успеху, а выдержка и хладнокровие; не смерть страшна — страшна твоя немилость (Пушк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рямоугольник 2"/>
          <p:cNvSpPr/>
          <p:nvPr/>
        </p:nvSpPr>
        <p:spPr>
          <a:xfrm>
            <a:off x="30240" y="112536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4.При местоимениях и местоименных наречиях, например: не я, не этот, не иной, не такой, не иначе, не так.При усилительных наречиях, а также при предлогах и союзах, например: не очень, не вполне, не совсем, не из…, не под…, не то… не 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Раздельно пишется выражение не раз, например: Не раз он обвинял себя в излишней осторожности (Фадее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5.При неизменяемых словах, не образованных от прилагательных и выступающих в предложении в качестве сказуемого, например: не надо, не прочь, не ж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6.При всех словах, пишущихся через дефис, например: все не торгово-промышленные предприятия; сказано не по-русски; поют не по-стар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8.Во всех остальных случаях частица ни пишется разд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ристина</cp:lastModifiedBy>
  <dcterms:modified xsi:type="dcterms:W3CDTF">2012-11-10T14:17:03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220000000000010250300207f7000400038000</vt:lpwstr>
  </property>
</Properties>
</file>