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08A4-FA6A-414B-BD95-42914FA5B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342A-DF94-4A54-AA10-9E2AA212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48F5-619A-4DA7-94DA-EF4651604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9337-2B7F-4963-A901-0B8E8EBE4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48B9-D49A-43CA-B322-227BEC7A1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3E21-8046-4BF4-BF6C-87C1B766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B294-7553-4EF5-A17B-F62BCBEE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8DC2-A229-4DA2-8FD8-88A4BC80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1B2F-29EC-4D5F-8BB7-A174BFF4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A1CCC-ED0F-4295-9B1B-20D91FB8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D692-D4C6-4CCB-92C0-0E6384A3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0C3E-2E47-4B2B-8C31-0C1B4911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861C0-38B2-4BFC-A45A-06D72B15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2828-17BD-4345-9825-4C262D11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33F3-7F16-4BCC-9901-A099817F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2B26-8777-414D-A4F8-8A247A843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404F-D841-4FC5-8387-7030C1155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5B86ED-FD26-4AB8-96F4-229319FA4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B11C38-5DB5-44A4-8C11-8FBE53F1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4478F8-B821-4660-B9F8-FD4C6D2E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940C2C-0BFA-4D47-A3F8-903C0FBB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A2B3AB-7C6F-4E6F-8030-3588B9F2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B1F9-276A-4DD1-AFC6-FD4266B5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28BD97-B539-468B-8032-3E8F929B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05A466-434E-438D-9788-DDA8EEEC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684367-CE81-4362-88C0-A1C19C05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6C0446-E4D1-428F-ADA7-9D92E603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6073F8-EFB2-4C0D-981B-60019075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6A5290-E79E-491D-BFBF-319EBA6B3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D78239-7448-43B2-AFA0-F83BD9F47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46C3A-168F-427F-953C-147E7B441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7240D-1DF0-4B2C-A767-DAFEBAEE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26CB3-B559-43D6-B3C2-069D2C60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91EA-8A53-418F-A5E2-F46F6F61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92268-B40A-4CC0-B3D9-AB20115C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957F3-80CA-46D6-A1A9-1B456D6F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BEAF1-606D-41E6-9636-C90C1784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670B9-BBF2-45DA-A008-5A9F67A5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47FA6-80B1-4A13-821B-B20A8415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2FC75-9A76-446C-BAAA-DC1EA62C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9B5BC-BF1B-45B8-A318-8904DC88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D90EA-824E-4E4E-A94D-3EFAFB8FE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D687B-70D5-40EC-B9A1-D4E105FCD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B3ED-B286-4D00-9748-7677573E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3521-69EE-4183-AEF8-389794B0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20FB-55F3-4C44-951F-F69C86EB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C506-515F-4A1B-A748-0CD905FD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9DD1-0742-4BB2-8786-F1C95994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C040-6FE4-450E-8EFF-5A8B4B72C79C}" type="slidenum">
              <a:rPr b="0" lang="ru-RU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efe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AD1B-BBC3-4EBD-8C63-8A6B4B69210E}" type="slidenum">
              <a:rPr b="0" lang="ru-RU" sz="1200" spc="-1" strike="noStrike">
                <a:solidFill>
                  <a:srgbClr val="94c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5BFE-960A-4671-B76C-19DDEE2A13C1}" type="slidenum">
              <a:rPr b="0" lang="ru-RU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A033-7A09-4477-B8CA-7F3C04A68543}" type="slidenum">
              <a:rPr b="0" lang="ru-RU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Группа 6"/>
          <p:cNvGrpSpPr/>
          <p:nvPr/>
        </p:nvGrpSpPr>
        <p:grpSpPr>
          <a:xfrm>
            <a:off x="0" y="1949400"/>
            <a:ext cx="8559720" cy="2586240"/>
            <a:chOff x="0" y="1949400"/>
            <a:chExt cx="8559720" cy="2586240"/>
          </a:xfrm>
        </p:grpSpPr>
        <p:pic>
          <p:nvPicPr>
            <p:cNvPr id="336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0" y="1949400"/>
              <a:ext cx="8559720" cy="25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Прямоугольник 5"/>
            <p:cNvSpPr/>
            <p:nvPr/>
          </p:nvSpPr>
          <p:spPr>
            <a:xfrm>
              <a:off x="109440" y="2839320"/>
              <a:ext cx="17424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Прямоугольник 1" descr=""/>
          <p:cNvPicPr/>
          <p:nvPr/>
        </p:nvPicPr>
        <p:blipFill>
          <a:blip r:embed="rId1"/>
          <a:stretch/>
        </p:blipFill>
        <p:spPr>
          <a:xfrm>
            <a:off x="-139680" y="1407960"/>
            <a:ext cx="9455040" cy="25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Группа 52"/>
          <p:cNvGrpSpPr/>
          <p:nvPr/>
        </p:nvGrpSpPr>
        <p:grpSpPr>
          <a:xfrm>
            <a:off x="0" y="0"/>
            <a:ext cx="9144000" cy="6557400"/>
            <a:chOff x="0" y="0"/>
            <a:chExt cx="9144000" cy="6557400"/>
          </a:xfrm>
        </p:grpSpPr>
        <p:sp>
          <p:nvSpPr>
            <p:cNvPr id="340" name="TextBox 1"/>
            <p:cNvSpPr/>
            <p:nvPr/>
          </p:nvSpPr>
          <p:spPr>
            <a:xfrm>
              <a:off x="2286000" y="0"/>
              <a:ext cx="4357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Franklin Gothic Book"/>
                </a:rPr>
                <a:t>Слово употребляется без Не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Box 3"/>
            <p:cNvSpPr/>
            <p:nvPr/>
          </p:nvSpPr>
          <p:spPr>
            <a:xfrm>
              <a:off x="2714400" y="857160"/>
              <a:ext cx="7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Franklin Gothic Book"/>
                </a:rPr>
                <a:t>Д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Группа 11"/>
            <p:cNvGrpSpPr/>
            <p:nvPr/>
          </p:nvGrpSpPr>
          <p:grpSpPr>
            <a:xfrm>
              <a:off x="7000920" y="857160"/>
              <a:ext cx="1857240" cy="1977120"/>
              <a:chOff x="7000920" y="857160"/>
              <a:chExt cx="1857240" cy="1977120"/>
            </a:xfrm>
          </p:grpSpPr>
          <p:sp>
            <p:nvSpPr>
              <p:cNvPr id="343" name="TextBox 2"/>
              <p:cNvSpPr/>
              <p:nvPr/>
            </p:nvSpPr>
            <p:spPr>
              <a:xfrm>
                <a:off x="7572240" y="857160"/>
                <a:ext cx="714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0000"/>
                    </a:solidFill>
                    <a:latin typeface="Franklin Gothic Book"/>
                  </a:rPr>
                  <a:t>Не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TextBox 4"/>
              <p:cNvSpPr/>
              <p:nvPr/>
            </p:nvSpPr>
            <p:spPr>
              <a:xfrm>
                <a:off x="7000920" y="1643040"/>
                <a:ext cx="18572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0000"/>
                    </a:solidFill>
                    <a:latin typeface="Franklin Gothic Book"/>
                  </a:rPr>
                  <a:t>Слит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0000"/>
                    </a:solidFill>
                    <a:latin typeface="Franklin Gothic Book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0000"/>
                    </a:solidFill>
                    <a:latin typeface="Franklin Gothic Book"/>
                  </a:rPr>
                  <a:t>НЕБРЕЖ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Прямая соединительная линия 6"/>
            <p:cNvSpPr/>
            <p:nvPr/>
          </p:nvSpPr>
          <p:spPr>
            <a:xfrm flipV="1">
              <a:off x="3071160" y="461880"/>
              <a:ext cx="1392120" cy="395280"/>
            </a:xfrm>
            <a:prstGeom prst="line">
              <a:avLst/>
            </a:prstGeom>
            <a:ln w="9360">
              <a:solidFill>
                <a:srgbClr val="94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Прямая соединительная линия 10"/>
            <p:cNvSpPr/>
            <p:nvPr/>
          </p:nvSpPr>
          <p:spPr>
            <a:xfrm>
              <a:off x="4464000" y="461880"/>
              <a:ext cx="3465360" cy="395280"/>
            </a:xfrm>
            <a:prstGeom prst="line">
              <a:avLst/>
            </a:prstGeom>
            <a:ln w="9360">
              <a:solidFill>
                <a:srgbClr val="94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7" name="Прямая со стрелкой 13"/>
            <p:cNvCxnSpPr>
              <a:stCxn id="343" idx="2"/>
              <a:endCxn id="344" idx="0"/>
            </p:cNvCxnSpPr>
            <p:nvPr/>
          </p:nvCxnSpPr>
          <p:spPr>
            <a:xfrm flipH="1">
              <a:off x="7929000" y="1318680"/>
              <a:ext cx="1080" cy="324360"/>
            </a:xfrm>
            <a:prstGeom prst="straightConnector1">
              <a:avLst/>
            </a:prstGeom>
            <a:ln w="9360">
              <a:solidFill>
                <a:srgbClr val="94c600"/>
              </a:solidFill>
              <a:miter/>
              <a:tailEnd len="med" type="arrow" w="med"/>
            </a:ln>
          </p:spPr>
        </p:cxnSp>
        <p:sp>
          <p:nvSpPr>
            <p:cNvPr id="348" name="TextBox 14"/>
            <p:cNvSpPr/>
            <p:nvPr/>
          </p:nvSpPr>
          <p:spPr>
            <a:xfrm>
              <a:off x="0" y="1428480"/>
              <a:ext cx="685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Franklin Gothic Book"/>
                </a:rPr>
                <a:t>Есть ли в предложении противопоставление с союзом а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9" name="Прямая со стрелкой 16"/>
            <p:cNvCxnSpPr>
              <a:stCxn id="341" idx="2"/>
              <a:endCxn id="348" idx="0"/>
            </p:cNvCxnSpPr>
            <p:nvPr/>
          </p:nvCxnSpPr>
          <p:spPr>
            <a:xfrm>
              <a:off x="3071880" y="1319040"/>
              <a:ext cx="357840" cy="110160"/>
            </a:xfrm>
            <a:prstGeom prst="straightConnector1">
              <a:avLst/>
            </a:prstGeom>
            <a:ln w="9360">
              <a:solidFill>
                <a:srgbClr val="94c600"/>
              </a:solidFill>
              <a:miter/>
              <a:tailEnd len="med" type="arrow" w="med"/>
            </a:ln>
          </p:spPr>
        </p:cxnSp>
        <p:sp>
          <p:nvSpPr>
            <p:cNvPr id="350" name="TextBox 19"/>
            <p:cNvSpPr/>
            <p:nvPr/>
          </p:nvSpPr>
          <p:spPr>
            <a:xfrm>
              <a:off x="0" y="2357280"/>
              <a:ext cx="57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Franklin Gothic Book"/>
                </a:rPr>
                <a:t>Д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Box 23"/>
            <p:cNvSpPr/>
            <p:nvPr/>
          </p:nvSpPr>
          <p:spPr>
            <a:xfrm>
              <a:off x="4286160" y="2357280"/>
              <a:ext cx="71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Franklin Gothic Book"/>
                </a:rPr>
                <a:t>Н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Box 27"/>
            <p:cNvSpPr/>
            <p:nvPr/>
          </p:nvSpPr>
          <p:spPr>
            <a:xfrm>
              <a:off x="2071440" y="3000240"/>
              <a:ext cx="6143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Franklin Gothic Book"/>
                </a:rPr>
                <a:t>Относятся ли к слову зависимые слова? Или слова: Отнюдь не, далеко не, вовсе н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Box 28"/>
            <p:cNvSpPr/>
            <p:nvPr/>
          </p:nvSpPr>
          <p:spPr>
            <a:xfrm>
              <a:off x="0" y="3143160"/>
              <a:ext cx="23572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Franklin Gothic Book"/>
                </a:rPr>
                <a:t>Раздельн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Franklin Gothic Book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Franklin Gothic Book"/>
                </a:rPr>
                <a:t>НЕЯРКО, А ТУСКЛ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4" name="Прямая со стрелкой 30"/>
            <p:cNvCxnSpPr/>
            <p:nvPr/>
          </p:nvCxnSpPr>
          <p:spPr>
            <a:xfrm>
              <a:off x="3571560" y="1928880"/>
              <a:ext cx="500760" cy="429120"/>
            </a:xfrm>
            <a:prstGeom prst="straightConnector1">
              <a:avLst/>
            </a:prstGeom>
            <a:ln w="9360">
              <a:solidFill>
                <a:srgbClr val="94c600"/>
              </a:solidFill>
              <a:miter/>
              <a:tailEnd len="med" type="arrow" w="med"/>
            </a:ln>
          </p:spPr>
        </p:cxnSp>
        <p:cxnSp>
          <p:nvCxnSpPr>
            <p:cNvPr id="355" name="Прямая со стрелкой 32"/>
            <p:cNvCxnSpPr>
              <a:stCxn id="350" idx="2"/>
            </p:cNvCxnSpPr>
            <p:nvPr/>
          </p:nvCxnSpPr>
          <p:spPr>
            <a:xfrm>
              <a:off x="284400" y="2818800"/>
              <a:ext cx="214920" cy="324360"/>
            </a:xfrm>
            <a:prstGeom prst="straightConnector1">
              <a:avLst/>
            </a:prstGeom>
            <a:ln w="9360">
              <a:solidFill>
                <a:srgbClr val="94c600"/>
              </a:solidFill>
              <a:miter/>
              <a:tailEnd len="med" type="arrow" w="med"/>
            </a:ln>
          </p:spPr>
        </p:cxnSp>
        <p:sp>
          <p:nvSpPr>
            <p:cNvPr id="356" name="TextBox 33"/>
            <p:cNvSpPr/>
            <p:nvPr/>
          </p:nvSpPr>
          <p:spPr>
            <a:xfrm>
              <a:off x="2928960" y="4286160"/>
              <a:ext cx="57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Franklin Gothic Book"/>
                </a:rPr>
                <a:t>Д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Box 34"/>
            <p:cNvSpPr/>
            <p:nvPr/>
          </p:nvSpPr>
          <p:spPr>
            <a:xfrm>
              <a:off x="7000920" y="4286160"/>
              <a:ext cx="78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Franklin Gothic Book"/>
                </a:rPr>
                <a:t>Н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8" name="Прямая со стрелкой 36"/>
            <p:cNvCxnSpPr>
              <a:stCxn id="351" idx="2"/>
              <a:endCxn id="352" idx="0"/>
            </p:cNvCxnSpPr>
            <p:nvPr/>
          </p:nvCxnSpPr>
          <p:spPr>
            <a:xfrm>
              <a:off x="4642200" y="2819160"/>
              <a:ext cx="500760" cy="181440"/>
            </a:xfrm>
            <a:prstGeom prst="straightConnector1">
              <a:avLst/>
            </a:prstGeom>
            <a:ln w="9360">
              <a:solidFill>
                <a:srgbClr val="94c600"/>
              </a:solidFill>
              <a:miter/>
              <a:tailEnd len="med" type="arrow" w="med"/>
            </a:ln>
          </p:spPr>
        </p:cxnSp>
        <p:cxnSp>
          <p:nvCxnSpPr>
            <p:cNvPr id="359" name="Прямая со стрелкой 41"/>
            <p:cNvCxnSpPr/>
            <p:nvPr/>
          </p:nvCxnSpPr>
          <p:spPr>
            <a:xfrm flipH="1">
              <a:off x="642240" y="1857240"/>
              <a:ext cx="2786760" cy="643320"/>
            </a:xfrm>
            <a:prstGeom prst="straightConnector1">
              <a:avLst/>
            </a:prstGeom>
            <a:ln w="9360">
              <a:solidFill>
                <a:srgbClr val="94c600"/>
              </a:solidFill>
              <a:miter/>
              <a:tailEnd len="med" type="arrow" w="med"/>
            </a:ln>
          </p:spPr>
        </p:cxnSp>
        <p:cxnSp>
          <p:nvCxnSpPr>
            <p:cNvPr id="360" name="Прямая со стрелкой 43"/>
            <p:cNvCxnSpPr>
              <a:stCxn id="352" idx="2"/>
              <a:endCxn id="356" idx="0"/>
            </p:cNvCxnSpPr>
            <p:nvPr/>
          </p:nvCxnSpPr>
          <p:spPr>
            <a:xfrm flipH="1">
              <a:off x="3214440" y="3830400"/>
              <a:ext cx="1929600" cy="456120"/>
            </a:xfrm>
            <a:prstGeom prst="straightConnector1">
              <a:avLst/>
            </a:prstGeom>
            <a:ln w="9360">
              <a:solidFill>
                <a:srgbClr val="94c600"/>
              </a:solidFill>
              <a:miter/>
              <a:tailEnd len="med" type="arrow" w="med"/>
            </a:ln>
          </p:spPr>
        </p:cxnSp>
        <p:cxnSp>
          <p:nvCxnSpPr>
            <p:cNvPr id="361" name="Прямая со стрелкой 45"/>
            <p:cNvCxnSpPr>
              <a:stCxn id="352" idx="2"/>
              <a:endCxn id="357" idx="0"/>
            </p:cNvCxnSpPr>
            <p:nvPr/>
          </p:nvCxnSpPr>
          <p:spPr>
            <a:xfrm>
              <a:off x="5142600" y="3830400"/>
              <a:ext cx="2251800" cy="456120"/>
            </a:xfrm>
            <a:prstGeom prst="straightConnector1">
              <a:avLst/>
            </a:prstGeom>
            <a:ln w="9360">
              <a:solidFill>
                <a:srgbClr val="94c600"/>
              </a:solidFill>
              <a:miter/>
              <a:tailEnd len="med" type="arrow" w="med"/>
            </a:ln>
          </p:spPr>
        </p:cxnSp>
        <p:sp>
          <p:nvSpPr>
            <p:cNvPr id="362" name="TextBox 46"/>
            <p:cNvSpPr/>
            <p:nvPr/>
          </p:nvSpPr>
          <p:spPr>
            <a:xfrm>
              <a:off x="1143000" y="5000400"/>
              <a:ext cx="42861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Franklin Gothic Book"/>
                </a:rPr>
                <a:t>Раздельн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Franklin Gothic Book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Franklin Gothic Book"/>
                </a:rPr>
                <a:t>ДАЛЕКО НЕ КРАСИВЫЙ СТО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Box 47"/>
            <p:cNvSpPr/>
            <p:nvPr/>
          </p:nvSpPr>
          <p:spPr>
            <a:xfrm>
              <a:off x="6215040" y="5000400"/>
              <a:ext cx="2928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Franklin Gothic Book"/>
                </a:rPr>
                <a:t>Слитн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Franklin Gothic Book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Franklin Gothic Book"/>
                </a:rPr>
                <a:t>НЕКРАСИВЫЙ СТО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4" name="Прямая со стрелкой 49"/>
            <p:cNvCxnSpPr>
              <a:stCxn id="356" idx="2"/>
              <a:endCxn id="362" idx="0"/>
            </p:cNvCxnSpPr>
            <p:nvPr/>
          </p:nvCxnSpPr>
          <p:spPr>
            <a:xfrm>
              <a:off x="3214800" y="4747680"/>
              <a:ext cx="72000" cy="253080"/>
            </a:xfrm>
            <a:prstGeom prst="straightConnector1">
              <a:avLst/>
            </a:prstGeom>
            <a:ln w="9360">
              <a:solidFill>
                <a:srgbClr val="94c600"/>
              </a:solidFill>
              <a:miter/>
              <a:tailEnd len="med" type="arrow" w="med"/>
            </a:ln>
          </p:spPr>
        </p:cxnSp>
        <p:cxnSp>
          <p:nvCxnSpPr>
            <p:cNvPr id="365" name="Прямая со стрелкой 51"/>
            <p:cNvCxnSpPr>
              <a:stCxn id="357" idx="2"/>
              <a:endCxn id="363" idx="0"/>
            </p:cNvCxnSpPr>
            <p:nvPr/>
          </p:nvCxnSpPr>
          <p:spPr>
            <a:xfrm>
              <a:off x="7393680" y="4747680"/>
              <a:ext cx="284400" cy="253080"/>
            </a:xfrm>
            <a:prstGeom prst="straightConnector1">
              <a:avLst/>
            </a:prstGeom>
            <a:ln w="9360">
              <a:solidFill>
                <a:srgbClr val="94c6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рямоугольник 1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Franklin Gothic Book"/>
              </a:rPr>
              <a:t>Не пишется слит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Franklin Gothic Book"/>
              </a:rPr>
              <a:t>1.Во всех случаях, когда без отрицательной частицы не слово не употребляется, например: невежда, неизбеж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Franklin Gothic Book"/>
              </a:rPr>
              <a:t>2.С существительными, если отрицание придаёт слову новое, противоположное значение, например: неприятель, несчастье, если отрицание придаёт слову, не имеющему этой частицы, значение противопоставления, отрицания, например: неспециалист, немарксист, например: разногласия между марксистами и немарксистами; всем неспециалистам доклад понравил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Franklin Gothic Book"/>
              </a:rPr>
              <a:t>3.С полными и краткими прилагательными и с наречиями на -о (-е), если сочетание их с не служит не для отрицания какого-либо понятия, а для выражения нового, противоположного понятия, например: нездоровый вид (т.е. болезненный), невозможный характер (т.е. тяжелы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Franklin Gothic Book"/>
              </a:rPr>
              <a:t>4.С полными причастиями, при которых нет пояснительных слов, например: неоконченный (труд), нераспустившийся (цветок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Прямоугольник 1"/>
          <p:cNvSpPr/>
          <p:nvPr/>
        </p:nvSpPr>
        <p:spPr>
          <a:xfrm>
            <a:off x="1692360" y="333360"/>
            <a:ext cx="6048360" cy="67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Franklin Gothic Book"/>
              </a:rPr>
              <a:t>5.В местоимениях, когда не от последующего местоимения не отделено предлогом, например: некто, нечто, некого, нечего (но: не у кого, не к чему, не с кем, не за чем, не за чт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Franklin Gothic Book"/>
              </a:rPr>
              <a:t>6.В местоименных наречиях, например: некогда, негде, некуда, неотку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Franklin Gothic Book"/>
              </a:rPr>
              <a:t>В наречиях незачем (в значении «бесцельно», например: незачем туда идти), нехотя; в предложных сочетаниях несмотря на, невзирая на; в вопросительной частице неуж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Franklin Gothic Book"/>
              </a:rPr>
              <a:t>7.Написание наречий и наречных сочетаний, в состав которых входят отрицание, предлог и существительное или прилагательное (например, невдомёк, невпопад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Franklin Gothic Book"/>
              </a:rPr>
              <a:t>В глагольной приставке недо-, обозначающей несоответствие требуемой норме, например: недовыполнить (выполнить ниже требуемой нормы), недосыпать (спать меньше нормальног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Franklin Gothic Book"/>
              </a:rPr>
              <a:t>8.В местоимениях, если частица ни не отделена от последующего местоимения предлогом, например: никто, ничто, никого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Franklin Gothic Book"/>
              </a:rPr>
              <a:t>9.В наречиях никогда, нигде, никуда, ниоткуда, никак, нисколько, нимало, нипочем, ничуть и в частице -нибудь</a:t>
            </a:r>
            <a:r>
              <a:rPr b="0" lang="ru-RU" sz="2400" spc="-1" strike="noStrike">
                <a:solidFill>
                  <a:srgbClr val="ff000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Прямоугольник 1"/>
          <p:cNvSpPr/>
          <p:nvPr/>
        </p:nvSpPr>
        <p:spPr>
          <a:xfrm>
            <a:off x="108000" y="112536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Franklin Gothic Book"/>
              </a:rPr>
              <a:t>Не пишется раздель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Franklin Gothic Book"/>
              </a:rPr>
              <a:t>1.При глаголах, в том числе и при деепричастных формах, например: она не пьёт, не е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Franklin Gothic Book"/>
              </a:rPr>
              <a:t>2.В причастиях: а) в краткой форме, например: долг не уплачен, дом не достроен б) в полной форме, когда при причастии есть пояснительные слова, а также тогда, когда при причастии есть или подразумевается противопоставление, например: он принёс не законченную работу, а только отдельные наброс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Franklin Gothic Book"/>
              </a:rPr>
              <a:t>3.При существительных, прилагательных и наречиях, если есть или подразумевается противопоставление, например: не удача привела нас к успеху, а выдержка и хладнокровие; не смерть страшна — страшна твоя немилость (Пушк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Прямоугольник 2"/>
          <p:cNvSpPr/>
          <p:nvPr/>
        </p:nvSpPr>
        <p:spPr>
          <a:xfrm>
            <a:off x="30240" y="112536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Franklin Gothic Book"/>
              </a:rPr>
              <a:t>4.При местоимениях и местоименных наречиях, например: не я, не этот, не иной, не такой, не иначе, не так.При усилительных наречиях, а также при предлогах и союзах, например: не очень, не вполне, не совсем, не из…, не под…, не то… не 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Franklin Gothic Book"/>
              </a:rPr>
              <a:t>Раздельно пишется выражение не раз, например: Не раз он обвинял себя в излишней осторожности (Фадее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Franklin Gothic Book"/>
              </a:rPr>
              <a:t>5.При неизменяемых словах, не образованных от прилагательных и выступающих в предложении в качестве сказуемого, например: не надо, не прочь, не жа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Franklin Gothic Book"/>
              </a:rPr>
              <a:t>6.При всех словах, пишущихся через дефис, например: все не торгово-промышленные предприятия; сказано не по-русски; поют не по-стар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Franklin Gothic Book"/>
              </a:rPr>
              <a:t>8.Во всех остальных случаях частица ни пишется разд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ристина</cp:lastModifiedBy>
  <dcterms:modified xsi:type="dcterms:W3CDTF">2012-11-10T14:17:03Z</dcterms:modified>
  <cp:revision>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0220000000000010250300207f7000400038000</vt:lpwstr>
  </property>
</Properties>
</file>